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3B8-520B-4DDD-8A9E-86BC5EA0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21C-9DAE-4DA8-AD08-77BB00B4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405-6D3C-4D31-835A-FF28131C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5B4-4656-4D4D-92A8-BD918885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4419-ABBF-49F7-8A01-40C577BC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477F-1E21-48EA-AF65-7CE1BFA4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1958-65F4-4735-90CF-9344CF29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FDE1-C760-4F07-9FE3-55330B01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2134-05E9-4D61-8EAD-59076F7C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0AD2-1A62-4DAA-95C1-AD8FCD28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A996-841A-43E5-8E11-4F76713A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150-AD03-43FF-88AB-109E4065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65ED-7078-4AC9-8DD8-4B503716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EE76-0EEC-47C0-BE08-341BA77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3259-4B2E-4DDF-A9B7-31ED02A3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EFE7-E6AF-477F-A121-225C1F89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F8AC-A81D-479C-8276-D6AF18A5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2EA-3473-4137-B722-E9F5AAEA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968-9F09-4141-B9C1-6A3015C6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175-09B6-466B-B882-91838202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24C-C846-4379-AA6C-136F1802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D14-2289-401C-9512-C5F0EBE9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7C6-7700-45BA-AA48-E06FCD00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839-F3E4-440B-80AC-F7EB0442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42920" y="6086160"/>
            <a:ext cx="36003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3000"/>
            <a:ext cx="213372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F1DC-BCAE-40F9-86AC-9DE0EFB85F34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5736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146D-9837-4904-8EFF-CE5CE80CCBB2}" type="slidenum"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736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9185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 BNSI EXPERIENCE IN METADATA COLLECTION AND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3300"/>
                </a:solidFill>
                <a:latin typeface="Times New Roman"/>
              </a:rPr>
              <a:t>Joint UNECE/Eurostat/OECD Work Session on</a:t>
            </a:r>
            <a:r>
              <a:rPr b="1" lang="bg-BG" sz="3200" spc="-1" strike="noStrike">
                <a:solidFill>
                  <a:srgbClr val="003300"/>
                </a:solidFill>
                <a:latin typeface="Times New Roman"/>
              </a:rPr>
              <a:t> Statistical Metadata (METIS)          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-5 April 2006,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6B8-3DC0-46F5-BA2D-A4D363213A8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Organization of the MD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IS “Planning and design of statistical survey”, IS “Statistical classifications”, EMDV – application SW tools for MD collection  – standard survey description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Co-ordination council – Vice-President, Directors, defined rules – internal standards approval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Working groups – the best experts in the statistical off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Programme for survey description – implementation of the syste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5E0-AB03-4CD2-BB4F-BC0D181571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National PHARE 2004 Programme – TS for development of  ISIS – detailed plan with more technical requirements for ISIS real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S for development of the functional component “Data collection and editing” – including Micro DB building up (Observation and Final observation regis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Data from administrative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Data dissemination DB and functional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CB8-080F-4BE9-BD35-8F6E4E1CC6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Thank you for att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5689800" cy="25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26F-C028-4D74-BF41-F98F84BF9D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Paper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Essence and goal of ISIS and principles of development component by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tandards for the metadata description in 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place of the developing components in the ISIS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Organization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of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metadata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llection</a:t>
            </a:r>
            <a:r>
              <a:rPr b="0" lang="bg-BG" sz="2400" spc="-1" strike="noStrike">
                <a:solidFill>
                  <a:srgbClr val="0033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realization through the statistical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Future tas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A5D-3EE1-47DF-971C-759F903208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pecific topics in the exper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No possibility to develop components in the best way - Necessity the developing components to be integrated and every new component to be integrated to the exist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omponent by component development of the ISI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e Metadata components – tools for metadata coll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41F-390E-4DC7-8AAD-632ACB53EE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ISIS – brie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nected obejct oriented and process oriented 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entralized DBs – common, sharing DBs with controled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re component – Metadat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Metadata drive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rchitecture – Standard 51 </a:t>
            </a:r>
            <a:r>
              <a:rPr b="0" lang="bg-BG" sz="2400" spc="-1" strike="noStrike">
                <a:solidFill>
                  <a:srgbClr val="003300"/>
                </a:solidFill>
                <a:latin typeface="Times New Roman"/>
              </a:rPr>
              <a:t>Information Systems Architecture for National and International Statistical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nfrastructura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unctional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Databases – Observation registers, Final observation registers, Macrodata base, Dissemination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D4E-14DE-42BC-B187-35F2549A6F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tep by step development of 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Guiding princi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ideology and architecture of ISIS defined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– strict adherence working on developing separate ISIS component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common metadata model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mplementation in separate ISIS compon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interfaces between information system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f possible, especially for the metadata exchan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developed and approved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internal standard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Consolidation</a:t>
            </a:r>
            <a:r>
              <a:rPr b="1" i="1" lang="bg-BG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of</a:t>
            </a:r>
            <a:r>
              <a:rPr b="1" i="1" lang="bg-BG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the</a:t>
            </a:r>
            <a:r>
              <a:rPr b="1" i="1" lang="bg-BG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IT</a:t>
            </a:r>
            <a:r>
              <a:rPr b="1" i="1" lang="bg-BG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environment</a:t>
            </a:r>
            <a:r>
              <a:rPr b="1" i="1" lang="bg-BG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and</a:t>
            </a:r>
            <a:r>
              <a:rPr b="1" i="1" lang="bg-BG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IT</a:t>
            </a:r>
            <a:r>
              <a:rPr b="1" i="1" lang="bg-BG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elements</a:t>
            </a:r>
            <a:r>
              <a:rPr b="0" lang="bg-BG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o</a:t>
            </a:r>
            <a:r>
              <a:rPr b="0" lang="bg-BG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be</a:t>
            </a:r>
            <a:r>
              <a:rPr b="0" lang="bg-BG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chiev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Common development tool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o be used in the development of the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Not to destroy the “statistical production”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B98-6B1D-438C-B759-8372340A7A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Developing systems – why these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IS “Statistical classifications” – service provided for the other components – development, maintenance, relations between, usage of the statistical classifica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IS “Register of the statistical units” – administrative and statistical units, statistical surveys popul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IS “Planning and design of statistical survey” – application SW tool for MD collection – life cycle – survey descri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Electronic Metadata Vocabulary – terms &amp; definitions and their mainten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IS “Demography” – integration - DW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5D9-79CF-4437-8CA8-309ED153A4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tandard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MetaNet Reference model – how it is used - common information objects and their us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Requirements for information system integration – internal standard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Information Services between information systems – internal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190-92F3-4746-9567-88CFB23323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90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30400" y="1281240"/>
            <a:ext cx="115236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2492280"/>
            <a:ext cx="1079280" cy="7923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33360"/>
            <a:ext cx="2016000" cy="237636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376360"/>
              <a:gd name="textAreaBottom" fmla="*/ 2278080 h 2376360"/>
            </a:gdLst>
            <a:ahLst/>
            <a:rect l="textAreaLeft" t="textAreaTop" r="textAreaRight" b="textAreaBottom"/>
            <a:pathLst>
              <a:path w="21600" h="25460">
                <a:moveTo>
                  <a:pt x="3600" y="0"/>
                </a:moveTo>
                <a:arcTo wR="3600" hR="3600" stAng="16200000" swAng="-5400000"/>
                <a:lnTo>
                  <a:pt x="0" y="21860"/>
                </a:lnTo>
                <a:arcTo wR="3600" hR="3600" stAng="10800000" swAng="-5400000"/>
                <a:lnTo>
                  <a:pt x="18000" y="25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3880" y="4183200"/>
            <a:ext cx="1077840" cy="576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FAF-9386-4E56-B1BC-6EE118205C9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How the ISs are rel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039000" cy="431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UNECE/Eurostat/OECD Work session on Statistical Metadata (METI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DBE-6C47-45ED-9190-13D4C865B2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5 April 2006 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20:04:55Z</dcterms:created>
  <dc:creator>PC</dc:creator>
  <dc:description/>
  <dc:language>en-US</dc:language>
  <cp:lastModifiedBy>Jessica Gardner</cp:lastModifiedBy>
  <dcterms:modified xsi:type="dcterms:W3CDTF">2006-04-07T10:54:35Z</dcterms:modified>
  <cp:revision>17</cp:revision>
  <dc:subject/>
  <dc:title>THE BNSI EXPERIENCE IN METADATA COLLECTION AND ORGANIZATION</dc:title>
</cp:coreProperties>
</file>