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093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25225"/>
          <a:stretch/>
        </p:blipFill>
        <p:spPr>
          <a:xfrm>
            <a:off x="7761240" y="125280"/>
            <a:ext cx="118584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490680"/>
            <a:ext cx="9144000" cy="428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42360" y="76320"/>
            <a:ext cx="156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IS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90720" y="1501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atistical and Geoscientific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GE’s Metadat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480060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UNECE/Eurostat/OECD Work Session on Statistical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va, 3-5 April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ssion (i): Metadata in a Corporate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 WP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1240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igino Pal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zilian Institute of Geography and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905040"/>
            <a:ext cx="64771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tadata Projec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6765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ssist IBGE in achieving its institutional mission of portraying ou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dentify, locate, understand, manage and use statistical and geoscientific data originated from IBGE’s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ffer a centralized metadata system to data producer areas, actively and along with the production phases of a statistical survey or c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come a reference to all institutional products, to be described in the Metadat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905040"/>
            <a:ext cx="6858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System - Statistic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676520"/>
            <a:ext cx="74678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ians may store and access the metadata produced during planning, data processing and dissemination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access is controlled by the Data Administration team, according to user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to other homologated softw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ATA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PTAX (“ad-hoc” system for editing and imputation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DRA (on-line dissemination system for aggregate data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DRA-Tabula (generation and publication of tabular pl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1676520"/>
            <a:ext cx="7391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 for the Quality Indicators System, to meet the institute’s decision of improving quality of processes and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rn on future exchange of information with foreign agencies an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thematic areas are not yet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905040"/>
            <a:ext cx="77738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System - Statistical Contex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905040"/>
            <a:ext cx="7391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System - Geoscientific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765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depends on the theme/subject being appro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Cartography projects have been incorporat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Municipal Maps of the 2000 Population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Index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ly a new project is under development, in the field of Geography (Natural Resour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9144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ing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0106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3880" y="9144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ing &amp; Updating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16192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905040"/>
            <a:ext cx="70102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step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6765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er involvement of data producers through documenting their respective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it available in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free-software options (e.g., PostgreSQL as DB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option of some metadata standard for better participation in the Statistical and Geoscientific Metadata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6880" y="190512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048120"/>
            <a:ext cx="3504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igino Palerm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igino@ibge.gov.b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: +55 21 2142055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     : +55 21 21420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ndeira_brasil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9903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21:24:49Z</dcterms:created>
  <dc:creator>Luigino</dc:creator>
  <dc:description/>
  <dc:language>en-US</dc:language>
  <cp:lastModifiedBy>Jessica Gardner</cp:lastModifiedBy>
  <dcterms:modified xsi:type="dcterms:W3CDTF">2006-04-07T10:54:06Z</dcterms:modified>
  <cp:revision>12</cp:revision>
  <dc:subject/>
  <dc:title>Slide sem título </dc:title>
</cp:coreProperties>
</file>