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0E6-E5B0-4884-B0A3-3AA85500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649-F0E4-49A4-B48D-99FED01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E33-5254-4BC1-9BC7-B0D87717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7A5-D17F-402A-B82A-17D394DD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E25B-937D-4AE2-956E-53C2964F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E388-E085-48B3-A2B3-0642510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3C04-0D05-4914-83FF-C6DE9B3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51F9-D4F6-486A-BC64-5E6FFC2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CB8-CF7B-477F-A9F4-A7946A9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6015-4481-479C-84C4-C5DF61F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9249-33EC-4243-92E8-443839D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63A-FB3C-46E5-A932-2B0D4F9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2C03-8CBD-4C13-8598-6575D2A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7509-A67F-4F0A-B136-D945A09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D11-A667-4FC3-9B1D-99FC4A1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5BE-B141-4153-AE8A-E037401B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0CA-1208-4F5C-B2CA-31EE27D3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3FD-7B09-439F-BBCC-0871A40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8A9-5F76-4BB8-BC43-8C7489A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E34-9D87-4512-89D6-D6A1866F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B04-6219-467B-A80F-C46DBB8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469-CF81-4A12-82CB-3B89D93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894-F7FC-4344-A93A-10F0311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F13-CAF1-45B4-93E2-B846C61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D9D24E-6108-4B8D-ADE5-C12410BEA2D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5344C1-8240-4296-AF4C-98762ED63D7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The value added of a national statistical institut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 Boole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leen Verbrug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Managing metadata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ses of the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itiation phase: by proposal or signal of a problem to the coordinator and theme administr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roduction phase: drawing up a recommend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uthorization phase: approval of recommendation, includes also escalation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up phase: communication and implementation of possible accompanying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Experience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escribed process is running, but without theme administrators. Coordinator acts as theme administrator for all t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ain experience on output-side of statistical process: challenge to make connection to input and through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fficul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or not subject expert for all t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ments do not feel responsible enoug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bour intensive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Summary and conclusions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reasing availability of external regist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llenge of a NSI to combine them, create a coherent and consistent set of concepts and figures: the value added of a N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ganization of a NSI should support this development, including ICT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siness architecture may be useful tool to design optimal (ICT-)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ltiple use of tools and data: reinforces need for appropriate metadata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ilding set of consistent, standardised conceptual metadata is labour int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ong coordination i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process and quality metadata: looking for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The value added of a national statistical institut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x Boole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rleen Verbrug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Overview presenta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roduction: changing environment of a NSI and (organizational) con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usiness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le of metadata in the future statis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zational aspects: managing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 / 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ssion CB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compile and publish undisputed and coherent up-to-date statistical information that is relevant for practice, policy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ing demands for statistical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ing information from different sources: the    value added of a N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pid developments in 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sulted in process oriented organisation in 2000. However until present: there remain a considerable number of (small) ICT-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Business architectur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oes a business architectu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tries to translate the strategic goals of an organization into an optimal organizational structure including the supporting IC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Principles of the business architectur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ganization: CBS wide, generic set-up of processes and ICT support. ICT support independent of organizational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duct: support of all products. Fast and flexible response to changing demands for new produ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cess: reducing the number of ICT systems, development of more generic systems, implementing transparency by adding process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vironment: addressing the increasing diversity of channels used by suppl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Business architecture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1724" b="0"/>
          <a:stretch/>
        </p:blipFill>
        <p:spPr>
          <a:xfrm>
            <a:off x="2795760" y="1981080"/>
            <a:ext cx="477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The business architecture and metadata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data is corner stone of the future statistical process. Guiding 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ct distinction between implementation (production) and design (develop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regular production without metadata; processes are metadata dri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ct distinction between data and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ct distinction between metadata and the metadata of these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data easily accessible and standardi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ign / maintenance of prescribing rules are important statistical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Managing metadata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activities for the coming period: an up-to date, approved, organizational structure for managing meta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79640" y="3860640"/>
          <a:ext cx="6478560" cy="2252880"/>
        </p:xfrm>
        <a:graphic>
          <a:graphicData uri="http://schemas.openxmlformats.org/drawingml/2006/table">
            <a:tbl>
              <a:tblPr/>
              <a:tblGrid>
                <a:gridCol w="2158920"/>
                <a:gridCol w="2160720"/>
                <a:gridCol w="21589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bing me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tion me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403280" y="4365720"/>
            <a:ext cx="4248360" cy="985680"/>
          </a:xfrm>
          <a:prstGeom prst="ellips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Arial"/>
              </a:rPr>
              <a:t>Managing metadata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fferent ro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heme administrator: responsible for thematic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terested parties: mainly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pplier: supplier of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uthority: formal owner of the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mmunicator: organises distribution and accessibility of meta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ditor: responsible that output metadata needs required textual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ordinator: starts / coordinates th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2:18:54Z</dcterms:created>
  <dc:creator>Marleen Verbruggen</dc:creator>
  <dc:description/>
  <dc:language>en-US</dc:language>
  <cp:lastModifiedBy>Jessica Gardner</cp:lastModifiedBy>
  <cp:lastPrinted>1997-01-15T14:42:22Z</cp:lastPrinted>
  <dcterms:modified xsi:type="dcterms:W3CDTF">2006-04-07T10:52:11Z</dcterms:modified>
  <cp:revision>16</cp:revision>
  <dc:subject/>
  <dc:title>The value added of a national statistical instit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9059948</vt:r8>
  </property>
  <property fmtid="{D5CDD505-2E9C-101B-9397-08002B2CF9AE}" pid="3" name="_AuthorEmail">
    <vt:lpwstr>MVBN@CBS.nl</vt:lpwstr>
  </property>
  <property fmtid="{D5CDD505-2E9C-101B-9397-08002B2CF9AE}" pid="4" name="_AuthorEmailDisplayName">
    <vt:lpwstr>Verbruggen, mevr. drs. M.J.M.</vt:lpwstr>
  </property>
  <property fmtid="{D5CDD505-2E9C-101B-9397-08002B2CF9AE}" pid="5" name="_EmailSubject">
    <vt:lpwstr>Presentation METIS</vt:lpwstr>
  </property>
</Properties>
</file>