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995-14BF-46D1-A79D-0590F364A416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n arbeidet med begreper 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BCC-21EC-41C3-A614-89A8B985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2EC-628E-4519-9DAE-0DB0D0B1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F60-85D6-4954-A241-AC7B50BB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05D-CBC3-4F1B-BE2D-C136A29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677-A16C-4769-B831-13E8DCE7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F05-649A-40FE-A9EC-F6FAA6A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2E6-5E88-47F9-BE92-BC507FE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C98-CA87-499D-834B-08179A8A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461-984B-4E43-8CC5-D7E57552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9B0-797D-410C-9BE1-90A3A5F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8AB-3B65-473D-B2A9-38675EC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BD2-B620-4DF8-8E92-C7CC099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C0CC-A061-4E70-8444-EEC9EAAAB892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295280"/>
            <a:ext cx="815364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nb-NO" sz="3600" spc="-1" strike="noStrike">
                <a:solidFill>
                  <a:srgbClr val="3333cc"/>
                </a:solidFill>
                <a:latin typeface="Times New Roman"/>
              </a:rPr>
              <a:t>Statistical Metadata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nb-NO" sz="3600" spc="-1" strike="noStrike">
                <a:solidFill>
                  <a:srgbClr val="3333cc"/>
                </a:solidFill>
                <a:latin typeface="Times New Roman"/>
              </a:rPr>
              <a:t>Statistics Nor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nne Gro Hustoft (agt@ssb.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Jenny Linnerud (jal@ssb.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380880"/>
            <a:ext cx="8199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Metadata strategy (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Times New Roman"/>
              </a:rPr>
              <a:t>Overall aim of SSBs metadata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o create a comprehensive metadat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hat will contribute to an efficient produc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issemination of statistics, and at the same time impr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he quality of the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ur metadata should be updated in one place and accessible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30160" y="1793880"/>
            <a:ext cx="56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tadata plan with several project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ordination and linkage of master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Vardok, Stabas and Datad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270000"/>
          <a:ext cx="8001000" cy="59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0000"/>
                    <a:ext cx="8001000" cy="59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60680" y="1031760"/>
            <a:ext cx="649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</a:rPr>
              <a:t>Links in the statistical metadata 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bout th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bout the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 Statistical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82560" y="1108080"/>
            <a:ext cx="655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</a:rPr>
              <a:t>Links in the statistical metadata web page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 class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iles descriptions and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tistica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tion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79440" y="838080"/>
            <a:ext cx="63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98680" y="1085760"/>
            <a:ext cx="7331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preliminary list of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bject matter departments should appoint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responsible for the topic of metadata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bject matter divisions should have a contact 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mas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Department of dissemination to 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presentation of the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33920" y="1108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45680" y="933480"/>
            <a:ext cx="723996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ake a strategy to obtain manageme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gree on key concepts for communication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ducers of statistics and developers of metadata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ncourage systems development that makes meta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pdated in one place and accessible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9:31:56Z</dcterms:created>
  <dc:creator>Anne Gro Hustoft</dc:creator>
  <dc:description/>
  <dc:language>en-US</dc:language>
  <cp:lastModifiedBy>Jessica Gardner</cp:lastModifiedBy>
  <dcterms:modified xsi:type="dcterms:W3CDTF">2006-04-07T11:02:11Z</dcterms:modified>
  <cp:revision>14</cp:revision>
  <dc:subject/>
  <dc:title>PowerPoint-presentasjon</dc:title>
</cp:coreProperties>
</file>