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57480"/>
            <a:ext cx="77724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748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5748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57480"/>
            <a:ext cx="250236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57480"/>
            <a:ext cx="250236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57480"/>
            <a:ext cx="250236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2408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5748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5748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57480"/>
            <a:ext cx="7772400" cy="18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34920"/>
            <a:ext cx="9144000" cy="538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76760"/>
            <a:ext cx="35812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1FC412-E54E-4D1A-BFAD-478642834040}" type="slidenum">
              <a:rPr b="0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934920"/>
            <a:ext cx="6804000" cy="13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360" y="1196640"/>
            <a:ext cx="6477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of Metadata System at Croatian Bureau of Statistics</a:t>
            </a:r>
            <a:br>
              <a:rPr sz="2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ed by Maja Ledić Blažević, Project leader of metadata 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ection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ve appointed surveys – studies and questionnaires, statistical objec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 of Statistical Activities – organisational structure, them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META #1 – measurements, studies and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-Axis – them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R - organisatio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OMETA #2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4406760" cy="392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170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230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OMETA #2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48229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96240" cy="4753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382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095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collection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section of processing and valid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ing and feedback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adjustment/development of the model and maintenance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‘generators’ – applications for generating programs for data processing based 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5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7440" y="934920"/>
            <a:ext cx="450864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66720" y="1204560"/>
            <a:ext cx="4311720" cy="19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br>
              <a:rPr sz="2300"/>
            </a:br>
            <a:br>
              <a:rPr sz="18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tation performed b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a Ledić Blažević, Senior IT Adviser</a:t>
            </a:r>
            <a:br>
              <a:rPr sz="1200"/>
            </a:b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entral Bureau of Statistics of Croatia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. +385 1 4806257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ax: +385 1 4806141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-mail: majalb@dzs.h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metadat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evelopment of Metadat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pping metadata systems to METANET Reference Mode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C-Axis Macrometa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META #1 (first metadata system at C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CROMETA #2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ed reference model including necessary concepts or characteristics from mapp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mpanying tool for browsing and maintaining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evelopment of Metadat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pping different metadata consumer’s models to Reference Model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ection of metadata in C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s and support for technic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ual design of meta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ic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mainten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ies and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s and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satio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tory and version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ing and valid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and authoriz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sions of Reference Mode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META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concepts and/o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erarchica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ganisation sche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hierarchy of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me struc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hierarchy of themes; not mutually exclusive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uestions in questionnai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hierarchy in context of questionnaire (re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Version Hand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sions of metadata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 number, validity period, predecessor, successor,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metadata object – manda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Under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uthori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rchi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ence between status and version of metadata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properties – attributes of all metadata concep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ling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and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metadata concepts  - applicable to any metadata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t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(official, short, medium, alternative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e-text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2408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tadata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-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rganisation lev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institution, statistical division, statistical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r group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dministrators,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vileg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dd, edit,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ariable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alpha variable, beta variable, gamma variable, ti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ube avail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official, internal, privat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atibility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tible with Eurostat definition, not compatible with Eurostat defini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9:35:12Z</dcterms:created>
  <dc:creator>kristensena</dc:creator>
  <dc:description/>
  <dc:language>en-US</dc:language>
  <cp:lastModifiedBy>Jessica Gardner</cp:lastModifiedBy>
  <dcterms:modified xsi:type="dcterms:W3CDTF">2006-04-07T11:01:53Z</dcterms:modified>
  <cp:revision>112</cp:revision>
  <dc:subject/>
  <dc:title>Insert title here Presented by Name Name, Title</dc:title>
</cp:coreProperties>
</file>