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40C-6B3A-4C64-BE12-9656F458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E30-28B5-4420-AF6B-2C7739D7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DD6-9327-4BD0-922A-0451314D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D28-239A-44E7-AD93-BC7004A0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BEE-3D69-4205-80C6-AD7D2B30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F2B-B817-4326-9A2C-178983E7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EF8-E792-4AC8-AD41-4DDA565C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1EA-74FF-49ED-93DD-76759F15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FD1-B21D-4369-8723-EE7FA51A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E92-8915-4C43-B1A0-13C21D00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512-47CC-4CCF-ABA1-612A5C5F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6F9-3125-4507-BD97-F7DD946B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3EF2-92D3-42B6-826F-FA978EA46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8360" y="4149720"/>
            <a:ext cx="539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Implementation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METIS – April 20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86680" y="5464080"/>
            <a:ext cx="55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c0c0"/>
                </a:solidFill>
                <a:latin typeface="Verdana"/>
              </a:rPr>
              <a:t>Russell Penlington &amp; Lars Thygesen - OE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24720" y="6093000"/>
            <a:ext cx="1212840" cy="43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79680" y="836640"/>
            <a:ext cx="4179960" cy="469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256536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658960" y="1555920"/>
            <a:ext cx="2273400" cy="196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356000" y="1484280"/>
            <a:ext cx="2463840" cy="1638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8000" y="549360"/>
            <a:ext cx="5185080" cy="33112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aba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2960" y="32479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Verdana"/>
              </a:rPr>
              <a:t>v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9519"/>
            </a:avLst>
          </a:prstGeom>
          <a:noFill/>
          <a:ln w="25560">
            <a:solidFill>
              <a:srgbClr val="d3d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71640" y="189000"/>
            <a:ext cx="7200360" cy="718560"/>
            <a:chOff x="971640" y="189000"/>
            <a:chExt cx="7200360" cy="718560"/>
          </a:xfrm>
        </p:grpSpPr>
        <p:sp>
          <p:nvSpPr>
            <p:cNvPr id="52" name=""/>
            <p:cNvSpPr/>
            <p:nvPr/>
          </p:nvSpPr>
          <p:spPr>
            <a:xfrm>
              <a:off x="971640" y="189000"/>
              <a:ext cx="7200360" cy="358560"/>
            </a:xfrm>
            <a:prstGeom prst="roundRect">
              <a:avLst>
                <a:gd name="adj" fmla="val 0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1640" y="259920"/>
              <a:ext cx="7200360" cy="647640"/>
            </a:xfrm>
            <a:prstGeom prst="roundRect">
              <a:avLst>
                <a:gd name="adj" fmla="val 42403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042920" y="189000"/>
            <a:ext cx="7058160" cy="647640"/>
            <a:chOff x="1042920" y="189000"/>
            <a:chExt cx="7058160" cy="647640"/>
          </a:xfrm>
        </p:grpSpPr>
        <p:sp>
          <p:nvSpPr>
            <p:cNvPr id="55" name=""/>
            <p:cNvSpPr/>
            <p:nvPr/>
          </p:nvSpPr>
          <p:spPr>
            <a:xfrm>
              <a:off x="1042920" y="189000"/>
              <a:ext cx="7058160" cy="358560"/>
            </a:xfrm>
            <a:prstGeom prst="roundRect">
              <a:avLst>
                <a:gd name="adj" fmla="val 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42920" y="189000"/>
              <a:ext cx="7058160" cy="647640"/>
            </a:xfrm>
            <a:prstGeom prst="roundRect">
              <a:avLst>
                <a:gd name="adj" fmla="val 33579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</a:rPr>
                <a:t>OECD’s Statistical Information 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68360" y="5300640"/>
            <a:ext cx="8209080" cy="649440"/>
          </a:xfrm>
          <a:prstGeom prst="rightArrow">
            <a:avLst>
              <a:gd name="adj1" fmla="val 45454"/>
              <a:gd name="adj2" fmla="val 113704"/>
            </a:avLst>
          </a:prstGeom>
          <a:gradFill rotWithShape="0">
            <a:gsLst>
              <a:gs pos="0">
                <a:srgbClr val="808080"/>
              </a:gs>
              <a:gs pos="50000">
                <a:srgbClr val="eaeaea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Work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1800" y="1846440"/>
            <a:ext cx="1806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99"/>
                </a:solidFill>
                <a:latin typeface="Verdana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7760" y="1846440"/>
            <a:ext cx="1969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99"/>
                </a:solidFill>
                <a:latin typeface="Verdana"/>
              </a:rPr>
              <a:t>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7160" y="1846440"/>
            <a:ext cx="1805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99"/>
                </a:solidFill>
                <a:latin typeface="Verdana"/>
              </a:rPr>
              <a:t>Disse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438280" y="3344760"/>
            <a:ext cx="984240" cy="1336680"/>
            <a:chOff x="2438280" y="3344760"/>
            <a:chExt cx="984240" cy="1336680"/>
          </a:xfrm>
        </p:grpSpPr>
        <p:sp>
          <p:nvSpPr>
            <p:cNvPr id="62" name=""/>
            <p:cNvSpPr/>
            <p:nvPr/>
          </p:nvSpPr>
          <p:spPr>
            <a:xfrm>
              <a:off x="2766960" y="3346200"/>
              <a:ext cx="4680" cy="1308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438280" y="3344760"/>
              <a:ext cx="984240" cy="1336680"/>
              <a:chOff x="2438280" y="3344760"/>
              <a:chExt cx="984240" cy="133668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2766960" y="4507920"/>
                <a:ext cx="436680" cy="468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930400" y="4346280"/>
                <a:ext cx="328680" cy="333360"/>
              </a:xfrm>
              <a:prstGeom prst="rightArrow">
                <a:avLst>
                  <a:gd name="adj1" fmla="val 55556"/>
                  <a:gd name="adj2" fmla="val 69444"/>
                </a:avLst>
              </a:prstGeom>
              <a:gradFill rotWithShape="0">
                <a:gsLst>
                  <a:gs pos="0">
                    <a:srgbClr val="969696"/>
                  </a:gs>
                  <a:gs pos="50000">
                    <a:srgbClr val="f8f8f8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766960" y="4012920"/>
                <a:ext cx="65556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9999"/>
                    </a:solidFill>
                    <a:latin typeface="Verdana"/>
                  </a:rPr>
                  <a:t>XM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38280" y="3344760"/>
                <a:ext cx="328680" cy="144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438280" y="4679640"/>
                <a:ext cx="328680" cy="180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468360" y="2179800"/>
            <a:ext cx="2133720" cy="2833560"/>
            <a:chOff x="468360" y="2179800"/>
            <a:chExt cx="2133720" cy="2833560"/>
          </a:xfrm>
        </p:grpSpPr>
        <p:sp>
          <p:nvSpPr>
            <p:cNvPr id="70" name=""/>
            <p:cNvSpPr/>
            <p:nvPr/>
          </p:nvSpPr>
          <p:spPr>
            <a:xfrm>
              <a:off x="1452600" y="3513240"/>
              <a:ext cx="1440" cy="16668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68360" y="2179800"/>
              <a:ext cx="2133720" cy="2833560"/>
              <a:chOff x="468360" y="2179800"/>
              <a:chExt cx="2133720" cy="2833560"/>
            </a:xfrm>
          </p:grpSpPr>
          <p:sp>
            <p:nvSpPr>
              <p:cNvPr id="72" name=""/>
              <p:cNvSpPr/>
              <p:nvPr/>
            </p:nvSpPr>
            <p:spPr>
              <a:xfrm>
                <a:off x="631800" y="3013200"/>
                <a:ext cx="493560" cy="500040"/>
              </a:xfrm>
              <a:prstGeom prst="can">
                <a:avLst>
                  <a:gd name="adj" fmla="val 21444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eaeaea"/>
                  </a:gs>
                  <a:gs pos="100000">
                    <a:srgbClr val="808080"/>
                  </a:gs>
                </a:gsLst>
                <a:lin ang="108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8360" y="2179800"/>
                <a:ext cx="2133720" cy="2833560"/>
              </a:xfrm>
              <a:custGeom>
                <a:avLst/>
                <a:gdLst>
                  <a:gd name="textAreaLeft" fmla="*/ 104040 w 2133720"/>
                  <a:gd name="textAreaRight" fmla="*/ 2029680 w 2133720"/>
                  <a:gd name="textAreaTop" fmla="*/ 104040 h 2833560"/>
                  <a:gd name="textAreaBottom" fmla="*/ 2729520 h 2833560"/>
                </a:gdLst>
                <a:ahLst/>
                <a:rect l="textAreaLeft" t="textAreaTop" r="textAreaRight" b="textAreaBottom"/>
                <a:pathLst>
                  <a:path w="21600" h="28683">
                    <a:moveTo>
                      <a:pt x="3600" y="0"/>
                    </a:moveTo>
                    <a:arcTo wR="3600" hR="3600" stAng="16200000" swAng="-5400000"/>
                    <a:lnTo>
                      <a:pt x="0" y="25083"/>
                    </a:lnTo>
                    <a:arcTo wR="3600" hR="3600" stAng="10800000" swAng="-5400000"/>
                    <a:lnTo>
                      <a:pt x="18000" y="286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908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1800" y="2346480"/>
                <a:ext cx="180648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9999"/>
                    </a:solidFill>
                    <a:latin typeface="Verdana"/>
                  </a:rPr>
                  <a:t>Data Produ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9999"/>
                    </a:solidFill>
                    <a:latin typeface="Verdana"/>
                  </a:rPr>
                  <a:t>Environ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9999"/>
                    </a:solidFill>
                    <a:latin typeface="Verdana"/>
                  </a:rPr>
                  <a:t>(incl. </a:t>
                </a:r>
                <a:r>
                  <a:rPr b="1" lang="en-US" sz="1200" spc="-1" strike="noStrike">
                    <a:solidFill>
                      <a:srgbClr val="000080"/>
                    </a:solidFill>
                    <a:latin typeface="Verdana"/>
                  </a:rPr>
                  <a:t>StatWorks</a:t>
                </a:r>
                <a:r>
                  <a:rPr b="1" lang="en-US" sz="1200" spc="-1" strike="noStrike">
                    <a:solidFill>
                      <a:srgbClr val="999999"/>
                    </a:solidFill>
                    <a:latin typeface="Verdana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89160" y="3013200"/>
                <a:ext cx="492120" cy="500040"/>
              </a:xfrm>
              <a:prstGeom prst="can">
                <a:avLst>
                  <a:gd name="adj" fmla="val 21444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eaeaea"/>
                  </a:gs>
                  <a:gs pos="100000">
                    <a:srgbClr val="808080"/>
                  </a:gs>
                </a:gsLst>
                <a:lin ang="108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46160" y="3013200"/>
                <a:ext cx="492120" cy="500040"/>
              </a:xfrm>
              <a:prstGeom prst="can">
                <a:avLst>
                  <a:gd name="adj" fmla="val 21444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eaeaea"/>
                  </a:gs>
                  <a:gs pos="100000">
                    <a:srgbClr val="808080"/>
                  </a:gs>
                </a:gsLst>
                <a:lin ang="108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97040" y="3846600"/>
                <a:ext cx="147636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3300"/>
                    </a:solidFill>
                    <a:latin typeface="Verdana"/>
                  </a:rPr>
                  <a:t>MetaStor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781280" y="4179960"/>
                <a:ext cx="657000" cy="666720"/>
              </a:xfrm>
              <a:prstGeom prst="can">
                <a:avLst>
                  <a:gd name="adj" fmla="val 26250"/>
                </a:avLst>
              </a:prstGeom>
              <a:gradFill rotWithShape="0">
                <a:gsLst>
                  <a:gs pos="0">
                    <a:srgbClr val="cc3300"/>
                  </a:gs>
                  <a:gs pos="50000">
                    <a:srgbClr val="ffcccc"/>
                  </a:gs>
                  <a:gs pos="100000">
                    <a:srgbClr val="cc3300"/>
                  </a:gs>
                </a:gsLst>
                <a:lin ang="10800000"/>
              </a:gra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8360" y="4179960"/>
                <a:ext cx="131292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9999"/>
                    </a:solidFill>
                    <a:latin typeface="Verdana"/>
                  </a:rPr>
                  <a:t>Meta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9999"/>
                    </a:solidFill>
                    <a:latin typeface="Verdana"/>
                  </a:rPr>
                  <a:t> </a:t>
                </a:r>
                <a:r>
                  <a:rPr b="1" lang="en-US" sz="1200" spc="-1" strike="noStrike">
                    <a:solidFill>
                      <a:srgbClr val="999999"/>
                    </a:solidFill>
                    <a:latin typeface="Verdana"/>
                  </a:rPr>
                  <a:t>Produ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9999"/>
                    </a:solidFill>
                    <a:latin typeface="Verdana"/>
                  </a:rPr>
                  <a:t>Environmen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97040" y="3513240"/>
                <a:ext cx="0" cy="166680"/>
              </a:xfrm>
              <a:prstGeom prst="line">
                <a:avLst/>
              </a:prstGeom>
              <a:ln w="1908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09960" y="3513240"/>
                <a:ext cx="0" cy="666720"/>
              </a:xfrm>
              <a:prstGeom prst="line">
                <a:avLst/>
              </a:prstGeom>
              <a:ln w="1908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97040" y="3679920"/>
                <a:ext cx="1312920" cy="1440"/>
              </a:xfrm>
              <a:prstGeom prst="line">
                <a:avLst/>
              </a:prstGeom>
              <a:ln w="1908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6541920" y="2179800"/>
            <a:ext cx="2135520" cy="2833560"/>
            <a:chOff x="6541920" y="2179800"/>
            <a:chExt cx="2135520" cy="2833560"/>
          </a:xfrm>
        </p:grpSpPr>
        <p:sp>
          <p:nvSpPr>
            <p:cNvPr id="84" name=""/>
            <p:cNvSpPr/>
            <p:nvPr/>
          </p:nvSpPr>
          <p:spPr>
            <a:xfrm>
              <a:off x="7034040" y="4013280"/>
              <a:ext cx="1800" cy="3333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Webpage"/>
            <p:cNvSpPr/>
            <p:nvPr/>
          </p:nvSpPr>
          <p:spPr>
            <a:xfrm>
              <a:off x="7527960" y="4346640"/>
              <a:ext cx="326880" cy="33336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41920" y="2179800"/>
              <a:ext cx="2135520" cy="2833560"/>
            </a:xfrm>
            <a:custGeom>
              <a:avLst/>
              <a:gdLst>
                <a:gd name="textAreaLeft" fmla="*/ 104040 w 2135520"/>
                <a:gd name="textAreaRight" fmla="*/ 2031480 w 2135520"/>
                <a:gd name="textAreaTop" fmla="*/ 104040 h 2833560"/>
                <a:gd name="textAreaBottom" fmla="*/ 2729520 h 2833560"/>
              </a:gdLst>
              <a:ahLst/>
              <a:rect l="textAreaLeft" t="textAreaTop" r="textAreaRight" b="textAreaBottom"/>
              <a:pathLst>
                <a:path w="21600" h="28659">
                  <a:moveTo>
                    <a:pt x="3600" y="0"/>
                  </a:moveTo>
                  <a:arcTo wR="3600" hR="3600" stAng="16200000" swAng="-5400000"/>
                  <a:lnTo>
                    <a:pt x="0" y="25059"/>
                  </a:lnTo>
                  <a:arcTo wR="3600" hR="3600" stAng="10800000" swAng="-5400000"/>
                  <a:lnTo>
                    <a:pt x="18000" y="286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99280" y="2513160"/>
              <a:ext cx="1476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Us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Interfa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7160" y="3179880"/>
              <a:ext cx="18050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Verdana"/>
                </a:rPr>
                <a:t>PubStat</a:t>
              </a: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Webpage"/>
            <p:cNvSpPr/>
            <p:nvPr/>
          </p:nvSpPr>
          <p:spPr>
            <a:xfrm>
              <a:off x="6707160" y="2513160"/>
              <a:ext cx="326880" cy="33336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6870600" y="2679840"/>
              <a:ext cx="3636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Webpage"/>
            <p:cNvSpPr/>
            <p:nvPr/>
          </p:nvSpPr>
          <p:spPr>
            <a:xfrm>
              <a:off x="6707160" y="3513240"/>
              <a:ext cx="492120" cy="50004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44313"/>
                  </a:srgbClr>
                </a:gs>
                <a:gs pos="100000">
                  <a:srgbClr val="eaeaea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99280" y="3513240"/>
              <a:ext cx="14763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Publication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20080" y="4346640"/>
              <a:ext cx="328680" cy="333360"/>
            </a:xfrm>
            <a:prstGeom prst="can">
              <a:avLst>
                <a:gd name="adj" fmla="val 20972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cddrive"/>
            <p:cNvSpPr/>
            <p:nvPr/>
          </p:nvSpPr>
          <p:spPr>
            <a:xfrm>
              <a:off x="8183520" y="4513320"/>
              <a:ext cx="328680" cy="333360"/>
            </a:xfrm>
            <a:prstGeom prst="pie">
              <a:avLst/>
            </a:prstGeom>
            <a:gradFill rotWithShape="0">
              <a:gsLst>
                <a:gs pos="0">
                  <a:srgbClr val="808080">
                    <a:alpha val="70196"/>
                  </a:srgbClr>
                </a:gs>
                <a:gs pos="100000">
                  <a:srgbClr val="eaeaea"/>
                </a:gs>
              </a:gsLst>
              <a:lin ang="54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91400" y="4513320"/>
              <a:ext cx="409680" cy="352440"/>
            </a:xfrm>
            <a:prstGeom prst="verticalScroll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41920" y="4346640"/>
              <a:ext cx="1478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Publ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Outpu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71640" y="4654440"/>
            <a:ext cx="2952720" cy="358560"/>
            <a:chOff x="2771640" y="4654440"/>
            <a:chExt cx="2952720" cy="358560"/>
          </a:xfrm>
        </p:grpSpPr>
        <p:sp>
          <p:nvSpPr>
            <p:cNvPr id="98" name=""/>
            <p:cNvSpPr/>
            <p:nvPr/>
          </p:nvSpPr>
          <p:spPr>
            <a:xfrm>
              <a:off x="2771640" y="5013000"/>
              <a:ext cx="50508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24360" y="4725720"/>
              <a:ext cx="0" cy="2872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71640" y="4654440"/>
              <a:ext cx="0" cy="3585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03640" y="5013000"/>
              <a:ext cx="25207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22200" y="105264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MetaStore is positioned in the production layer of the OECD’s Statistical Information System (SIS) for managing production metadata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59080" y="2179800"/>
            <a:ext cx="2625840" cy="2690640"/>
            <a:chOff x="3259080" y="2179800"/>
            <a:chExt cx="2625840" cy="2690640"/>
          </a:xfrm>
        </p:grpSpPr>
        <p:sp>
          <p:nvSpPr>
            <p:cNvPr id="104" name=""/>
            <p:cNvSpPr/>
            <p:nvPr/>
          </p:nvSpPr>
          <p:spPr>
            <a:xfrm flipV="1">
              <a:off x="4737240" y="4508280"/>
              <a:ext cx="914400" cy="468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2520" y="2179800"/>
              <a:ext cx="2298960" cy="2690640"/>
            </a:xfrm>
            <a:custGeom>
              <a:avLst/>
              <a:gdLst>
                <a:gd name="textAreaLeft" fmla="*/ 111960 w 2298960"/>
                <a:gd name="textAreaRight" fmla="*/ 2187000 w 2298960"/>
                <a:gd name="textAreaTop" fmla="*/ 111960 h 2690640"/>
                <a:gd name="textAreaBottom" fmla="*/ 2578680 h 2690640"/>
              </a:gdLst>
              <a:ahLst/>
              <a:rect l="textAreaLeft" t="textAreaTop" r="textAreaRight" b="textAreaBottom"/>
              <a:pathLst>
                <a:path w="21600" h="25279">
                  <a:moveTo>
                    <a:pt x="3600" y="0"/>
                  </a:moveTo>
                  <a:arcTo wR="3600" hR="3600" stAng="16200000" swAng="-5400000"/>
                  <a:lnTo>
                    <a:pt x="0" y="21679"/>
                  </a:lnTo>
                  <a:arcTo wR="3600" hR="3600" stAng="10800000" swAng="-5400000"/>
                  <a:lnTo>
                    <a:pt x="18000" y="252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1200" y="3013200"/>
              <a:ext cx="657360" cy="666720"/>
            </a:xfrm>
            <a:prstGeom prst="can">
              <a:avLst>
                <a:gd name="adj" fmla="val 21388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eaeaea"/>
                </a:gs>
                <a:gs pos="100000">
                  <a:srgbClr val="808080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51200" y="2346480"/>
              <a:ext cx="16416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Verdana"/>
                </a:rPr>
                <a:t>OECD.Stat</a:t>
              </a: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2520" y="2513160"/>
              <a:ext cx="1641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Corporate Data Wareho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59080" y="4346640"/>
              <a:ext cx="328680" cy="333360"/>
            </a:xfrm>
            <a:prstGeom prst="flowChartSummingJunction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08560" y="3178440"/>
              <a:ext cx="328680" cy="1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37240" y="3179880"/>
              <a:ext cx="0" cy="1333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57680" y="4346640"/>
              <a:ext cx="327240" cy="333360"/>
            </a:xfrm>
            <a:prstGeom prst="flowChartSummingJunction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37240" y="2679840"/>
              <a:ext cx="820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Cu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37240" y="3678480"/>
              <a:ext cx="326880" cy="144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37240" y="4178520"/>
              <a:ext cx="326880" cy="144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0640" y="3478320"/>
              <a:ext cx="362160" cy="368280"/>
            </a:xfrm>
            <a:prstGeom prst="cube">
              <a:avLst>
                <a:gd name="adj" fmla="val 26416"/>
              </a:avLst>
            </a:prstGeom>
            <a:blipFill rotWithShape="0">
              <a:blip r:embed="rId2"/>
              <a:srcRect/>
              <a:stretch/>
            </a:blip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30640" y="3978360"/>
              <a:ext cx="362160" cy="368280"/>
            </a:xfrm>
            <a:prstGeom prst="cube">
              <a:avLst>
                <a:gd name="adj" fmla="val 26416"/>
              </a:avLst>
            </a:prstGeom>
            <a:blipFill rotWithShape="0">
              <a:blip r:embed="rId3"/>
              <a:srcRect/>
              <a:stretch/>
            </a:blip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79880" y="3679920"/>
              <a:ext cx="1440" cy="83340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37240" y="3178440"/>
              <a:ext cx="326880" cy="1440"/>
            </a:xfrm>
            <a:prstGeom prst="line">
              <a:avLst/>
            </a:prstGeom>
            <a:ln w="1908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30640" y="2978280"/>
              <a:ext cx="362160" cy="368280"/>
            </a:xfrm>
            <a:prstGeom prst="cube">
              <a:avLst>
                <a:gd name="adj" fmla="val 26416"/>
              </a:avLst>
            </a:prstGeom>
            <a:blipFill rotWithShape="0">
              <a:blip r:embed="rId4"/>
              <a:srcRect/>
              <a:stretch/>
            </a:blip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3320" y="4513320"/>
              <a:ext cx="14781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Web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4000" y="4508640"/>
              <a:ext cx="5032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721480" y="2679840"/>
            <a:ext cx="985680" cy="2000160"/>
            <a:chOff x="5721480" y="2679840"/>
            <a:chExt cx="985680" cy="2000160"/>
          </a:xfrm>
        </p:grpSpPr>
        <p:sp>
          <p:nvSpPr>
            <p:cNvPr id="124" name=""/>
            <p:cNvSpPr/>
            <p:nvPr/>
          </p:nvSpPr>
          <p:spPr>
            <a:xfrm>
              <a:off x="5721480" y="4013280"/>
              <a:ext cx="657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99"/>
                  </a:solidFill>
                  <a:latin typeface="Verdana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4920" y="4346640"/>
              <a:ext cx="328680" cy="333360"/>
            </a:xfrm>
            <a:prstGeom prst="rightArrow">
              <a:avLst>
                <a:gd name="adj1" fmla="val 55556"/>
                <a:gd name="adj2" fmla="val 69444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f8f8f8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78480" y="2679840"/>
              <a:ext cx="0" cy="183348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78480" y="2679840"/>
              <a:ext cx="328680" cy="1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8480" y="3679920"/>
              <a:ext cx="328680" cy="1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227640" y="4508280"/>
              <a:ext cx="144720" cy="468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524720" y="6093000"/>
            <a:ext cx="121284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9519"/>
            </a:avLst>
          </a:prstGeom>
          <a:noFill/>
          <a:ln w="25560">
            <a:solidFill>
              <a:srgbClr val="d3d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1640" y="189000"/>
            <a:ext cx="7200360" cy="718560"/>
            <a:chOff x="971640" y="189000"/>
            <a:chExt cx="7200360" cy="718560"/>
          </a:xfrm>
        </p:grpSpPr>
        <p:sp>
          <p:nvSpPr>
            <p:cNvPr id="133" name=""/>
            <p:cNvSpPr/>
            <p:nvPr/>
          </p:nvSpPr>
          <p:spPr>
            <a:xfrm>
              <a:off x="971640" y="189000"/>
              <a:ext cx="7200360" cy="358560"/>
            </a:xfrm>
            <a:prstGeom prst="roundRect">
              <a:avLst>
                <a:gd name="adj" fmla="val 0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71640" y="259920"/>
              <a:ext cx="7200360" cy="647640"/>
            </a:xfrm>
            <a:prstGeom prst="roundRect">
              <a:avLst>
                <a:gd name="adj" fmla="val 42403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042920" y="189000"/>
            <a:ext cx="7058160" cy="647640"/>
            <a:chOff x="1042920" y="189000"/>
            <a:chExt cx="7058160" cy="647640"/>
          </a:xfrm>
        </p:grpSpPr>
        <p:sp>
          <p:nvSpPr>
            <p:cNvPr id="136" name=""/>
            <p:cNvSpPr/>
            <p:nvPr/>
          </p:nvSpPr>
          <p:spPr>
            <a:xfrm>
              <a:off x="1042920" y="189000"/>
              <a:ext cx="7058160" cy="358560"/>
            </a:xfrm>
            <a:prstGeom prst="roundRect">
              <a:avLst>
                <a:gd name="adj" fmla="val 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42920" y="189000"/>
              <a:ext cx="7058160" cy="647640"/>
            </a:xfrm>
            <a:prstGeom prst="roundRect">
              <a:avLst>
                <a:gd name="adj" fmla="val 33579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</a:rPr>
                <a:t>The Metadata Princip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8360" y="248760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In 2004, OECD adopted a set of corporate principles set out the guidelines “Management of Statistical Metadata at the OECD”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24720" y="6093000"/>
            <a:ext cx="1212840" cy="431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3211560"/>
            <a:ext cx="2303640" cy="7207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3211560"/>
            <a:ext cx="576108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The same variable name, definition, and other description should be connected to the same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932280"/>
            <a:ext cx="2303640" cy="7207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Redund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3932280"/>
            <a:ext cx="576108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Metadata on one element (statistical collection, dataflow or concept) should only exist as one 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4651200"/>
            <a:ext cx="2303640" cy="7210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omm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4651200"/>
            <a:ext cx="5761080" cy="72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All metadata from different subject-matter areas must be grouped under 41 defined metadata type heading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372280"/>
            <a:ext cx="2303640" cy="7207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Attach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5372280"/>
            <a:ext cx="576108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Metadata can be attached at any level of detail of the statistic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052640"/>
            <a:ext cx="828036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Metadata must primarily illuminate the following are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Concepts, definitions of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Delimitation of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Dimensions of quality, related to the original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755640" y="3068640"/>
            <a:ext cx="720720" cy="649080"/>
            <a:chOff x="755640" y="3068640"/>
            <a:chExt cx="720720" cy="649080"/>
          </a:xfrm>
        </p:grpSpPr>
        <p:grpSp>
          <p:nvGrpSpPr>
            <p:cNvPr id="150" name=""/>
            <p:cNvGrpSpPr/>
            <p:nvPr/>
          </p:nvGrpSpPr>
          <p:grpSpPr>
            <a:xfrm>
              <a:off x="829080" y="3068640"/>
              <a:ext cx="574200" cy="431280"/>
              <a:chOff x="829080" y="3068640"/>
              <a:chExt cx="574200" cy="431280"/>
            </a:xfrm>
          </p:grpSpPr>
          <p:sp>
            <p:nvSpPr>
              <p:cNvPr id="151" name="Webpage"/>
              <p:cNvSpPr/>
              <p:nvPr/>
            </p:nvSpPr>
            <p:spPr>
              <a:xfrm rot="10800000">
                <a:off x="829080" y="3068640"/>
                <a:ext cx="458640" cy="345960"/>
              </a:xfrm>
              <a:prstGeom prst="pie">
                <a:avLst/>
              </a:prstGeom>
              <a:gradFill rotWithShape="0">
                <a:gsLst>
                  <a:gs pos="0">
                    <a:srgbClr val="ff3300">
                      <a:alpha val="44313"/>
                    </a:srgbClr>
                  </a:gs>
                  <a:gs pos="100000">
                    <a:srgbClr val="ffcccc"/>
                  </a:gs>
                </a:gsLst>
                <a:lin ang="13500000"/>
              </a:gradFill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Webpage"/>
              <p:cNvSpPr/>
              <p:nvPr/>
            </p:nvSpPr>
            <p:spPr>
              <a:xfrm rot="10800000">
                <a:off x="886320" y="3111120"/>
                <a:ext cx="458640" cy="345960"/>
              </a:xfrm>
              <a:prstGeom prst="pie">
                <a:avLst/>
              </a:prstGeom>
              <a:gradFill rotWithShape="0">
                <a:gsLst>
                  <a:gs pos="0">
                    <a:srgbClr val="ff3300">
                      <a:alpha val="44313"/>
                    </a:srgbClr>
                  </a:gs>
                  <a:gs pos="100000">
                    <a:srgbClr val="ffcccc"/>
                  </a:gs>
                </a:gsLst>
                <a:lin ang="13500000"/>
              </a:gradFill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Webpage"/>
              <p:cNvSpPr/>
              <p:nvPr/>
            </p:nvSpPr>
            <p:spPr>
              <a:xfrm rot="10800000">
                <a:off x="944640" y="3153960"/>
                <a:ext cx="458640" cy="345960"/>
              </a:xfrm>
              <a:prstGeom prst="pie">
                <a:avLst/>
              </a:prstGeom>
              <a:gradFill rotWithShape="0">
                <a:gsLst>
                  <a:gs pos="0">
                    <a:srgbClr val="ff3300">
                      <a:alpha val="44313"/>
                    </a:srgbClr>
                  </a:gs>
                  <a:gs pos="100000">
                    <a:srgbClr val="ffcccc"/>
                  </a:gs>
                </a:gsLst>
                <a:lin ang="13500000"/>
              </a:gradFill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55640" y="3286080"/>
              <a:ext cx="720720" cy="431640"/>
            </a:xfrm>
            <a:custGeom>
              <a:avLst/>
              <a:gdLst>
                <a:gd name="textAreaLeft" fmla="*/ 127080 w 720720"/>
                <a:gd name="textAreaRight" fmla="*/ 593640 w 720720"/>
                <a:gd name="textAreaTop" fmla="*/ 75960 h 431640"/>
                <a:gd name="textAreaBottom" fmla="*/ 35568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889" y="21600"/>
                  </a:lnTo>
                  <a:lnTo>
                    <a:pt x="371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71640" y="3357360"/>
              <a:ext cx="288720" cy="2160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39933"/>
                </a:gs>
                <a:gs pos="100000">
                  <a:srgbClr val="ccffcc">
                    <a:alpha val="80392"/>
                  </a:srgbClr>
                </a:gs>
              </a:gsLst>
              <a:lin ang="10800000"/>
            </a:gra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492200">
              <a:off x="971280" y="3430440"/>
              <a:ext cx="288720" cy="2160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ffcc">
                    <a:alpha val="80392"/>
                  </a:srgbClr>
                </a:gs>
                <a:gs pos="100000">
                  <a:srgbClr val="339933"/>
                </a:gs>
              </a:gsLst>
              <a:lin ang="306000"/>
            </a:gra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4360" y="2924280"/>
            <a:ext cx="100800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24720" y="6093000"/>
            <a:ext cx="1212840" cy="431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9519"/>
            </a:avLst>
          </a:prstGeom>
          <a:noFill/>
          <a:ln w="25560">
            <a:solidFill>
              <a:srgbClr val="d3d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71640" y="189000"/>
            <a:ext cx="7200360" cy="718560"/>
            <a:chOff x="971640" y="189000"/>
            <a:chExt cx="7200360" cy="718560"/>
          </a:xfrm>
        </p:grpSpPr>
        <p:sp>
          <p:nvSpPr>
            <p:cNvPr id="161" name=""/>
            <p:cNvSpPr/>
            <p:nvPr/>
          </p:nvSpPr>
          <p:spPr>
            <a:xfrm>
              <a:off x="971640" y="189000"/>
              <a:ext cx="7200360" cy="358560"/>
            </a:xfrm>
            <a:prstGeom prst="roundRect">
              <a:avLst>
                <a:gd name="adj" fmla="val 0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1640" y="259920"/>
              <a:ext cx="7200360" cy="647640"/>
            </a:xfrm>
            <a:prstGeom prst="roundRect">
              <a:avLst>
                <a:gd name="adj" fmla="val 42403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042920" y="189000"/>
            <a:ext cx="7058160" cy="647640"/>
            <a:chOff x="1042920" y="189000"/>
            <a:chExt cx="7058160" cy="647640"/>
          </a:xfrm>
        </p:grpSpPr>
        <p:sp>
          <p:nvSpPr>
            <p:cNvPr id="164" name=""/>
            <p:cNvSpPr/>
            <p:nvPr/>
          </p:nvSpPr>
          <p:spPr>
            <a:xfrm>
              <a:off x="1042920" y="189000"/>
              <a:ext cx="7058160" cy="358560"/>
            </a:xfrm>
            <a:prstGeom prst="roundRect">
              <a:avLst>
                <a:gd name="adj" fmla="val 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2920" y="189000"/>
              <a:ext cx="7058160" cy="647640"/>
            </a:xfrm>
            <a:prstGeom prst="roundRect">
              <a:avLst>
                <a:gd name="adj" fmla="val 33579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</a:rPr>
                <a:t>MetaStore and its Feat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400640" y="1341360"/>
            <a:ext cx="1224000" cy="1008000"/>
          </a:xfrm>
          <a:prstGeom prst="can">
            <a:avLst>
              <a:gd name="adj" fmla="val 17166"/>
            </a:avLst>
          </a:prstGeom>
          <a:gradFill rotWithShape="0">
            <a:gsLst>
              <a:gs pos="0">
                <a:srgbClr val="7d7da9"/>
              </a:gs>
              <a:gs pos="50000">
                <a:srgbClr val="99ccff"/>
              </a:gs>
              <a:gs pos="100000">
                <a:srgbClr val="7d7da9"/>
              </a:gs>
            </a:gsLst>
            <a:lin ang="10800000"/>
          </a:gra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124000" y="3213000"/>
            <a:ext cx="715680" cy="647280"/>
            <a:chOff x="2124000" y="3213000"/>
            <a:chExt cx="715680" cy="647280"/>
          </a:xfrm>
        </p:grpSpPr>
        <p:sp>
          <p:nvSpPr>
            <p:cNvPr id="168" name="Webpage"/>
            <p:cNvSpPr/>
            <p:nvPr/>
          </p:nvSpPr>
          <p:spPr>
            <a:xfrm>
              <a:off x="2268360" y="3341160"/>
              <a:ext cx="571320" cy="519120"/>
            </a:xfrm>
            <a:prstGeom prst="pie">
              <a:avLst/>
            </a:prstGeom>
            <a:gradFill rotWithShape="0">
              <a:gsLst>
                <a:gs pos="0">
                  <a:srgbClr val="ff3300">
                    <a:alpha val="44313"/>
                  </a:srgbClr>
                </a:gs>
                <a:gs pos="100000">
                  <a:srgbClr val="ffcccc"/>
                </a:gs>
              </a:gsLst>
              <a:lin ang="13500000"/>
            </a:gradFill>
            <a:ln w="6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ebpage"/>
            <p:cNvSpPr/>
            <p:nvPr/>
          </p:nvSpPr>
          <p:spPr>
            <a:xfrm>
              <a:off x="2197080" y="3277080"/>
              <a:ext cx="571320" cy="519120"/>
            </a:xfrm>
            <a:prstGeom prst="pie">
              <a:avLst/>
            </a:prstGeom>
            <a:gradFill rotWithShape="0">
              <a:gsLst>
                <a:gs pos="0">
                  <a:srgbClr val="ff3300">
                    <a:alpha val="44313"/>
                  </a:srgbClr>
                </a:gs>
                <a:gs pos="100000">
                  <a:srgbClr val="ffcccc"/>
                </a:gs>
              </a:gsLst>
              <a:lin ang="13500000"/>
            </a:gradFill>
            <a:ln w="6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Webpage"/>
            <p:cNvSpPr/>
            <p:nvPr/>
          </p:nvSpPr>
          <p:spPr>
            <a:xfrm>
              <a:off x="2124000" y="3213000"/>
              <a:ext cx="571320" cy="519120"/>
            </a:xfrm>
            <a:prstGeom prst="pie">
              <a:avLst/>
            </a:prstGeom>
            <a:gradFill rotWithShape="0">
              <a:gsLst>
                <a:gs pos="0">
                  <a:srgbClr val="ff3300">
                    <a:alpha val="44313"/>
                  </a:srgbClr>
                </a:gs>
                <a:gs pos="100000">
                  <a:srgbClr val="ffcccc"/>
                </a:gs>
              </a:gsLst>
              <a:lin ang="13500000"/>
            </a:gradFill>
            <a:ln w="6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55640" y="3213000"/>
            <a:ext cx="893520" cy="647280"/>
            <a:chOff x="755640" y="3213000"/>
            <a:chExt cx="893520" cy="647280"/>
          </a:xfrm>
        </p:grpSpPr>
        <p:sp>
          <p:nvSpPr>
            <p:cNvPr id="172" name=""/>
            <p:cNvSpPr/>
            <p:nvPr/>
          </p:nvSpPr>
          <p:spPr>
            <a:xfrm>
              <a:off x="829800" y="3284280"/>
              <a:ext cx="819360" cy="576000"/>
            </a:xfrm>
            <a:prstGeom prst="verticalScroll">
              <a:avLst>
                <a:gd name="adj" fmla="val 1603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5640" y="3213000"/>
              <a:ext cx="819360" cy="576000"/>
            </a:xfrm>
            <a:prstGeom prst="verticalScroll">
              <a:avLst>
                <a:gd name="adj" fmla="val 16032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3300"/>
                </a:gs>
              </a:gsLst>
              <a:lin ang="8100000"/>
            </a:gradFill>
            <a:ln w="6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975240" y="3357360"/>
              <a:ext cx="363240" cy="36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1116720" y="982800"/>
            <a:ext cx="1422720" cy="1798200"/>
            <a:chOff x="1116720" y="982800"/>
            <a:chExt cx="1422720" cy="1798200"/>
          </a:xfrm>
        </p:grpSpPr>
        <p:sp>
          <p:nvSpPr>
            <p:cNvPr id="176" name=""/>
            <p:cNvSpPr/>
            <p:nvPr/>
          </p:nvSpPr>
          <p:spPr>
            <a:xfrm>
              <a:off x="1665360" y="2133720"/>
              <a:ext cx="731880" cy="64728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cc"/>
                </a:gs>
                <a:gs pos="100000">
                  <a:srgbClr val="ffcc00"/>
                </a:gs>
              </a:gsLst>
              <a:lin ang="10800000"/>
            </a:gradFill>
            <a:ln w="64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2440" y="1773360"/>
              <a:ext cx="720720" cy="64728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0066cc"/>
                </a:gs>
                <a:gs pos="50000">
                  <a:srgbClr val="ccecff"/>
                </a:gs>
                <a:gs pos="100000">
                  <a:srgbClr val="0066cc"/>
                </a:gs>
              </a:gsLst>
              <a:lin ang="10800000"/>
            </a:gradFill>
            <a:ln w="648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84200" y="1414440"/>
              <a:ext cx="716040" cy="647280"/>
            </a:xfrm>
            <a:prstGeom prst="can">
              <a:avLst>
                <a:gd name="adj" fmla="val 21444"/>
              </a:avLst>
            </a:prstGeom>
            <a:gradFill rotWithShape="0">
              <a:gsLst>
                <a:gs pos="0">
                  <a:srgbClr val="669900"/>
                </a:gs>
                <a:gs pos="50000">
                  <a:srgbClr val="ccffcc"/>
                </a:gs>
                <a:gs pos="100000">
                  <a:srgbClr val="669900"/>
                </a:gs>
              </a:gsLst>
              <a:lin ang="10800000"/>
            </a:gradFill>
            <a:ln w="6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16720" y="982800"/>
              <a:ext cx="142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69696"/>
                  </a:solidFill>
                  <a:latin typeface="Verdana"/>
                </a:rPr>
                <a:t>Data Produ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69696"/>
                  </a:solidFill>
                  <a:latin typeface="Verdana"/>
                </a:rPr>
                <a:t>Environ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87880" y="2711520"/>
            <a:ext cx="104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69696"/>
                </a:solidFill>
                <a:latin typeface="Verdana"/>
              </a:rPr>
              <a:t>MS Of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69696"/>
                </a:solidFill>
                <a:latin typeface="Verdana"/>
              </a:rPr>
              <a:t>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63440" y="2755800"/>
            <a:ext cx="108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69696"/>
                </a:solidFill>
                <a:latin typeface="Verdana"/>
              </a:rPr>
              <a:t>Static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69696"/>
                </a:solidFill>
                <a:latin typeface="Verdana"/>
              </a:rPr>
              <a:t>Web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44560" y="1752480"/>
            <a:ext cx="287280" cy="236520"/>
          </a:xfrm>
          <a:prstGeom prst="can">
            <a:avLst>
              <a:gd name="adj" fmla="val 21444"/>
            </a:avLst>
          </a:prstGeom>
          <a:gradFill rotWithShape="0">
            <a:gsLst>
              <a:gs pos="0">
                <a:srgbClr val="ff3300"/>
              </a:gs>
              <a:gs pos="50000">
                <a:srgbClr val="ffcccc">
                  <a:alpha val="20000"/>
                </a:srgbClr>
              </a:gs>
              <a:gs pos="100000">
                <a:srgbClr val="ff3300"/>
              </a:gs>
            </a:gsLst>
            <a:lin ang="10800000"/>
          </a:gradFill>
          <a:ln w="6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82800" y="2133720"/>
            <a:ext cx="289080" cy="236520"/>
          </a:xfrm>
          <a:prstGeom prst="can">
            <a:avLst>
              <a:gd name="adj" fmla="val 21444"/>
            </a:avLst>
          </a:prstGeom>
          <a:gradFill rotWithShape="0">
            <a:gsLst>
              <a:gs pos="0">
                <a:srgbClr val="ff3300"/>
              </a:gs>
              <a:gs pos="50000">
                <a:srgbClr val="ffcccc">
                  <a:alpha val="20000"/>
                </a:srgbClr>
              </a:gs>
              <a:gs pos="100000">
                <a:srgbClr val="ff3300"/>
              </a:gs>
            </a:gsLst>
            <a:lin ang="10800000"/>
          </a:gradFill>
          <a:ln w="6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25720" y="2494080"/>
            <a:ext cx="293760" cy="236520"/>
          </a:xfrm>
          <a:prstGeom prst="can">
            <a:avLst>
              <a:gd name="adj" fmla="val 21444"/>
            </a:avLst>
          </a:prstGeom>
          <a:gradFill rotWithShape="0">
            <a:gsLst>
              <a:gs pos="0">
                <a:srgbClr val="ff3300"/>
              </a:gs>
              <a:gs pos="50000">
                <a:srgbClr val="ffcccc">
                  <a:alpha val="20000"/>
                </a:srgbClr>
              </a:gs>
              <a:gs pos="100000">
                <a:srgbClr val="ff3300"/>
              </a:gs>
            </a:gsLst>
            <a:lin ang="10800000"/>
          </a:gradFill>
          <a:ln w="6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48520" y="105408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Meta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93440" y="127008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69696"/>
                </a:solidFill>
                <a:latin typeface="Verdana"/>
              </a:rPr>
              <a:t>Migrate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57360" y="1630440"/>
            <a:ext cx="194328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960640" y="2061720"/>
            <a:ext cx="1152000" cy="792360"/>
            <a:chOff x="2960640" y="2061720"/>
            <a:chExt cx="1152000" cy="792360"/>
          </a:xfrm>
        </p:grpSpPr>
        <p:grpSp>
          <p:nvGrpSpPr>
            <p:cNvPr id="189" name=""/>
            <p:cNvGrpSpPr/>
            <p:nvPr/>
          </p:nvGrpSpPr>
          <p:grpSpPr>
            <a:xfrm>
              <a:off x="3033360" y="2134800"/>
              <a:ext cx="1079280" cy="719280"/>
              <a:chOff x="3033360" y="2134800"/>
              <a:chExt cx="1079280" cy="7192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33360" y="2135160"/>
                <a:ext cx="1079280" cy="718920"/>
              </a:xfrm>
              <a:prstGeom prst="flowChartProcess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33360" y="2189880"/>
                <a:ext cx="1079280" cy="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115800" y="2134800"/>
                <a:ext cx="0" cy="71892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960640" y="2061720"/>
              <a:ext cx="1080720" cy="719280"/>
              <a:chOff x="2960640" y="2061720"/>
              <a:chExt cx="1080720" cy="719280"/>
            </a:xfrm>
          </p:grpSpPr>
          <p:sp>
            <p:nvSpPr>
              <p:cNvPr id="194" name=""/>
              <p:cNvSpPr/>
              <p:nvPr/>
            </p:nvSpPr>
            <p:spPr>
              <a:xfrm>
                <a:off x="2960640" y="2062080"/>
                <a:ext cx="1080720" cy="718920"/>
              </a:xfrm>
              <a:prstGeom prst="flowChartProcess">
                <a:avLst/>
              </a:prstGeom>
              <a:solidFill>
                <a:srgbClr val="eaeaea"/>
              </a:soli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60640" y="2116800"/>
                <a:ext cx="1080720" cy="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043440" y="2061720"/>
                <a:ext cx="0" cy="71892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007800" y="2215800"/>
              <a:ext cx="1029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333399"/>
                  </a:solidFill>
                  <a:latin typeface="Verdana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333399"/>
                  </a:solidFill>
                  <a:latin typeface="Verdana"/>
                </a:rPr>
                <a:t>Coordin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041360" y="2349360"/>
            <a:ext cx="935280" cy="144720"/>
            <a:chOff x="4041360" y="2349360"/>
            <a:chExt cx="935280" cy="144720"/>
          </a:xfrm>
        </p:grpSpPr>
        <p:sp>
          <p:nvSpPr>
            <p:cNvPr id="199" name=""/>
            <p:cNvSpPr/>
            <p:nvPr/>
          </p:nvSpPr>
          <p:spPr>
            <a:xfrm>
              <a:off x="4976640" y="2349360"/>
              <a:ext cx="0" cy="144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41360" y="2494080"/>
              <a:ext cx="934920" cy="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2457360" y="2494080"/>
            <a:ext cx="50328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850080" y="1486080"/>
            <a:ext cx="1079640" cy="855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626080" y="1630440"/>
            <a:ext cx="129528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26080" y="1917720"/>
            <a:ext cx="129528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18320" y="2565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Verdana"/>
              </a:rPr>
              <a:t>Sear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99600" y="292428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Verdana"/>
              </a:rPr>
              <a:t>A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02120" y="328464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Verdana"/>
              </a:rPr>
              <a:t>Ed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24640" y="2349360"/>
            <a:ext cx="0" cy="107964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424640" y="2708280"/>
            <a:ext cx="216000" cy="720720"/>
            <a:chOff x="7424640" y="2708280"/>
            <a:chExt cx="216000" cy="720720"/>
          </a:xfrm>
        </p:grpSpPr>
        <p:sp>
          <p:nvSpPr>
            <p:cNvPr id="210" name=""/>
            <p:cNvSpPr/>
            <p:nvPr/>
          </p:nvSpPr>
          <p:spPr>
            <a:xfrm>
              <a:off x="7424640" y="2708280"/>
              <a:ext cx="216000" cy="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24640" y="3068640"/>
              <a:ext cx="216000" cy="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24640" y="3429000"/>
              <a:ext cx="216000" cy="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547440" y="2709360"/>
            <a:ext cx="1486800" cy="1002240"/>
            <a:chOff x="3547440" y="2709360"/>
            <a:chExt cx="1486800" cy="1002240"/>
          </a:xfrm>
        </p:grpSpPr>
        <p:sp>
          <p:nvSpPr>
            <p:cNvPr id="214" name=""/>
            <p:cNvSpPr/>
            <p:nvPr/>
          </p:nvSpPr>
          <p:spPr>
            <a:xfrm>
              <a:off x="3547440" y="3070080"/>
              <a:ext cx="1486800" cy="641520"/>
            </a:xfrm>
            <a:prstGeom prst="rect">
              <a:avLst/>
            </a:prstGeom>
            <a:noFill/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69696"/>
                  </a:solidFill>
                  <a:latin typeface="Verdana"/>
                </a:rPr>
                <a:t>Ability 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69696"/>
                  </a:solidFill>
                  <a:latin typeface="Verdana"/>
                </a:rPr>
                <a:t>attach Metada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69696"/>
                  </a:solidFill>
                  <a:latin typeface="Verdana"/>
                </a:rPr>
                <a:t>at any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329000" y="2709360"/>
              <a:ext cx="0" cy="3603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41720" y="2709720"/>
              <a:ext cx="28728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783400" y="2507760"/>
            <a:ext cx="1641240" cy="1184760"/>
            <a:chOff x="5783400" y="2507760"/>
            <a:chExt cx="1641240" cy="1184760"/>
          </a:xfrm>
        </p:grpSpPr>
        <p:sp>
          <p:nvSpPr>
            <p:cNvPr id="218" name=""/>
            <p:cNvSpPr/>
            <p:nvPr/>
          </p:nvSpPr>
          <p:spPr>
            <a:xfrm>
              <a:off x="5783400" y="2868480"/>
              <a:ext cx="1320480" cy="824040"/>
            </a:xfrm>
            <a:prstGeom prst="rect">
              <a:avLst/>
            </a:prstGeom>
            <a:noFill/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cc3300"/>
                  </a:solidFill>
                  <a:latin typeface="Verdana"/>
                </a:rPr>
                <a:t>Accessib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69696"/>
                  </a:solidFill>
                  <a:latin typeface="Verdana"/>
                </a:rPr>
                <a:t>and </a:t>
              </a:r>
              <a:r>
                <a:rPr b="1" lang="en-GB" sz="1200" spc="-1" strike="noStrike">
                  <a:solidFill>
                    <a:srgbClr val="cc3300"/>
                  </a:solidFill>
                  <a:latin typeface="Verdana"/>
                </a:rPr>
                <a:t>Timeli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69696"/>
                  </a:solidFill>
                  <a:latin typeface="Verdana"/>
                </a:rPr>
                <a:t>of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69696"/>
                  </a:solidFill>
                  <a:latin typeface="Verdana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418080" y="2507760"/>
              <a:ext cx="0" cy="3603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8080" y="2508120"/>
              <a:ext cx="100656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428160" y="1054080"/>
            <a:ext cx="197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69696"/>
                </a:solidFill>
                <a:latin typeface="Verdana"/>
              </a:rPr>
              <a:t>Web Interfac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69696"/>
                </a:solidFill>
                <a:latin typeface="Verdana"/>
              </a:rPr>
              <a:t>Meta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067280"/>
            <a:ext cx="2303640" cy="5140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Verdana"/>
              </a:rPr>
              <a:t>Improving Qualit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Verdana"/>
              </a:rPr>
              <a:t>Of Meta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43280" y="4076640"/>
            <a:ext cx="5761080" cy="51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Verdana"/>
              </a:rPr>
              <a:t>Metadata Attachment Levels , </a:t>
            </a:r>
            <a:r>
              <a:rPr b="1" lang="en-GB" sz="1500" spc="-1" strike="noStrike">
                <a:solidFill>
                  <a:srgbClr val="333399"/>
                </a:solidFill>
                <a:latin typeface="Verdana"/>
              </a:rPr>
              <a:t>Rich Text Formatting, Standard Classif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4581360"/>
            <a:ext cx="2303640" cy="514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Verdana"/>
              </a:rPr>
              <a:t>Efficiency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Verdana"/>
              </a:rPr>
              <a:t>Managing Meta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43280" y="4581360"/>
            <a:ext cx="5761080" cy="51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Verdana"/>
              </a:rPr>
              <a:t>Content Sharing, URL &amp; Glossary References, Versioning Fla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084640"/>
            <a:ext cx="2303640" cy="514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Verdana"/>
              </a:rPr>
              <a:t>Making Meta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Verdana"/>
              </a:rPr>
              <a:t>More Accessi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43280" y="5084640"/>
            <a:ext cx="5761080" cy="51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Verdana"/>
              </a:rPr>
              <a:t>Web Interface, Remote Application Access Methods, Reporting &amp; Expor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5589720"/>
            <a:ext cx="2303640" cy="5140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Verdana"/>
              </a:rPr>
              <a:t>Integration Wi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Verdana"/>
              </a:rPr>
              <a:t>Production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43280" y="5589720"/>
            <a:ext cx="5761080" cy="51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Verdana"/>
              </a:rPr>
              <a:t>Connectivity to Data Structures, Remote Interaction, Bulk Process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8.09249E-007 L 0.29861 -0.0141 E">
                                      <p:cBhvr>
                                        <p:cTn id="289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5.20231E-007 L 0.29115 -0.05896 E">
                                      <p:cBhvr>
                                        <p:cTn id="291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3.93064E-006 L 0.28316 -0.10104 E">
                                      <p:cBhvr>
                                        <p:cTn id="293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4.04624E-007 L 0.41667 -0.24647 E">
                                      <p:cBhvr>
                                        <p:cTn id="295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44444E-006 4.04624E-007 L 0.28386 -0.24647 E">
                                      <p:cBhvr>
                                        <p:cTn id="297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9519"/>
            </a:avLst>
          </a:prstGeom>
          <a:noFill/>
          <a:ln w="25560">
            <a:solidFill>
              <a:srgbClr val="d3d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71640" y="189000"/>
            <a:ext cx="7200360" cy="718560"/>
            <a:chOff x="971640" y="189000"/>
            <a:chExt cx="7200360" cy="718560"/>
          </a:xfrm>
        </p:grpSpPr>
        <p:sp>
          <p:nvSpPr>
            <p:cNvPr id="232" name=""/>
            <p:cNvSpPr/>
            <p:nvPr/>
          </p:nvSpPr>
          <p:spPr>
            <a:xfrm>
              <a:off x="971640" y="189000"/>
              <a:ext cx="7200360" cy="358560"/>
            </a:xfrm>
            <a:prstGeom prst="roundRect">
              <a:avLst>
                <a:gd name="adj" fmla="val 0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71640" y="259920"/>
              <a:ext cx="7200360" cy="647640"/>
            </a:xfrm>
            <a:prstGeom prst="roundRect">
              <a:avLst>
                <a:gd name="adj" fmla="val 42403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042920" y="189000"/>
            <a:ext cx="7058160" cy="647640"/>
            <a:chOff x="1042920" y="189000"/>
            <a:chExt cx="7058160" cy="647640"/>
          </a:xfrm>
        </p:grpSpPr>
        <p:sp>
          <p:nvSpPr>
            <p:cNvPr id="235" name=""/>
            <p:cNvSpPr/>
            <p:nvPr/>
          </p:nvSpPr>
          <p:spPr>
            <a:xfrm>
              <a:off x="1042920" y="189000"/>
              <a:ext cx="7058160" cy="358560"/>
            </a:xfrm>
            <a:prstGeom prst="roundRect">
              <a:avLst>
                <a:gd name="adj" fmla="val 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42920" y="189000"/>
              <a:ext cx="7058160" cy="647640"/>
            </a:xfrm>
            <a:prstGeom prst="roundRect">
              <a:avLst>
                <a:gd name="adj" fmla="val 33579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</a:rPr>
                <a:t>Governance Princip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524720" y="6093000"/>
            <a:ext cx="1212840" cy="431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95280" y="1268280"/>
            <a:ext cx="82803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Local ownership and responsi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666699"/>
                </a:solidFill>
                <a:latin typeface="Verdana"/>
              </a:rPr>
              <a:t>Units responsible for managing the data also responsible for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81120"/>
            <a:ext cx="828036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Carrots rather than stic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666699"/>
                </a:solidFill>
                <a:latin typeface="Verdana"/>
              </a:rPr>
              <a:t>MetaStore not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666699"/>
                </a:solidFill>
                <a:latin typeface="Verdana"/>
              </a:rPr>
              <a:t>Data providers must be persuaded by attractive features and quality of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4148280"/>
            <a:ext cx="82803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Drivers for MetaStore ado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666699"/>
                </a:solidFill>
                <a:latin typeface="Verdana"/>
              </a:rPr>
              <a:t>Metadata management can be more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666699"/>
                </a:solidFill>
                <a:latin typeface="Verdana"/>
              </a:rPr>
              <a:t>Better quality metadata =&gt; reduce support to us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666699"/>
                </a:solidFill>
                <a:latin typeface="Verdana"/>
              </a:rPr>
              <a:t>Coherence of metadata between different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666699"/>
                </a:solidFill>
                <a:latin typeface="Verdana"/>
              </a:rPr>
              <a:t>Increase visibility on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9519"/>
            </a:avLst>
          </a:prstGeom>
          <a:noFill/>
          <a:ln w="25560">
            <a:solidFill>
              <a:srgbClr val="d3d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71640" y="189000"/>
            <a:ext cx="7200360" cy="718560"/>
            <a:chOff x="971640" y="189000"/>
            <a:chExt cx="7200360" cy="718560"/>
          </a:xfrm>
        </p:grpSpPr>
        <p:sp>
          <p:nvSpPr>
            <p:cNvPr id="243" name=""/>
            <p:cNvSpPr/>
            <p:nvPr/>
          </p:nvSpPr>
          <p:spPr>
            <a:xfrm>
              <a:off x="971640" y="189000"/>
              <a:ext cx="7200360" cy="358560"/>
            </a:xfrm>
            <a:prstGeom prst="roundRect">
              <a:avLst>
                <a:gd name="adj" fmla="val 0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71640" y="259920"/>
              <a:ext cx="7200360" cy="647640"/>
            </a:xfrm>
            <a:prstGeom prst="roundRect">
              <a:avLst>
                <a:gd name="adj" fmla="val 42403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042920" y="189000"/>
            <a:ext cx="7058160" cy="647640"/>
            <a:chOff x="1042920" y="189000"/>
            <a:chExt cx="7058160" cy="647640"/>
          </a:xfrm>
        </p:grpSpPr>
        <p:sp>
          <p:nvSpPr>
            <p:cNvPr id="246" name=""/>
            <p:cNvSpPr/>
            <p:nvPr/>
          </p:nvSpPr>
          <p:spPr>
            <a:xfrm>
              <a:off x="1042920" y="189000"/>
              <a:ext cx="7058160" cy="358560"/>
            </a:xfrm>
            <a:prstGeom prst="roundRect">
              <a:avLst>
                <a:gd name="adj" fmla="val 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42920" y="189000"/>
              <a:ext cx="7058160" cy="647640"/>
            </a:xfrm>
            <a:prstGeom prst="roundRect">
              <a:avLst>
                <a:gd name="adj" fmla="val 33579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</a:rPr>
                <a:t>Populating MetaSt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524720" y="6093000"/>
            <a:ext cx="1212840" cy="431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95280" y="981000"/>
            <a:ext cx="8280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MetaStore can be updated by two metho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Directly from data production systems (Remote Ac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Through a rich editing web based user interface (User Interf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133720"/>
            <a:ext cx="828036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Remote Access – sharing cont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Verdana"/>
              </a:rPr>
              <a:t>0 = No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Verdana"/>
              </a:rPr>
              <a:t>1 = Sharing within data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Verdana"/>
              </a:rPr>
              <a:t>2 = Sharing across data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3573360"/>
            <a:ext cx="828036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User Interface – enhanced contr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WYSIWYG rich text edi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The interface allows text sharing and own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Data coordinates built into the interface URLs facilitate integration with production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5300640"/>
            <a:ext cx="8280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Migrating metadata from legacy syst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Structured or database metadata: Bulk uplo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HTML or MS Office metadata: Cleaned by copying into the web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9519"/>
            </a:avLst>
          </a:prstGeom>
          <a:noFill/>
          <a:ln w="25560">
            <a:solidFill>
              <a:srgbClr val="d3d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71640" y="189000"/>
            <a:ext cx="7200360" cy="718560"/>
            <a:chOff x="971640" y="189000"/>
            <a:chExt cx="7200360" cy="718560"/>
          </a:xfrm>
        </p:grpSpPr>
        <p:sp>
          <p:nvSpPr>
            <p:cNvPr id="255" name=""/>
            <p:cNvSpPr/>
            <p:nvPr/>
          </p:nvSpPr>
          <p:spPr>
            <a:xfrm>
              <a:off x="971640" y="189000"/>
              <a:ext cx="7200360" cy="358560"/>
            </a:xfrm>
            <a:prstGeom prst="roundRect">
              <a:avLst>
                <a:gd name="adj" fmla="val 0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1640" y="259920"/>
              <a:ext cx="7200360" cy="647640"/>
            </a:xfrm>
            <a:prstGeom prst="roundRect">
              <a:avLst>
                <a:gd name="adj" fmla="val 42403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042920" y="189000"/>
            <a:ext cx="7058160" cy="647640"/>
            <a:chOff x="1042920" y="189000"/>
            <a:chExt cx="7058160" cy="647640"/>
          </a:xfrm>
        </p:grpSpPr>
        <p:sp>
          <p:nvSpPr>
            <p:cNvPr id="258" name=""/>
            <p:cNvSpPr/>
            <p:nvPr/>
          </p:nvSpPr>
          <p:spPr>
            <a:xfrm>
              <a:off x="1042920" y="189000"/>
              <a:ext cx="7058160" cy="358560"/>
            </a:xfrm>
            <a:prstGeom prst="roundRect">
              <a:avLst>
                <a:gd name="adj" fmla="val 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42920" y="189000"/>
              <a:ext cx="7058160" cy="647640"/>
            </a:xfrm>
            <a:prstGeom prst="roundRect">
              <a:avLst>
                <a:gd name="adj" fmla="val 33579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</a:rPr>
                <a:t>Showing Metadata To Us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524720" y="6093000"/>
            <a:ext cx="1212840" cy="4316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39640" y="3141720"/>
            <a:ext cx="3024360" cy="7207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Dataset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Dimen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64000" y="3139920"/>
            <a:ext cx="504036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Metadata shown when selecting or clicking the dataset or dimensio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546200" y="1052640"/>
            <a:ext cx="6050160" cy="1915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39640" y="3862440"/>
            <a:ext cx="3024360" cy="7207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ingle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64000" y="3860640"/>
            <a:ext cx="504036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A red "</a:t>
            </a:r>
            <a:r>
              <a:rPr b="1" lang="en-US" sz="1400" spc="-1" strike="noStrike">
                <a:solidFill>
                  <a:srgbClr val="cc3300"/>
                </a:solidFill>
                <a:latin typeface="Verdana"/>
              </a:rPr>
              <a:t>i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" is shown in the cell of the dimension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4583160"/>
            <a:ext cx="3024360" cy="7174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Incomplete Combin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Of Dimension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4581360"/>
            <a:ext cx="504036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An extra column is introduced containing a red "</a:t>
            </a:r>
            <a:r>
              <a:rPr b="1" lang="en-US" sz="1400" spc="-1" strike="noStrike">
                <a:solidFill>
                  <a:srgbClr val="cc3300"/>
                </a:solidFill>
                <a:latin typeface="Verdana"/>
              </a:rPr>
              <a:t>i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" when there is a piece of metadata pertaining to all observations in the corresponding 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5302080"/>
            <a:ext cx="3024360" cy="7207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Observation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(Complete Combin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4000" y="5300640"/>
            <a:ext cx="504036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A red "</a:t>
            </a:r>
            <a:r>
              <a:rPr b="1" lang="en-US" sz="1400" spc="-1" strike="noStrike">
                <a:solidFill>
                  <a:srgbClr val="cc3300"/>
                </a:solidFill>
                <a:latin typeface="Verdana"/>
              </a:rPr>
              <a:t>i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" is shown in the cell of the observation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9519"/>
            </a:avLst>
          </a:prstGeom>
          <a:noFill/>
          <a:ln w="25560">
            <a:solidFill>
              <a:srgbClr val="d3d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71640" y="189000"/>
            <a:ext cx="7200360" cy="718560"/>
            <a:chOff x="971640" y="189000"/>
            <a:chExt cx="7200360" cy="718560"/>
          </a:xfrm>
        </p:grpSpPr>
        <p:sp>
          <p:nvSpPr>
            <p:cNvPr id="272" name=""/>
            <p:cNvSpPr/>
            <p:nvPr/>
          </p:nvSpPr>
          <p:spPr>
            <a:xfrm>
              <a:off x="971640" y="189000"/>
              <a:ext cx="7200360" cy="358560"/>
            </a:xfrm>
            <a:prstGeom prst="roundRect">
              <a:avLst>
                <a:gd name="adj" fmla="val 0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71640" y="259920"/>
              <a:ext cx="7200360" cy="647640"/>
            </a:xfrm>
            <a:prstGeom prst="roundRect">
              <a:avLst>
                <a:gd name="adj" fmla="val 42403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042920" y="189000"/>
            <a:ext cx="7058160" cy="647640"/>
            <a:chOff x="1042920" y="189000"/>
            <a:chExt cx="7058160" cy="647640"/>
          </a:xfrm>
        </p:grpSpPr>
        <p:sp>
          <p:nvSpPr>
            <p:cNvPr id="275" name=""/>
            <p:cNvSpPr/>
            <p:nvPr/>
          </p:nvSpPr>
          <p:spPr>
            <a:xfrm>
              <a:off x="1042920" y="189000"/>
              <a:ext cx="7058160" cy="358560"/>
            </a:xfrm>
            <a:prstGeom prst="roundRect">
              <a:avLst>
                <a:gd name="adj" fmla="val 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42920" y="189000"/>
              <a:ext cx="7058160" cy="647640"/>
            </a:xfrm>
            <a:prstGeom prst="roundRect">
              <a:avLst>
                <a:gd name="adj" fmla="val 33579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</a:rPr>
                <a:t>Lessons Lear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524720" y="6093000"/>
            <a:ext cx="1212840" cy="431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95280" y="1162080"/>
            <a:ext cx="8280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Drivers to acceptance of MetaSto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Flexibility of design allows minimal initial migration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Clear communication of efficiency gains and qualit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2421000"/>
            <a:ext cx="828036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Coherence and sufficiency of metadata in the sy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Increase in volume and breadth of content (Comprehensiven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Splitting and attaching content to accurate coordinates (Relevan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Standardising metadata structure and content reuse (Coheren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4005360"/>
            <a:ext cx="828036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Effects on Visibi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Search engines ‘crawl’ and index content by following hyperlinks found in online reference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There exists a set of core concepts that serve as significant components in major search engine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MetaStore provides well structured reference metadata reported online in a way for search engines to optimally index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9519"/>
            </a:avLst>
          </a:prstGeom>
          <a:noFill/>
          <a:ln w="25560">
            <a:solidFill>
              <a:srgbClr val="d3d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71640" y="189000"/>
            <a:ext cx="7200360" cy="718560"/>
            <a:chOff x="971640" y="189000"/>
            <a:chExt cx="7200360" cy="718560"/>
          </a:xfrm>
        </p:grpSpPr>
        <p:sp>
          <p:nvSpPr>
            <p:cNvPr id="283" name=""/>
            <p:cNvSpPr/>
            <p:nvPr/>
          </p:nvSpPr>
          <p:spPr>
            <a:xfrm>
              <a:off x="971640" y="189000"/>
              <a:ext cx="7200360" cy="358560"/>
            </a:xfrm>
            <a:prstGeom prst="roundRect">
              <a:avLst>
                <a:gd name="adj" fmla="val 0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71640" y="259920"/>
              <a:ext cx="7200360" cy="647640"/>
            </a:xfrm>
            <a:prstGeom prst="roundRect">
              <a:avLst>
                <a:gd name="adj" fmla="val 42403"/>
              </a:avLst>
            </a:prstGeom>
            <a:solidFill>
              <a:srgbClr val="d3d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42920" y="189000"/>
            <a:ext cx="7058160" cy="647640"/>
            <a:chOff x="1042920" y="189000"/>
            <a:chExt cx="7058160" cy="647640"/>
          </a:xfrm>
        </p:grpSpPr>
        <p:sp>
          <p:nvSpPr>
            <p:cNvPr id="286" name=""/>
            <p:cNvSpPr/>
            <p:nvPr/>
          </p:nvSpPr>
          <p:spPr>
            <a:xfrm>
              <a:off x="1042920" y="189000"/>
              <a:ext cx="7058160" cy="358560"/>
            </a:xfrm>
            <a:prstGeom prst="roundRect">
              <a:avLst>
                <a:gd name="adj" fmla="val 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42920" y="189000"/>
              <a:ext cx="7058160" cy="647640"/>
            </a:xfrm>
            <a:prstGeom prst="roundRect">
              <a:avLst>
                <a:gd name="adj" fmla="val 33579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</a:rPr>
                <a:t>Future Plans &amp; Summ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524720" y="6093000"/>
            <a:ext cx="1212840" cy="431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95280" y="1341360"/>
            <a:ext cx="828036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Stricter rules envisaged in future as migration reaches critical ma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Enforce reuse of exact text within the same data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Enforce certain combinations of attachment coordinate and metadata type to be completed (e.g. Contact Person at Dataset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Actions to be taken by dataset owners on metadata quality re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3141720"/>
            <a:ext cx="828036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Summa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The MetaStore metadata management model is a well suited solution for managing reference metadata in a decentralised environment for both national and international statistical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The quality of reference metadata can be enhanced by a metadata management system that promo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Standardisation of meta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Sharing of metadata content across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666699"/>
                </a:solidFill>
                <a:latin typeface="Verdana"/>
              </a:rPr>
              <a:t>Flexibility in attaching metadata to data coordin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07:24:45Z</dcterms:created>
  <dc:creator>Excel Business Tools</dc:creator>
  <dc:description/>
  <dc:language>en-US</dc:language>
  <cp:lastModifiedBy>Jessica Gardner</cp:lastModifiedBy>
  <dcterms:modified xsi:type="dcterms:W3CDTF">2006-04-07T11:01:42Z</dcterms:modified>
  <cp:revision>1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83897377</vt:r8>
  </property>
  <property fmtid="{D5CDD505-2E9C-101B-9397-08002B2CF9AE}" pid="3" name="_AuthorEmail">
    <vt:lpwstr>Russell.PENLINGTON@oecd.org</vt:lpwstr>
  </property>
  <property fmtid="{D5CDD505-2E9C-101B-9397-08002B2CF9AE}" pid="4" name="_AuthorEmailDisplayName">
    <vt:lpwstr>PENLINGTON Russell, STD/SIMS</vt:lpwstr>
  </property>
  <property fmtid="{D5CDD505-2E9C-101B-9397-08002B2CF9AE}" pid="5" name="_EmailSubject">
    <vt:lpwstr>Implementation.doc</vt:lpwstr>
  </property>
</Properties>
</file>