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75F0-1524-466C-9DD8-96E6CE94B0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category change: New, Removal, Merge, Absorption, Split off,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category change: New, Removal, Merge, Absorption, Split off,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33B-CF55-487B-AF4A-B7A403FC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973-B22C-42DB-BA3A-0FBBBE8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D33-2A91-467A-ADC5-6A2A7841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162-9B11-4DCA-B4FA-EBED64A1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18EC-9247-4200-A5AD-5E9D776C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15D8-CA8A-4477-8CB2-58EFE36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6949-9950-4198-98EA-33D02C3C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51F5-71E1-48FE-B8A5-D3416CC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514C-24B2-4642-AFA5-5E0F31B9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6798-0756-4EAB-82F6-82BE6CC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B8C7-7CB5-4687-ADA5-64FE2D7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E80-2CD9-497E-A2C6-C1578421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576-B551-488F-B2D2-F5D4D7D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207-A750-418C-888C-C005A1E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A71-7E6E-4B11-BDB1-66C5B9BD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F6E-A699-4B38-8A63-8B215BB2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775F-D74E-483A-9759-A5326647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6C8-E7D2-491F-942C-C6772D0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179-7AA7-446E-A9A4-3B9F51B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A37-3C9C-420A-8885-134D4E5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57F-5A8E-48D9-B5D8-5F1EDB07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F2A-6268-4FF2-96F5-256A5D0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9A6-3999-4315-9D9F-CC934DBD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189-BAFD-4101-92B3-5400D91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BEE9A7-5E30-4FE2-A166-3AA8DC82F474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AAD36C-CD4C-4BEF-951E-1FF002D585B9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StatLine 4 metadata implementation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dwin de Jo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ristal model (2):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Hierarch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quence of levels (total order) with contained categ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ry category in hierarchy has 1 parent in high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quals “hierarchical”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lassificat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 of hierarchies with contained levels and categ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quals: Family of hierarchical classif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ristal model (3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999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lassification versio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ch metadata object has lifetime (begin and end d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ch metadata object can have a predecessor and suc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s versions of categories, levels and hierarch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ristal model (4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ltiling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-285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l textual properties are multilingu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Mannelijk (dutch) -&gt; 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metadata and tables can be shown in each defined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-285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l textual properties have popular ver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Consumer Price Index -&gt; Inf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-22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metadata and tables can be shown in “popular” or “expert”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 cla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stored, but not coordinated (y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Line 4 convers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content current StatLine must be conve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1500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cub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 1500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coordinat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cub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sion means coordin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tal coordination -&gt; very long conver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 coordination -&gt; no added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go: Partial classification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onversion strategy (1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ate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ordinate standardized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 non standards for 2 year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ased co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paration, conversion, coord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500" spc="-1" strike="noStrike">
                <a:solidFill>
                  <a:srgbClr val="00ffff"/>
                </a:solidFill>
                <a:latin typeface="Arial"/>
              </a:rPr>
              <a:t>Conversion strategy (2)</a:t>
            </a:r>
            <a:endParaRPr b="1" lang="en-US" sz="35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paration phase: until June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ect and store standard class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Time, Region (50 versions), Age, Marital status, Sex, NA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cluding variations (disclosure contro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ach data c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eck usage standard class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n standard is marked “priva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ine StatLine 4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onversion strategy (3)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sion phase: (June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t data c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3760" indent="-273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d missing meta data to metadata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co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ordination phase (November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conversion: StatLine 4 contains coordinated and private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wo years time all private metadata must be replaced with coordinated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Benefits metadata StatLine 4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ordinated classifications and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form naming and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/coordinated metadata can be downloa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comparability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search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Future improvemen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Line 4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entralize population (object class) manageme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: person, enter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 populations and sub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st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entraliz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cess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quality meta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What is StatLine?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Line is online output database of Statistics Nether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imary output chann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ain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publish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urrent size: 1500 data cubes, 2 billion data cells, over 150 million fa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ains much functionality, including very good search eng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36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Line in Bussiness Architectur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Line in statistical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1724" b="0"/>
          <a:stretch/>
        </p:blipFill>
        <p:spPr>
          <a:xfrm>
            <a:off x="1979640" y="1484280"/>
            <a:ext cx="5398920" cy="4657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80000" y="2637000"/>
            <a:ext cx="649440" cy="23047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What is StatLine 4?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esign current StatLine 3 dissemination softw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rede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mprove coher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hanging publication poli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andle time depend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rchi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ny new fea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Line coherenc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eally: StatLine coherent &amp;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ly (StatLine 3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500 independent data cub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Line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ata cubes share meta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entrally moderated, quality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ata cubes share 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ch fact stored o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Line 4 metadata management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data management centraliz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at? Conceptual meta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ass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 whom? Two organization unit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ion: Maintaining structure and meaning of class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semination: Textual editing and trans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419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ata producers own data, but not meta da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: Every fact in StatLine 4 uses central classif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36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tatLine in Bussiness Architectur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Line in statistical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1724" b="0"/>
          <a:stretch/>
        </p:blipFill>
        <p:spPr>
          <a:xfrm>
            <a:off x="1979640" y="1484280"/>
            <a:ext cx="5398920" cy="46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80000" y="2637000"/>
            <a:ext cx="649440" cy="23047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484280"/>
            <a:ext cx="3240000" cy="11509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lassification statu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StatLine 4 each classification has stat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nter)national stand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ordin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in Statistics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ed but not coord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only be used by 1 data c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ly during co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status is used for coordination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Cristal model: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8000" y="17002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Line 4 uses Cristal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 for classifications and variables (Van Bracht et a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cus on Conceptual and Value domain (ISO 111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 elem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tegory (value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 of variable, creates subpopul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: male (gender: 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part of other category (partial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v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 of disjoint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s “flat”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22:58:06Z</dcterms:created>
  <dc:creator>E. de Jonge</dc:creator>
  <dc:description/>
  <dc:language>en-US</dc:language>
  <cp:lastModifiedBy>Jessica Gardner</cp:lastModifiedBy>
  <dcterms:modified xsi:type="dcterms:W3CDTF">2006-04-07T11:01:23Z</dcterms:modified>
  <cp:revision>41</cp:revision>
  <dc:subject/>
  <dc:title>StatLine 4 metadata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9065464</vt:r8>
  </property>
  <property fmtid="{D5CDD505-2E9C-101B-9397-08002B2CF9AE}" pid="3" name="_AuthorEmail">
    <vt:lpwstr>MBLN@CBS.nl</vt:lpwstr>
  </property>
  <property fmtid="{D5CDD505-2E9C-101B-9397-08002B2CF9AE}" pid="4" name="_AuthorEmailDisplayName">
    <vt:lpwstr>Booleman, drs M.</vt:lpwstr>
  </property>
  <property fmtid="{D5CDD505-2E9C-101B-9397-08002B2CF9AE}" pid="5" name="_EmailSubject">
    <vt:lpwstr>metis</vt:lpwstr>
  </property>
  <property fmtid="{D5CDD505-2E9C-101B-9397-08002B2CF9AE}" pid="6" name="_PreviousAdHocReviewCycleID">
    <vt:r8>-1505271732</vt:r8>
  </property>
  <property fmtid="{D5CDD505-2E9C-101B-9397-08002B2CF9AE}" pid="7" name="_ReviewingToolsShownOnce">
    <vt:lpwstr/>
  </property>
</Properties>
</file>