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0CE-4861-49D4-9370-B57EFF76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2E7-7F53-432F-A539-E2A2757F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C7C-E229-4F04-9A37-27E6203C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F3B-4BB0-421D-A64A-34C55D1B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F2B5-BC18-476F-8340-4D2A269D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1D40-4E76-44A6-8CFC-2A59AFE2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8575-1EAC-4C78-8AAF-7889AE14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05D-5113-4D46-A406-7866CC1B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B19B-581E-4593-82B8-002697A5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6575-9634-49F6-8A1B-685D783D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141F-AC29-4D45-90A0-FEBC3D4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324-4B97-47A7-A9C1-13787913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DBCF-028E-4191-964B-B3802A98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AC3A-3C24-40C7-AB57-EA74B88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8725-9AE8-4E4E-B827-5C765B50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56BD-B41D-4354-A7D2-B84EA5A4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F82C-E566-4ACE-A9D8-3B331BAA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B6A-BAF8-4836-8E19-FA41AD0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47D-7C28-44CF-B00A-1DCA13E1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B3A-9652-451B-88B5-6AB2BE19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AA8-FB3C-4C03-ADE4-EBDEB22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8AB-DCC2-439F-8E1F-BD15FCDD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834-6A0C-4E2C-89D7-3FD652D2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6F7-82D4-43C9-B190-4BA8169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407664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1892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nl-NL" sz="16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600" spc="-1" strike="noStrike">
                <a:solidFill>
                  <a:srgbClr val="00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DBDE22-6FC6-44A2-9BCB-85AB023C9C26}" type="slidenum">
              <a:rPr b="0" lang="nl-NL" sz="14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C750CD-9AEF-49B3-8573-0096CCB83D3B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6920" y="71892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00ffff"/>
                </a:solidFill>
                <a:latin typeface="Arial"/>
              </a:rPr>
              <a:t>Metadata as a crucial starting link</a:t>
            </a:r>
            <a:br>
              <a:rPr sz="3600"/>
            </a:br>
            <a:r>
              <a:rPr b="1" lang="nl-NL" sz="3600" spc="-1" strike="noStrike">
                <a:solidFill>
                  <a:srgbClr val="00ffff"/>
                </a:solidFill>
                <a:latin typeface="Arial"/>
              </a:rPr>
              <a:t>in new statisticle cycle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640" y="323856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arry Gooss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4581360"/>
            <a:ext cx="752472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UNECE – Worksession on statistical metadata (MET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Geneva, 3 – 5 april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Topic (iii):  Metadata and the statistical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7840" y="53964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Implementing administrativ data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0920" y="1341000"/>
            <a:ext cx="655344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-8002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60624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Having the right information</a:t>
            </a:r>
            <a:br>
              <a:rPr sz="2200"/>
            </a:b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and knowled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60624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Define, gather and manage</a:t>
            </a:r>
            <a:br>
              <a:rPr sz="2200"/>
            </a:b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the necessary meta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8002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60624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Growing complex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60624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Lack of organis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60624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Focus on content, actual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cs Netherlan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BCA-9D6F-4396-AD0B-72090F6DF36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8200" y="539640"/>
            <a:ext cx="691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Metadata essential key to succ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0920" y="1341000"/>
            <a:ext cx="655344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-8002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Aspects of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60624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Purposes you need metadata f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60624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Various kinds of meta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8002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uctured way of work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60624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Based upon processview,</a:t>
            </a:r>
            <a:br>
              <a:rPr sz="2200"/>
            </a:b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total and main steps/p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60624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Determine the minimum  information =  set of metadata </a:t>
            </a:r>
            <a:br>
              <a:rPr sz="2200"/>
            </a:b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that is need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cs Netherlan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4A6-6EF1-48C2-8798-E598912F1595}" type="slidenum">
              <a:t>3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77840" y="53964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Cross referenc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48000" y="220500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752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1681200"/>
          <a:ext cx="8388360" cy="407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81200"/>
                    <a:ext cx="838836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cs Netherlan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AD5-86E5-41DB-B558-FC3F29108A9E}" type="slidenum">
              <a:t>4</a:t>
            </a:fld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8200" y="539640"/>
            <a:ext cx="691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Result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0920" y="1341000"/>
            <a:ext cx="655344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-80028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nnual business statistics small enterprises (&lt; 10 emps.):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  reductionn of 16.000 questionaires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  on a total of 86.500 (overall)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  small enterprises 33 kernel cells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  completely, 22 partialy,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  only 1.480 questionaires send out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  = 8 % of original surve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80028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or middle class enterprises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(&lt; 100 emps.)  10 – 15 % pos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cs Netherlan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44F-19E4-4036-92DE-99B67FDB2A51}" type="slidenum">
              <a:t>5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8200" y="539640"/>
            <a:ext cx="691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ffff"/>
                </a:solidFill>
                <a:latin typeface="Arial"/>
              </a:rPr>
              <a:t>New start of the statisticle cycl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920" y="1341000"/>
            <a:ext cx="655344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-8002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rt with determining and specifying the metadata you ne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8002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fore looking in the actual da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8002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a structured way of worki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8002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t trying to be complete,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cus on  the essenti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30000"/>
              </a:lnSpc>
              <a:spcBef>
                <a:spcPts val="726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cs Netherlan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11A-3948-4221-A642-9E96008CF3B5}" type="slidenum">
              <a:t>6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09:09:51Z</dcterms:created>
  <dc:creator>hgoo</dc:creator>
  <dc:description/>
  <dc:language>en-US</dc:language>
  <cp:lastModifiedBy>Jessica Gardner</cp:lastModifiedBy>
  <dcterms:modified xsi:type="dcterms:W3CDTF">2006-04-07T11:00:48Z</dcterms:modified>
  <cp:revision>160</cp:revision>
  <dc:subject/>
  <dc:title>Secundaire Waarneming</dc:title>
</cp:coreProperties>
</file>