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5C02B-3C48-4547-8371-8373ECEF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3BEC-68B3-4D63-8061-42F69510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8986F-A710-4F57-8BE1-5A3A6545D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5CD5D-BC87-4904-BD78-D24860DB4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D27B-45D5-4E41-B877-10B78C91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A144-7C77-4C4E-88E4-F58C462F4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FC3E-2F80-4A78-A91A-8568C3618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7482-97CB-492B-B59E-82651F67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D7DB3-EBE5-4383-A28E-1C332193C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83EF-BD79-4A2F-AF4C-A387F31F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723DD-F283-4927-8F8D-9141E7730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9924-18F8-42F6-AFB3-4770AF819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866C-4C83-4C5E-B5E1-B45C7B3F2AA0}"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333399"/>
                </a:solidFill>
                <a:latin typeface="Arial"/>
              </a:rPr>
              <a:t>Questions – </a:t>
            </a:r>
            <a:br>
              <a:rPr sz="4000"/>
            </a:br>
            <a:r>
              <a:rPr b="0" lang="sv-SE" sz="4000" spc="-1" strike="noStrike">
                <a:solidFill>
                  <a:srgbClr val="333399"/>
                </a:solidFill>
                <a:latin typeface="Arial"/>
              </a:rPr>
              <a:t>Metadata in a Corporate Context</a:t>
            </a:r>
            <a:endParaRPr b="0" lang="en-US" sz="4000" spc="-1" strike="noStrike">
              <a:solidFill>
                <a:srgbClr val="000000"/>
              </a:solidFill>
              <a:latin typeface="Arial"/>
            </a:endParaRPr>
          </a:p>
        </p:txBody>
      </p:sp>
      <p:sp>
        <p:nvSpPr>
          <p:cNvPr id="4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98000"/>
          </a:bodyPr>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etadata systems treated separately or as parts of a broader system? Which system? The data/metadata management system? The ICT system supporting the statistical processes? The business architecture of the statistical agency?</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What is a process oriented organisation really? Not stovepipes, but…? Functional organisation? One or more standardised statistical processes? </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ision vs implementation strategy. Gradual implementation vs Big Bang? (There are good and bad examples of both.) Pros and cons. </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op managment involvement is necessary – but how? A potential bottleneck. Sustainability. Any tricks?</a:t>
            </a:r>
            <a:endParaRPr b="0" lang="en-US" sz="2000" spc="-1" strike="noStrike">
              <a:solidFill>
                <a:srgbClr val="000000"/>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Coordination is necessary – but how? Any tri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333399"/>
                </a:solidFill>
                <a:latin typeface="Arial"/>
              </a:rPr>
              <a:t>Questions – Framework Part 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oes the group agree with the proposed content of Part A? Are any new sections needed, or should some be removed? For example, do we need to introduce 'access and use' metadata consideration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o any METIS members have contributions to make to any sections? For example, case studies, examples, suggestions for additional principles, benefits, examples of vision statements?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Is any discussion necessary about of questions of detail – for example, terminology - use 'vision' or 'model'?; more exploration of use of metadata by external users, etc. </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Finally, does the METIS group support, in principle and subject to application of amendments discussed, this draft? What should be the next steps with respect to Part A? Who would be involved in this work? Timefra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57:27Z</dcterms:created>
  <dc:creator>Bo Sundgren</dc:creator>
  <dc:description/>
  <dc:language>en-US</dc:language>
  <cp:lastModifiedBy>Jessica Gardner</cp:lastModifiedBy>
  <dcterms:modified xsi:type="dcterms:W3CDTF">2006-04-07T10:51:30Z</dcterms:modified>
  <cp:revision>6</cp:revision>
  <dc:subject/>
  <dc:title>Slide 1</dc:title>
</cp:coreProperties>
</file>