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E64C-B372-4319-98AE-35EBD343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84E-21FF-4F5B-B64E-0312D551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D298-23BB-4302-8A11-AE2E117C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0BF-86E4-4906-BA51-5B144B9D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54A0-3304-4ABC-8D8F-0C08EB1E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7EA2-ECAA-4E07-9549-F25AE1D9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FDD2-E0A6-4C33-A348-7C1C193A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F6EC-233F-4B6A-8575-275D6148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DFC9-DDAC-47F6-B4BB-9F6FDAD4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5A89-AA42-4C17-820D-FF26F1FC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484E-F808-4643-8231-2B898453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050-063B-48C3-BB3C-BE225F85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1D1C-7F53-4F9C-9763-65D3BDCD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35FA-83F2-4043-A7F1-4C18FE1D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778B-E3D2-411F-AF2A-9B841509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E6BB-3F97-47C2-BD2A-4D9B97F8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96B7-33BD-4A81-9187-C2C6966B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61F1-B2E0-4DD3-A2A8-C5F79F54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9DF1-3461-4818-8E3B-89A3E311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C725-4305-49D4-98DF-C925DA74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F828-A3E2-4C63-A12F-01892CA5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59B5-72DE-4AC0-8759-6DF70C53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BE3-2D86-4E2A-8B60-6DD464D8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648-5F87-428A-8842-EEEB1BB5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88880"/>
            <a:ext cx="438120" cy="47484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88880"/>
            <a:ext cx="32832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11160"/>
            <a:ext cx="42228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1116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3808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80880"/>
            <a:ext cx="31680" cy="105264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71440"/>
            <a:ext cx="8226360" cy="320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34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spcAft>
                <a:spcPts val="799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spcAft>
                <a:spcPts val="79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spcAft>
                <a:spcPts val="799"/>
              </a:spcAft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spcAft>
                <a:spcPts val="799"/>
              </a:spcAft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spcAft>
                <a:spcPts val="799"/>
              </a:spcAft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E0C5-7601-40EC-BB12-C85CD45B3FF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9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94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4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9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A063-5425-4079-9561-891B3339D8A1}" type="slidenum">
              <a:rPr b="0" lang="en-GB" sz="1400" spc="-1" strike="noStrike">
                <a:solidFill>
                  <a:srgbClr val="00009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cc"/>
                </a:solidFill>
                <a:latin typeface="Arial"/>
              </a:rPr>
              <a:t>The </a:t>
            </a: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Statistical Metadata </a:t>
            </a:r>
            <a:r>
              <a:rPr b="1" lang="fr-CH" sz="3200" spc="-1" strike="noStrike">
                <a:solidFill>
                  <a:srgbClr val="ffffcc"/>
                </a:solidFill>
                <a:latin typeface="Arial"/>
              </a:rPr>
              <a:t>System: </a:t>
            </a:r>
            <a:br>
              <a:rPr sz="3200"/>
            </a:br>
            <a:r>
              <a:rPr b="1" lang="fr-CH" sz="3200" spc="-1" strike="noStrike">
                <a:solidFill>
                  <a:srgbClr val="ffffcc"/>
                </a:solidFill>
                <a:latin typeface="Arial"/>
              </a:rPr>
              <a:t>its role in a statistical organiz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5028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ffcc"/>
                </a:solidFill>
                <a:latin typeface="Arial"/>
              </a:rPr>
              <a:t>Graeme Oakl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cc"/>
                </a:solidFill>
                <a:latin typeface="Arial"/>
              </a:rPr>
              <a:t>Joint UNECE / Eurostat / OECD</a:t>
            </a:r>
            <a:br>
              <a:rPr sz="1400"/>
            </a:br>
            <a:r>
              <a:rPr b="0" lang="fr-CH" sz="1400" spc="-1" strike="noStrike">
                <a:solidFill>
                  <a:srgbClr val="ffffcc"/>
                </a:solidFill>
                <a:latin typeface="Arial"/>
              </a:rPr>
              <a:t>Work</a:t>
            </a: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fr-CH" sz="14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ession on Statistical Meta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Geneva, 3 – 5 April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5812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cc"/>
                </a:solidFill>
                <a:latin typeface="Arial"/>
              </a:rPr>
              <a:t>A presentation of Part A, Chapters 4–5 of the Draft Statistical Metadata Frame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20800" y="1128600"/>
            <a:ext cx="67183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01920" y="2216160"/>
            <a:ext cx="0" cy="40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78400" y="685800"/>
            <a:ext cx="2130120" cy="95580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27920" y="2220840"/>
            <a:ext cx="2019240" cy="101124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23240" y="2295720"/>
            <a:ext cx="1947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an Linac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uty Australian Statistic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77800" y="1971720"/>
            <a:ext cx="2670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62280" y="3695760"/>
            <a:ext cx="1812960" cy="8683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81360" y="3841200"/>
            <a:ext cx="17841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rst Assistant Statisticia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rporate Services Divis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2281320"/>
            <a:ext cx="2019240" cy="95076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1760" y="2287440"/>
            <a:ext cx="196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Har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uty Australian Statistic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76840" y="3699000"/>
            <a:ext cx="1903320" cy="8794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9440" y="3799800"/>
            <a:ext cx="188748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rst Assistant Statisticia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chnology Services Divis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6280" y="5146560"/>
            <a:ext cx="1776600" cy="8701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22360" y="5203440"/>
            <a:ext cx="170820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eoff Le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rst Assistant Statisticia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thodology Divis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1840" y="3651120"/>
            <a:ext cx="1822320" cy="87804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200" y="3705840"/>
            <a:ext cx="207648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nis Farrel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rst Assistant Statisticia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conomic Accounts Divis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54840" y="5149800"/>
            <a:ext cx="1893600" cy="8701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08760" y="5181480"/>
            <a:ext cx="186192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u-Ming Ta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rst Assistant Statisticia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formation Management Divis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40680" y="3646440"/>
            <a:ext cx="1778040" cy="8701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2760" y="3872880"/>
            <a:ext cx="172872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rbara Dunlo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rst Assistant Statisticia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cial and Labour Divis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7520" y="6054840"/>
            <a:ext cx="5876640" cy="80316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60400" y="6362280"/>
            <a:ext cx="5805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+ 8 Regional Offices: NSW, VIc, Qld, SA, WA, Tas, NT, A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95440" y="2008080"/>
            <a:ext cx="0" cy="2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23120" y="1981080"/>
            <a:ext cx="0" cy="2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75240" y="685800"/>
            <a:ext cx="196848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nis Trew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n Statistici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70320" y="1984320"/>
            <a:ext cx="215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40360" y="1630080"/>
            <a:ext cx="0" cy="336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173560" y="1630080"/>
            <a:ext cx="0" cy="336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39960" y="2187720"/>
            <a:ext cx="2019600" cy="80640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38520" y="2287440"/>
            <a:ext cx="203832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athan Palm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uty Australian Statistic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27440" y="1628640"/>
            <a:ext cx="0" cy="554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48200" y="2976480"/>
            <a:ext cx="0" cy="68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968400" y="3232080"/>
            <a:ext cx="1440" cy="41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43320" y="1965240"/>
            <a:ext cx="0" cy="317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858000" y="1993680"/>
            <a:ext cx="0" cy="314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299200" y="2990880"/>
            <a:ext cx="0" cy="728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7827480" y="3232080"/>
            <a:ext cx="1800" cy="41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0"/>
            <a:ext cx="68407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4"/>
                </a:solidFill>
                <a:latin typeface="Arial MT"/>
              </a:rPr>
              <a:t>Organisational Structur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272F-1267-4B08-AFB6-595404A580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Case Study</a:t>
            </a:r>
            <a:r>
              <a:rPr b="0" lang="fr-CH" sz="2800" spc="-1" strike="noStrike">
                <a:solidFill>
                  <a:srgbClr val="ffffcc"/>
                </a:solidFill>
                <a:latin typeface="Arial"/>
              </a:rPr>
              <a:t>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4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cc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tanding Committees</a:t>
            </a: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 - each subject group has strategy committee with focus on their part of the business; includes development of metadata content and standards. Articulate business drivers for data and metadata mg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Other Governa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99"/>
              </a:spcAft>
              <a:buClr>
                <a:srgbClr val="3193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Project Boards - each major project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Aft>
                <a:spcPts val="499"/>
              </a:spcAft>
              <a:buClr>
                <a:srgbClr val="3193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Architecture Panels - best technical solution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Aft>
                <a:spcPts val="499"/>
              </a:spcAft>
              <a:buClr>
                <a:srgbClr val="3193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Line Management - responsibility and accountability clear for each organisational unit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F25E-65D3-405C-9ABC-FC0A71ED38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57C3-DC0B-4CE2-8DCA-2DC435ECE1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333399"/>
                </a:solidFill>
                <a:latin typeface="Arial"/>
              </a:rPr>
              <a:t>ABS IT Governanc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27D3-7F74-4209-A9DB-0D59D15D3C2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75016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cc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A.4 Core Principl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5520" y="16765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urrent draft has 20 core principles and recommendations for effectively managing the design and implementation of an SMS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ome of them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spcAft>
                <a:spcPts val="700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ke metadata work an integral part of business proces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spcAft>
                <a:spcPts val="700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nsure customers are identified for all metadata proces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CDB6-8988-4EED-9D61-A478DA8ADF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Principles (continued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ke metadata 'active' to greatest extent possib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pture metadata at their natural sour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ngle, authoritative source - 'registration author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use metada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tadata is readily available and useable in context of client's information ne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761-50E2-4CF8-B6DC-53171395DB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A.5 Corporate Governance Mode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90000"/>
              </a:lnSpc>
              <a:spcAft>
                <a:spcPts val="488"/>
              </a:spcAft>
              <a:buClr>
                <a:srgbClr val="80808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No prescribed model because of NSO's having different environments eg legislation, culture, rules, levels of autonom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'Good lessons' for governance wrt meta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378720" indent="-145440">
              <a:lnSpc>
                <a:spcPct val="90000"/>
              </a:lnSpc>
              <a:spcBef>
                <a:spcPts val="575"/>
              </a:spcBef>
              <a:spcAft>
                <a:spcPts val="575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involve senior mgt group, incl Chief Statistician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1" marL="378720" indent="-145440">
              <a:lnSpc>
                <a:spcPct val="90000"/>
              </a:lnSpc>
              <a:spcBef>
                <a:spcPts val="575"/>
              </a:spcBef>
              <a:spcAft>
                <a:spcPts val="575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clearly understood roles and accountability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1" marL="378720" indent="-145440">
              <a:lnSpc>
                <a:spcPct val="90000"/>
              </a:lnSpc>
              <a:spcBef>
                <a:spcPts val="575"/>
              </a:spcBef>
              <a:spcAft>
                <a:spcPts val="575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develop an information management culture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1" marL="378720" indent="-145440">
              <a:lnSpc>
                <a:spcPct val="90000"/>
              </a:lnSpc>
              <a:spcBef>
                <a:spcPts val="575"/>
              </a:spcBef>
              <a:spcAft>
                <a:spcPts val="575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utilise existing governance arrangements to reinforce metadata messages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1" marL="378720" indent="-145440">
              <a:lnSpc>
                <a:spcPct val="90000"/>
              </a:lnSpc>
              <a:spcBef>
                <a:spcPts val="575"/>
              </a:spcBef>
              <a:spcAft>
                <a:spcPts val="575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an endorsed metadata strategy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1" marL="378720" indent="-145440">
              <a:lnSpc>
                <a:spcPct val="90000"/>
              </a:lnSpc>
              <a:spcBef>
                <a:spcPts val="575"/>
              </a:spcBef>
              <a:spcAft>
                <a:spcPts val="575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commit to metadata project or don't let it happen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29DA-53AE-4E6B-BD3A-56D37921E0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Governance Models (continued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600200"/>
            <a:ext cx="8345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deal with sceptism about corporately strategic project - managers on all levels to be committe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metadata projects often abstract, complex &amp; difficult to manage. Recognise this in project planning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importance of good communication with rest of organisa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learn from failures and successes in other agencies - benchmarking and coopera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systematic use of metadata systems to capture &amp; organise tacit knowledge of experts - make it available to organisation &amp; external user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4B57-636E-4201-BCC8-ABE20CED1E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cc"/>
                </a:solidFill>
                <a:latin typeface="Arial"/>
              </a:rPr>
              <a:t>Barrier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4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Human factor is fundamental to successful adoption of metadata system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spcAft>
                <a:spcPts val="774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High &amp; medium importance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metadata provision takes time from real job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resources needed are underestimated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providers of metadata do not directly benefit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tradition of informal metadata sharing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entering metadata perceived as boring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0C3B-896A-4CF8-A399-90C9BA37CD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rganisational issu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4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mmon understanding of what metadata is and its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rganisation of tasks based on strategy for information mgt within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present benefits and proposed solutions in understandable way, linked to business benefits and maintaining continuity of produc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Degree of central coordination - most NSI's have a central unit with limited tasks. Main tasks ar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Aft>
                <a:spcPts val="425"/>
              </a:spcAft>
              <a:buClr>
                <a:srgbClr val="808080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developing common systems and solutions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Aft>
                <a:spcPts val="425"/>
              </a:spcAft>
              <a:buClr>
                <a:srgbClr val="808080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supervision and training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Aft>
                <a:spcPts val="425"/>
              </a:spcAft>
              <a:buClr>
                <a:srgbClr val="808080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common standards and terminology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EE9-FC0D-4019-BD54-5C8ABB9855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2970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ase Study –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ABS Corporate Governanc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4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Aft>
                <a:spcPts val="561"/>
              </a:spcAft>
              <a:buClr>
                <a:srgbClr val="ffcc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ABS headed by Australian Statistician - a statutory office. Appointed for 7 years, can only be dismissed by Parlia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cc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wo subject groups - Economic and Population, with a Services Group (HR and IT) and Methodology and Information Management Divis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buClr>
                <a:srgbClr val="ffcc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ABS corporate governance arrangements aim for transparency in decision making and operation, accountability to stakehold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879-D007-48AC-A80A-7411A0829F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fcc"/>
                </a:solidFill>
                <a:latin typeface="Arial"/>
              </a:rPr>
              <a:t>Case Study</a:t>
            </a:r>
            <a:r>
              <a:rPr b="0" lang="fr-CH" sz="2800" spc="-1" strike="noStrike">
                <a:solidFill>
                  <a:srgbClr val="ffffcc"/>
                </a:solidFill>
                <a:latin typeface="Arial"/>
              </a:rPr>
              <a:t>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4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nior Management Committe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BS Division Heads Committee - includes Chief Statistician, meets weekly, review and approve policy related to data and metadata mgt, approves specific projects related to metadata infrastructure, all funding propos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formation Resources Management Committee - as above minus Statistician plus heads of IT branchs; focus on technology directions including data and metadata mg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6119-8D0F-462E-9F4D-EF987AC83A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09:37:44Z</dcterms:created>
  <dc:creator>Jessica Gardner</dc:creator>
  <dc:description/>
  <dc:language>en-US</dc:language>
  <cp:lastModifiedBy>Jessica Gardner</cp:lastModifiedBy>
  <dcterms:modified xsi:type="dcterms:W3CDTF">2006-04-07T10:51:58Z</dcterms:modified>
  <cp:revision>40</cp:revision>
  <dc:subject/>
  <dc:title>Statistical Metadata System  and its role in a statistical organization</dc:title>
</cp:coreProperties>
</file>