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EC4-6DF1-4D42-B0C9-A67A10CD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069-7DF9-4B62-AA59-6A091302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ABA-CC08-4F22-8AB4-1CE7EC4C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F9BA-E0FA-44C9-83E7-7BEF0E14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C56E-43C8-4094-B376-F098285D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D3DC-C37F-4801-8D35-F793B500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FDDB-CF8D-4677-9DC7-E04535EB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E4DD-7522-4748-B258-705BFC8B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CCFF-9FED-43FB-B762-58769AEF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A924-49A3-47BE-9A6B-D49B6FFF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9B4F-8BC1-423E-86BF-B437E8BC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486-B163-460D-B295-A896DA84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A3E4-4525-4D69-B3E7-C44ED4A8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10DB-199E-4614-B256-BFA74138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978A-1E71-4A8C-ACE9-845BCBCB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793D-8F84-44C9-9FDE-D95E3BC5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1C0C-45B4-4E45-B50F-4DE20ADB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153-2E95-4117-8CAB-DDD30B61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F45-3DFB-46C0-8F16-B0394A42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4955-B236-4BB5-8A9A-AD3729DB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F856-C2C7-4471-A365-6F594734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4A08-2BBF-4E73-9565-6E736388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02CD-AF1E-48AC-9649-2C5FD0C6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79D-A99E-4E01-BB2C-F4785771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88880"/>
            <a:ext cx="438120" cy="47484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8888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11160"/>
            <a:ext cx="42228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111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3808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80880"/>
            <a:ext cx="31680" cy="105264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71440"/>
            <a:ext cx="8226360" cy="320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spcAft>
                <a:spcPts val="799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spcAft>
                <a:spcPts val="7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spcAft>
                <a:spcPts val="799"/>
              </a:spcAft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spcAft>
                <a:spcPts val="799"/>
              </a:spcAft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spcAft>
                <a:spcPts val="799"/>
              </a:spcAft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7268-D521-4A23-9A09-1581BF401BB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9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9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4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9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1127-6BCD-4168-B919-91B0A3A4EB78}" type="slidenum">
              <a:rPr b="0" lang="en-GB" sz="1400" spc="-1" strike="noStrike">
                <a:solidFill>
                  <a:srgbClr val="00009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Statistical Metadata </a:t>
            </a:r>
            <a:r>
              <a:rPr b="1" lang="fr-CH" sz="3200" spc="-1" strike="noStrike">
                <a:solidFill>
                  <a:srgbClr val="ffffcc"/>
                </a:solidFill>
                <a:latin typeface="Arial"/>
              </a:rPr>
              <a:t>System: </a:t>
            </a:r>
            <a:br>
              <a:rPr sz="3200"/>
            </a:br>
            <a:r>
              <a:rPr b="1" lang="fr-CH" sz="3200" spc="-1" strike="noStrike">
                <a:solidFill>
                  <a:srgbClr val="ffffcc"/>
                </a:solidFill>
                <a:latin typeface="Arial"/>
              </a:rPr>
              <a:t>its role in a statistical organiz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5028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Arial"/>
              </a:rPr>
              <a:t>Jana Meliskov</a:t>
            </a:r>
            <a:r>
              <a:rPr b="1" lang="fr-CH" sz="20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cc"/>
                </a:solidFill>
                <a:latin typeface="Arial"/>
              </a:rPr>
              <a:t>Joint UNECE / Eurostat / OECD</a:t>
            </a:r>
            <a:br>
              <a:rPr sz="1400"/>
            </a:br>
            <a:r>
              <a:rPr b="0" lang="fr-CH" sz="1400" spc="-1" strike="noStrike">
                <a:solidFill>
                  <a:srgbClr val="ffffcc"/>
                </a:solidFill>
                <a:latin typeface="Arial"/>
              </a:rPr>
              <a:t>Work</a:t>
            </a: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r-CH" sz="14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ession on Statistical Meta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Geneva, 3 – 5 April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5812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A presentation of Part A, Chapters 1–3 of the Draft Statistical Metadata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Benefits of an SMS</a:t>
            </a:r>
            <a:r>
              <a:rPr b="0" lang="fr-CH" sz="2800" spc="-1" strike="noStrike">
                <a:solidFill>
                  <a:srgbClr val="ffffcc"/>
                </a:solidFill>
                <a:latin typeface="Arial"/>
              </a:rPr>
              <a:t>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IT U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MD driven produc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ncreased standardisation and efficienc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nified MD on data and concepts</a:t>
            </a: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 classifications, populations, time series, measurement units etc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Respon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espondents </a:t>
            </a: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can be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 use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SMS is an integration tool for this proces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rmoniz</a:t>
            </a: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ed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 methodolog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e of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standards, terminolog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eedback from surveys, access to CMR etc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510-BC3D-4754-B312-B15CCEDAF6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Benefits of an SMS</a:t>
            </a:r>
            <a:r>
              <a:rPr b="0" lang="fr-CH" sz="2800" spc="-1" strike="noStrike">
                <a:solidFill>
                  <a:srgbClr val="ffffcc"/>
                </a:solidFill>
                <a:latin typeface="Arial"/>
              </a:rPr>
              <a:t>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End users on a national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mprove</a:t>
            </a: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d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discovery, understanding</a:t>
            </a: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 and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 interpretation of statistical dat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ncrease</a:t>
            </a: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 consistency, comparability and credibil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ecognize</a:t>
            </a: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 intellectual proper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onitor users feedbac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2720" y="4572000"/>
            <a:ext cx="8345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nify termi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ognitive psychology” i.e. presentational aspect to MD consum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rmonizing MD on webs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ntegration of statistical output DB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3E58-E794-453A-96E0-9C057B977D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Benefits of an SMS</a:t>
            </a:r>
            <a:r>
              <a:rPr b="0" lang="fr-CH" sz="2800" spc="-1" strike="noStrike">
                <a:solidFill>
                  <a:srgbClr val="ffffcc"/>
                </a:solidFill>
                <a:latin typeface="Arial"/>
              </a:rPr>
              <a:t>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International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cc"/>
                </a:solidFill>
                <a:latin typeface="Arial"/>
              </a:rPr>
              <a:t>International Organiz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G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reater consistency when interacting with NSO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oordination of access through a single gateway/portal side – SDMX projec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cc"/>
                </a:solidFill>
                <a:latin typeface="Arial"/>
              </a:rPr>
              <a:t>MN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armonization of MNEs information systems with SI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tandardisation of forms of organization, stat, units, charts, accounts and classificat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2882-E91F-4DC8-A7E7-D7532063D8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970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Management Strategies and </a:t>
            </a:r>
            <a:br>
              <a:rPr sz="3600"/>
            </a:b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Policy Framework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5000" y="4038480"/>
            <a:ext cx="834552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MS 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rerequisite  for the success stor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irect involvement of and supervision by the top manage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pproved Vision is an integral part of the strategic direction of the S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nterdisciplinary team approach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676520"/>
            <a:ext cx="83455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MS 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MD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trategic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Management strategies for corporate 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C6C-8270-4B47-9579-494C3A0767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7EA6-E9A3-46B4-B3E4-D3F6961C4A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333399"/>
                </a:solidFill>
                <a:latin typeface="Arial"/>
              </a:rPr>
              <a:t>Components of the SMS visio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6320" y="1371600"/>
            <a:ext cx="8991000" cy="5409720"/>
            <a:chOff x="76320" y="1371600"/>
            <a:chExt cx="8991000" cy="5409720"/>
          </a:xfrm>
        </p:grpSpPr>
        <p:sp>
          <p:nvSpPr>
            <p:cNvPr id="244" name=""/>
            <p:cNvSpPr/>
            <p:nvPr/>
          </p:nvSpPr>
          <p:spPr>
            <a:xfrm rot="10800000">
              <a:off x="3869640" y="1371600"/>
              <a:ext cx="1404000" cy="5018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M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s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69920" y="2040840"/>
              <a:ext cx="1603800" cy="39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MS Goals and Func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85520" y="5833440"/>
              <a:ext cx="2172240" cy="39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MS Management Strate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68960" y="5164200"/>
              <a:ext cx="2205360" cy="50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lobal Framework for SMS Design and Implement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68960" y="4606560"/>
              <a:ext cx="2205360" cy="39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iority Sett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68960" y="4048560"/>
              <a:ext cx="2205360" cy="39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ceptual Metadata Mode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68960" y="6391080"/>
              <a:ext cx="2205360" cy="39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rand Pla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3719520" y="2654280"/>
              <a:ext cx="1703880" cy="501840"/>
              <a:chOff x="3719520" y="2654280"/>
              <a:chExt cx="1703880" cy="501840"/>
            </a:xfrm>
          </p:grpSpPr>
          <p:sp>
            <p:nvSpPr>
              <p:cNvPr id="252" name=""/>
              <p:cNvSpPr/>
              <p:nvPr/>
            </p:nvSpPr>
            <p:spPr>
              <a:xfrm>
                <a:off x="3719520" y="2654280"/>
                <a:ext cx="1703880" cy="222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etadata User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19520" y="2877120"/>
                <a:ext cx="801720" cy="27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Inside SO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21240" y="2877120"/>
                <a:ext cx="902160" cy="27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Outside SO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883960" y="3379320"/>
              <a:ext cx="3308400" cy="501480"/>
              <a:chOff x="2883960" y="3379320"/>
              <a:chExt cx="3308400" cy="501480"/>
            </a:xfrm>
          </p:grpSpPr>
          <p:sp>
            <p:nvSpPr>
              <p:cNvPr id="256" name=""/>
              <p:cNvSpPr/>
              <p:nvPr/>
            </p:nvSpPr>
            <p:spPr>
              <a:xfrm>
                <a:off x="2883960" y="3379320"/>
                <a:ext cx="3308400" cy="222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etadata Objec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883960" y="3602160"/>
                <a:ext cx="1002240" cy="27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tat Data Concept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886200" y="3602160"/>
                <a:ext cx="1103040" cy="27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tat Processe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89240" y="3602160"/>
                <a:ext cx="1203120" cy="27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Instrument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1162440" y="4987440"/>
              <a:ext cx="1386720" cy="22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to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62440" y="5303520"/>
              <a:ext cx="1386720" cy="22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u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62440" y="5610240"/>
              <a:ext cx="1404000" cy="22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rganiz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61240" y="4104360"/>
              <a:ext cx="220608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ventory of Existing Metadata System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77200" y="2654280"/>
              <a:ext cx="220608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limitation of Available Re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78240" y="1538640"/>
              <a:ext cx="1303560" cy="72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20" y="3100680"/>
              <a:ext cx="1804680" cy="83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tatistical Data Produ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3" idx="1"/>
              <a:endCxn id="256" idx="3"/>
            </p:cNvCxnSpPr>
            <p:nvPr/>
          </p:nvCxnSpPr>
          <p:spPr>
            <a:xfrm flipH="1" flipV="1">
              <a:off x="6192360" y="3490200"/>
              <a:ext cx="668880" cy="83700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68" name=""/>
            <p:cNvCxnSpPr>
              <a:stCxn id="263" idx="1"/>
              <a:endCxn id="249" idx="3"/>
            </p:cNvCxnSpPr>
            <p:nvPr/>
          </p:nvCxnSpPr>
          <p:spPr>
            <a:xfrm flipH="1" flipV="1">
              <a:off x="5674320" y="4243320"/>
              <a:ext cx="1187280" cy="84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69" name=""/>
            <p:cNvCxnSpPr>
              <a:stCxn id="263" idx="1"/>
              <a:endCxn id="248" idx="3"/>
            </p:cNvCxnSpPr>
            <p:nvPr/>
          </p:nvCxnSpPr>
          <p:spPr>
            <a:xfrm flipH="1">
              <a:off x="5674320" y="4327560"/>
              <a:ext cx="1187280" cy="4744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70" name=""/>
            <p:cNvCxnSpPr>
              <a:stCxn id="263" idx="1"/>
              <a:endCxn id="247" idx="3"/>
            </p:cNvCxnSpPr>
            <p:nvPr/>
          </p:nvCxnSpPr>
          <p:spPr>
            <a:xfrm flipH="1">
              <a:off x="5674320" y="4327560"/>
              <a:ext cx="1187280" cy="108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71" name=""/>
            <p:cNvCxnSpPr>
              <a:stCxn id="264" idx="2"/>
              <a:endCxn id="248" idx="3"/>
            </p:cNvCxnSpPr>
            <p:nvPr/>
          </p:nvCxnSpPr>
          <p:spPr>
            <a:xfrm flipH="1">
              <a:off x="5673960" y="3100320"/>
              <a:ext cx="2006280" cy="17017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72" name=""/>
            <p:cNvCxnSpPr>
              <a:stCxn id="256" idx="1"/>
              <a:endCxn id="266" idx="6"/>
            </p:cNvCxnSpPr>
            <p:nvPr/>
          </p:nvCxnSpPr>
          <p:spPr>
            <a:xfrm flipH="1">
              <a:off x="1880280" y="3490560"/>
              <a:ext cx="1003320" cy="284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73" name=""/>
            <p:cNvCxnSpPr>
              <a:stCxn id="252" idx="1"/>
              <a:endCxn id="266" idx="6"/>
            </p:cNvCxnSpPr>
            <p:nvPr/>
          </p:nvCxnSpPr>
          <p:spPr>
            <a:xfrm flipH="1">
              <a:off x="1880640" y="2765520"/>
              <a:ext cx="1838880" cy="7534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74" name=""/>
            <p:cNvCxnSpPr>
              <a:stCxn id="249" idx="1"/>
              <a:endCxn id="266" idx="6"/>
            </p:cNvCxnSpPr>
            <p:nvPr/>
          </p:nvCxnSpPr>
          <p:spPr>
            <a:xfrm flipH="1" flipV="1">
              <a:off x="1880640" y="3518640"/>
              <a:ext cx="158832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75" name=""/>
            <p:cNvCxnSpPr>
              <a:stCxn id="248" idx="1"/>
              <a:endCxn id="266" idx="6"/>
            </p:cNvCxnSpPr>
            <p:nvPr/>
          </p:nvCxnSpPr>
          <p:spPr>
            <a:xfrm flipH="1" flipV="1">
              <a:off x="1880640" y="3518280"/>
              <a:ext cx="1588320" cy="128340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76" name=""/>
            <p:cNvCxnSpPr>
              <a:stCxn id="264" idx="0"/>
              <a:endCxn id="265" idx="3"/>
            </p:cNvCxnSpPr>
            <p:nvPr/>
          </p:nvCxnSpPr>
          <p:spPr>
            <a:xfrm flipH="1" flipV="1">
              <a:off x="7167960" y="2157840"/>
              <a:ext cx="512640" cy="49680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77" name=""/>
            <p:cNvCxnSpPr>
              <a:stCxn id="245" idx="3"/>
              <a:endCxn id="265" idx="3"/>
            </p:cNvCxnSpPr>
            <p:nvPr/>
          </p:nvCxnSpPr>
          <p:spPr>
            <a:xfrm flipV="1">
              <a:off x="5373720" y="2157480"/>
              <a:ext cx="1794960" cy="781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78" name=""/>
            <p:cNvCxnSpPr>
              <a:stCxn id="252" idx="3"/>
              <a:endCxn id="265" idx="3"/>
            </p:cNvCxnSpPr>
            <p:nvPr/>
          </p:nvCxnSpPr>
          <p:spPr>
            <a:xfrm flipV="1">
              <a:off x="5423760" y="2157480"/>
              <a:ext cx="1744920" cy="6080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79" name=""/>
            <p:cNvCxnSpPr>
              <a:stCxn id="247" idx="1"/>
              <a:endCxn id="261" idx="3"/>
            </p:cNvCxnSpPr>
            <p:nvPr/>
          </p:nvCxnSpPr>
          <p:spPr>
            <a:xfrm flipH="1">
              <a:off x="2549160" y="5414760"/>
              <a:ext cx="920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0" name=""/>
            <p:cNvCxnSpPr>
              <a:stCxn id="247" idx="1"/>
              <a:endCxn id="260" idx="3"/>
            </p:cNvCxnSpPr>
            <p:nvPr/>
          </p:nvCxnSpPr>
          <p:spPr>
            <a:xfrm rot="10800000">
              <a:off x="2548800" y="5098320"/>
              <a:ext cx="920160" cy="31644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1" name=""/>
            <p:cNvCxnSpPr>
              <a:stCxn id="247" idx="1"/>
              <a:endCxn id="262" idx="3"/>
            </p:cNvCxnSpPr>
            <p:nvPr/>
          </p:nvCxnSpPr>
          <p:spPr>
            <a:xfrm flipV="1" rot="10800000">
              <a:off x="2565720" y="5413680"/>
              <a:ext cx="902880" cy="306720"/>
            </a:xfrm>
            <a:prstGeom prst="bentConnector3">
              <a:avLst>
                <a:gd name="adj1" fmla="val 5205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>
              <a:stCxn id="244" idx="0"/>
              <a:endCxn id="245" idx="0"/>
            </p:cNvCxnSpPr>
            <p:nvPr/>
          </p:nvCxnSpPr>
          <p:spPr>
            <a:xfrm>
              <a:off x="4571280" y="1872000"/>
              <a:ext cx="1080" cy="16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3" name=""/>
            <p:cNvCxnSpPr>
              <a:stCxn id="245" idx="2"/>
              <a:endCxn id="252" idx="0"/>
            </p:cNvCxnSpPr>
            <p:nvPr/>
          </p:nvCxnSpPr>
          <p:spPr>
            <a:xfrm>
              <a:off x="4571280" y="2430720"/>
              <a:ext cx="1080" cy="223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4" name=""/>
            <p:cNvSpPr/>
            <p:nvPr/>
          </p:nvSpPr>
          <p:spPr>
            <a:xfrm>
              <a:off x="4521600" y="3165480"/>
              <a:ext cx="0" cy="2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38160" y="3881160"/>
              <a:ext cx="0" cy="1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49" idx="2"/>
              <a:endCxn id="248" idx="0"/>
            </p:cNvCxnSpPr>
            <p:nvPr/>
          </p:nvCxnSpPr>
          <p:spPr>
            <a:xfrm>
              <a:off x="4571280" y="4439160"/>
              <a:ext cx="1080" cy="16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>
              <a:stCxn id="248" idx="2"/>
              <a:endCxn id="247" idx="0"/>
            </p:cNvCxnSpPr>
            <p:nvPr/>
          </p:nvCxnSpPr>
          <p:spPr>
            <a:xfrm>
              <a:off x="4571280" y="4996800"/>
              <a:ext cx="1080" cy="16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>
              <a:stCxn id="247" idx="2"/>
              <a:endCxn id="246" idx="0"/>
            </p:cNvCxnSpPr>
            <p:nvPr/>
          </p:nvCxnSpPr>
          <p:spPr>
            <a:xfrm>
              <a:off x="4571280" y="5666040"/>
              <a:ext cx="1080" cy="16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>
              <a:stCxn id="246" idx="2"/>
              <a:endCxn id="250" idx="0"/>
            </p:cNvCxnSpPr>
            <p:nvPr/>
          </p:nvCxnSpPr>
          <p:spPr>
            <a:xfrm>
              <a:off x="4571280" y="6223680"/>
              <a:ext cx="1080" cy="16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90" name=""/>
            <p:cNvGrpSpPr/>
            <p:nvPr/>
          </p:nvGrpSpPr>
          <p:grpSpPr>
            <a:xfrm>
              <a:off x="360360" y="1427400"/>
              <a:ext cx="2807280" cy="1003680"/>
              <a:chOff x="360360" y="1427400"/>
              <a:chExt cx="2807280" cy="1003680"/>
            </a:xfrm>
          </p:grpSpPr>
          <p:sp>
            <p:nvSpPr>
              <p:cNvPr id="291" name=""/>
              <p:cNvSpPr/>
              <p:nvPr/>
            </p:nvSpPr>
            <p:spPr>
              <a:xfrm>
                <a:off x="360360" y="1427400"/>
                <a:ext cx="2807280" cy="100368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420920" y="1803600"/>
                <a:ext cx="1275120" cy="2462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Vision Component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25320" y="2179800"/>
                <a:ext cx="795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420200" y="2081160"/>
                <a:ext cx="1044720" cy="2462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Important Link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57760" y="1528200"/>
                <a:ext cx="700560" cy="2462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LEGEN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25320" y="1778040"/>
                <a:ext cx="705960" cy="20088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8305920" y="6477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4DCE-2BCB-45CB-A955-64D6D9CAA58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Metadata object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tatistical data and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riables, populations, classifications, registers, templates, surveys, time series, stat. methods etc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tatistical processes and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elated to statistical production, SIS, organization, planning, performance, evaluation, costs, management etc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Tools enabling production and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erminology, description methods, registration tools etc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9549-0829-4B5C-B684-76E5276BCC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Strategic plann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cc"/>
                </a:solidFill>
                <a:latin typeface="Arial"/>
              </a:rPr>
              <a:t>Incorporates all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 important activities, their links and prio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learly specified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Organization framework and ground strategy management establi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Plan approved by all 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B0D-1610-49D0-911C-FC30F63F77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Management strategies for </a:t>
            </a:r>
            <a:br>
              <a:rPr sz="3600"/>
            </a:b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corporate SM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MS management across the whole organ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Leading role of top management; SMS management board estab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MD management is a part of every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4154400"/>
            <a:ext cx="8345520" cy="23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Board is taking an ultimate corporate view on all decisions dealing with SMS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Management strategy is in a close alliance with existing SO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multidisciplinary team approa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B4E1-2A03-4C3E-AC2D-AAEF55DD08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1808-B737-431D-95FA-E3FB10769F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333399"/>
                </a:solidFill>
                <a:latin typeface="Arial"/>
              </a:rPr>
              <a:t>SMS Metadata mode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5440" y="685800"/>
            <a:ext cx="9398160" cy="5715000"/>
            <a:chOff x="55440" y="685800"/>
            <a:chExt cx="9398160" cy="5715000"/>
          </a:xfrm>
        </p:grpSpPr>
        <p:grpSp>
          <p:nvGrpSpPr>
            <p:cNvPr id="309" name=""/>
            <p:cNvGrpSpPr/>
            <p:nvPr/>
          </p:nvGrpSpPr>
          <p:grpSpPr>
            <a:xfrm>
              <a:off x="55440" y="2022480"/>
              <a:ext cx="9007200" cy="4378320"/>
              <a:chOff x="55440" y="2022480"/>
              <a:chExt cx="9007200" cy="4378320"/>
            </a:xfrm>
          </p:grpSpPr>
          <p:sp>
            <p:nvSpPr>
              <p:cNvPr id="310" name=""/>
              <p:cNvSpPr/>
              <p:nvPr/>
            </p:nvSpPr>
            <p:spPr>
              <a:xfrm>
                <a:off x="3137760" y="2022480"/>
                <a:ext cx="1977480" cy="538200"/>
              </a:xfrm>
              <a:prstGeom prst="rect">
                <a:avLst/>
              </a:prstGeom>
              <a:noFill/>
              <a:ln w="936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tatistical Organisatio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enior Management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7000" y="3032280"/>
                <a:ext cx="1201320" cy="53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SMS Management Bo</a:t>
                </a:r>
                <a:r>
                  <a:rPr b="0" lang="fr-CH" sz="1000" spc="-1" strike="noStrike">
                    <a:solidFill>
                      <a:srgbClr val="ffffff"/>
                    </a:solidFill>
                    <a:latin typeface="Arial"/>
                  </a:rPr>
                  <a:t>ar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113640" y="5187960"/>
                <a:ext cx="564480" cy="47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M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WT_1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56680" y="5187960"/>
                <a:ext cx="564480" cy="47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M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WT_2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597560" y="5187960"/>
                <a:ext cx="566280" cy="47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M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WT_n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4520" y="3100320"/>
                <a:ext cx="777600" cy="49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Admin Division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57960" y="3100320"/>
                <a:ext cx="859680" cy="49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nance Division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2159280" y="3100320"/>
                <a:ext cx="989640" cy="807840"/>
                <a:chOff x="2159280" y="3100320"/>
                <a:chExt cx="989640" cy="8078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2159280" y="3100320"/>
                  <a:ext cx="989640" cy="49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issemination Divisio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159280" y="3593880"/>
                  <a:ext cx="470880" cy="311400"/>
                </a:xfrm>
                <a:prstGeom prst="rect">
                  <a:avLst/>
                </a:prstGeom>
                <a:noFill/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MM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653920" y="3596760"/>
                  <a:ext cx="494640" cy="31140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5269680" y="3100320"/>
                <a:ext cx="848160" cy="49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ubject Matter Division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305400" y="3436920"/>
                <a:ext cx="813240" cy="49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ubject Matter Division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283880" y="3841920"/>
                <a:ext cx="848520" cy="49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Method-ology Division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283880" y="4338720"/>
                <a:ext cx="423360" cy="311040"/>
              </a:xfrm>
              <a:prstGeom prst="rect">
                <a:avLst/>
              </a:pr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726680" y="4338720"/>
                <a:ext cx="405720" cy="3110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273520" y="4313160"/>
                <a:ext cx="789120" cy="455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ICT Division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273520" y="4768920"/>
                <a:ext cx="400680" cy="284040"/>
              </a:xfrm>
              <a:prstGeom prst="rect">
                <a:avLst/>
              </a:pr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696880" y="4768920"/>
                <a:ext cx="365760" cy="2840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772280" y="33004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084720" y="316692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318360" y="3941640"/>
                <a:ext cx="399240" cy="285840"/>
              </a:xfrm>
              <a:prstGeom prst="rect">
                <a:avLst/>
              </a:pr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42080" y="3941640"/>
                <a:ext cx="400680" cy="2858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285520" y="3605040"/>
                <a:ext cx="423360" cy="309600"/>
              </a:xfrm>
              <a:prstGeom prst="rect">
                <a:avLst/>
              </a:pr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28320" y="3605040"/>
                <a:ext cx="405360" cy="3096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974160" y="3605040"/>
                <a:ext cx="423720" cy="309600"/>
              </a:xfrm>
              <a:prstGeom prst="rect">
                <a:avLst/>
              </a:pr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16600" y="3605040"/>
                <a:ext cx="405720" cy="3096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440" y="3605040"/>
                <a:ext cx="423360" cy="309600"/>
              </a:xfrm>
              <a:prstGeom prst="rect">
                <a:avLst/>
              </a:pr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7880" y="3605040"/>
                <a:ext cx="405360" cy="3096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39" name=""/>
              <p:cNvCxnSpPr>
                <a:stCxn id="310" idx="1"/>
                <a:endCxn id="316" idx="0"/>
              </p:cNvCxnSpPr>
              <p:nvPr/>
            </p:nvCxnSpPr>
            <p:spPr>
              <a:xfrm flipV="1" rot="10800000">
                <a:off x="1387080" y="2292120"/>
                <a:ext cx="1750320" cy="808560"/>
              </a:xfrm>
              <a:prstGeom prst="bentConnector2">
                <a:avLst/>
              </a:prstGeom>
              <a:ln w="9360">
                <a:solidFill>
                  <a:srgbClr val="00e4a8"/>
                </a:solidFill>
                <a:miter/>
                <a:tailEnd len="med" type="arrow" w="med"/>
              </a:ln>
            </p:spPr>
          </p:cxnSp>
          <p:sp>
            <p:nvSpPr>
              <p:cNvPr id="340" name=""/>
              <p:cNvSpPr/>
              <p:nvPr/>
            </p:nvSpPr>
            <p:spPr>
              <a:xfrm>
                <a:off x="475200" y="2763720"/>
                <a:ext cx="2190960" cy="0"/>
              </a:xfrm>
              <a:prstGeom prst="line">
                <a:avLst/>
              </a:prstGeom>
              <a:ln w="936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1" name=""/>
              <p:cNvCxnSpPr>
                <a:stCxn id="340" idx="0"/>
                <a:endCxn id="315" idx="0"/>
              </p:cNvCxnSpPr>
              <p:nvPr/>
            </p:nvCxnSpPr>
            <p:spPr>
              <a:xfrm flipH="1">
                <a:off x="463320" y="2763360"/>
                <a:ext cx="11880" cy="337320"/>
              </a:xfrm>
              <a:prstGeom prst="straightConnector1">
                <a:avLst/>
              </a:prstGeom>
              <a:ln w="9360">
                <a:solidFill>
                  <a:srgbClr val="00e4a8"/>
                </a:solidFill>
                <a:miter/>
                <a:tailEnd len="med" type="arrow" w="med"/>
              </a:ln>
            </p:spPr>
          </p:cxnSp>
          <p:cxnSp>
            <p:nvCxnSpPr>
              <p:cNvPr id="342" name=""/>
              <p:cNvCxnSpPr>
                <a:stCxn id="310" idx="2"/>
                <a:endCxn id="311" idx="0"/>
              </p:cNvCxnSpPr>
              <p:nvPr/>
            </p:nvCxnSpPr>
            <p:spPr>
              <a:xfrm>
                <a:off x="4127040" y="2560680"/>
                <a:ext cx="11880" cy="472320"/>
              </a:xfrm>
              <a:prstGeom prst="straightConnector1">
                <a:avLst/>
              </a:prstGeom>
              <a:ln w="9360">
                <a:solidFill>
                  <a:srgbClr val="00e4a8"/>
                </a:solidFill>
                <a:miter/>
                <a:tailEnd len="med" type="arrow" w="med"/>
              </a:ln>
            </p:spPr>
          </p:cxnSp>
          <p:cxnSp>
            <p:nvCxnSpPr>
              <p:cNvPr id="343" name=""/>
              <p:cNvCxnSpPr>
                <a:stCxn id="340" idx="1"/>
                <a:endCxn id="318" idx="0"/>
              </p:cNvCxnSpPr>
              <p:nvPr/>
            </p:nvCxnSpPr>
            <p:spPr>
              <a:xfrm flipH="1">
                <a:off x="2654280" y="2763360"/>
                <a:ext cx="11880" cy="337320"/>
              </a:xfrm>
              <a:prstGeom prst="straightConnector1">
                <a:avLst/>
              </a:prstGeom>
              <a:ln w="9360">
                <a:solidFill>
                  <a:srgbClr val="00e4a8"/>
                </a:solidFill>
                <a:miter/>
                <a:tailEnd len="med" type="arrow" w="med"/>
              </a:ln>
            </p:spPr>
          </p:cxnSp>
          <p:sp>
            <p:nvSpPr>
              <p:cNvPr id="344" name=""/>
              <p:cNvSpPr/>
              <p:nvPr/>
            </p:nvSpPr>
            <p:spPr>
              <a:xfrm>
                <a:off x="6860520" y="2763720"/>
                <a:ext cx="1765800" cy="0"/>
              </a:xfrm>
              <a:prstGeom prst="line">
                <a:avLst/>
              </a:prstGeom>
              <a:ln w="936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5" name=""/>
              <p:cNvCxnSpPr>
                <a:stCxn id="310" idx="3"/>
                <a:endCxn id="346" idx="0"/>
              </p:cNvCxnSpPr>
              <p:nvPr/>
            </p:nvCxnSpPr>
            <p:spPr>
              <a:xfrm>
                <a:off x="5114880" y="2292120"/>
                <a:ext cx="2239560" cy="471960"/>
              </a:xfrm>
              <a:prstGeom prst="bentConnector4">
                <a:avLst>
                  <a:gd name="adj1" fmla="val 10514"/>
                  <a:gd name="adj2" fmla="val 148473"/>
                </a:avLst>
              </a:prstGeom>
              <a:ln w="9360">
                <a:solidFill>
                  <a:srgbClr val="00e4a8"/>
                </a:solidFill>
                <a:miter/>
                <a:tailEnd len="med" type="arrow" w="med"/>
              </a:ln>
            </p:spPr>
          </p:cxnSp>
          <p:sp>
            <p:nvSpPr>
              <p:cNvPr id="347" name=""/>
              <p:cNvSpPr/>
              <p:nvPr/>
            </p:nvSpPr>
            <p:spPr>
              <a:xfrm>
                <a:off x="5587200" y="2763720"/>
                <a:ext cx="1767240" cy="0"/>
              </a:xfrm>
              <a:prstGeom prst="line">
                <a:avLst/>
              </a:prstGeom>
              <a:ln w="936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5280" y="2763720"/>
                <a:ext cx="0" cy="673200"/>
              </a:xfrm>
              <a:prstGeom prst="line">
                <a:avLst/>
              </a:prstGeom>
              <a:ln w="9360">
                <a:solidFill>
                  <a:srgbClr val="00e4a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636680" y="2763720"/>
                <a:ext cx="0" cy="1078200"/>
              </a:xfrm>
              <a:prstGeom prst="line">
                <a:avLst/>
              </a:prstGeom>
              <a:ln w="9360">
                <a:solidFill>
                  <a:srgbClr val="00e4a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626320" y="2763720"/>
                <a:ext cx="0" cy="1549440"/>
              </a:xfrm>
              <a:prstGeom prst="line">
                <a:avLst/>
              </a:prstGeom>
              <a:ln w="9360">
                <a:solidFill>
                  <a:srgbClr val="00e4a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11000" y="5322960"/>
                <a:ext cx="21909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2" name=""/>
              <p:cNvCxnSpPr>
                <a:stCxn id="338" idx="2"/>
                <a:endCxn id="351" idx="0"/>
              </p:cNvCxnSpPr>
              <p:nvPr/>
            </p:nvCxnSpPr>
            <p:spPr>
              <a:xfrm>
                <a:off x="701640" y="3914640"/>
                <a:ext cx="10080" cy="14090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headEnd len="sm" type="arrow" w="med"/>
                <a:tailEnd len="sm" type="arrow" w="med"/>
              </a:ln>
            </p:spPr>
          </p:cxnSp>
          <p:cxnSp>
            <p:nvCxnSpPr>
              <p:cNvPr id="353" name=""/>
              <p:cNvCxnSpPr>
                <a:stCxn id="320" idx="2"/>
                <a:endCxn id="351" idx="1"/>
              </p:cNvCxnSpPr>
              <p:nvPr/>
            </p:nvCxnSpPr>
            <p:spPr>
              <a:xfrm>
                <a:off x="2901600" y="3908160"/>
                <a:ext cx="1080" cy="14151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headEnd len="sm" type="arrow" w="med"/>
                <a:tailEnd len="sm" type="arrow" w="med"/>
              </a:ln>
            </p:spPr>
          </p:cxnSp>
          <p:sp>
            <p:nvSpPr>
              <p:cNvPr id="354" name=""/>
              <p:cNvSpPr/>
              <p:nvPr/>
            </p:nvSpPr>
            <p:spPr>
              <a:xfrm flipV="1">
                <a:off x="1628640" y="3908160"/>
                <a:ext cx="0" cy="1414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sm" type="arrow" w="med"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395880" y="6064200"/>
                <a:ext cx="1485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6" name=""/>
              <p:cNvCxnSpPr>
                <a:stCxn id="312" idx="2"/>
                <a:endCxn id="355" idx="0"/>
              </p:cNvCxnSpPr>
              <p:nvPr/>
            </p:nvCxnSpPr>
            <p:spPr>
              <a:xfrm>
                <a:off x="3395520" y="5659560"/>
                <a:ext cx="1080" cy="4053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headEnd len="sm" type="arrow" w="med"/>
              </a:ln>
            </p:spPr>
          </p:cxnSp>
          <p:cxnSp>
            <p:nvCxnSpPr>
              <p:cNvPr id="357" name=""/>
              <p:cNvCxnSpPr>
                <a:stCxn id="314" idx="2"/>
                <a:endCxn id="355" idx="1"/>
              </p:cNvCxnSpPr>
              <p:nvPr/>
            </p:nvCxnSpPr>
            <p:spPr>
              <a:xfrm>
                <a:off x="4880880" y="5659560"/>
                <a:ext cx="1080" cy="4053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headEnd len="sm" type="arrow" w="med"/>
              </a:ln>
            </p:spPr>
          </p:cxnSp>
          <p:sp>
            <p:nvSpPr>
              <p:cNvPr id="358" name=""/>
              <p:cNvSpPr/>
              <p:nvPr/>
            </p:nvSpPr>
            <p:spPr>
              <a:xfrm flipV="1">
                <a:off x="4162680" y="5659560"/>
                <a:ext cx="0" cy="404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941440" y="5322960"/>
                <a:ext cx="2920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60" name=""/>
              <p:cNvCxnSpPr>
                <a:stCxn id="328" idx="2"/>
                <a:endCxn id="359" idx="0"/>
              </p:cNvCxnSpPr>
              <p:nvPr/>
            </p:nvCxnSpPr>
            <p:spPr>
              <a:xfrm flipH="1">
                <a:off x="8861400" y="5052960"/>
                <a:ext cx="18360" cy="27072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headEnd len="sm" type="arrow" w="med"/>
                <a:tailEnd len="sm" type="arrow" w="med"/>
              </a:ln>
            </p:spPr>
          </p:cxnSp>
          <p:cxnSp>
            <p:nvCxnSpPr>
              <p:cNvPr id="361" name=""/>
              <p:cNvCxnSpPr>
                <a:stCxn id="334" idx="2"/>
                <a:endCxn id="359" idx="0"/>
              </p:cNvCxnSpPr>
              <p:nvPr/>
            </p:nvCxnSpPr>
            <p:spPr>
              <a:xfrm>
                <a:off x="5932080" y="3914640"/>
                <a:ext cx="10080" cy="14090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headEnd len="sm" type="arrow" w="med"/>
                <a:tailEnd len="sm" type="arrow" w="med"/>
              </a:ln>
            </p:spPr>
          </p:cxnSp>
          <p:sp>
            <p:nvSpPr>
              <p:cNvPr id="362" name=""/>
              <p:cNvSpPr/>
              <p:nvPr/>
            </p:nvSpPr>
            <p:spPr>
              <a:xfrm>
                <a:off x="5599800" y="2763720"/>
                <a:ext cx="0" cy="336600"/>
              </a:xfrm>
              <a:prstGeom prst="line">
                <a:avLst/>
              </a:prstGeom>
              <a:ln w="9360">
                <a:solidFill>
                  <a:srgbClr val="00e4a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6931080" y="4245120"/>
                <a:ext cx="0" cy="1077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sm" type="arrow" w="med"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7920720" y="4638240"/>
                <a:ext cx="0" cy="68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sm" type="arrow" w="med"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476800" y="6400800"/>
                <a:ext cx="49719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2476800" y="5322960"/>
                <a:ext cx="0" cy="1077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sm" type="arrow" w="med"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4174200" y="6063840"/>
                <a:ext cx="0" cy="336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sm" type="arrow" w="med"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7425000" y="5322960"/>
                <a:ext cx="0" cy="1077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sm" type="arrow" w="med"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395880" y="4784760"/>
                <a:ext cx="148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95880" y="4784760"/>
                <a:ext cx="0" cy="40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38920" y="4784760"/>
                <a:ext cx="0" cy="40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881240" y="4784760"/>
                <a:ext cx="0" cy="40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86200" y="4278240"/>
                <a:ext cx="3039120" cy="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286200" y="3930120"/>
                <a:ext cx="0" cy="33660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  <a:headEnd len="sm" type="arrow" w="med"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1169640" y="3930120"/>
                <a:ext cx="0" cy="33660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  <a:headEnd len="sm" type="arrow" w="med"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2384280" y="3919680"/>
                <a:ext cx="0" cy="33624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  <a:headEnd len="sm" type="arrow" w="med"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77" name=""/>
              <p:cNvCxnSpPr>
                <a:stCxn id="373" idx="0"/>
                <a:endCxn id="311" idx="1"/>
              </p:cNvCxnSpPr>
              <p:nvPr/>
            </p:nvCxnSpPr>
            <p:spPr>
              <a:xfrm flipH="1" flipV="1" rot="5400000">
                <a:off x="2942640" y="3683880"/>
                <a:ext cx="977040" cy="212400"/>
              </a:xfrm>
              <a:prstGeom prst="bentConnector4">
                <a:avLst>
                  <a:gd name="adj1" fmla="val -23405"/>
                  <a:gd name="adj2" fmla="val 49915"/>
                </a:avLst>
              </a:prstGeom>
              <a:ln w="9360">
                <a:solidFill>
                  <a:srgbClr val="3366ff"/>
                </a:solidFill>
                <a:miter/>
                <a:tailEnd len="sm" type="arrow" w="med"/>
              </a:ln>
            </p:spPr>
          </p:cxnSp>
          <p:sp>
            <p:nvSpPr>
              <p:cNvPr id="378" name=""/>
              <p:cNvSpPr/>
              <p:nvPr/>
            </p:nvSpPr>
            <p:spPr>
              <a:xfrm>
                <a:off x="5022360" y="4896000"/>
                <a:ext cx="3251160" cy="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  <a:headEnd len="sm" type="arrow" w="med"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38920" y="3571920"/>
                <a:ext cx="0" cy="121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022360" y="4514760"/>
                <a:ext cx="2261520" cy="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  <a:headEnd len="sm" type="arrow" w="med"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022360" y="4110120"/>
                <a:ext cx="1271880" cy="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  <a:headEnd len="sm" type="arrow" w="med"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5022360" y="3301920"/>
                <a:ext cx="0" cy="161784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22360" y="3762360"/>
                <a:ext cx="282600" cy="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  <a:headEnd len="sm" type="arrow" w="med"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4738680" y="3301920"/>
                <a:ext cx="283680" cy="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705720" y="685800"/>
              <a:ext cx="2747880" cy="1554120"/>
              <a:chOff x="6705720" y="685800"/>
              <a:chExt cx="2747880" cy="1554120"/>
            </a:xfrm>
          </p:grpSpPr>
          <p:sp>
            <p:nvSpPr>
              <p:cNvPr id="386" name=""/>
              <p:cNvSpPr/>
              <p:nvPr/>
            </p:nvSpPr>
            <p:spPr>
              <a:xfrm>
                <a:off x="6705720" y="685800"/>
                <a:ext cx="2314440" cy="15541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705720" y="838080"/>
                <a:ext cx="1225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Legen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72360" y="1263600"/>
                <a:ext cx="1590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190440"/>
                    <a:tab algn="l" pos="380880"/>
                    <a:tab algn="l" pos="571680"/>
                    <a:tab algn="l" pos="762120"/>
                    <a:tab algn="l" pos="952560"/>
                    <a:tab algn="l" pos="1143000"/>
                    <a:tab algn="l" pos="1333440"/>
                    <a:tab algn="l" pos="1523880"/>
                    <a:tab algn="l" pos="1714680"/>
                    <a:tab algn="l" pos="1905120"/>
                    <a:tab algn="l" pos="2095560"/>
                    <a:tab algn="l" pos="2286000"/>
                    <a:tab algn="l" pos="2476440"/>
                    <a:tab algn="l" pos="2666880"/>
                    <a:tab algn="l" pos="2857680"/>
                    <a:tab algn="l" pos="3048120"/>
                    <a:tab algn="l" pos="3238560"/>
                    <a:tab algn="l" pos="3429000"/>
                    <a:tab algn="l" pos="3619440"/>
                    <a:tab algn="l" pos="380988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iddle Management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753240" y="1539720"/>
                <a:ext cx="579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190440"/>
                    <a:tab algn="l" pos="380880"/>
                    <a:tab algn="l" pos="571680"/>
                    <a:tab algn="l" pos="762120"/>
                    <a:tab algn="l" pos="952560"/>
                    <a:tab algn="l" pos="1143000"/>
                    <a:tab algn="l" pos="1333440"/>
                    <a:tab algn="l" pos="1523880"/>
                    <a:tab algn="l" pos="1714680"/>
                    <a:tab algn="l" pos="1905120"/>
                    <a:tab algn="l" pos="2095560"/>
                    <a:tab algn="l" pos="2286000"/>
                    <a:tab algn="l" pos="2476440"/>
                    <a:tab algn="l" pos="2666880"/>
                    <a:tab algn="l" pos="2857680"/>
                    <a:tab algn="l" pos="3048120"/>
                    <a:tab algn="l" pos="3238560"/>
                    <a:tab algn="l" pos="3429000"/>
                    <a:tab algn="l" pos="3619440"/>
                    <a:tab algn="l" pos="380988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846840" y="1905120"/>
                <a:ext cx="2606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190440"/>
                    <a:tab algn="l" pos="380880"/>
                    <a:tab algn="l" pos="571680"/>
                    <a:tab algn="l" pos="762120"/>
                    <a:tab algn="l" pos="952560"/>
                    <a:tab algn="l" pos="1143000"/>
                    <a:tab algn="l" pos="1333440"/>
                    <a:tab algn="l" pos="1523880"/>
                    <a:tab algn="l" pos="1714680"/>
                    <a:tab algn="l" pos="1905120"/>
                    <a:tab algn="l" pos="2095560"/>
                    <a:tab algn="l" pos="2286000"/>
                    <a:tab algn="l" pos="2476440"/>
                    <a:tab algn="l" pos="2666880"/>
                    <a:tab algn="l" pos="2857680"/>
                    <a:tab algn="l" pos="3048120"/>
                    <a:tab algn="l" pos="3238560"/>
                    <a:tab algn="l" pos="3429000"/>
                    <a:tab algn="l" pos="3619440"/>
                    <a:tab algn="l" pos="380988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WT     Working Team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283520" y="907920"/>
                <a:ext cx="1592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190440"/>
                    <a:tab algn="l" pos="380880"/>
                    <a:tab algn="l" pos="571680"/>
                    <a:tab algn="l" pos="762120"/>
                    <a:tab algn="l" pos="952560"/>
                    <a:tab algn="l" pos="1143000"/>
                    <a:tab algn="l" pos="1333440"/>
                    <a:tab algn="l" pos="1523880"/>
                    <a:tab algn="l" pos="1714680"/>
                    <a:tab algn="l" pos="1905120"/>
                    <a:tab algn="l" pos="2095560"/>
                    <a:tab algn="l" pos="2286000"/>
                    <a:tab algn="l" pos="2476440"/>
                    <a:tab algn="l" pos="2666880"/>
                    <a:tab algn="l" pos="2857680"/>
                    <a:tab algn="l" pos="3048120"/>
                    <a:tab algn="l" pos="3238560"/>
                    <a:tab algn="l" pos="3429000"/>
                    <a:tab algn="l" pos="3619440"/>
                    <a:tab algn="l" pos="38098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50080" y="1739880"/>
                <a:ext cx="3618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83520" y="1558800"/>
                <a:ext cx="159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190440"/>
                    <a:tab algn="l" pos="380880"/>
                    <a:tab algn="l" pos="571680"/>
                    <a:tab algn="l" pos="762120"/>
                    <a:tab algn="l" pos="952560"/>
                    <a:tab algn="l" pos="1143000"/>
                    <a:tab algn="l" pos="1333440"/>
                    <a:tab algn="l" pos="1523880"/>
                    <a:tab algn="l" pos="1714680"/>
                    <a:tab algn="l" pos="1905120"/>
                    <a:tab algn="l" pos="2095560"/>
                    <a:tab algn="l" pos="2286000"/>
                    <a:tab algn="l" pos="2476440"/>
                    <a:tab algn="l" pos="2666880"/>
                    <a:tab algn="l" pos="2857680"/>
                    <a:tab algn="l" pos="3048120"/>
                    <a:tab algn="l" pos="3238560"/>
                    <a:tab algn="l" pos="3429000"/>
                    <a:tab algn="l" pos="3619440"/>
                    <a:tab algn="l" pos="380988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Exper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753240" y="1208160"/>
                <a:ext cx="579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190440"/>
                    <a:tab algn="l" pos="380880"/>
                    <a:tab algn="l" pos="571680"/>
                    <a:tab algn="l" pos="762120"/>
                    <a:tab algn="l" pos="952560"/>
                    <a:tab algn="l" pos="1143000"/>
                    <a:tab algn="l" pos="1333440"/>
                    <a:tab algn="l" pos="1523880"/>
                    <a:tab algn="l" pos="1714680"/>
                    <a:tab algn="l" pos="1905120"/>
                    <a:tab algn="l" pos="2095560"/>
                    <a:tab algn="l" pos="2286000"/>
                    <a:tab algn="l" pos="2476440"/>
                    <a:tab algn="l" pos="2666880"/>
                    <a:tab algn="l" pos="2857680"/>
                    <a:tab algn="l" pos="3048120"/>
                    <a:tab algn="l" pos="3238560"/>
                    <a:tab algn="l" pos="3429000"/>
                    <a:tab algn="l" pos="3619440"/>
                    <a:tab algn="l" pos="380988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M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50080" y="1428840"/>
                <a:ext cx="361800" cy="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6" name=""/>
          <p:cNvSpPr/>
          <p:nvPr/>
        </p:nvSpPr>
        <p:spPr>
          <a:xfrm>
            <a:off x="8305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9E6A-6E6D-4C29-948E-9EBBFDE1FAA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C6B0-D4CC-4E0A-87F5-CA3F0D15CD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2970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333399"/>
                </a:solidFill>
                <a:latin typeface="Arial"/>
              </a:rPr>
              <a:t>Management strategies for </a:t>
            </a:r>
            <a:br>
              <a:rPr sz="3600"/>
            </a:br>
            <a:r>
              <a:rPr b="0" lang="fr-CH" sz="3600" spc="-1" strike="noStrike">
                <a:solidFill>
                  <a:srgbClr val="333399"/>
                </a:solidFill>
                <a:latin typeface="Arial"/>
              </a:rPr>
              <a:t>corporate SM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Major phases of SMS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2737440"/>
            <a:ext cx="198108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19240" y="3499920"/>
            <a:ext cx="198144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05320" y="4261320"/>
            <a:ext cx="198108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91040" y="5023440"/>
            <a:ext cx="198144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70640" y="5767920"/>
            <a:ext cx="19875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1" idx="2"/>
            <a:endCxn id="402" idx="1"/>
          </p:cNvCxnSpPr>
          <p:nvPr/>
        </p:nvCxnSpPr>
        <p:spPr>
          <a:xfrm flipH="1" rot="16200000">
            <a:off x="1468440" y="3103200"/>
            <a:ext cx="606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402" idx="2"/>
            <a:endCxn id="403" idx="1"/>
          </p:cNvCxnSpPr>
          <p:nvPr/>
        </p:nvCxnSpPr>
        <p:spPr>
          <a:xfrm flipH="1" rot="16200000">
            <a:off x="2955240" y="3864240"/>
            <a:ext cx="6055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403" idx="2"/>
            <a:endCxn id="404" idx="1"/>
          </p:cNvCxnSpPr>
          <p:nvPr/>
        </p:nvCxnSpPr>
        <p:spPr>
          <a:xfrm flipH="1" rot="16200000">
            <a:off x="4440960" y="4626360"/>
            <a:ext cx="6055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404" idx="2"/>
            <a:endCxn id="405" idx="1"/>
          </p:cNvCxnSpPr>
          <p:nvPr/>
        </p:nvCxnSpPr>
        <p:spPr>
          <a:xfrm flipH="1" rot="16200000">
            <a:off x="5932440" y="5382720"/>
            <a:ext cx="587880" cy="489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5520" y="16765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Aim of Metadata Framework Part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Inform senior manage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Describe their involvement in SMS projec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Role of Statistical Metadata Systems (S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Effective functioning of statistical organiz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Expertise in statistic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Cross cutting nature of 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Interdisciplinary team approac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DB6A-C7BB-430D-878B-87C4EF7FAE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Management of SMS </a:t>
            </a:r>
            <a:r>
              <a:rPr b="1" lang="fr-CH" sz="4000" spc="-1" strike="noStrike">
                <a:solidFill>
                  <a:srgbClr val="ffffcc"/>
                </a:solidFill>
                <a:latin typeface="Arial"/>
              </a:rPr>
              <a:t>desig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Global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Impact of inventory of existing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mmon compone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mpact on existing statistical produc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Outcomes and feedback from evaluation 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BE56-3253-4399-A080-D3FB26654C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cc"/>
                </a:solidFill>
                <a:latin typeface="Arial"/>
              </a:rPr>
              <a:t>Management of SMS </a:t>
            </a:r>
            <a:r>
              <a:rPr b="1" lang="fr-CH" sz="3600" spc="-1" strike="noStrike">
                <a:solidFill>
                  <a:srgbClr val="ffffcc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evelopment of tools and vehic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mpleteness of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herent technical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tsour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3962520"/>
            <a:ext cx="8345520" cy="25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etting of  corporate CMR including loading MD into CM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engineering of existing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tailed and coordinated planning for all stages of imple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EF5D-7F06-46E1-BF3B-45FC80EFFC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Management of SMS </a:t>
            </a:r>
            <a:r>
              <a:rPr b="1" lang="fr-CH" sz="3600" spc="-1" strike="noStrike">
                <a:solidFill>
                  <a:srgbClr val="ffffcc"/>
                </a:solidFill>
                <a:latin typeface="Arial"/>
              </a:rPr>
              <a:t>maintenanc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345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Ensure timelines and coh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Oversee all MD stored in CM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Define policies, procedures and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4952880"/>
            <a:ext cx="8345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 Unicode MS"/>
              </a:rPr>
              <a:t>Ensure use of coherent/standard set of 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 Unicode MS"/>
              </a:rPr>
              <a:t>P</a:t>
            </a:r>
            <a:r>
              <a:rPr b="0" lang="en-GB" sz="2400" spc="-1" strike="noStrike">
                <a:solidFill>
                  <a:srgbClr val="ffffcc"/>
                </a:solidFill>
                <a:latin typeface="Arial Unicode MS"/>
              </a:rPr>
              <a:t>repare plans for mainte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 Unicode MS"/>
              </a:rPr>
              <a:t>Training of ow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ff33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3124080"/>
            <a:ext cx="8345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Concepts for registration of M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Rules and guidelines (jointly with own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 Unicode MS"/>
              </a:rPr>
              <a:t>Delimitation of organizational background for mainte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4E58-C1C7-4D66-A70B-8770BADCA8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Management of SMS </a:t>
            </a:r>
            <a:r>
              <a:rPr b="1" lang="fr-CH" sz="3600" spc="-1" strike="noStrike">
                <a:solidFill>
                  <a:srgbClr val="ffffcc"/>
                </a:solidFill>
                <a:latin typeface="Arial"/>
              </a:rPr>
              <a:t>us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ordinate detailed plans; IT unit should be responsible for plans dealing with productio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versee availability  of MD and MD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versee use of MD and MD vehicles by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4230720"/>
            <a:ext cx="8345520" cy="25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form users about changes in MD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rganize feedback from u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versee use of MD on statistical webs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33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C97-DFF1-4FE0-B1F6-C3E1D61B28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Management of SMS </a:t>
            </a:r>
            <a:r>
              <a:rPr b="1" lang="fr-CH" sz="3600" spc="-1" strike="noStrike">
                <a:solidFill>
                  <a:srgbClr val="ffffcc"/>
                </a:solidFill>
                <a:latin typeface="Arial"/>
              </a:rPr>
              <a:t>evaluatio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45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cify major targets of SMS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see evaluation (costs, use of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ndards, efficiency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4800600"/>
            <a:ext cx="83455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 Unicode MS"/>
              </a:rPr>
              <a:t>Setting benchmarking for all defined targ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 Unicode MS"/>
              </a:rPr>
              <a:t>Appoint a team of evaluators (SO staff, MD users), consider possibility of external evaluator</a:t>
            </a:r>
            <a:r>
              <a:rPr b="0" lang="fr-CH" sz="2400" spc="-1" strike="noStrike">
                <a:solidFill>
                  <a:srgbClr val="ffffcc"/>
                </a:solidFill>
                <a:latin typeface="Arial Unicode MS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33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2895480"/>
            <a:ext cx="822960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268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Specify evaluation form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3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(i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) regular long-term (e.g. 3 years interv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3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(ii) regular short term (e.g. annuall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3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(iii) ad hoc (when need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270-C691-4CD7-B3EC-53F000288A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Some questions for discuss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s the role of SMS exhaustive enoug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hould the benefits of SMS for senior management further improv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Will it be useful to prepare an annex with some  concrete examples of the Vision docu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s the necessity of a lead role of the SO top management in the SMS development justified enoug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re the tasks for the management in the individual phases of SMS life cycle representative enoug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2F3-AF4A-4ABE-AE59-0E6B1CB306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Issues</a:t>
            </a: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addressed in Part 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Corporate Value Propos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Us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Vis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Metadata Objec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Strategic Planning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Core Prin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Corporate Governanc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41F1-32F5-4747-8EB3-9B058A1AB0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What is the role of an SMS?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The Statistical Metadata System suppo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Production of official statistic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Monitoring and evaluation of statistical process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Management of methodological activiti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3621240"/>
            <a:ext cx="8345520" cy="25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Cooperation with u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Increasing usability of data for cl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Improved data 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Management of data 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2C3-5BF9-4A3F-9E2E-5E90822432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Role of an SMS </a:t>
            </a:r>
            <a:r>
              <a:rPr b="0" lang="fr-CH" sz="2800" spc="-1" strike="noStrike">
                <a:solidFill>
                  <a:srgbClr val="ffffcc"/>
                </a:solidFill>
                <a:latin typeface="Arial"/>
              </a:rPr>
              <a:t>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45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Dissemination of final resul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Integration of SIS nationally and international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Management and unification of internal workflow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657600"/>
            <a:ext cx="8345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Knowledge base on the processes of 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Adminis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Evaluation of cost and reven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Unified statistical termi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523880"/>
            <a:ext cx="834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The Statistical Metadata System sup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8B13-A9C4-443A-84B3-6C2DC15D54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5764-8AE8-4847-8ABD-124B0DE3F3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333399"/>
                </a:solidFill>
                <a:latin typeface="Arial"/>
              </a:rPr>
              <a:t>Statistical Metadata System Us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54160" y="1295280"/>
            <a:ext cx="8694720" cy="5086440"/>
            <a:chOff x="254160" y="1295280"/>
            <a:chExt cx="8694720" cy="5086440"/>
          </a:xfrm>
        </p:grpSpPr>
        <p:sp>
          <p:nvSpPr>
            <p:cNvPr id="117" name=""/>
            <p:cNvSpPr/>
            <p:nvPr/>
          </p:nvSpPr>
          <p:spPr>
            <a:xfrm>
              <a:off x="254160" y="1295280"/>
              <a:ext cx="8694720" cy="3646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26160" y="1390680"/>
              <a:ext cx="4622760" cy="3359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3960" y="1390680"/>
              <a:ext cx="1431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National </a:t>
              </a:r>
              <a:br>
                <a:rPr sz="1300"/>
              </a:b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Leve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65720" y="1487520"/>
              <a:ext cx="3741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Statistical Organisa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12160" y="2117520"/>
              <a:ext cx="95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12160" y="2446200"/>
              <a:ext cx="9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12160" y="2786040"/>
              <a:ext cx="9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12160" y="3101760"/>
              <a:ext cx="95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12160" y="3417840"/>
              <a:ext cx="9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12160" y="3733560"/>
              <a:ext cx="95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12160" y="4049640"/>
              <a:ext cx="9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12160" y="4363920"/>
              <a:ext cx="9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12160" y="2125440"/>
              <a:ext cx="324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12160" y="2442960"/>
              <a:ext cx="324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12160" y="2755800"/>
              <a:ext cx="324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12160" y="3071520"/>
              <a:ext cx="324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12160" y="3387600"/>
              <a:ext cx="324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12160" y="3703680"/>
              <a:ext cx="324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12160" y="4020840"/>
              <a:ext cx="324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4040" y="1854000"/>
              <a:ext cx="126828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73880" y="190476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14040" y="1854000"/>
              <a:ext cx="1268280" cy="279360"/>
            </a:xfrm>
            <a:prstGeom prst="rect">
              <a:avLst/>
            </a:prstGeom>
            <a:noFill/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15480" y="2209680"/>
              <a:ext cx="12938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87120" y="2209680"/>
              <a:ext cx="1136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olitic</a:t>
              </a:r>
              <a:r>
                <a:rPr b="0" lang="fr-CH" sz="12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Decision</a:t>
              </a:r>
              <a:r>
                <a:rPr b="0" lang="fr-CH" sz="1200" spc="-1" strike="noStrike">
                  <a:solidFill>
                    <a:srgbClr val="000000"/>
                  </a:solidFill>
                  <a:latin typeface="Arial"/>
                </a:rPr>
                <a:t>-make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15480" y="2209680"/>
              <a:ext cx="1293840" cy="363600"/>
            </a:xfrm>
            <a:prstGeom prst="rect">
              <a:avLst/>
            </a:prstGeom>
            <a:noFill/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15480" y="2635200"/>
              <a:ext cx="12938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64400" y="2676240"/>
              <a:ext cx="40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 &amp; 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15480" y="2635200"/>
              <a:ext cx="1293840" cy="279360"/>
            </a:xfrm>
            <a:prstGeom prst="rect">
              <a:avLst/>
            </a:prstGeom>
            <a:noFill/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15480" y="2950920"/>
              <a:ext cx="12938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64520" y="2997000"/>
              <a:ext cx="1001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blic Official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15480" y="2950920"/>
              <a:ext cx="1293840" cy="279360"/>
            </a:xfrm>
            <a:prstGeom prst="rect">
              <a:avLst/>
            </a:prstGeom>
            <a:noFill/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15480" y="3265200"/>
              <a:ext cx="129384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52080" y="3308400"/>
              <a:ext cx="58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chiv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15480" y="3265200"/>
              <a:ext cx="1293840" cy="281160"/>
            </a:xfrm>
            <a:prstGeom prst="rect">
              <a:avLst/>
            </a:prstGeom>
            <a:noFill/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15480" y="3581280"/>
              <a:ext cx="12938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90520" y="362412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ademi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15480" y="3581280"/>
              <a:ext cx="1293840" cy="279360"/>
            </a:xfrm>
            <a:prstGeom prst="rect">
              <a:avLst/>
            </a:prstGeom>
            <a:noFill/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15480" y="3897360"/>
              <a:ext cx="12938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96640" y="3938400"/>
              <a:ext cx="67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braria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15480" y="3897360"/>
              <a:ext cx="1293840" cy="279360"/>
            </a:xfrm>
            <a:prstGeom prst="rect">
              <a:avLst/>
            </a:prstGeom>
            <a:noFill/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15480" y="4213080"/>
              <a:ext cx="12938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56680" y="4254480"/>
              <a:ext cx="73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ournalis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15480" y="4213080"/>
              <a:ext cx="1293840" cy="279360"/>
            </a:xfrm>
            <a:prstGeom prst="rect">
              <a:avLst/>
            </a:prstGeom>
            <a:noFill/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96000" y="2735280"/>
              <a:ext cx="881280" cy="86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M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98880" y="2170080"/>
              <a:ext cx="1430640" cy="42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Top </a:t>
              </a:r>
              <a:br>
                <a:rPr sz="1100"/>
              </a:b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21320" y="1911240"/>
              <a:ext cx="1430280" cy="42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Designers of</a:t>
              </a:r>
              <a:br>
                <a:rPr sz="1100"/>
              </a:b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I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29440" y="2170080"/>
              <a:ext cx="1198800" cy="42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ubject</a:t>
              </a:r>
              <a:br>
                <a:rPr sz="1100"/>
              </a:b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atter Expert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3960" y="3034440"/>
              <a:ext cx="1541520" cy="26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Respondent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98880" y="3403080"/>
              <a:ext cx="1541520" cy="26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ethodologist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75160" y="4119480"/>
              <a:ext cx="1432080" cy="42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Admin of</a:t>
              </a:r>
              <a:br>
                <a:rPr sz="1100"/>
              </a:b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08920" y="4296600"/>
              <a:ext cx="879480" cy="26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I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32600" y="3391920"/>
              <a:ext cx="1430280" cy="26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Technical Admi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>
              <a:stCxn id="160" idx="3"/>
              <a:endCxn id="165" idx="3"/>
            </p:cNvCxnSpPr>
            <p:nvPr/>
          </p:nvCxnSpPr>
          <p:spPr>
            <a:xfrm flipH="1">
              <a:off x="3739680" y="3471840"/>
              <a:ext cx="384840" cy="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" name=""/>
            <p:cNvCxnSpPr>
              <a:stCxn id="160" idx="2"/>
              <a:endCxn id="161" idx="2"/>
            </p:cNvCxnSpPr>
            <p:nvPr/>
          </p:nvCxnSpPr>
          <p:spPr>
            <a:xfrm flipH="1" flipV="1">
              <a:off x="2914200" y="2602800"/>
              <a:ext cx="1081800" cy="56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1" name=""/>
            <p:cNvCxnSpPr>
              <a:stCxn id="160" idx="0"/>
              <a:endCxn id="162" idx="2"/>
            </p:cNvCxnSpPr>
            <p:nvPr/>
          </p:nvCxnSpPr>
          <p:spPr>
            <a:xfrm flipV="1">
              <a:off x="4437000" y="2343960"/>
              <a:ext cx="1080" cy="39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2" name=""/>
            <p:cNvCxnSpPr>
              <a:stCxn id="160" idx="6"/>
              <a:endCxn id="163" idx="2"/>
            </p:cNvCxnSpPr>
            <p:nvPr/>
          </p:nvCxnSpPr>
          <p:spPr>
            <a:xfrm flipV="1">
              <a:off x="4876920" y="2602800"/>
              <a:ext cx="1053000" cy="56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" name=""/>
            <p:cNvCxnSpPr>
              <a:stCxn id="160" idx="6"/>
            </p:cNvCxnSpPr>
            <p:nvPr/>
          </p:nvCxnSpPr>
          <p:spPr>
            <a:xfrm>
              <a:off x="4877280" y="3166920"/>
              <a:ext cx="2219760" cy="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4" name=""/>
            <p:cNvCxnSpPr>
              <a:stCxn id="160" idx="5"/>
              <a:endCxn id="168" idx="1"/>
            </p:cNvCxnSpPr>
            <p:nvPr/>
          </p:nvCxnSpPr>
          <p:spPr>
            <a:xfrm>
              <a:off x="4748040" y="3471480"/>
              <a:ext cx="484920" cy="51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5" name=""/>
            <p:cNvCxnSpPr>
              <a:stCxn id="160" idx="4"/>
              <a:endCxn id="167" idx="1"/>
            </p:cNvCxnSpPr>
            <p:nvPr/>
          </p:nvCxnSpPr>
          <p:spPr>
            <a:xfrm>
              <a:off x="4437000" y="3598560"/>
              <a:ext cx="872280" cy="82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"/>
            <p:cNvCxnSpPr>
              <a:stCxn id="160" idx="4"/>
              <a:endCxn id="166" idx="0"/>
            </p:cNvCxnSpPr>
            <p:nvPr/>
          </p:nvCxnSpPr>
          <p:spPr>
            <a:xfrm flipH="1">
              <a:off x="3390840" y="3598560"/>
              <a:ext cx="1046880" cy="51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" name=""/>
            <p:cNvCxnSpPr>
              <a:stCxn id="160" idx="2"/>
              <a:endCxn id="164" idx="3"/>
            </p:cNvCxnSpPr>
            <p:nvPr/>
          </p:nvCxnSpPr>
          <p:spPr>
            <a:xfrm flipH="1" flipV="1">
              <a:off x="1904760" y="3165120"/>
              <a:ext cx="20912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8" name=""/>
            <p:cNvSpPr/>
            <p:nvPr/>
          </p:nvSpPr>
          <p:spPr>
            <a:xfrm>
              <a:off x="254160" y="4941720"/>
              <a:ext cx="8694720" cy="14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3960" y="5038560"/>
              <a:ext cx="3082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International Leve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05280" y="5494320"/>
              <a:ext cx="3240" cy="82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83120" y="5494320"/>
              <a:ext cx="0" cy="82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59520" y="5494320"/>
              <a:ext cx="1440" cy="82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37360" y="5494320"/>
              <a:ext cx="0" cy="82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11960" y="5494320"/>
              <a:ext cx="3240" cy="82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88360" y="5494320"/>
              <a:ext cx="1800" cy="82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64760" y="5494320"/>
              <a:ext cx="0" cy="82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05280" y="5494320"/>
              <a:ext cx="1077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83120" y="5494320"/>
              <a:ext cx="1076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59520" y="5494320"/>
              <a:ext cx="1077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37360" y="5494320"/>
              <a:ext cx="1074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11960" y="5494320"/>
              <a:ext cx="1076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88360" y="5494320"/>
              <a:ext cx="1076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7840" y="5576760"/>
              <a:ext cx="97956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90280" y="5638680"/>
              <a:ext cx="761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UROSTA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7840" y="5576760"/>
              <a:ext cx="979560" cy="23508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95680" y="5576760"/>
              <a:ext cx="9763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09240" y="56386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ECD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95680" y="5576760"/>
              <a:ext cx="976320" cy="23508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70640" y="5576760"/>
              <a:ext cx="9763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51880" y="563868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70640" y="5576760"/>
              <a:ext cx="976320" cy="23508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46680" y="5576760"/>
              <a:ext cx="978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16760" y="56386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MF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46680" y="5576760"/>
              <a:ext cx="978120" cy="23508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23080" y="5576760"/>
              <a:ext cx="9781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83800" y="5638680"/>
              <a:ext cx="22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L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23080" y="5576760"/>
              <a:ext cx="978120" cy="23508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99480" y="5576760"/>
              <a:ext cx="97956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51560" y="5638680"/>
              <a:ext cx="226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I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99480" y="5576760"/>
              <a:ext cx="979560" cy="23508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74080" y="5576760"/>
              <a:ext cx="97956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19320" y="563868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CB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74080" y="5576760"/>
              <a:ext cx="979560" cy="23508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44880" y="6032880"/>
              <a:ext cx="881280" cy="1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10800" bIns="10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Arial"/>
                </a:rPr>
                <a:t>MNE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35600" y="6040800"/>
              <a:ext cx="1211040" cy="1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10800" bIns="10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Individual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40240" y="551808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19880" y="551808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18" name=""/>
            <p:cNvCxnSpPr>
              <a:stCxn id="160" idx="4"/>
            </p:cNvCxnSpPr>
            <p:nvPr/>
          </p:nvCxnSpPr>
          <p:spPr>
            <a:xfrm>
              <a:off x="4437000" y="3598560"/>
              <a:ext cx="1080" cy="180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9" name=""/>
            <p:cNvSpPr/>
            <p:nvPr/>
          </p:nvSpPr>
          <p:spPr>
            <a:xfrm>
              <a:off x="3297600" y="6040440"/>
              <a:ext cx="779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10800" bIns="10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7572600" y="4583160"/>
              <a:ext cx="71928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10800" bIns="10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37520" y="3768480"/>
              <a:ext cx="880920" cy="42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tatistical R &amp; D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160" idx="4"/>
              <a:endCxn id="221" idx="1"/>
            </p:cNvCxnSpPr>
            <p:nvPr/>
          </p:nvCxnSpPr>
          <p:spPr>
            <a:xfrm>
              <a:off x="4437360" y="3598560"/>
              <a:ext cx="110088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23" name=""/>
          <p:cNvSpPr/>
          <p:nvPr/>
        </p:nvSpPr>
        <p:spPr>
          <a:xfrm>
            <a:off x="8229600" y="6477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DD3A-219B-492B-8F34-F22C35C3CD5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Benefits of an SM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Common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ncreased information, quality, retrieval and exchange, terminology, standards, CMR, reuse, knowledg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Facilitates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monitoring and management of all major activities of SO; integration of statistical inform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Designers and evalu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Methods,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ools and IT components available,fe</a:t>
            </a: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dback about performance , usage, users satisfaction, up to date documentation, info on similar system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18C-56F0-431B-B5E9-2EC5423454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Benefits of an SMS</a:t>
            </a:r>
            <a:r>
              <a:rPr b="0" lang="fr-CH" sz="2800" spc="-1" strike="noStrike">
                <a:solidFill>
                  <a:srgbClr val="ffffcc"/>
                </a:solidFill>
                <a:latin typeface="Arial"/>
              </a:rPr>
              <a:t>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Methodolog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mproved design and implementation of survey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ontent integr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K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eeping and maintenance of classifications, registers, methods and standard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ubject-matter statistic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etter understanding of users need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K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nowledge base on data collection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ccess to consistent classificat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El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ements and engines used for new survey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tandard processes </a:t>
            </a: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to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 avoid local solut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etter support for consultation services and train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BF0-EDBA-4B00-A655-1CAAEE036B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Benefits of an SMS</a:t>
            </a:r>
            <a:r>
              <a:rPr b="0" lang="fr-CH" sz="2800" spc="-1" strike="noStrike">
                <a:solidFill>
                  <a:srgbClr val="ffffcc"/>
                </a:solidFill>
                <a:latin typeface="Arial"/>
              </a:rPr>
              <a:t>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Research &amp;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nowledge of</a:t>
            </a:r>
            <a:r>
              <a:rPr b="0" lang="fr-CH" sz="1800" spc="-1" strike="noStrike">
                <a:solidFill>
                  <a:srgbClr val="ffffcc"/>
                </a:solidFill>
                <a:latin typeface="Arial"/>
              </a:rPr>
              <a:t> statistical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 systems and production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ecognized theories</a:t>
            </a:r>
            <a:r>
              <a:rPr b="0" lang="fr-CH" sz="1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methods</a:t>
            </a:r>
            <a:r>
              <a:rPr b="0" lang="fr-CH" sz="1800" spc="-1" strike="noStrike">
                <a:solidFill>
                  <a:srgbClr val="ffffcc"/>
                </a:solidFill>
                <a:latin typeface="Arial"/>
              </a:rPr>
              <a:t> and good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 practic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osts and quality aspects in SI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Administration of Metadata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mooth and systematic </a:t>
            </a:r>
            <a:r>
              <a:rPr b="0" lang="fr-CH" sz="1800" spc="-1" strike="noStrike">
                <a:solidFill>
                  <a:srgbClr val="ffffcc"/>
                </a:solidFill>
                <a:latin typeface="Arial"/>
              </a:rPr>
              <a:t>metadata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 maintenanc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Arial"/>
              </a:rPr>
              <a:t>U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pdate once in one plac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o human interferenc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rrorless </a:t>
            </a:r>
            <a:r>
              <a:rPr b="0" lang="fr-CH" sz="1800" spc="-1" strike="noStrike">
                <a:solidFill>
                  <a:srgbClr val="ffffcc"/>
                </a:solidFill>
                <a:latin typeface="Arial"/>
              </a:rPr>
              <a:t>metadata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 navigation of e-</a:t>
            </a:r>
            <a:r>
              <a:rPr b="0" lang="fr-CH" sz="18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roduction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Technical Admin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Arial"/>
              </a:rPr>
              <a:t>U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sing SMS tools for technical maintenance of CM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Arial"/>
              </a:rPr>
              <a:t>Metadata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 elements link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inks to e-production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cc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nowledge about tools used by content admin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1338-6BA9-4057-8D36-62EE3882E2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09:37:44Z</dcterms:created>
  <dc:creator>Jessica Gardner</dc:creator>
  <dc:description/>
  <dc:language>en-US</dc:language>
  <cp:lastModifiedBy>Jessica Gardner</cp:lastModifiedBy>
  <dcterms:modified xsi:type="dcterms:W3CDTF">2006-04-07T10:51:47Z</dcterms:modified>
  <cp:revision>41</cp:revision>
  <dc:subject/>
  <dc:title>Statistical Metadata System  and its role in a statistical organization</dc:title>
</cp:coreProperties>
</file>