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9DC-F039-45C1-9A7D-B203AE60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704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809160"/>
            <a:ext cx="8704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F83-2594-49A6-A198-5175C0BF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677-2DAC-4E05-A7E7-08843E81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3920" y="126828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7280" y="126828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80916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3920" y="380916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7280" y="380916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4C2-A718-4CAC-AA35-DF46D74A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B40-7D14-4B5B-A6CA-40F1261A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7040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8C30-BF6D-44BF-9A90-A3F45BD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7040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8756-E062-4E0A-9289-AFE150B0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2871-E2B8-4DEB-BBBD-D6D7802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59E5-1C0E-4222-9138-13D17727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68000" y="259920"/>
            <a:ext cx="66978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3C49-6CA3-4458-B937-DC881A5E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86B3-F7CC-47D5-A8D2-D3CBABA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7040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CAC-C8E7-479E-9E67-2DCBF510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96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FD40-AC25-43A5-AB1F-36896D3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809160"/>
            <a:ext cx="8704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7188-223A-4166-BBEE-07BE6FA6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704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920" y="3809160"/>
            <a:ext cx="8704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913B-E835-4BCB-863D-D52A8CB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92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96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EF48-F83F-44FC-81FB-F7372F38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3920" y="126828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37280" y="126828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920" y="380916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3920" y="380916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37280" y="3809160"/>
            <a:ext cx="280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5DE3-EEBD-4FD3-96B7-9BB29CA8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7040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EFF-95A6-4EF8-B32F-CBFFAC19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2FE-A182-49F0-A445-0000AC80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396-D32E-4979-A243-B5329F80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68000" y="259920"/>
            <a:ext cx="66978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488-B23C-492A-9948-BA8D3A9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D43-DA3E-40FD-9C7D-E77FC7A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0916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A62-7175-4A11-8C90-74E67D43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68280"/>
            <a:ext cx="42472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809160"/>
            <a:ext cx="8704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DC8-9232-47FD-A241-29B27A4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119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268280"/>
            <a:ext cx="87040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47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ge </a:t>
            </a:r>
            <a:fld id="{56F60666-8ADD-426B-8430-03675F0895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1944720" cy="555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194472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0920" y="3429000"/>
            <a:ext cx="710640" cy="474840"/>
            <a:chOff x="250920" y="3429000"/>
            <a:chExt cx="710640" cy="474840"/>
          </a:xfrm>
        </p:grpSpPr>
        <p:sp>
          <p:nvSpPr>
            <p:cNvPr id="45" name=""/>
            <p:cNvSpPr/>
            <p:nvPr/>
          </p:nvSpPr>
          <p:spPr>
            <a:xfrm>
              <a:off x="250920" y="342900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3600" y="3429000"/>
              <a:ext cx="32796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98600" y="28940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3715200"/>
            <a:ext cx="869328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E317-01FF-475F-82AB-35888141E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374920" cy="67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2374920" cy="677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osephl@statssa.gov.za" TargetMode="External"/><Relationship Id="rId2" Type="http://schemas.openxmlformats.org/officeDocument/2006/relationships/hyperlink" Target="mailto:ashwellj@statssa.gov.za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Joseph Lukhwareni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Statistics South Africa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eengineering project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focusing on metadata an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the statistical cycl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s South Africa, South Afric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-5 April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seph Lukhwareni and Ashwell Jenne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adata Sto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219320"/>
            <a:ext cx="86328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age the definition and maintenance of metadata needed throughout the statistical value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adata store must be centrally avail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vide a single source of approved metadata for metadata creators and user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ow new metadata to be defined to support the growth of the metadata s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de other systems such as the Classifications and Related Standards (Ca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38A-F380-4D74-B0F8-9FA103C022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8991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adata standard enables producers to describe datasets fully and cohe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facilitates data discovery, retrieval and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MID team is in the process of investigating standards, 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ulation of data definitions e.g. ISO/IEC 11179 part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ing and identification principles e.g. ISO/IEC 11179 part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ation of metadata items e.g. ISO/IEC 11179 part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cation of metadata elements – SANS 1878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outh African spatial metadata stand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cumentation basis needed for the different statistical production purpos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Statistics Sweden metadata system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BDOK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adata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3F9-BAB3-4B1C-80A7-85B1071377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197000"/>
          <a:ext cx="9180360" cy="5668920"/>
        </p:xfrm>
        <a:graphic>
          <a:graphicData uri="http://schemas.openxmlformats.org/drawingml/2006/table">
            <a:tbl>
              <a:tblPr/>
              <a:tblGrid>
                <a:gridCol w="1787400"/>
                <a:gridCol w="7392960"/>
              </a:tblGrid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posal statement, user needs, budget plan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rvey methodology, tabulation plan, questionnaire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 specification, test results, printed manuals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umeration, proxy response, response rates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sing methods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iting rates, imputation rate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ly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sonal adjustment, sampling error, weighting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semin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s and definitions, classifications, quality indicators,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6697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tadata: Statistical Value Cha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D33-40A2-4A28-B920-4BA4373F0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8991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data management is not just a technical iss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capturing and updating of metadata is necessary for effective metadata mana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ation is an important element of metadata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data should not be an afterthou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AD9-9636-464E-A769-18492664F0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1096920"/>
            <a:ext cx="72169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ank you</a:t>
            </a:r>
            <a:br>
              <a:rPr sz="3600"/>
            </a:br>
            <a:br>
              <a:rPr sz="3600"/>
            </a:br>
            <a:r>
              <a:rPr b="0" lang="en-ZA" sz="2400" spc="-1" strike="noStrike">
                <a:solidFill>
                  <a:srgbClr val="333399"/>
                </a:solidFill>
                <a:latin typeface="Tahoma"/>
              </a:rPr>
              <a:t>Mr T.J Lukhwareni </a:t>
            </a:r>
            <a:br>
              <a:rPr sz="2400"/>
            </a:b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en-ZA" sz="2400" spc="-1" strike="noStrike">
                <a:solidFill>
                  <a:srgbClr val="333399"/>
                </a:solidFill>
                <a:latin typeface="Tahoma"/>
              </a:rPr>
              <a:t>Mr</a:t>
            </a: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ZA" sz="2400" spc="-1" strike="noStrike">
                <a:solidFill>
                  <a:srgbClr val="333399"/>
                </a:solidFill>
                <a:latin typeface="Tahoma"/>
              </a:rPr>
              <a:t>A.C. Jenneker</a:t>
            </a: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Data management and Information Delivery Project</a:t>
            </a:r>
            <a:br>
              <a:rPr sz="2400"/>
            </a:b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Statistics South Africa</a:t>
            </a:r>
            <a:br>
              <a:rPr sz="2400"/>
            </a:b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Private Bag X44, Pretoria 0001, South Africa</a:t>
            </a:r>
            <a:br>
              <a:rPr sz="2400"/>
            </a:b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Email: </a:t>
            </a:r>
            <a:r>
              <a:rPr b="0" lang="en-ZA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josephl@statssa.gov.za</a:t>
            </a: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ZA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ashwellj@statssa.gov.za</a:t>
            </a:r>
            <a:r>
              <a:rPr b="0" i="1" lang="en-ZA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2EE-8B21-4ED1-BD5B-35DED43D4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p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328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data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data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data Categ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data S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data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data: Statistical Value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904-7604-49BF-A1DF-729339AEF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ground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328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ision: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referred supplier of quality stat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rove quality of, and access to, authoritative and reliable statistical informati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lleng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and metadata structured and stored according to different standards and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adequate analytical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8F7-233E-4DF6-B336-99FED98652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ground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328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ata Warehousing under discussion since 199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cember 2003: Establish Data Management and Information Delivery (DMID)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4: Stats SA approves business case for the development of a data ware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y managed store for data and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is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icy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66B-4523-4823-AE05-CA970E227F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nge in focus from data warehouse to solution that supports complete statistical value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End-to-end Statistical Data Management Facility (ESDMF)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adata drives workflow and is generated by workflow (has governing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criptive role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olled input environment: Data capture inclu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entral data s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separate analytical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olled publication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echnology sol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D42-08CB-4CAE-9A0D-E45A8CF388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echnology solution(ESDMF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220760"/>
            <a:ext cx="861048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3BB-7CA1-4F5B-823D-06D66C6382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adata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219320"/>
            <a:ext cx="889308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Tahoma"/>
              </a:rPr>
              <a:t>Defining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Tahoma"/>
              </a:rPr>
              <a:t>Developing/adopting relevant metadata standards and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Tahoma"/>
              </a:rPr>
              <a:t>Determining appropriate technical storage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Tahoma"/>
              </a:rPr>
              <a:t>Establishing metadata owners, maintainers and regul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Tahoma"/>
              </a:rPr>
              <a:t>Registration of  metadata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Tahoma"/>
              </a:rPr>
              <a:t>Capturing/maintaining meta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Tahoma"/>
              </a:rPr>
              <a:t>Ensuring that data users have controlled and easy access to relevant metadata in a timely m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559-3E80-4935-AD2B-F0FC03E07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adata defini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328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bou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hat defines and describes other data and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s to the definitions, descriptions of procedures, system parameters, and operational results which characterise statistical progra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data may be passive (descriptive) or active (prescriptiv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DC4-3DF8-497F-BE4B-1F7C4EC1CE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39640" y="33156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adata categor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328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e4a8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al meta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e4a8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al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e4a8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e4a8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set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e4a8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/methodological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5C1-7FD9-497C-95B7-993ADFC058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1:51:13Z</dcterms:created>
  <dc:creator>Anwar Vahed</dc:creator>
  <dc:description/>
  <dc:language>en-US</dc:language>
  <cp:lastModifiedBy>Jessica Gardner</cp:lastModifiedBy>
  <dcterms:modified xsi:type="dcterms:W3CDTF">2006-04-07T11:00:20Z</dcterms:modified>
  <cp:revision>61</cp:revision>
  <dc:subject/>
  <dc:title>Information Session: End-to-end Statistical Data Management Facility (ESDMF)</dc:title>
</cp:coreProperties>
</file>