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D43D3-9BA8-453A-802A-29605B9CD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E277-D51F-43FC-829C-9EB78B25E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F0B2D-F4DD-49D4-94C7-79174165D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8A2B-96F7-4170-A2AC-FEF359F11B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63464-F970-4AE3-9CB7-C93E94E880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0AAEB-0F18-460B-BCCC-DB9FFE7C2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6F0B0-3A50-4295-BBF8-70B4E6A86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EE633-824F-41AD-B8F9-265B0DD9A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A8EA3-CFF5-4144-B317-79FB636B4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C39AC-D0AE-4CE5-B471-C046BB25B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662AD-CE1F-46C0-AF1A-669AAC29F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75AFE-2D23-45DA-8E9A-A0748B504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d07f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2" marL="1143000" indent="-228600">
              <a:spcBef>
                <a:spcPts val="751"/>
              </a:spcBef>
              <a:buClr>
                <a:srgbClr val="024ee6"/>
              </a:buClr>
              <a:buSzPct val="70000"/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3" marL="1600200" indent="-228600">
              <a:spcBef>
                <a:spcPts val="751"/>
              </a:spcBef>
              <a:buClr>
                <a:srgbClr val="024ee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4" marL="2057400" indent="-228600">
              <a:spcBef>
                <a:spcPts val="751"/>
              </a:spcBef>
              <a:buClr>
                <a:srgbClr val="024ee6"/>
              </a:buClr>
              <a:buSzPct val="70000"/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8172360" y="0"/>
          <a:ext cx="971640" cy="9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72360" y="0"/>
                    <a:ext cx="9716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a2c1fe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a2c1fe"/>
                </a:solidFill>
                <a:latin typeface="Book Antiqua"/>
              </a:rPr>
              <a:t>&lt;footer&gt;</a:t>
            </a:r>
            <a:r>
              <a:rPr b="0" lang="sl-SI" sz="1400" spc="-1" strike="noStrike">
                <a:solidFill>
                  <a:srgbClr val="a2c1fe"/>
                </a:solidFill>
                <a:latin typeface="Book Antiqua"/>
              </a:rPr>
              <a:t>30.1.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44328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a2c1fe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A55B-1FA9-4124-86D2-888ACE853AE6}" type="slidenum">
              <a:rPr b="0" lang="sl-SI" sz="1400" spc="-1" strike="noStrike">
                <a:solidFill>
                  <a:srgbClr val="a2c1fe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d07f"/>
                </a:solidFill>
                <a:latin typeface="Book Antiqua"/>
              </a:rPr>
              <a:t>USING THE METADATA IN STATISTICAL PROCESSING CYCLE – THE PRODUCTION TOOLS PERSPECTIVE</a:t>
            </a:r>
            <a:endParaRPr b="0" lang="en-US" sz="36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42920" y="3886200"/>
            <a:ext cx="705816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ffcc"/>
                </a:solidFill>
                <a:latin typeface="Book Antiqua"/>
              </a:rPr>
              <a:t>Matjaž Jug, Pavle Kozjek, Tomaž Špeh</a:t>
            </a:r>
            <a:endParaRPr b="0" lang="en-US" sz="26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ffcc"/>
                </a:solidFill>
                <a:latin typeface="Book Antiqua"/>
              </a:rPr>
              <a:t>Statistical Office of the Republic of Slovenia</a:t>
            </a:r>
            <a:endParaRPr b="0" lang="en-US" sz="26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dd07f"/>
                </a:solidFill>
                <a:latin typeface="Book Antiqua"/>
              </a:rPr>
              <a:t>Process indicators – level 1</a:t>
            </a: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Mode of data collection 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1" marL="713160" indent="-274320">
              <a:spcBef>
                <a:spcPts val="6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l-SI" sz="25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data provided directly by reporting unit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spcBef>
                <a:spcPts val="6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l-SI" sz="25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data  from administrative source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spcBef>
                <a:spcPts val="6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l-SI" sz="25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data computed from original value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spcBef>
                <a:spcPts val="6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lang="sl-SI" sz="25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imputed data – imputation of non-response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spcBef>
                <a:spcPts val="6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5</a:t>
            </a: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l-SI" sz="25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imputed data – imputation due to invalid values detected through the editing proces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spcBef>
                <a:spcPts val="6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6</a:t>
            </a: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l-SI" sz="25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data missing because the unit is not eligible for the item (logical skip)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dd07f"/>
                </a:solidFill>
                <a:latin typeface="Book Antiqua"/>
              </a:rPr>
              <a:t>Process indicators – level 2</a:t>
            </a: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Data status 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l-SI" sz="25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original value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l-SI" sz="25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corrected value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dd07f"/>
                </a:solidFill>
                <a:latin typeface="Book Antiqua"/>
              </a:rPr>
              <a:t>Process indicators – level 3</a:t>
            </a: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Method of data correction 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11</a:t>
            </a:r>
            <a:r>
              <a:rPr b="0" lang="sl-SI" sz="25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correction after telephone contact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12</a:t>
            </a:r>
            <a:r>
              <a:rPr b="0" lang="sl-SI" sz="25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data reported at a later stage 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dd07f"/>
                </a:solidFill>
                <a:latin typeface="Book Antiqua"/>
              </a:rPr>
              <a:t>Process indicators – level 3</a:t>
            </a: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ook Antiqua"/>
              </a:rPr>
              <a:t>Reporting methods </a:t>
            </a:r>
            <a:endParaRPr b="0" lang="en-US" sz="26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11</a:t>
            </a:r>
            <a:r>
              <a:rPr b="0" lang="sl-SI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reporting by mail questionnaire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12</a:t>
            </a:r>
            <a:r>
              <a:rPr b="0" lang="sl-SI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computer assisted telephone interview(CATI)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13</a:t>
            </a:r>
            <a:r>
              <a:rPr b="0" lang="sl-SI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telephone interview without computer assistance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14</a:t>
            </a:r>
            <a:r>
              <a:rPr b="0" lang="sl-SI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paper  assisted personal interview (PAPI)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15</a:t>
            </a:r>
            <a:r>
              <a:rPr b="0" lang="sl-SI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computer assisted personal interview  (CAPI)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16</a:t>
            </a:r>
            <a:r>
              <a:rPr b="0" lang="sl-SI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paper assisted self interviewing  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17</a:t>
            </a:r>
            <a:r>
              <a:rPr b="0" lang="sl-SI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computer assisted self interviewing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18</a:t>
            </a:r>
            <a:r>
              <a:rPr b="0" lang="sl-SI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web reporting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dd07f"/>
                </a:solidFill>
                <a:latin typeface="Book Antiqua"/>
              </a:rPr>
              <a:t>Process indicators – level 3</a:t>
            </a: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Book Antiqua"/>
              </a:rPr>
              <a:t>Imputation methods </a:t>
            </a:r>
            <a:endParaRPr b="0" lang="en-US" sz="21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10</a:t>
            </a:r>
            <a:r>
              <a:rPr b="0" lang="sl-SI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method of  zero values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11</a:t>
            </a:r>
            <a:r>
              <a:rPr b="0" lang="sl-SI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logical imputation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12</a:t>
            </a:r>
            <a:r>
              <a:rPr b="0" lang="sl-SI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historical data imputation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13</a:t>
            </a:r>
            <a:r>
              <a:rPr b="0" lang="sl-SI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mean values imputation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14</a:t>
            </a:r>
            <a:r>
              <a:rPr b="0" lang="sl-SI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nearest neighbour imputation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15</a:t>
            </a:r>
            <a:r>
              <a:rPr b="0" lang="sl-SI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hot-deck imputation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16</a:t>
            </a:r>
            <a:r>
              <a:rPr b="0" lang="sl-SI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cold-deck imputation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17</a:t>
            </a:r>
            <a:r>
              <a:rPr b="0" lang="sl-SI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regression imputation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18</a:t>
            </a:r>
            <a:r>
              <a:rPr b="0" lang="sl-SI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method of the most frequent value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19</a:t>
            </a:r>
            <a:r>
              <a:rPr b="0" lang="sl-SI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estimation of anual value based on  infraanual data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21</a:t>
            </a:r>
            <a:r>
              <a:rPr b="0" lang="sl-SI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stochastic hot-deck (random donor) 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22</a:t>
            </a:r>
            <a:r>
              <a:rPr b="0" lang="sl-SI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regression imputation with  random residuals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23</a:t>
            </a:r>
            <a:r>
              <a:rPr b="0" lang="sl-SI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multiple imputation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dd07f"/>
                </a:solidFill>
                <a:latin typeface="Book Antiqua"/>
              </a:rPr>
              <a:t>Process indicators examples - xy.zz</a:t>
            </a:r>
            <a:endParaRPr b="0" lang="en-US" sz="36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ffcc"/>
                </a:solidFill>
                <a:latin typeface="Book Antiqua"/>
              </a:rPr>
              <a:t>11.15 means:</a:t>
            </a:r>
            <a:endParaRPr b="0" lang="en-US" sz="26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ffffff"/>
                </a:solidFill>
                <a:latin typeface="Book Antiqua"/>
              </a:rPr>
              <a:t>1 - </a:t>
            </a: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data provided directly by reporting unit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ffffff"/>
                </a:solidFill>
                <a:latin typeface="Book Antiqua"/>
              </a:rPr>
              <a:t>11 - original value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ffffff"/>
                </a:solidFill>
                <a:latin typeface="Book Antiqua"/>
              </a:rPr>
              <a:t>11.</a:t>
            </a: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15</a:t>
            </a:r>
            <a:r>
              <a:rPr b="0" lang="sl-SI" sz="2100" spc="-1" strike="noStrike">
                <a:solidFill>
                  <a:srgbClr val="ffffff"/>
                </a:solidFill>
                <a:latin typeface="Book Antiqua"/>
              </a:rPr>
              <a:t> - </a:t>
            </a: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computer assisted personal interview  (CAPI)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242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ffcc"/>
                </a:solidFill>
                <a:latin typeface="Book Antiqua"/>
              </a:rPr>
              <a:t>42.19 means:</a:t>
            </a:r>
            <a:endParaRPr b="0" lang="en-US" sz="26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ffffff"/>
                </a:solidFill>
                <a:latin typeface="Book Antiqua"/>
              </a:rPr>
              <a:t>4 - imputed data – imputation of non-response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ffffff"/>
                </a:solidFill>
                <a:latin typeface="Book Antiqua"/>
              </a:rPr>
              <a:t>42 - corrected value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ffffff"/>
                </a:solidFill>
                <a:latin typeface="Book Antiqua"/>
              </a:rPr>
              <a:t>42.19 - </a:t>
            </a: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estimation of anual value based on  infraanual data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dd07f"/>
                </a:solidFill>
                <a:latin typeface="Book Antiqua"/>
              </a:rPr>
              <a:t>Statistical process</a:t>
            </a:r>
            <a:endParaRPr b="0" lang="en-US" sz="3600" spc="-1" strike="noStrike">
              <a:solidFill>
                <a:srgbClr val="fdd07f"/>
              </a:solidFill>
              <a:latin typeface="Book Antiqu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8785440" cy="4056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46160" y="29242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e5405d"/>
                </a:solidFill>
                <a:latin typeface="Arial"/>
              </a:rPr>
              <a:t>Key respo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4160" y="38606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e5405d"/>
                </a:solidFill>
                <a:latin typeface="Arial"/>
              </a:rPr>
              <a:t>Other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29280" y="5176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405d"/>
                </a:solidFill>
                <a:latin typeface="Arial"/>
              </a:rPr>
              <a:t>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30360" y="1865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e5405d"/>
                </a:solidFill>
                <a:latin typeface="Arial"/>
              </a:rPr>
              <a:t>Bl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22000" y="28004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405d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3280" y="2944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405d"/>
                </a:solidFill>
                <a:latin typeface="Arial"/>
              </a:rPr>
              <a:t>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640" y="2800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e5405d"/>
                </a:solidFill>
                <a:latin typeface="Arial"/>
              </a:rPr>
              <a:t>Bl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dd07f"/>
                </a:solidFill>
                <a:latin typeface="Book Antiqua"/>
              </a:rPr>
              <a:t>Metadata connected with the data in </a:t>
            </a:r>
            <a:r>
              <a:rPr b="0" lang="sl-SI" sz="3500" spc="-1" strike="noStrike">
                <a:solidFill>
                  <a:srgbClr val="fdd07f"/>
                </a:solidFill>
                <a:latin typeface="Book Antiqua"/>
              </a:rPr>
              <a:t>O</a:t>
            </a:r>
            <a:r>
              <a:rPr b="0" lang="en-US" sz="3500" spc="-1" strike="noStrike">
                <a:solidFill>
                  <a:srgbClr val="fdd07f"/>
                </a:solidFill>
                <a:latin typeface="Book Antiqua"/>
              </a:rPr>
              <a:t>racle data warehouse</a:t>
            </a:r>
            <a:endParaRPr b="0" lang="en-US" sz="35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On-line access to: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1" marL="705600" indent="-271440">
              <a:spcBef>
                <a:spcPts val="6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ffff"/>
                </a:solidFill>
                <a:latin typeface="Book Antiqua"/>
              </a:rPr>
              <a:t>Historical data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spcBef>
                <a:spcPts val="6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ffff"/>
                </a:solidFill>
                <a:latin typeface="Book Antiqua"/>
              </a:rPr>
              <a:t>Data from different phases (not only final data)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spcBef>
                <a:spcPts val="6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ffff"/>
                </a:solidFill>
                <a:latin typeface="Book Antiqua"/>
              </a:rPr>
              <a:t>Data for multiple surveys (not only data marts)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spcBef>
                <a:spcPts val="6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ffff"/>
                </a:solidFill>
                <a:latin typeface="Book Antiqua"/>
              </a:rPr>
              <a:t>Statistical (variables &amp; classifications) and process (time stamps, status indicators...) metadata connected with the data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...accessible for third-party tools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dd07f"/>
                </a:solidFill>
                <a:latin typeface="Book Antiqua"/>
              </a:rPr>
              <a:t>Conceptual star scheme for SBS</a:t>
            </a: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55640" y="1557360"/>
          <a:ext cx="7524720" cy="51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752472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638520" y="4437000"/>
            <a:ext cx="2006640" cy="368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405d"/>
                </a:solidFill>
                <a:latin typeface="Arial"/>
              </a:rPr>
              <a:t>THIN tab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-11160"/>
          <a:ext cx="9144000" cy="68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116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dd07f"/>
                </a:solidFill>
                <a:latin typeface="Book Antiqua"/>
              </a:rPr>
              <a:t>Overview</a:t>
            </a: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26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ffffcc"/>
                </a:solidFill>
                <a:latin typeface="Book Antiqua"/>
              </a:rPr>
              <a:t>Current statistical production cycle in SORS</a:t>
            </a:r>
            <a:endParaRPr b="0" lang="en-US" sz="29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26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Book Antiqua"/>
              </a:rPr>
              <a:t>Using the metadata in </a:t>
            </a:r>
            <a:r>
              <a:rPr b="0" lang="sl-SI" sz="2900" spc="-1" strike="noStrike">
                <a:solidFill>
                  <a:srgbClr val="ffffcc"/>
                </a:solidFill>
                <a:latin typeface="Book Antiqua"/>
              </a:rPr>
              <a:t>B</a:t>
            </a:r>
            <a:r>
              <a:rPr b="0" lang="en-US" sz="2900" spc="-1" strike="noStrike">
                <a:solidFill>
                  <a:srgbClr val="ffffcc"/>
                </a:solidFill>
                <a:latin typeface="Book Antiqua"/>
              </a:rPr>
              <a:t>laise applications</a:t>
            </a:r>
            <a:endParaRPr b="0" lang="en-US" sz="29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26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Book Antiqua"/>
              </a:rPr>
              <a:t>The role of metadata in automatic editing system in </a:t>
            </a:r>
            <a:r>
              <a:rPr b="0" lang="sl-SI" sz="2900" spc="-1" strike="noStrike">
                <a:solidFill>
                  <a:srgbClr val="ffffcc"/>
                </a:solidFill>
                <a:latin typeface="Book Antiqua"/>
              </a:rPr>
              <a:t>SAS</a:t>
            </a:r>
            <a:endParaRPr b="0" lang="en-US" sz="29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26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Book Antiqua"/>
              </a:rPr>
              <a:t>Metadata connected with the data in </a:t>
            </a:r>
            <a:r>
              <a:rPr b="0" lang="sl-SI" sz="2900" spc="-1" strike="noStrike">
                <a:solidFill>
                  <a:srgbClr val="ffffcc"/>
                </a:solidFill>
                <a:latin typeface="Book Antiqua"/>
              </a:rPr>
              <a:t>O</a:t>
            </a:r>
            <a:r>
              <a:rPr b="0" lang="en-US" sz="2900" spc="-1" strike="noStrike">
                <a:solidFill>
                  <a:srgbClr val="ffffcc"/>
                </a:solidFill>
                <a:latin typeface="Book Antiqua"/>
              </a:rPr>
              <a:t>racle data warehouse</a:t>
            </a:r>
            <a:endParaRPr b="0" lang="en-US" sz="29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26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ffffcc"/>
                </a:solidFill>
                <a:latin typeface="Book Antiqua"/>
              </a:rPr>
              <a:t>Lessons learnt</a:t>
            </a:r>
            <a:endParaRPr b="0" lang="en-US" sz="29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26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ffffcc"/>
                </a:solidFill>
                <a:latin typeface="Book Antiqua"/>
              </a:rPr>
              <a:t>Questions</a:t>
            </a:r>
            <a:endParaRPr b="0" lang="en-US" sz="29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dd07f"/>
                </a:solidFill>
                <a:latin typeface="Book Antiqua"/>
              </a:rPr>
              <a:t>Lessons learnt</a:t>
            </a: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ook Antiqua"/>
              </a:rPr>
              <a:t>The role of central repositories for metadata</a:t>
            </a:r>
            <a:endParaRPr b="0" lang="en-US" sz="26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ffffff"/>
                </a:solidFill>
                <a:latin typeface="Book Antiqua"/>
              </a:rPr>
              <a:t>Natural source of conceptual metadata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ffffff"/>
                </a:solidFill>
                <a:latin typeface="Book Antiqua"/>
              </a:rPr>
              <a:t>Metadata have to be exact, complete and consistant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ffffff"/>
                </a:solidFill>
                <a:latin typeface="Book Antiqua"/>
              </a:rPr>
              <a:t>Process metadata should be connected with the data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ook Antiqua"/>
              </a:rPr>
              <a:t>Harmonisation of metadata concepts</a:t>
            </a:r>
            <a:endParaRPr b="0" lang="en-US" sz="26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ffffff"/>
                </a:solidFill>
                <a:latin typeface="Book Antiqua"/>
              </a:rPr>
              <a:t>Local metadata vs. global metadata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ffffff"/>
                </a:solidFill>
                <a:latin typeface="Book Antiqua"/>
              </a:rPr>
              <a:t>The cultural change is needed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ffcc"/>
                </a:solidFill>
                <a:latin typeface="Book Antiqua"/>
              </a:rPr>
              <a:t>Technical considerations</a:t>
            </a:r>
            <a:endParaRPr b="0" lang="en-US" sz="26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he possibilities for metadata exchange and system integration are </a:t>
            </a:r>
            <a:r>
              <a:rPr b="0" lang="sl-SI" sz="2100" spc="-1" strike="noStrike">
                <a:solidFill>
                  <a:srgbClr val="ffffff"/>
                </a:solidFill>
                <a:latin typeface="Book Antiqua"/>
              </a:rPr>
              <a:t>good (XML, SQL)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dd07f"/>
                </a:solidFill>
                <a:latin typeface="Book Antiqua"/>
              </a:rPr>
              <a:t>Questions</a:t>
            </a:r>
            <a:endParaRPr b="0" lang="en-US" sz="4000" spc="-1" strike="noStrike">
              <a:solidFill>
                <a:srgbClr val="fdd07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dd07f"/>
                </a:solidFill>
                <a:latin typeface="Book Antiqua"/>
              </a:rPr>
              <a:t>Current statistical production cycle</a:t>
            </a:r>
            <a:endParaRPr b="0" lang="en-US" sz="36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Entry and micro editing (Blaise)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Macro and statistical editing (SAS)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Storing and analysis (Oracle)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Dissemination (PC-Axis)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Central metadata stores (Klasje &amp; Metis)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dd07f"/>
                </a:solidFill>
                <a:latin typeface="Book Antiqua"/>
              </a:rPr>
              <a:t>Using the metadata in </a:t>
            </a:r>
            <a:r>
              <a:rPr b="0" lang="sl-SI" sz="3500" spc="-1" strike="noStrike">
                <a:solidFill>
                  <a:srgbClr val="fdd07f"/>
                </a:solidFill>
                <a:latin typeface="Book Antiqua"/>
              </a:rPr>
              <a:t>B</a:t>
            </a:r>
            <a:r>
              <a:rPr b="0" lang="en-US" sz="3500" spc="-1" strike="noStrike">
                <a:solidFill>
                  <a:srgbClr val="fdd07f"/>
                </a:solidFill>
                <a:latin typeface="Book Antiqua"/>
              </a:rPr>
              <a:t>laise applications</a:t>
            </a:r>
            <a:endParaRPr b="0" lang="en-US" sz="35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Generation of (high speed) data-entry applications using Gentry (using by non-IT personnel)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Metadata-based transformations between different data structures (EXTRA-FAT, FAT, THIN)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dd07f"/>
                </a:solidFill>
                <a:latin typeface="Book Antiqua"/>
              </a:rPr>
              <a:t>Gentry – tool for generation of the Blaise data-entry application</a:t>
            </a:r>
            <a:endParaRPr b="0" lang="en-US" sz="36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3233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ffcc"/>
                </a:solidFill>
                <a:latin typeface="Book Antiqua"/>
              </a:rPr>
              <a:t>Questionnaire structure and layout (name, blocks, tables, routing etc.)</a:t>
            </a:r>
            <a:endParaRPr b="0" lang="en-US" sz="26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ffcc"/>
                </a:solidFill>
                <a:latin typeface="Book Antiqua"/>
              </a:rPr>
              <a:t>Field characteristics (length, data type, constants, other parameters)</a:t>
            </a:r>
            <a:endParaRPr b="0" lang="en-US" sz="26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419640" y="1484280"/>
          <a:ext cx="5473440" cy="51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5473440" cy="51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567240" y="609300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e5405d"/>
                </a:solidFill>
                <a:latin typeface="Arial"/>
              </a:rPr>
              <a:t>Field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4520" y="27813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e5405d"/>
                </a:solidFill>
                <a:latin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dd07f"/>
                </a:solidFill>
                <a:latin typeface="Book Antiqua"/>
              </a:rPr>
              <a:t>Gentry – example of </a:t>
            </a:r>
            <a:br>
              <a:rPr sz="3600"/>
            </a:br>
            <a:r>
              <a:rPr b="0" lang="sl-SI" sz="3600" spc="-1" strike="noStrike">
                <a:solidFill>
                  <a:srgbClr val="fdd07f"/>
                </a:solidFill>
                <a:latin typeface="Book Antiqua"/>
              </a:rPr>
              <a:t>generated application</a:t>
            </a:r>
            <a:endParaRPr b="0" lang="en-US" sz="3600" spc="-1" strike="noStrike">
              <a:solidFill>
                <a:srgbClr val="fdd07f"/>
              </a:solidFill>
              <a:latin typeface="Book Antiqu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411280" y="1557360"/>
          <a:ext cx="428652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557360"/>
                    <a:ext cx="428652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537640" y="40244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e5405d"/>
                </a:solidFill>
                <a:latin typeface="Arial"/>
              </a:rPr>
              <a:t>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9600" y="206064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e5405d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1989000"/>
            <a:ext cx="1871640" cy="216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2880" y="53737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e5405d"/>
                </a:solidFill>
                <a:latin typeface="Arial"/>
              </a:rPr>
              <a:t>Data entry for table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dd07f"/>
                </a:solidFill>
                <a:latin typeface="Book Antiqua"/>
              </a:rPr>
              <a:t>Transformations</a:t>
            </a:r>
            <a:endParaRPr b="0" lang="en-US" sz="3600" spc="-1" strike="noStrike">
              <a:solidFill>
                <a:srgbClr val="fdd07f"/>
              </a:solidFill>
              <a:latin typeface="Book Antiqu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13800" cy="447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47760" y="3652920"/>
            <a:ext cx="6335640" cy="654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9280" y="1628640"/>
            <a:ext cx="94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cc"/>
                </a:solidFill>
                <a:latin typeface="Arial"/>
              </a:rPr>
              <a:t>All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 data for </a:t>
            </a:r>
            <a:r>
              <a:rPr b="0" lang="sl-SI" sz="1800" spc="-1" strike="noStrike">
                <a:solidFill>
                  <a:srgbClr val="ffffcc"/>
                </a:solidFill>
                <a:latin typeface="Arial"/>
              </a:rPr>
              <a:t>one unit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cc"/>
                </a:solidFill>
                <a:latin typeface="Arial"/>
              </a:rPr>
              <a:t>(provider) 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in one row</a:t>
            </a:r>
            <a:r>
              <a:rPr b="0" lang="sl-SI" sz="1800" spc="-1" strike="noStrike">
                <a:solidFill>
                  <a:srgbClr val="ffffcc"/>
                </a:solidFill>
                <a:latin typeface="Arial"/>
              </a:rPr>
              <a:t> (EXTRA FAT): suitable for micro e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293840" y="5324400"/>
            <a:ext cx="6276960" cy="1096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0920" y="3182760"/>
            <a:ext cx="9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assification and continuous variables in the columns</a:t>
            </a:r>
            <a:r>
              <a:rPr b="0" lang="sl-SI" sz="1800" spc="-1" strike="noStrike">
                <a:solidFill>
                  <a:srgbClr val="ffffcc"/>
                </a:solidFill>
                <a:latin typeface="Arial"/>
              </a:rPr>
              <a:t> (FAT): suitable fo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3000" y="4797360"/>
            <a:ext cx="85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assification variables in the columns and continuous variables in the rows</a:t>
            </a:r>
            <a:r>
              <a:rPr b="0" lang="sl-SI" sz="1800" spc="-1" strike="noStrike">
                <a:solidFill>
                  <a:srgbClr val="ffffcc"/>
                </a:solidFill>
                <a:latin typeface="Arial"/>
              </a:rPr>
              <a:t> (TH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67280" y="2637000"/>
            <a:ext cx="792000" cy="1008000"/>
          </a:xfrm>
          <a:prstGeom prst="upDownArrow">
            <a:avLst>
              <a:gd name="adj1" fmla="val 50000"/>
              <a:gd name="adj2" fmla="val 2533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62880" y="2637000"/>
            <a:ext cx="42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e5405d"/>
                </a:solidFill>
                <a:latin typeface="Arial"/>
              </a:rPr>
              <a:t>Metadata-based transformation in Bl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67280" y="4292640"/>
            <a:ext cx="792000" cy="1008000"/>
          </a:xfrm>
          <a:prstGeom prst="upDownArrow">
            <a:avLst>
              <a:gd name="adj1" fmla="val 50000"/>
              <a:gd name="adj2" fmla="val 2533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61800" y="4292640"/>
            <a:ext cx="41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e5405d"/>
                </a:solidFill>
                <a:latin typeface="Arial"/>
              </a:rPr>
              <a:t>Metadata-based transformation in 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dd07f"/>
                </a:solidFill>
                <a:latin typeface="Book Antiqua"/>
              </a:rPr>
              <a:t>The role of metadata in automatic editing system in </a:t>
            </a:r>
            <a:r>
              <a:rPr b="0" lang="sl-SI" sz="3500" spc="-1" strike="noStrike">
                <a:solidFill>
                  <a:srgbClr val="fdd07f"/>
                </a:solidFill>
                <a:latin typeface="Book Antiqua"/>
              </a:rPr>
              <a:t>SAS</a:t>
            </a:r>
            <a:endParaRPr b="0" lang="en-US" sz="35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General system for automated editing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Process metadata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dd07f"/>
                </a:solidFill>
                <a:latin typeface="Book Antiqua"/>
              </a:rPr>
              <a:t>The role of metadata in automatic editing system in </a:t>
            </a:r>
            <a:r>
              <a:rPr b="0" lang="sl-SI" sz="3500" spc="-1" strike="noStrike">
                <a:solidFill>
                  <a:srgbClr val="fdd07f"/>
                </a:solidFill>
                <a:latin typeface="Book Antiqua"/>
              </a:rPr>
              <a:t>SAS</a:t>
            </a:r>
            <a:endParaRPr b="0" lang="en-US" sz="3500" spc="-1" strike="noStrike">
              <a:solidFill>
                <a:srgbClr val="fdd07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cc"/>
                </a:solidFill>
                <a:latin typeface="Book Antiqua"/>
              </a:rPr>
              <a:t>In order to be general the</a:t>
            </a:r>
            <a:r>
              <a:rPr b="0" lang="en-US" sz="3000" spc="-1" strike="noStrike">
                <a:solidFill>
                  <a:srgbClr val="ffffcc"/>
                </a:solidFill>
                <a:latin typeface="Book Antiqua"/>
              </a:rPr>
              <a:t> tool must be able to:</a:t>
            </a:r>
            <a:endParaRPr b="0" lang="en-US" sz="30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recognize the data which are due to be subjected to editing and/or imputation; 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ffff"/>
                </a:solidFill>
                <a:latin typeface="Book Antiqua"/>
              </a:rPr>
              <a:t>r</a:t>
            </a: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ecognize which editing method should be applied,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7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and with what parameter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06:52:54Z</dcterms:created>
  <dc:creator>JUG</dc:creator>
  <dc:description/>
  <dc:language>en-US</dc:language>
  <cp:lastModifiedBy>Jessica Gardner</cp:lastModifiedBy>
  <dcterms:modified xsi:type="dcterms:W3CDTF">2006-04-07T11:00:11Z</dcterms:modified>
  <cp:revision>563</cp:revision>
  <dc:subject/>
  <dc:title>Data Warehousing Architecture and Techniques in Statistical Office of the Republic of Slovenia</dc:title>
</cp:coreProperties>
</file>