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A80-ED06-4C89-8E42-62742804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EFD-E8DE-4308-A116-EF11EE98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91F-F412-43A4-B613-90E32409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A62-BCE7-4C19-887B-CA9DB9A1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E8AD-65EB-407F-9DDF-30974F38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9A4C-6CDD-4227-85F4-89008B29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79BD-A7FD-4BC9-9190-130E1AC8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535C-E2B7-4459-A5ED-E56913A5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98C7-5CED-48B6-99C8-774E42EF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BE42-BCCA-4A17-8A8D-624BE4E9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4F0A-E597-4013-9D89-9927D160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320-1657-40FB-9DA1-A040C6B6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0F66-7620-4E26-80C9-EBDB3145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07C6-3980-41DC-A8BC-C8C87F8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1A67-60E4-41C5-B458-EADB44D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7DE9-7DAF-4BF3-AE4F-1FDA1908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2843-DB80-4065-A13F-E956C381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AFC-6072-49ED-A22D-A75B3A25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A4F-9BEF-4E17-99C2-050A4809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636-11C9-456C-9103-D983FE25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582-A2A4-4CCF-8CA4-A123D354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13F-42D5-4A5A-9DE8-CABA3E6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199-83AB-47C5-B091-13B0057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679-B51C-44D3-BECB-096A847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E853-11A5-4CDE-B9E3-595ED6290E17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4DB6-E931-4A9A-A9B4-84A3EBCD86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s New Zealand’s End-to-End Metadata Life-Cyc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”Creating a New Business Model for a National Statistical Office if the 21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Century”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ry Dunn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r, Business Solution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ry.dunnet@stats.govt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Metadata: End-to-End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Need 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requirements eg usage of data, quality requirements 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ccess existing data element concept definitions to clarify requirement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constraints, basic dissemination plans eg product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design parameters that could be used to drive automated processes eg stratification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descriptive metadata about the collection - methodologies used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reuse or create required data definitions, questions, classification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operational metadata about selection process eg number in each stratum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ccess design metadata to drive selection proces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Collect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metadata about the proces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ccess procedural metadata about rules used to drive processe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metadata eg quality metric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Metadata: End-to-End (2)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metadata about operation of processe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ccess procedural metadata, eg edit parameter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reate and/or reuse derivation definitions and imputation parameter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metadata eg quality measure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ccess design parameters to drive estimation processe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information about quality assurance and sign-off of product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ccess definitional metadata to be used in creation of product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Disseminate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operational metadata 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ccess procedural metadata about customer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Needed to support Search, Acquire, Analyse (incl; integrate), Report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apture re-use requirements, including importance of data - fitness for purpose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rchive or Destruction - detail on length of data life cycle.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Metadata: End-to-End - Worked Example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Question Text: “Are you employed?”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oncept discussed with user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heck International standard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ssess exisiting collections &amp; question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Design question text, answers &amp; methodologie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lign with output variables (e.g. ILO classifications)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Data model, supported through meta-model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Develop Business Process Model – process &amp; data / metadata flow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oncept Library – questions, answers &amp; method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‘</a:t>
            </a: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Plug &amp; Play’ methods, with parameters (metadata) the key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System of linkages (no hard-coding)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Metadata: End-to-End - Worked Example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Question Text: “Are you employed?”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Collect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Question, answers &amp; methods rendered to questionnaire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Deliver respondents question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Confirm quality of concept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Draw questions, answers &amp; methods from meta-store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Business logic drawn from ‘rules engine’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Deliver question text, answers &amp; methods to analyst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Search &amp; Discover data, through metadata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ccess knowledge-base (metadata)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3333"/>
                </a:solidFill>
                <a:latin typeface="Arial"/>
              </a:rPr>
              <a:t>Disseminate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Deliver question text, answers &amp; methods to user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3333"/>
                </a:solidFill>
                <a:latin typeface="Arial"/>
              </a:rPr>
              <a:t>Archive question text, answers &amp; method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Metadata: Recent Practical Experiences</a:t>
            </a:r>
            <a:endParaRPr b="0" lang="en-US" sz="32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Generic data model – federated cluster desig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the key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orporately agreed dimension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Data is integrateable, rather than integrated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Blaise to Input Data Environmen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Exporting Blaise metadata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‘</a:t>
            </a: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Rules Engine’ 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Based around s/sheet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Working with a workflow engine to improve (BPM based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33"/>
                </a:solidFill>
                <a:latin typeface="Arial"/>
              </a:rPr>
              <a:t>Audience Mod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Public, professional, technical – added system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387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BmTS Scope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A number of standard, generic end-to end processes for collection, analysis and dissemination of statistical data and information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799"/>
              </a:spcBef>
              <a:buClr>
                <a:srgbClr val="003333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Includes statistical methods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799"/>
              </a:spcBef>
              <a:buClr>
                <a:srgbClr val="003333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Covering business process life-cycle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799"/>
              </a:spcBef>
              <a:buClr>
                <a:srgbClr val="003333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33"/>
                </a:solidFill>
                <a:latin typeface="Arial"/>
              </a:rPr>
              <a:t>To enable statisticians to focus on data quality and implemented best practice methods, greater coordination and effective resource utilisation.</a:t>
            </a:r>
            <a:endParaRPr b="0" lang="en-US" sz="16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A disciplined approach to data and metadata management, using a </a:t>
            </a:r>
            <a:r>
              <a:rPr b="1" lang="sv-SE" sz="2000" spc="-1" strike="noStrike">
                <a:solidFill>
                  <a:srgbClr val="003333"/>
                </a:solidFill>
                <a:latin typeface="Arial"/>
              </a:rPr>
              <a:t>standard information lifecycle</a:t>
            </a: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3333"/>
                </a:solidFill>
                <a:latin typeface="Arial"/>
              </a:rPr>
              <a:t>An agreed enterprise-wide technical architecture</a:t>
            </a:r>
            <a:r>
              <a:rPr b="0" lang="en-NZ" sz="24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BmTS Success Criteria - Financial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3"/>
                </a:solidFill>
                <a:latin typeface="Arial"/>
              </a:rPr>
              <a:t>A reduction in the operating cost to produce a statistical output (that are operating on a separate subject matter system) by between 10 – 20% after moving to the new business mod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3"/>
                </a:solidFill>
                <a:latin typeface="Arial"/>
              </a:rPr>
              <a:t>A reduction of 50% in the investment (of time and money) required to implement the end to end processes and systems required for a new statistical outpu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Generic Business Process Model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33"/>
                </a:solidFill>
                <a:latin typeface="Arial"/>
              </a:rPr>
              <a:t>From: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33"/>
                </a:solidFill>
                <a:latin typeface="Arial"/>
              </a:rPr>
              <a:t>To: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4869000"/>
            <a:ext cx="990360" cy="533160"/>
          </a:xfrm>
          <a:custGeom>
            <a:avLst/>
            <a:gdLst>
              <a:gd name="textAreaLeft" fmla="*/ 0 w 990360"/>
              <a:gd name="textAreaRight" fmla="*/ 990720 w 990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120" y="4721400"/>
            <a:ext cx="1447920" cy="5331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8040" y="4716360"/>
            <a:ext cx="838080" cy="533520"/>
          </a:xfrm>
          <a:custGeom>
            <a:avLst/>
            <a:gdLst>
              <a:gd name="textAreaLeft" fmla="*/ 0 w 838080"/>
              <a:gd name="textAreaRight" fmla="*/ 838440 w 838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sig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86120" y="4716360"/>
            <a:ext cx="685800" cy="53352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l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7720" y="4716360"/>
            <a:ext cx="2133720" cy="5335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91440" y="472140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sem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120" y="2781360"/>
            <a:ext cx="1219320" cy="5335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5440" y="2781360"/>
            <a:ext cx="1295280" cy="5335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sig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2781360"/>
            <a:ext cx="1295280" cy="5335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l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781360"/>
            <a:ext cx="1981440" cy="533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13400" y="2776680"/>
            <a:ext cx="914400" cy="533160"/>
          </a:xfrm>
          <a:custGeom>
            <a:avLst/>
            <a:gdLst>
              <a:gd name="textAreaLeft" fmla="*/ 0 w 914400"/>
              <a:gd name="textAreaRight" fmla="*/ 914760 w 9144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27800" y="2776680"/>
            <a:ext cx="1067040" cy="5382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sem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9640" y="1125360"/>
          <a:ext cx="8209080" cy="53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20908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57320" y="1752480"/>
            <a:ext cx="3951360" cy="23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752480"/>
            <a:ext cx="3311280" cy="23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87880" y="3057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Out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9720" y="3446640"/>
            <a:ext cx="6969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86280" y="3446640"/>
            <a:ext cx="77472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49800" y="30463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Input 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92880" y="1776240"/>
            <a:ext cx="1296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2000" y="4646520"/>
            <a:ext cx="739764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58840" y="4637160"/>
            <a:ext cx="65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Metadata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51640" y="494028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23280" y="51562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2920" y="536580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2000" y="5738760"/>
            <a:ext cx="7397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. Reference Data S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73240" y="1814400"/>
            <a:ext cx="520704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4. Analytic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73240" y="2195640"/>
            <a:ext cx="520704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5. Information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60640" y="2576520"/>
            <a:ext cx="520704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6.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763640"/>
            <a:ext cx="1260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46160" y="3446640"/>
            <a:ext cx="73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4176720"/>
            <a:ext cx="2146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6840" y="423540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. Respondent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421956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. Custom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4880" y="4176720"/>
            <a:ext cx="2444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331040" y="350316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331040" y="293220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331040" y="236016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082520" y="352908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082520" y="2957040"/>
            <a:ext cx="584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082520" y="2386080"/>
            <a:ext cx="584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7517160" y="36795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RA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7572600" y="3120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6597000" y="2749680"/>
            <a:ext cx="1743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Outpu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504000" y="2750760"/>
            <a:ext cx="2081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Multi-Modal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7470360" y="19263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CU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7493400" y="2522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11520" y="36795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E-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1029600" y="313416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936360" y="19443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Im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946440" y="2446200"/>
            <a:ext cx="6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Adm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7031880" y="269424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Official Statistics System &amp; Data Arch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38920" y="3427560"/>
            <a:ext cx="77472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33560" y="3376440"/>
            <a:ext cx="5373720" cy="673200"/>
          </a:xfrm>
          <a:prstGeom prst="rightArrow">
            <a:avLst>
              <a:gd name="adj1" fmla="val 68602"/>
              <a:gd name="adj2" fmla="val 115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6560" y="3427560"/>
            <a:ext cx="6969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54920" y="1771560"/>
            <a:ext cx="12600" cy="23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5156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940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5372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268280"/>
            <a:ext cx="7397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. 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Existing Metadata Issue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is not kept up to date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maintenance is considered a low priority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is not held in a consistent way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relevant information is unavailable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here is confusion about what metadata needs to be stored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he existing metadata infrastructure is being under utilised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here is a failure to meet the metadata needs of advanced data user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it is difficult to find information unless you have some expertise or know it exist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here is inconsistent use of classifications/terminology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in some instances there is little information about data, where it came from, processes it has been under or even the question to which it relate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Target Metadata Principle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is centrally accessible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structure should be strongly linked to data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is shared between data set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ontent structure conforms to standard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is managed from end-to-end in the data life cycle.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here is a registration process (workflow) associated with each metadata element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capture metadata at source, automatically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ensure the cost to producers is justified by the benefit to user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is considered active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is managed at as a high a level as is possible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metadata is readily available and useable in the context of client's information needs (internal or external)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3333"/>
                </a:solidFill>
                <a:latin typeface="Arial"/>
              </a:rPr>
              <a:t>track the use of some types of metadata (eg. classifications) 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Metadata Logical Model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0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Jessica Gardner</cp:lastModifiedBy>
  <dcterms:modified xsi:type="dcterms:W3CDTF">2006-04-07T10:59:50Z</dcterms:modified>
  <cp:revision>39</cp:revision>
  <dc:subject/>
  <dc:title>PowerPoint Presentation</dc:title>
</cp:coreProperties>
</file>