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CB4-9ADD-4FEC-B51E-9004A71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2FD-8E7E-44A1-B886-60EB5445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E11-25D7-458A-A26B-E02898BD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8F3-AB59-4597-83E3-53FC6495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B07D-8A72-404C-9014-E5F54D2E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4FC3-FA7C-458D-A983-8DED465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051-EF11-4916-ABE0-14BAD0A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E9D-7E82-4587-9414-BC0CA475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82F9-F1F0-41D1-A7A6-D8BA1BE3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66A4-F728-4D4B-8E78-1FE4C0A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8F4-65A2-432D-ABB9-00A943D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66A-68AD-4232-ADC8-D322B38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0198-4686-4E89-9D6F-B2BBAC07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7D4-7D05-48A5-9CBB-17C214D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C3B-16B6-471C-8F7A-1833595B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7FD2-F623-435E-BB19-C578A948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F85-DE37-4DE4-A4DA-EBF1C045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73F-EE90-47A3-BEC1-ACC3F4D5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12E-D34C-4724-99B7-AAB8373D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C83-D618-464F-96E5-326FC1F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057-97A3-4E64-93F7-C45A871C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F71-4FAC-4FBA-8DD6-C2682E2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D96-7ECC-432E-87BD-2194164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77B-44B3-41AA-B13B-0CBF3BF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B61-25F3-47DE-9D3C-E5EB54CAC89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9B9-544C-429E-A73A-2C46954DF2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228600"/>
          <a:ext cx="14479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956240" y="225360"/>
            <a:ext cx="68742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IONAL INSTITUTE OF STATIS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4560" y="2486160"/>
            <a:ext cx="5373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News Gothic"/>
              </a:rPr>
              <a:t>RECENT ACHIEVEMENT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News Gothic"/>
              </a:rPr>
              <a:t>IN METADATA SYSTE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33336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t is  obvious  that  the data  access  is  facilitated  by  a set of metadata. It is possible to select a data matrix starting with the elements of a nomenclature/ classification, such a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3068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 nomenclature subse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40910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 position contents in a subset/enti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nomenclature.</a:t>
            </a: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333360"/>
            <a:ext cx="770580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nother facility is the possibility to retrieve the data starting to key words, which can be looked as a sort of metadata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se metadata which can be classified as retrieval metadata are: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068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indicator name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indicator definition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46926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matrix name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692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VISUALIZATION is another option of main menu, which provides other facilities, among others a lot of  metadat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3176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xtracting specification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0369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ata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82896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etadata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6926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graphic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66672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hoosing the METADATA option, the system shows the metadata categories associated to current matrix, divided into many areas, such a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96712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efinition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6860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ime information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47840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ethodology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5342040"/>
            <a:ext cx="67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ata sourc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23684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Times New Roman"/>
              </a:rPr>
              <a:t>Many thanks for you kindly attention 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125360"/>
            <a:ext cx="8280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Bauhaus 93"/>
              </a:rPr>
              <a:t>THE TIME SERIES DATABASE TEMP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Bauhaus 93"/>
              </a:rPr>
              <a:t>AN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Bauhaus 93"/>
              </a:rPr>
              <a:t>METADATA  RELATE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Times New Roman"/>
              </a:rPr>
              <a:t>TEMPO – AN OVERVIEW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765000"/>
            <a:ext cx="792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Time Series Database TEMPO permits the management in an integrated conception the NIS main data thesaurus and the metadata related.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573360"/>
            <a:ext cx="820728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rough the integration process with metadata, the statistical information can be dominated in a good way. Also the data misinterpret phenomenon is minimiz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602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data matrixes are classified into a hierarchical structure which has many level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9162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ector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637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omain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429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ub-domain;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414972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dicator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94172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ata matrix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ach matrix has associated a lot of metadata categories, such a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indicator definition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478240"/>
            <a:ext cx="79930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formation about used nomenclatures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lassifications;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77352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ethodological items (range, adjust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ethodology, break into time series)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0817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formation about data sources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7294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formation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bout data confidential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03280" y="1484280"/>
            <a:ext cx="6624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052640"/>
            <a:ext cx="74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main terms used in TEMPO, joined with data and metadata categories, are described in glossary of items, which is accessible through main menu of application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360" y="33336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Times New Roman"/>
              </a:rPr>
              <a:t>TECHNICAL  FEATURE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1773360"/>
            <a:ext cx="849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database TEMPO consultation is possible owing to a client type program, designed in Delphi C/S 4.0.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292640"/>
            <a:ext cx="734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The access to data and metadata related is made on account of Oracle database, being of NIS server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569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The first option offered in the main menu is SEARCH, which contains the following option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3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ATALOGUE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4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MENCLATURE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349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MATRIX CODE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2852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KEY WORDS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294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ERIODICITY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4292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ADJUSTMENT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789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DATA SOURCE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80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MATRIXES LIST IN MEMORY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4797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LAST SEARCH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300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LOAD FROM DISK 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1040" y="3957480"/>
            <a:ext cx="290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14:36Z</dcterms:created>
  <dc:creator>USER</dc:creator>
  <dc:description/>
  <dc:language>en-US</dc:language>
  <cp:lastModifiedBy>Jessica Gardner</cp:lastModifiedBy>
  <dcterms:modified xsi:type="dcterms:W3CDTF">2006-04-07T10:57:20Z</dcterms:modified>
  <cp:revision>50</cp:revision>
  <dc:subject/>
  <dc:title>No Slide Title</dc:title>
</cp:coreProperties>
</file>