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167-0747-46C7-A0ED-D690C24B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57C-B1F1-4CE4-87C2-CE607ED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237-62C7-4873-BA42-0FD694BE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9E1-2CA2-4DEF-B41A-E6661DE5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DCF-3906-49D5-9FBE-DF970FCC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2756-BA50-4BE1-A666-1AAC552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BD72-8453-48D6-828E-291EC02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3DE-534A-4E77-9A26-E2C25EF4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0219-4452-4BC7-B026-822A0B6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DD8B-8D3C-4DA8-9E95-81BE9D0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485-530B-4D44-84A3-B093787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B70-7DC8-42A7-9D44-EA22B5F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C497-BB76-41C9-901C-B5AF338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65D-130E-471F-BB75-2EA3A0D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4C27-C347-4C2D-8B8C-A8A45443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F152-9497-4B4B-A7B5-C040AC9A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CBF2-EEE0-4757-BA14-13E52FF5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678-6844-4FC9-BB28-EDB22DD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424-5EBB-4E58-9B4F-CFD6970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2FC-C7D4-4C5C-8A25-49319C54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638-1396-4460-8449-1049D534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35B-D47C-4E4A-B5A1-8B8932F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D9E-C18A-4F20-A982-91098E2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AA7-41AB-44C3-BAB0-A4A50F5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D72-27EE-4CA5-BC73-511CAEE339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E14-BD9F-4F56-8F07-2D00754D0A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llman.daniel@bls.gov" TargetMode="External"/><Relationship Id="rId2" Type="http://schemas.openxmlformats.org/officeDocument/2006/relationships/hyperlink" Target="mailto:Frank@farance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Nature of Da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rank Far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Farance, In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niel W. Gillm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US Bureau of Labor Statisti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C76-77A8-4CA8-9324-E223D3AECE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um := Designation of a concept with equ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swers the question – Wha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data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Dan Gillm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Gillman.daniel@bls.go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Frank Far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Frank@farance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336-82D6-418C-9332-368688D3A1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inology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ent Defin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ept with Equ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F3B-DA85-464D-BDEF-BFEAC02115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minology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= perceivable or concei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stic = abstraction of properties of ob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 = unique combination of characterist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ignation = association of sign with concep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F48-9EBB-4A83-A0F9-1BECEB06B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minology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sion = sum of characteri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ension = set of corresponding ob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otyp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Women, Fire, and Dangerous Thing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Lako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ar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291-D071-49B2-A466-3DB132872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rrent Defin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SO/IEC 2382-1: Information technology - Vocabulary, Part 1: Fundamental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"Reinterpretable representation of information in a formalized manner suitable for communication, interpretation, or processing."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A7F-5577-4C6F-90E2-8B46A51D7B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rrent Defin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mproving Data Warehouse and Business Information Qual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Larry Engl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"Data is the representation of facts about things."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F24-5F2F-4E07-93A5-62C525F61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ept with Equali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qual Concept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l Intensions and Extens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lid UPC co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ar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ept with Equ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l Intension with Extension Determined Consisten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itive prime integ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023-C693-42E4-B4D9-E02B2AD116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lu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lue := Concept with Equa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lues imply part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ve or not f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e and Fe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CAC-6A91-4E35-8259-15C4F7D978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at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um := Designation of a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for 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 for Fe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 for F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for the first letter of the Latin alphab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oty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C6-189B-4970-95A3-1AE5C28FFB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22:33:44Z</dcterms:created>
  <dc:creator>GILLMAN_D</dc:creator>
  <dc:description/>
  <dc:language>en-US</dc:language>
  <cp:lastModifiedBy>Jessica Gardner</cp:lastModifiedBy>
  <cp:lastPrinted>2002-02-27T23:21:12Z</cp:lastPrinted>
  <dcterms:modified xsi:type="dcterms:W3CDTF">2006-04-07T10:56:59Z</dcterms:modified>
  <cp:revision>157</cp:revision>
  <dc:subject/>
  <dc:title>Using Metadata to Support the Survey Life-Cycle FedCASIC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44719261</vt:r8>
  </property>
  <property fmtid="{D5CDD505-2E9C-101B-9397-08002B2CF9AE}" pid="3" name="_AuthorEmail">
    <vt:lpwstr>Gillman.Daniel@bls.gov</vt:lpwstr>
  </property>
  <property fmtid="{D5CDD505-2E9C-101B-9397-08002B2CF9AE}" pid="4" name="_AuthorEmailDisplayName">
    <vt:lpwstr>Gillman, Daniel - BLS</vt:lpwstr>
  </property>
  <property fmtid="{D5CDD505-2E9C-101B-9397-08002B2CF9AE}" pid="5" name="_EmailSubject">
    <vt:lpwstr>PowerPoint for WP 12 and Email Access</vt:lpwstr>
  </property>
</Properties>
</file>