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DB04-381D-473D-8808-CA4DE3BCD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F0A1-5D4B-4FE9-8A08-2489F00FD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AF0B-6F25-414D-B7EF-22370DC84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6CDA-920B-4B23-A3BE-8E57A65C0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D571-DBE2-4041-AF72-AC91FAAC90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276A-11B8-430B-9DD8-5E46907E9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D30D-2838-455C-9343-67EC3CAB0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61A4-459C-4A3B-AA6B-786FA05FD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E929-EDE7-4B8A-A2DD-1E1468EEA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9087-B58F-46FA-B092-E5174146C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30A7-CED7-44BB-959B-3BB8277AE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9E41-804B-4295-A9EE-51A8374CE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5608" b="0"/>
          <a:stretch/>
        </p:blipFill>
        <p:spPr>
          <a:xfrm>
            <a:off x="7937640" y="108000"/>
            <a:ext cx="34272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28440">
            <a:solidFill>
              <a:srgbClr val="404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78120" y="6676920"/>
            <a:ext cx="49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04086"/>
                </a:solidFill>
                <a:latin typeface="Verdana"/>
                <a:ea typeface="Times New Roman"/>
              </a:rPr>
              <a:t>Joint UNECE/Eurostat/OECD work session on statistical metadata (METIS)</a:t>
            </a:r>
            <a:r>
              <a:rPr b="1" lang="es-ES" sz="800" spc="-1" strike="noStrike">
                <a:solidFill>
                  <a:srgbClr val="404086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99600" y="6676920"/>
            <a:ext cx="914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E91-05A0-4649-837D-DD2F17F93D02}" type="slidenum">
              <a:rPr b="1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7640" y="6676920"/>
            <a:ext cx="21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04086"/>
                </a:solidFill>
                <a:latin typeface="Verdana"/>
              </a:rPr>
              <a:t>3-5 APRIL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83120" y="6676920"/>
            <a:ext cx="348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0120" indent="-330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04086"/>
                </a:solidFill>
                <a:latin typeface="Verdana"/>
              </a:rPr>
              <a:t>Mar Blanco Fr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8737560" y="6679800"/>
            <a:ext cx="4572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301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404086"/>
                </a:solidFill>
                <a:latin typeface="Verdana"/>
              </a:defRPr>
            </a:lvl1pPr>
          </a:lstStyle>
          <a:p>
            <a:pPr marL="3301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FF9-50A0-4CB9-993B-6B895DF425E9}" type="slidenum">
              <a:rPr b="1" lang="es-ES" sz="800" spc="-1" strike="noStrike">
                <a:solidFill>
                  <a:srgbClr val="404086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8499600" y="82440"/>
            <a:ext cx="257040" cy="743040"/>
          </a:xfrm>
          <a:custGeom>
            <a:avLst/>
            <a:gdLst>
              <a:gd name="textAreaLeft" fmla="*/ 0 w 257040"/>
              <a:gd name="textAreaRight" fmla="*/ 257400 w 257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9" y="0"/>
                </a:lnTo>
                <a:lnTo>
                  <a:pt x="21600" y="10800"/>
                </a:lnTo>
                <a:lnTo>
                  <a:pt x="4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86"/>
          </a:solidFill>
          <a:ln w="12600">
            <a:solidFill>
              <a:srgbClr val="40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>
            <a:off x="7481880" y="82440"/>
            <a:ext cx="257040" cy="743040"/>
          </a:xfrm>
          <a:custGeom>
            <a:avLst/>
            <a:gdLst>
              <a:gd name="textAreaLeft" fmla="*/ 360 w 257040"/>
              <a:gd name="textAreaRight" fmla="*/ 257760 w 257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9" y="0"/>
                </a:lnTo>
                <a:lnTo>
                  <a:pt x="21600" y="10800"/>
                </a:lnTo>
                <a:lnTo>
                  <a:pt x="4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86"/>
          </a:solidFill>
          <a:ln w="12600">
            <a:solidFill>
              <a:srgbClr val="40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19240" indent="0">
              <a:buNone/>
              <a:tabLst>
                <a:tab algn="l" pos="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422280" indent="-231840"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0160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9080" indent="-184320" algn="just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9960" indent="-190440" algn="just">
              <a:spcBef>
                <a:spcPts val="1001"/>
              </a:spcBef>
              <a:buClr>
                <a:srgbClr val="000066"/>
              </a:buClr>
              <a:buFont typeface="Arial"/>
              <a:buChar char="-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69960" indent="-1904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69960" indent="-1904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56600" cy="7215120"/>
          </a:xfrm>
          <a:prstGeom prst="rect">
            <a:avLst/>
          </a:prstGeom>
          <a:solidFill>
            <a:srgbClr val="fff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0120" indent="-330120" algn="ctr">
              <a:lnSpc>
                <a:spcPct val="100000"/>
              </a:lnSpc>
              <a:spcBef>
                <a:spcPts val="689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9760" y="3429000"/>
            <a:ext cx="704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88"/>
                </a:solidFill>
                <a:latin typeface="Georgia"/>
              </a:rPr>
              <a:t>STATISTICAL METADATA MODEL DEVELOPED IN SPAIN:CURRENT AND FUTURE USE AND APL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04088"/>
                </a:solidFill>
                <a:latin typeface="Georgia"/>
                <a:ea typeface="Times New Roman"/>
              </a:rPr>
              <a:t>Topic (ii): Metadata Concepts, Standards, Models and Registries</a:t>
            </a:r>
            <a:r>
              <a:rPr b="1" lang="es-ES" sz="2400" spc="-1" strike="noStrike">
                <a:solidFill>
                  <a:srgbClr val="404088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9400" y="6340320"/>
            <a:ext cx="384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88"/>
                </a:solidFill>
                <a:latin typeface="Verdana"/>
              </a:rPr>
              <a:t>GENEVA, 3-5 April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red1" descr="logo INE"/>
          <p:cNvPicPr/>
          <p:nvPr/>
        </p:nvPicPr>
        <p:blipFill>
          <a:blip r:embed="rId1"/>
          <a:stretch/>
        </p:blipFill>
        <p:spPr>
          <a:xfrm>
            <a:off x="3664080" y="1155600"/>
            <a:ext cx="200016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11760" y="5674320"/>
            <a:ext cx="259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spAutoFit/>
          </a:bodyPr>
          <a:p>
            <a:pPr marL="330120" indent="-3301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86"/>
                </a:solidFill>
                <a:latin typeface="Verdana"/>
              </a:rPr>
              <a:t>Mar Blanco Fr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MANAGEMENT POINT O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011240"/>
            <a:ext cx="82296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2688d"/>
                </a:solidFill>
                <a:latin typeface="Verdana"/>
              </a:rPr>
              <a:t>The maintenance of the System is carried out by means of a Metadata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60480" y="1484280"/>
            <a:ext cx="757404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This prevents the operator from making mistakes when working directly in  the 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It allows to introduce and modify information in the Database in a easy and friendly 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448000"/>
            <a:ext cx="73832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2688d"/>
                </a:solidFill>
                <a:latin typeface="Verdana"/>
              </a:rPr>
              <a:t>Some Windows of the Management Syst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176560" y="3027240"/>
            <a:ext cx="5022720" cy="3517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321600" y="2448000"/>
            <a:ext cx="2733480" cy="1933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V="1">
            <a:off x="5646600" y="3889080"/>
            <a:ext cx="675000" cy="49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298440" y="2728800"/>
            <a:ext cx="2176560" cy="2157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flipH="1" flipV="1">
            <a:off x="1752120" y="4381200"/>
            <a:ext cx="722520" cy="84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646600" y="4703760"/>
            <a:ext cx="3157560" cy="2016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06880" y="3889440"/>
            <a:ext cx="639720" cy="9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7070-181F-4DE6-8FEE-729A8B8173DB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2446200" y="1368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tadata model description and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1760400" y="1368360"/>
            <a:ext cx="541440" cy="835200"/>
          </a:xfrm>
          <a:prstGeom prst="bevel">
            <a:avLst>
              <a:gd name="adj" fmla="val 125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2446200" y="4676760"/>
            <a:ext cx="498636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Role of the metadata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5" action="ppaction://hlinksldjump"/>
          </p:cNvPr>
          <p:cNvSpPr/>
          <p:nvPr/>
        </p:nvSpPr>
        <p:spPr>
          <a:xfrm>
            <a:off x="1760400" y="4676760"/>
            <a:ext cx="541440" cy="84312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81480" y="251136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unct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6" action="ppaction://hlinksldjump"/>
          </p:cNvPr>
          <p:cNvSpPr/>
          <p:nvPr/>
        </p:nvSpPr>
        <p:spPr>
          <a:xfrm>
            <a:off x="2446200" y="251136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7" action="ppaction://hlinksldjump"/>
          </p:cNvPr>
          <p:cNvSpPr/>
          <p:nvPr/>
        </p:nvSpPr>
        <p:spPr>
          <a:xfrm>
            <a:off x="2446200" y="3851280"/>
            <a:ext cx="74628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2688d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8" action="ppaction://hlinksldjump"/>
          </p:cNvPr>
          <p:cNvSpPr/>
          <p:nvPr/>
        </p:nvSpPr>
        <p:spPr>
          <a:xfrm>
            <a:off x="2446200" y="317340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81480" y="3851280"/>
            <a:ext cx="364320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User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1480" y="318924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nagement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451E-87FA-4472-AA45-A08549CE45D8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USER POINT O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9520" y="1160640"/>
            <a:ext cx="8184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From a user point of view, it is not usefull to have greats amounts of information stored in tables if you are not able to exploit it as much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0640" y="1911240"/>
            <a:ext cx="7127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The search Engine allows the user to efficiently find different types of information using different search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Available in the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520" y="2682720"/>
            <a:ext cx="8184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Different 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b3383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Thematic Searches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: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 The user gets all the variables (or classifications) clasified in the selected t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09760" y="3556080"/>
            <a:ext cx="687852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Allows to compare how the different Statistical Operations request information about the same t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b3383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Allows to see relationships variable</a:t>
            </a:r>
            <a:r>
              <a:rPr b="1" lang="es-ES" sz="16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clasifications (1:n) and classifications</a:t>
            </a:r>
            <a:r>
              <a:rPr b="1" lang="es-ES" sz="16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 variable(1: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9520" y="4649760"/>
            <a:ext cx="8475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2.</a:t>
            </a:r>
            <a:r>
              <a:rPr b="1" lang="es-ES" sz="1600" spc="-1" strike="noStrike">
                <a:solidFill>
                  <a:srgbClr val="404086"/>
                </a:solidFill>
                <a:latin typeface="Verdana"/>
              </a:rPr>
              <a:t>   </a:t>
            </a: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Comparison of Statistical Operations:</a:t>
            </a: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By means of a metodology to analyse similarity between variables and classifications in two Statistical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9520" y="5400720"/>
            <a:ext cx="8184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3.   </a:t>
            </a: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Searches in regulations:</a:t>
            </a: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It allows to generate a report connecting variables in a Statistical Opration with those in the corresponding 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9520" y="6238800"/>
            <a:ext cx="761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4.  </a:t>
            </a: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Global search</a:t>
            </a: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: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By litheral, theme, global character chai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8B9E-A905-4600-AC59-50E85E621EF0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USER POINT O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146240"/>
            <a:ext cx="83311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2688d"/>
                </a:solidFill>
                <a:latin typeface="Verdana"/>
              </a:rPr>
              <a:t>Some Search Engine windows (I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05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05160" y="1676520"/>
            <a:ext cx="3875040" cy="337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5580000" y="1230480"/>
            <a:ext cx="3548160" cy="1989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1442880"/>
            <a:ext cx="2862360" cy="2319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304920" y="4336920"/>
            <a:ext cx="3490920" cy="2097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5627520" y="3762360"/>
            <a:ext cx="3564000" cy="2671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51200" y="4341960"/>
            <a:ext cx="111780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10280" y="2539800"/>
            <a:ext cx="1069920" cy="112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405160" y="2374920"/>
            <a:ext cx="1218960" cy="84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80200" y="3219480"/>
            <a:ext cx="1604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62480" y="5349960"/>
            <a:ext cx="144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Concept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6000" y="5462640"/>
            <a:ext cx="3000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Standard Classific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400" y="3762360"/>
            <a:ext cx="2244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Thematic search for Vari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862360" y="3444840"/>
            <a:ext cx="761760" cy="124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CEA4-1790-430C-92E0-F43CE6898176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USER POINT O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1146240"/>
            <a:ext cx="83311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86"/>
                </a:solidFill>
                <a:latin typeface="Verdana"/>
              </a:rPr>
              <a:t>Some Search Engine windows (II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05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051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405160" y="2397240"/>
            <a:ext cx="4024080" cy="3084480"/>
          </a:xfrm>
          <a:prstGeom prst="rect">
            <a:avLst/>
          </a:prstGeom>
          <a:ln w="0">
            <a:noFill/>
          </a:ln>
        </p:spPr>
      </p:pic>
      <p:pic>
        <p:nvPicPr>
          <p:cNvPr id="306" name="pic1" descr=""/>
          <p:cNvPicPr/>
          <p:nvPr/>
        </p:nvPicPr>
        <p:blipFill>
          <a:blip r:embed="rId2"/>
          <a:stretch/>
        </p:blipFill>
        <p:spPr>
          <a:xfrm>
            <a:off x="5661000" y="3940200"/>
            <a:ext cx="3483000" cy="2346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3319200" cy="2263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H="1" flipV="1">
            <a:off x="2708280" y="2989080"/>
            <a:ext cx="528480" cy="142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19680" y="5065560"/>
            <a:ext cx="2074680" cy="90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4122720"/>
            <a:ext cx="2019240" cy="196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33835"/>
                </a:solidFill>
                <a:latin typeface="Verdana"/>
              </a:rPr>
              <a:t>Search by Statistical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32688d"/>
                </a:solidFill>
                <a:uFillTx/>
                <a:latin typeface="Verdana"/>
              </a:rPr>
              <a:t>Possibiliti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the questionnaire as it is stored in the 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variables in the SO which are requested in the Reg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the associated Reg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122720"/>
            <a:ext cx="20192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45160" y="1725480"/>
            <a:ext cx="220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33835"/>
                </a:solidFill>
                <a:latin typeface="Verdana"/>
              </a:rPr>
              <a:t>Search by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32688d"/>
                </a:solidFill>
                <a:uFillTx/>
                <a:latin typeface="Verdana"/>
              </a:rPr>
              <a:t>Possibiliti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the Regulation as it is stored in 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the variables in the Regulation with its attributes (internal codes, periodicity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2688d"/>
                </a:solidFill>
                <a:latin typeface="Verdana"/>
              </a:rPr>
              <a:t>See Variables in the Regulation which are requested in some 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45160" y="1676520"/>
            <a:ext cx="2206800" cy="19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9EB7-657D-4C89-BD8A-4FBA7227D68A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6200" y="1368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tadata model description an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0400" y="1368360"/>
            <a:ext cx="54144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4890960"/>
            <a:ext cx="4986360" cy="83520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Role of the metadata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60400" y="4883040"/>
            <a:ext cx="541440" cy="84312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2688d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81480" y="251136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unct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51136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6200" y="385128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1480" y="385128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User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81480" y="318924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nagement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6200" y="318924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F706-4FB5-48FD-8BF7-5A2065D06F2C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ROLE OF METADATA INSIDE 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00" y="1089000"/>
            <a:ext cx="8361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Metadata has an important role in quality issues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86"/>
                </a:solidFill>
                <a:latin typeface="Verdana"/>
              </a:rPr>
              <a:t>        </a:t>
            </a:r>
            <a:r>
              <a:rPr b="1" lang="es-ES" sz="16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It is used as a quality indicator in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Currently the metadata project is used in the Eurostat Task Force  on Core Soci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        </a:t>
            </a:r>
            <a:r>
              <a:rPr b="1" lang="es-ES" sz="16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All information about social surveys is included in the metadata database =&gt; Metadata is a powerfull tool to compare how this surveys request the information and harmonize both  internally and at European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Metadata is a first step towards a complete documentation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Usefull to help to define taxonomies in XBRL metainformation exchang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FUTURE WOR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Include not only Statistical operations under INE responsability but also those carried out by other Ministries and Government bo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Link metadata to data</a:t>
            </a:r>
            <a:r>
              <a:rPr b="1" lang="es-ES" sz="1600" spc="-1" strike="noStrike">
                <a:solidFill>
                  <a:srgbClr val="32688d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 it will help to reduce the load to informers in Economic Surve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D8AB-C251-4AE6-9529-4DBB430B5D88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00360" y="2554200"/>
            <a:ext cx="59212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688d"/>
                </a:solidFill>
                <a:latin typeface="Verdana"/>
              </a:rPr>
              <a:t>AND THAT’S ALL…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688d"/>
                </a:solidFill>
                <a:latin typeface="Verdana"/>
              </a:rPr>
              <a:t>THANK YOU FOR YOUR ATTEN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A89B-2B58-4756-9EE0-14248F6AD5C6}" type="slidenum">
              <a:t>17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91960" y="1555560"/>
            <a:ext cx="823680" cy="4066200"/>
            <a:chOff x="291960" y="1555560"/>
            <a:chExt cx="823680" cy="4066200"/>
          </a:xfrm>
        </p:grpSpPr>
        <p:sp>
          <p:nvSpPr>
            <p:cNvPr id="55" name=""/>
            <p:cNvSpPr/>
            <p:nvPr/>
          </p:nvSpPr>
          <p:spPr>
            <a:xfrm>
              <a:off x="291960" y="1829880"/>
              <a:ext cx="823680" cy="36046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3604680"/>
                <a:gd name="textAreaBottom" fmla="*/ 3605040 h 360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e1c2"/>
            </a:solidFill>
            <a:ln w="0">
              <a:noFill/>
            </a:ln>
            <a:effectLst>
              <a:outerShdw dist="17819" dir="2700000" blurRad="0" rotWithShape="0">
                <a:srgbClr val="8986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62000" rIns="90360" tIns="44280" bIns="44280" anchor="ctr">
              <a:noAutofit/>
            </a:bodyPr>
            <a:p>
              <a:pPr marL="344520" algn="ctr">
                <a:lnSpc>
                  <a:spcPct val="100000"/>
                </a:lnSpc>
                <a:spcBef>
                  <a:spcPts val="876"/>
                </a:spcBef>
                <a:buClr>
                  <a:srgbClr val="404086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-1453320" y="3427560"/>
              <a:ext cx="4066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32688d"/>
                  </a:solidFill>
                  <a:latin typeface="Verdana"/>
                </a:rPr>
                <a:t>Objectiv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30200" y="1911240"/>
            <a:ext cx="7236000" cy="3200400"/>
          </a:xfrm>
          <a:prstGeom prst="rect">
            <a:avLst/>
          </a:prstGeom>
          <a:noFill/>
          <a:ln w="9360">
            <a:solidFill>
              <a:srgbClr val="e6e1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spcBef>
                <a:spcPts val="964"/>
              </a:spcBef>
              <a:buClr>
                <a:srgbClr val="8d813b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d813b"/>
                </a:solidFill>
                <a:latin typeface="Verdana"/>
              </a:rPr>
              <a:t>To explain the metadata model curre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887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32688d"/>
                </a:solidFill>
                <a:latin typeface="Verdana"/>
              </a:rPr>
              <a:t>Give a general view of the model: functional, management and user points of vi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8d813b"/>
                </a:solidFill>
                <a:latin typeface="Verdana"/>
              </a:rPr>
              <a:t>2.     </a:t>
            </a:r>
            <a:r>
              <a:rPr b="1" lang="es-ES" sz="1400" spc="-1" strike="noStrike">
                <a:solidFill>
                  <a:srgbClr val="8d813b"/>
                </a:solidFill>
                <a:latin typeface="Verdana"/>
              </a:rPr>
              <a:t>To explain the metadata role inside 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887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32688d"/>
                </a:solidFill>
                <a:latin typeface="Verdana"/>
              </a:rPr>
              <a:t>Information about current applications of the metadata project and the way forw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600" y="585720"/>
            <a:ext cx="4981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86"/>
                </a:solidFill>
                <a:latin typeface="Verdana"/>
              </a:rPr>
              <a:t>OBJECTIVES OF TH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A249-BDF6-4BDA-B0CA-9345464EA81B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446200" y="1368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tadata model description an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760400" y="1368360"/>
            <a:ext cx="54144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2446200" y="4905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Role of the metadata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1760400" y="4897440"/>
            <a:ext cx="541440" cy="84312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1480" y="251136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unct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2446200" y="251136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7" action="ppaction://hlinksldjump"/>
          </p:cNvPr>
          <p:cNvSpPr/>
          <p:nvPr/>
        </p:nvSpPr>
        <p:spPr>
          <a:xfrm>
            <a:off x="2446200" y="317340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8" action="ppaction://hlinksldjump"/>
          </p:cNvPr>
          <p:cNvSpPr/>
          <p:nvPr/>
        </p:nvSpPr>
        <p:spPr>
          <a:xfrm>
            <a:off x="2446200" y="385128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1480" y="318924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nagement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81480" y="385128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User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6BFD-0282-4028-977E-9C80B8153D3A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446200" y="1368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tadata model description and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1760400" y="1368360"/>
            <a:ext cx="541440" cy="835200"/>
          </a:xfrm>
          <a:prstGeom prst="bevel">
            <a:avLst>
              <a:gd name="adj" fmla="val 125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2446200" y="4862520"/>
            <a:ext cx="4986360" cy="83484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Role of the metadata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1760400" y="4854600"/>
            <a:ext cx="541440" cy="84276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81480" y="2511360"/>
            <a:ext cx="364320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Funct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2446200" y="2511360"/>
            <a:ext cx="74628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7" action="ppaction://hlinksldjump"/>
          </p:cNvPr>
          <p:cNvSpPr/>
          <p:nvPr/>
        </p:nvSpPr>
        <p:spPr>
          <a:xfrm>
            <a:off x="2446200" y="317340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8" action="ppaction://hlinksldjump"/>
          </p:cNvPr>
          <p:cNvSpPr/>
          <p:nvPr/>
        </p:nvSpPr>
        <p:spPr>
          <a:xfrm>
            <a:off x="2446200" y="385128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1480" y="318924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nagement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81480" y="385128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User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4FD5-DA72-4DB4-BA56-C77648BE160F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FUNCTIONAL POINT OF VIEW- FIRST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90520"/>
            <a:ext cx="8607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Fuctionally speaking the metadata project has been divided in two pha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The first one concerning Statistical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33835"/>
                </a:solidFill>
                <a:latin typeface="Verdana"/>
              </a:rPr>
              <a:t>The second one concerning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793960"/>
            <a:ext cx="86072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The basic concepts used in the first phase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Statistical Operation</a:t>
            </a: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:</a:t>
            </a:r>
            <a:r>
              <a:rPr b="1" i="1" lang="es-ES" sz="1600" spc="-1" strike="noStrike">
                <a:solidFill>
                  <a:srgbClr val="404086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set of activities leading to obtain statistical results about a specific sector or issue from individually collec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Variable:</a:t>
            </a:r>
            <a:r>
              <a:rPr b="1" i="1" lang="es-ES" sz="1600" spc="-1" strike="noStrike">
                <a:solidFill>
                  <a:srgbClr val="404086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information about the unit being studied. In most cases, this variables use to correspond to a unique question in the question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b33835"/>
                </a:solidFill>
                <a:uFillTx/>
                <a:latin typeface="Verdana"/>
              </a:rPr>
              <a:t>Classification:</a:t>
            </a:r>
            <a:r>
              <a:rPr b="1" i="1" lang="es-ES" sz="1600" spc="-1" strike="noStrike">
                <a:solidFill>
                  <a:srgbClr val="404086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set of classes or categories which fix the values that a variable can get. When talking about an international Regulation we talk about </a:t>
            </a:r>
            <a:r>
              <a:rPr b="1" i="1" lang="es-ES" sz="1600" spc="-1" strike="noStrike">
                <a:solidFill>
                  <a:srgbClr val="32688d"/>
                </a:solidFill>
                <a:latin typeface="Verdana"/>
              </a:rPr>
              <a:t>standard class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DFF9-18F2-4B77-A500-C4096D90255A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FUNCTIONAL POINT OF VIEW- FIRST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90520"/>
            <a:ext cx="860724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100000"/>
              </a:lnSpc>
              <a:spcBef>
                <a:spcPts val="876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2688d"/>
                </a:solidFill>
                <a:latin typeface="Verdana"/>
              </a:rPr>
              <a:t>The objective of the first phase is to have a repository including all surveys, in a relational Database supported by Oracle . Currently the Database contains the following inform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876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135240" y="1884240"/>
            <a:ext cx="4057560" cy="1230480"/>
            <a:chOff x="3135240" y="1884240"/>
            <a:chExt cx="4057560" cy="1230480"/>
          </a:xfrm>
        </p:grpSpPr>
        <p:grpSp>
          <p:nvGrpSpPr>
            <p:cNvPr id="95" name=""/>
            <p:cNvGrpSpPr/>
            <p:nvPr/>
          </p:nvGrpSpPr>
          <p:grpSpPr>
            <a:xfrm>
              <a:off x="3139920" y="1886040"/>
              <a:ext cx="4048200" cy="1226520"/>
              <a:chOff x="3139920" y="1886040"/>
              <a:chExt cx="4048200" cy="12265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139920" y="1886040"/>
                <a:ext cx="2517840" cy="245160"/>
                <a:chOff x="3139920" y="1886040"/>
                <a:chExt cx="2517840" cy="245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139920" y="1886040"/>
                  <a:ext cx="2517840" cy="2451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3139920" y="1886040"/>
                  <a:ext cx="2517840" cy="245160"/>
                  <a:chOff x="3139920" y="1886040"/>
                  <a:chExt cx="2517840" cy="245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184200" y="1886040"/>
                    <a:ext cx="2428920" cy="2451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62000" rIns="90360" tIns="44280" bIns="44280" anchor="t">
                    <a:noAutofit/>
                  </a:bodyPr>
                  <a:p>
                    <a:pPr marL="330120" indent="-330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ystem ele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139920" y="1886040"/>
                    <a:ext cx="2517840" cy="24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62000" rIns="9036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5657760" y="1886040"/>
                <a:ext cx="1530360" cy="245160"/>
                <a:chOff x="5657760" y="1886040"/>
                <a:chExt cx="1530360" cy="245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657760" y="1886040"/>
                  <a:ext cx="1530360" cy="2451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5657760" y="1886040"/>
                  <a:ext cx="1530360" cy="245160"/>
                  <a:chOff x="5657760" y="1886040"/>
                  <a:chExt cx="1530360" cy="2451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02040" y="1886040"/>
                    <a:ext cx="1441440" cy="2451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62000" rIns="-144360" tIns="44280" bIns="0" anchor="t">
                    <a:noAutofit/>
                  </a:bodyPr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umb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57760" y="1886040"/>
                    <a:ext cx="1530360" cy="24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62000" rIns="9036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3139920" y="2131200"/>
                <a:ext cx="2517840" cy="245520"/>
                <a:chOff x="3139920" y="2131200"/>
                <a:chExt cx="2517840" cy="245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184200" y="2131200"/>
                  <a:ext cx="2428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istical Ope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39920" y="2131200"/>
                  <a:ext cx="2517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57760" y="2131200"/>
                <a:ext cx="1530360" cy="245520"/>
                <a:chOff x="5657760" y="2131200"/>
                <a:chExt cx="1530360" cy="245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702040" y="2131200"/>
                  <a:ext cx="14414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657760" y="2131200"/>
                  <a:ext cx="15303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39920" y="2376720"/>
                <a:ext cx="2517840" cy="245160"/>
                <a:chOff x="3139920" y="2376720"/>
                <a:chExt cx="2517840" cy="245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184200" y="2376720"/>
                  <a:ext cx="2428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rvey Questionnai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39920" y="2376720"/>
                  <a:ext cx="2517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57760" y="2376720"/>
                <a:ext cx="1530360" cy="245160"/>
                <a:chOff x="5657760" y="2376720"/>
                <a:chExt cx="1530360" cy="245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02040" y="2376720"/>
                  <a:ext cx="144144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57760" y="2376720"/>
                  <a:ext cx="15303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139920" y="2622240"/>
                <a:ext cx="2517840" cy="245160"/>
                <a:chOff x="3139920" y="2622240"/>
                <a:chExt cx="2517840" cy="245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184200" y="2622240"/>
                  <a:ext cx="2428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riab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39920" y="2622240"/>
                  <a:ext cx="2517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657760" y="2622240"/>
                <a:ext cx="1530360" cy="245160"/>
                <a:chOff x="5657760" y="2622240"/>
                <a:chExt cx="1530360" cy="245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702040" y="2622240"/>
                  <a:ext cx="144144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1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57760" y="2622240"/>
                  <a:ext cx="15303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139920" y="2867400"/>
                <a:ext cx="2517840" cy="245160"/>
                <a:chOff x="3139920" y="2867400"/>
                <a:chExt cx="2517840" cy="245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184200" y="2867400"/>
                  <a:ext cx="2428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standardised classific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39920" y="2867400"/>
                  <a:ext cx="2517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657760" y="2867400"/>
                <a:ext cx="1530360" cy="245160"/>
                <a:chOff x="5657760" y="2867400"/>
                <a:chExt cx="1530360" cy="2451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702040" y="2867400"/>
                  <a:ext cx="144144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4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57760" y="2867400"/>
                  <a:ext cx="15303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3135240" y="1884240"/>
              <a:ext cx="4057560" cy="1230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22360" y="3252960"/>
            <a:ext cx="8389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2688d"/>
                </a:solidFill>
                <a:latin typeface="Verdana"/>
              </a:rPr>
              <a:t>The information is classified in two way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65560" y="3584520"/>
            <a:ext cx="2540160" cy="696960"/>
          </a:xfrm>
          <a:prstGeom prst="downArrowCallout">
            <a:avLst>
              <a:gd name="adj1" fmla="val 91124"/>
              <a:gd name="adj2" fmla="val 91116"/>
              <a:gd name="adj3" fmla="val 16667"/>
              <a:gd name="adj4" fmla="val 66667"/>
            </a:avLst>
          </a:prstGeom>
          <a:solidFill>
            <a:srgbClr val="e6e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1240" y="3740040"/>
            <a:ext cx="2495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Horizontal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281480"/>
            <a:ext cx="4329000" cy="12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740040"/>
            <a:ext cx="1652400" cy="773280"/>
          </a:xfrm>
          <a:prstGeom prst="downArrowCallout">
            <a:avLst>
              <a:gd name="adj1" fmla="val 53427"/>
              <a:gd name="adj2" fmla="val 53422"/>
              <a:gd name="adj3" fmla="val 16667"/>
              <a:gd name="adj4" fmla="val 66667"/>
            </a:avLst>
          </a:prstGeom>
          <a:solidFill>
            <a:srgbClr val="e6e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6840" y="3743280"/>
            <a:ext cx="1604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86"/>
                </a:solidFill>
                <a:latin typeface="Verdana"/>
              </a:rPr>
              <a:t>    </a:t>
            </a: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 </a:t>
            </a: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510080"/>
            <a:ext cx="2249640" cy="21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95680" y="4422600"/>
            <a:ext cx="1604880" cy="982800"/>
          </a:xfrm>
          <a:prstGeom prst="flowChartMagneticDisk">
            <a:avLst/>
          </a:prstGeom>
          <a:solidFill>
            <a:srgbClr val="7ea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9000" y="4414680"/>
            <a:ext cx="1816200" cy="990720"/>
          </a:xfrm>
          <a:prstGeom prst="flowChartMagneticDisk">
            <a:avLst/>
          </a:prstGeom>
          <a:solidFill>
            <a:srgbClr val="7ea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14360" y="4654440"/>
            <a:ext cx="1604880" cy="9144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6840" y="5711760"/>
            <a:ext cx="1652400" cy="64152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3520" y="5965920"/>
            <a:ext cx="1044720" cy="641160"/>
          </a:xfrm>
          <a:prstGeom prst="flowChartMagneticDisk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00560" y="5965920"/>
            <a:ext cx="1517760" cy="641160"/>
          </a:xfrm>
          <a:prstGeom prst="flowChartMagneticDisk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16160" y="4986360"/>
            <a:ext cx="1604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Statistical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66840" y="6032520"/>
            <a:ext cx="16048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Questionn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9040" y="6226200"/>
            <a:ext cx="11941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86"/>
                </a:solidFill>
                <a:latin typeface="Verdana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3520" y="4705200"/>
            <a:ext cx="156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Them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Class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vari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3760" y="4705200"/>
            <a:ext cx="1398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Them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Class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class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0560" y="6226200"/>
            <a:ext cx="1514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086"/>
                </a:solidFill>
                <a:latin typeface="Verdana"/>
              </a:rPr>
              <a:t>Class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62960" y="5195880"/>
            <a:ext cx="1190520" cy="641520"/>
          </a:xfrm>
          <a:prstGeom prst="flowChartMulti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965920"/>
            <a:ext cx="1190520" cy="641160"/>
          </a:xfrm>
          <a:prstGeom prst="flowChartMulti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5720" y="5486400"/>
            <a:ext cx="900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72360" y="6226200"/>
            <a:ext cx="1233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04086"/>
                </a:solidFill>
                <a:latin typeface="Verdana"/>
              </a:rPr>
              <a:t>No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3160" y="6296040"/>
            <a:ext cx="34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rot="5400000">
            <a:off x="6098400" y="5260680"/>
            <a:ext cx="381600" cy="83268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 rot="5400000">
            <a:off x="4245840" y="5260680"/>
            <a:ext cx="381600" cy="83268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>
            <a:off x="3020760" y="6105600"/>
            <a:ext cx="603720" cy="37512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6746760" y="635328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3" idx="4"/>
          </p:cNvCxnSpPr>
          <p:nvPr/>
        </p:nvCxnSpPr>
        <p:spPr>
          <a:xfrm flipV="1">
            <a:off x="6718320" y="5673240"/>
            <a:ext cx="945360" cy="613440"/>
          </a:xfrm>
          <a:prstGeom prst="curvedConnector5">
            <a:avLst>
              <a:gd name="adj1" fmla="val 49904"/>
              <a:gd name="adj2" fmla="val 49970"/>
              <a:gd name="adj3" fmla="val 4990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0" idx="4"/>
            <a:endCxn id="141" idx="4"/>
          </p:cNvCxnSpPr>
          <p:nvPr/>
        </p:nvCxnSpPr>
        <p:spPr>
          <a:xfrm>
            <a:off x="2918880" y="5111640"/>
            <a:ext cx="2520" cy="921600"/>
          </a:xfrm>
          <a:prstGeom prst="curvedConnector5">
            <a:avLst>
              <a:gd name="adj1" fmla="val 14400000"/>
              <a:gd name="adj2" fmla="val 49980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8CFB-29A4-4CE7-AB4A-86CD983D3888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FUNCTIONAL POINT OF VIEW- FIRST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90520"/>
            <a:ext cx="86072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2688d"/>
                </a:solidFill>
                <a:latin typeface="Verdana"/>
              </a:rPr>
              <a:t>Variables and classifications are classified using 3 levels of detail. The </a:t>
            </a:r>
            <a:r>
              <a:rPr b="1" i="1" lang="en-GB" sz="1600" spc="-1" strike="noStrike">
                <a:solidFill>
                  <a:srgbClr val="32688d"/>
                </a:solidFill>
                <a:latin typeface="Verdana"/>
                <a:ea typeface="Times New Roman"/>
              </a:rPr>
              <a:t>following number of themes are available at each level for variables and classif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351080" y="2050920"/>
            <a:ext cx="5316120" cy="1365480"/>
            <a:chOff x="1351080" y="2050920"/>
            <a:chExt cx="5316120" cy="1365480"/>
          </a:xfrm>
        </p:grpSpPr>
        <p:grpSp>
          <p:nvGrpSpPr>
            <p:cNvPr id="167" name=""/>
            <p:cNvGrpSpPr/>
            <p:nvPr/>
          </p:nvGrpSpPr>
          <p:grpSpPr>
            <a:xfrm>
              <a:off x="1355760" y="2053080"/>
              <a:ext cx="5305680" cy="1360440"/>
              <a:chOff x="1355760" y="2053080"/>
              <a:chExt cx="5305680" cy="13604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355760" y="2053080"/>
                <a:ext cx="1317600" cy="408240"/>
                <a:chOff x="1355760" y="2053080"/>
                <a:chExt cx="1317600" cy="408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02560" y="2053080"/>
                  <a:ext cx="122364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55760" y="2053080"/>
                  <a:ext cx="1317600" cy="40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673720" y="2053080"/>
                <a:ext cx="1992240" cy="408240"/>
                <a:chOff x="2673720" y="2053080"/>
                <a:chExt cx="1992240" cy="408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673720" y="2053080"/>
                  <a:ext cx="1992240" cy="408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2673720" y="2053080"/>
                  <a:ext cx="1991880" cy="408240"/>
                  <a:chOff x="2673720" y="2053080"/>
                  <a:chExt cx="1991880" cy="4082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2720880" y="2053080"/>
                    <a:ext cx="1897200" cy="408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62000" rIns="90360" tIns="44280" bIns="44280" anchor="t">
                    <a:noAutofit/>
                  </a:bodyPr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hematic classificatio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f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673720" y="2053080"/>
                    <a:ext cx="1991880" cy="408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62000" rIns="9036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4666320" y="2053080"/>
                <a:ext cx="1995120" cy="408240"/>
                <a:chOff x="4666320" y="2053080"/>
                <a:chExt cx="1995120" cy="4082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666320" y="2053080"/>
                  <a:ext cx="1995120" cy="408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4666320" y="2053080"/>
                  <a:ext cx="1994760" cy="408240"/>
                  <a:chOff x="4666320" y="2053080"/>
                  <a:chExt cx="1994760" cy="4082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713120" y="2053080"/>
                    <a:ext cx="1900440" cy="408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62000" rIns="90360" tIns="44280" bIns="44280" anchor="t">
                    <a:noAutofit/>
                  </a:bodyPr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hematic Classific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f Classificatio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30120" indent="-33012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666320" y="2053080"/>
                    <a:ext cx="1994760" cy="408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62000" rIns="9036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1355760" y="2461320"/>
                <a:ext cx="1317600" cy="317520"/>
                <a:chOff x="1355760" y="2461320"/>
                <a:chExt cx="1317600" cy="317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402560" y="2461320"/>
                  <a:ext cx="1223640" cy="3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# First lev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55760" y="2461320"/>
                  <a:ext cx="1317600" cy="31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673720" y="2461320"/>
                <a:ext cx="1992240" cy="317520"/>
                <a:chOff x="2673720" y="2461320"/>
                <a:chExt cx="1992240" cy="317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720880" y="2461320"/>
                  <a:ext cx="1897560" cy="3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73720" y="2461320"/>
                  <a:ext cx="1992240" cy="31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666320" y="2461320"/>
                <a:ext cx="1995120" cy="317520"/>
                <a:chOff x="4666320" y="2461320"/>
                <a:chExt cx="1995120" cy="317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713120" y="2461320"/>
                  <a:ext cx="1900800" cy="3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66320" y="2461320"/>
                  <a:ext cx="1995120" cy="31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355760" y="2778840"/>
                <a:ext cx="1317600" cy="317160"/>
                <a:chOff x="1355760" y="2778840"/>
                <a:chExt cx="1317600" cy="3171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402560" y="2778840"/>
                  <a:ext cx="122364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# Second lev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55760" y="2778840"/>
                  <a:ext cx="131760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673720" y="2778840"/>
                <a:ext cx="1992240" cy="317160"/>
                <a:chOff x="2673720" y="2778840"/>
                <a:chExt cx="1992240" cy="317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720880" y="2778840"/>
                  <a:ext cx="189756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673720" y="2778840"/>
                  <a:ext cx="199224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66320" y="2778840"/>
                <a:ext cx="1995120" cy="317160"/>
                <a:chOff x="4666320" y="2778840"/>
                <a:chExt cx="1995120" cy="317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713120" y="2778840"/>
                  <a:ext cx="190080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66320" y="2778840"/>
                  <a:ext cx="199512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355760" y="3096360"/>
                <a:ext cx="1317600" cy="317160"/>
                <a:chOff x="1355760" y="3096360"/>
                <a:chExt cx="1317600" cy="317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402560" y="3096360"/>
                  <a:ext cx="122364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# Third lev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55760" y="3096360"/>
                  <a:ext cx="131760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73720" y="3096360"/>
                <a:ext cx="1992240" cy="317160"/>
                <a:chOff x="2673720" y="3096360"/>
                <a:chExt cx="1992240" cy="317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20880" y="3096360"/>
                  <a:ext cx="189756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73720" y="3096360"/>
                  <a:ext cx="199224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666320" y="3096360"/>
                <a:ext cx="1995120" cy="317160"/>
                <a:chOff x="4666320" y="3096360"/>
                <a:chExt cx="1995120" cy="317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713120" y="3096360"/>
                  <a:ext cx="190080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2000" rIns="90360" tIns="44280" bIns="44280" anchor="t">
                  <a:noAutofit/>
                </a:bodyPr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30120" indent="-3301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66320" y="3096360"/>
                  <a:ext cx="1995120" cy="31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6200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1351080" y="2050920"/>
              <a:ext cx="5316120" cy="1365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66640" y="5068800"/>
            <a:ext cx="3057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669900"/>
                </a:solidFill>
                <a:latin typeface="Verdana"/>
              </a:rPr>
              <a:t>FINAL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4120" y="5068800"/>
            <a:ext cx="1746360" cy="642960"/>
          </a:xfrm>
          <a:custGeom>
            <a:avLst/>
            <a:gdLst>
              <a:gd name="textAreaLeft" fmla="*/ 272880 w 1746360"/>
              <a:gd name="textAreaRight" fmla="*/ 1528200 w 174636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6e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11560" y="4687920"/>
            <a:ext cx="331020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86"/>
                </a:solidFill>
                <a:latin typeface="Verdana"/>
              </a:rPr>
              <a:t>    </a:t>
            </a: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To achieve a high degree of both internal and international harmonization that allows better compari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640" y="3416400"/>
            <a:ext cx="775512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In the case of variables, the thematic classification allows to compare how the different Units request similar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1001"/>
              </a:spcBef>
              <a:buClr>
                <a:srgbClr val="404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b33835"/>
                </a:solidFill>
                <a:latin typeface="Verdana"/>
              </a:rPr>
              <a:t>In the case of classifications, the thematic classification allows to harmonize by eliminating superflous class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0B99-EB92-4585-905A-E969FF54B53A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960480" y="431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FUNCTIONAL POINT OF VIEW- SECOND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304920" y="297000"/>
            <a:ext cx="541080" cy="54108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  <a:effectLst>
            <a:outerShdw dist="17819" dir="2700000" blurRad="0" rotWithShape="0">
              <a:srgbClr val="2626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9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08280" y="5711760"/>
            <a:ext cx="91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103400"/>
            <a:ext cx="86644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The second phase of the project is devoted to international Regulations and standardised concepts.The objective in this case is to bear a special attention to those variables included in a Regulation, among all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              </a:t>
            </a:r>
            <a:r>
              <a:rPr b="1" lang="es-ES" sz="14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Using Regulations and CODED as a source of the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To fulfill this objective a second relational Database has been construc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62240" y="2989440"/>
            <a:ext cx="1346040" cy="1625400"/>
          </a:xfrm>
          <a:prstGeom prst="flowChartMagneticDisk">
            <a:avLst/>
          </a:prstGeom>
          <a:solidFill>
            <a:srgbClr val="e6e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99080" y="3049560"/>
            <a:ext cx="1346400" cy="1625760"/>
          </a:xfrm>
          <a:prstGeom prst="flowChartMagneticDisk">
            <a:avLst/>
          </a:prstGeom>
          <a:solidFill>
            <a:srgbClr val="e6e1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47760" y="3591000"/>
            <a:ext cx="146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86"/>
                </a:solidFill>
                <a:latin typeface="Verdana"/>
              </a:rPr>
              <a:t>      </a:t>
            </a:r>
            <a:r>
              <a:rPr b="1" lang="en-US" sz="900" spc="-1" strike="noStrike">
                <a:solidFill>
                  <a:srgbClr val="404086"/>
                </a:solidFill>
                <a:latin typeface="Verdana"/>
              </a:rPr>
              <a:t>VARIABLES IN STATISTICAL OP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78320" y="3591000"/>
            <a:ext cx="166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86"/>
                </a:solidFill>
                <a:latin typeface="Verdana"/>
              </a:rPr>
              <a:t>        </a:t>
            </a:r>
            <a:r>
              <a:rPr b="1" lang="en-US" sz="900" spc="-1" strike="noStrike">
                <a:solidFill>
                  <a:srgbClr val="404086"/>
                </a:solidFill>
                <a:latin typeface="Verdana"/>
              </a:rPr>
              <a:t>VARIABLES IN REGUL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99080" y="4062240"/>
            <a:ext cx="166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4086"/>
                </a:solidFill>
                <a:latin typeface="Verdana"/>
              </a:rPr>
              <a:t>CONCEPTS F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404086"/>
                </a:solidFill>
                <a:latin typeface="Verdana"/>
              </a:rPr>
              <a:t> </a:t>
            </a:r>
            <a:r>
              <a:rPr b="1" lang="es-ES" sz="900" spc="-1" strike="noStrike">
                <a:solidFill>
                  <a:srgbClr val="404086"/>
                </a:solidFill>
                <a:latin typeface="Verdana"/>
              </a:rPr>
              <a:t>THIS VARI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90960" y="3635280"/>
            <a:ext cx="2187360" cy="289080"/>
          </a:xfrm>
          <a:prstGeom prst="leftRightArrow">
            <a:avLst>
              <a:gd name="adj1" fmla="val 50000"/>
              <a:gd name="adj2" fmla="val 150632"/>
            </a:avLst>
          </a:prstGeom>
          <a:solidFill>
            <a:srgbClr val="3268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1240" y="4264200"/>
            <a:ext cx="1638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86"/>
                </a:solidFill>
                <a:latin typeface="Verdana"/>
              </a:rPr>
              <a:t>TRANSITIO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47760" y="3102120"/>
            <a:ext cx="1460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PH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99080" y="3102120"/>
            <a:ext cx="1346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PH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111640"/>
            <a:ext cx="86644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1001"/>
              </a:spcBef>
              <a:buClr>
                <a:srgbClr val="3268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This database allows to ensure that all variables requested in the Regulation are indeed included in the Statistic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              </a:t>
            </a:r>
            <a:r>
              <a:rPr b="1" lang="es-ES" sz="1400" spc="-1" strike="noStrike">
                <a:solidFill>
                  <a:srgbClr val="b33835"/>
                </a:solidFill>
                <a:latin typeface="Wingdings"/>
                <a:ea typeface="Wingdings"/>
              </a:rPr>
              <a:t></a:t>
            </a: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b33835"/>
                </a:solidFill>
                <a:latin typeface="Verdana"/>
              </a:rPr>
              <a:t>Also to identify the variables included in the Statistical Operations and not requested in the corresponding Regulation and understand w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47760" y="4195800"/>
            <a:ext cx="1522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360" tIns="44280" bIns="44280" anchor="t">
            <a:spAutoFit/>
          </a:bodyPr>
          <a:p>
            <a:pPr marL="330120" indent="-33012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86"/>
                </a:solidFill>
                <a:latin typeface="Verdana"/>
              </a:rPr>
              <a:t>CLASSIF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5536-08B4-4D87-9837-899EEA50E848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446200" y="1368360"/>
            <a:ext cx="498636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tadata model description an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760400" y="1368360"/>
            <a:ext cx="541440" cy="83520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88"/>
                </a:solidFill>
                <a:latin typeface="Verdan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2446200" y="4862520"/>
            <a:ext cx="4986360" cy="83484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Role of the metadata inside 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1760400" y="4862520"/>
            <a:ext cx="541440" cy="843120"/>
          </a:xfrm>
          <a:prstGeom prst="bevel">
            <a:avLst>
              <a:gd name="adj" fmla="val 12500"/>
            </a:avLst>
          </a:prstGeom>
          <a:solidFill>
            <a:srgbClr val="404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81480" y="251136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unct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2446200" y="251136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7" action="ppaction://hlinksldjump"/>
          </p:cNvPr>
          <p:cNvSpPr/>
          <p:nvPr/>
        </p:nvSpPr>
        <p:spPr>
          <a:xfrm>
            <a:off x="2446200" y="3189240"/>
            <a:ext cx="74628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2688d"/>
                </a:solidFill>
                <a:latin typeface="Verdana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8" action="ppaction://hlinksldjump"/>
          </p:cNvPr>
          <p:cNvSpPr/>
          <p:nvPr/>
        </p:nvSpPr>
        <p:spPr>
          <a:xfrm>
            <a:off x="2446200" y="3851280"/>
            <a:ext cx="74628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3189240"/>
            <a:ext cx="3643200" cy="677880"/>
          </a:xfrm>
          <a:prstGeom prst="bevel">
            <a:avLst>
              <a:gd name="adj" fmla="val 12500"/>
            </a:avLst>
          </a:prstGeom>
          <a:solidFill>
            <a:srgbClr val="e6e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688d"/>
                </a:solidFill>
                <a:latin typeface="Verdana"/>
              </a:rPr>
              <a:t>Management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3867120"/>
            <a:ext cx="3643200" cy="677880"/>
          </a:xfrm>
          <a:prstGeom prst="bevel">
            <a:avLst>
              <a:gd name="adj" fmla="val 12500"/>
            </a:avLst>
          </a:prstGeom>
          <a:solidFill>
            <a:srgbClr val="326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90360" tIns="44280" bIns="44280" anchor="ctr">
            <a:noAutofit/>
          </a:bodyPr>
          <a:p>
            <a:pPr marL="330120" indent="-3301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User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DAC3-0E9E-418F-8E53-933E3C0ECF85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3T10:58:11Z</dcterms:created>
  <dc:creator>Manuel Lavin</dc:creator>
  <dc:description/>
  <dc:language>en-US</dc:language>
  <cp:lastModifiedBy>Jessica Gardner</cp:lastModifiedBy>
  <cp:lastPrinted>2003-03-31T11:05:50Z</cp:lastPrinted>
  <dcterms:modified xsi:type="dcterms:W3CDTF">2006-04-07T10:56:48Z</dcterms:modified>
  <cp:revision>1462</cp:revision>
  <dc:subject/>
  <dc:title>No Slide Title</dc:title>
</cp:coreProperties>
</file>