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A01-4D31-4D9A-86B4-66CF924B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616-C41C-44AE-86B0-0FADA555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23F-C5D0-4C81-93A8-1AAA44E2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8CF-9F4F-4D7C-A726-162615B9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EA53-211F-4315-9968-9605B0D9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ABBB-9966-4451-8E60-9ABAF4C8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7002-DC63-4639-8F95-FF85DDC1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8EB4-6FD2-4109-AC47-983ED4AC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3210-F2F4-42AB-AD7B-E7012A65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A4A-32A3-4C9C-B162-E46EA0CD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120B-EE87-41E0-8E62-2BED9769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123-7CCF-48A5-B66F-3F264521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B8F6-63C8-4F94-9938-99C63B1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9EE9-4A4E-4604-B4AF-06E2424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3438-AD92-446A-870A-1BECD522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D9FD-12D8-42AD-945F-9BD8749B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C616-AF2C-44E6-8702-E0550790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5EB-CD5D-4CAF-8C71-4BD5EBAE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C3E-6B06-414A-9C5D-957D3F65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4D5-8A75-4C42-97D2-1975E1F4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F37-233C-4B32-8E18-197DD3F5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056-811B-48EE-B73C-DAE3BF8C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1BC-689A-4BD4-9A8B-184DEEFA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D65-CEEB-4082-AF09-3747742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79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79a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7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79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B459-668D-424C-BFC8-653EEE45B480}" type="slidenum">
              <a:rPr b="0" lang="sl-SI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0067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67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210520" y="0"/>
            <a:ext cx="93348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79a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DCA8-7530-4AE7-A48C-7AD3D96A7B0A}" type="slidenum">
              <a:rPr b="0" lang="sl-SI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4038480"/>
            <a:ext cx="8610480" cy="201600"/>
            <a:chOff x="228600" y="403848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4038480"/>
              <a:ext cx="2870280" cy="201600"/>
            </a:xfrm>
            <a:prstGeom prst="rect">
              <a:avLst/>
            </a:prstGeom>
            <a:solidFill>
              <a:srgbClr val="4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4038480"/>
              <a:ext cx="2870280" cy="201600"/>
            </a:xfrm>
            <a:prstGeom prst="rect">
              <a:avLst/>
            </a:prstGeom>
            <a:solidFill>
              <a:srgbClr val="00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4038480"/>
              <a:ext cx="286992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8210520" y="0"/>
          <a:ext cx="9334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10520" y="0"/>
                    <a:ext cx="9334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679a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679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679a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t.si/eng/index.asp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ublincore.org/documents/usageguide/elements.shtml" TargetMode="External"/><Relationship Id="rId3" Type="http://schemas.openxmlformats.org/officeDocument/2006/relationships/hyperlink" Target="http://dublincore.org/documents/usageguide/elements.s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79a"/>
                </a:solidFill>
                <a:latin typeface="Verdana"/>
              </a:rPr>
              <a:t>SORS THESAURUS OF STATISTICAL TERMS </a:t>
            </a:r>
            <a:endParaRPr b="0" lang="en-US" sz="28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Jozica Kle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Joint UNECE/Eurostat/OECD work session on statistical metadata (METIS), Geneva, 3-5 April 200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opic (ii): Metadata Concepts, Standards, Models and Registri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79a"/>
                </a:solidFill>
                <a:latin typeface="Verdana"/>
              </a:rPr>
              <a:t>The main roles of thesaurus in the office</a:t>
            </a:r>
            <a:r>
              <a:rPr b="0" lang="en-GB" sz="3600" spc="-1" strike="noStrike">
                <a:solidFill>
                  <a:srgbClr val="00679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assisting in the search for information in metadata reposi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oviding definitions for terms found in the various metadata reposi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eservation of bilingual (Slovene – English) professional terminology develop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tandardisation of bilingual terminolog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bilingual (Slovene - English) dictionary - (part of the bookshelf with electronic dictionari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ifficult management and maintenance without software support (developed step by step during last years</a:t>
            </a:r>
            <a:r>
              <a:rPr b="1" lang="sl-SI" sz="1400" spc="-1" strike="noStrike">
                <a:solidFill>
                  <a:srgbClr val="000000"/>
                </a:solidFill>
                <a:latin typeface="Verdana"/>
              </a:rPr>
              <a:t>; in the year 2004 - 11.800 EUR, 2005 - 9.710 EUR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om March 2006 it is available for the internet users from SORS web sit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79a"/>
                </a:solidFill>
                <a:latin typeface="Verdana"/>
              </a:rPr>
              <a:t>Description of contents of terminology database</a:t>
            </a:r>
            <a:endParaRPr b="0" lang="en-US" sz="18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In spring 2006 terminology from following thematic fields is available for intranet and internet us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01 CADOS 1, General and developing countries statist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02 CADOS 2, Economy and fin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03 CADOS 3, Population and social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04 CADOS 4, Industry, energy,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05 CADOS 5, Agriculture, forestry, fish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06 CADOS 6, External tr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07 CADOS 9, Miscellane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08 European systems of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09 Glossary for transport statist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0 Partial Glossary EU Statistics - S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1 Partial Glossary EU Statistics Legislation-KPR3101200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2 Rapid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3 Terminology on statistical meta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4 Vocabulary of Quality in Statist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79a"/>
                </a:solidFill>
                <a:latin typeface="Verdana"/>
              </a:rPr>
              <a:t>Statistical terminology</a:t>
            </a:r>
            <a:br>
              <a:rPr sz="1800"/>
            </a:br>
            <a:r>
              <a:rPr b="1" lang="en-GB" sz="1800" spc="-1" strike="noStrike">
                <a:solidFill>
                  <a:srgbClr val="00679a"/>
                </a:solidFill>
                <a:latin typeface="Verdana"/>
              </a:rPr>
              <a:t>http://www.stat.si/eng/index.asp</a:t>
            </a:r>
            <a:br>
              <a:rPr sz="1800"/>
            </a:br>
            <a:r>
              <a:rPr b="1" lang="en-GB" sz="1800" spc="-1" strike="noStrike">
                <a:solidFill>
                  <a:srgbClr val="00679a"/>
                </a:solidFill>
                <a:latin typeface="Verdana"/>
              </a:rPr>
              <a:t>folder: Methodology, Projects/ Statistical Terminology</a:t>
            </a:r>
            <a:endParaRPr b="0" lang="en-US" sz="1800" spc="-1" strike="noStrike">
              <a:solidFill>
                <a:srgbClr val="00679a"/>
              </a:solidFill>
              <a:latin typeface="Verdana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rcRect l="4075" t="9560" r="9862" b="13251"/>
          <a:stretch/>
        </p:blipFill>
        <p:spPr>
          <a:xfrm>
            <a:off x="1835280" y="1700280"/>
            <a:ext cx="59734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79a"/>
                </a:solidFill>
                <a:latin typeface="Verdana"/>
              </a:rPr>
              <a:t>Term in context</a:t>
            </a:r>
            <a:br>
              <a:rPr sz="1800"/>
            </a:br>
            <a:r>
              <a:rPr b="1" lang="sl-SI" sz="1800" spc="-1" strike="noStrike">
                <a:solidFill>
                  <a:srgbClr val="00679a"/>
                </a:solidFill>
                <a:latin typeface="Verdana"/>
              </a:rPr>
              <a:t>BT – broader term</a:t>
            </a:r>
            <a:br>
              <a:rPr sz="1800"/>
            </a:br>
            <a:r>
              <a:rPr b="1" lang="sl-SI" sz="1800" spc="-1" strike="noStrike">
                <a:solidFill>
                  <a:srgbClr val="00679a"/>
                </a:solidFill>
                <a:latin typeface="Verdana"/>
              </a:rPr>
              <a:t>NT – narrower term</a:t>
            </a:r>
            <a:endParaRPr b="0" lang="en-US" sz="1800" spc="-1" strike="noStrike">
              <a:solidFill>
                <a:srgbClr val="00679a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76360" y="1600200"/>
            <a:ext cx="62643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79a"/>
                </a:solidFill>
                <a:latin typeface="Verdana"/>
              </a:rPr>
              <a:t>Plans and future development</a:t>
            </a:r>
            <a:endParaRPr b="0" lang="en-US" sz="1800" spc="-1" strike="noStrike">
              <a:solidFill>
                <a:srgbClr val="00679a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216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79a"/>
                </a:solidFill>
                <a:latin typeface="Verdana"/>
              </a:rPr>
              <a:t>Plans and future development</a:t>
            </a:r>
            <a:endParaRPr b="0" lang="en-US" sz="18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Indexing PC-AXIS files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C AXIS reference group</a:t>
            </a:r>
            <a:r>
              <a:rPr b="1" lang="sl-SI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Verdana"/>
              </a:rPr>
              <a:t>proposal for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giving priority to </a:t>
            </a:r>
            <a:r>
              <a:rPr b="1" lang="sl-SI" sz="1400" spc="-1" strike="noStrike">
                <a:solidFill>
                  <a:srgbClr val="000000"/>
                </a:solidFill>
                <a:latin typeface="Verdana"/>
              </a:rPr>
              <a:t>develop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a new keyword, namely a “search keyword” to the structure of PC fi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best practice in representing a subject will be applied, f.i. </a:t>
            </a:r>
            <a:r>
              <a:rPr b="0" lang="en-GB" sz="1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GB" sz="14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dublincore.org/documents/usageguide/elements.s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new functionality will therefore be added while building a well-interconnected data services over the Internet; overall strategy explained in Jug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5:06:23Z</dcterms:created>
  <dc:creator>Rudi</dc:creator>
  <dc:description/>
  <dc:language>en-US</dc:language>
  <cp:lastModifiedBy>Jessica Gardner</cp:lastModifiedBy>
  <dcterms:modified xsi:type="dcterms:W3CDTF">2006-04-07T10:56:38Z</dcterms:modified>
  <cp:revision>48</cp:revision>
  <dc:subject/>
  <dc:title>Vzorčenje v teoriji in praksi  </dc:title>
</cp:coreProperties>
</file>