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D01E-5B77-4DFD-B14A-FCB71B7E97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F323-A415-4D7E-8EB8-E787376728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D7F3-E736-442D-A514-B074021230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8BCB-4D8C-4158-A1D7-32BCCD558C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F9B8-8343-4059-8526-EA017B7910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C055-F8C9-489E-B890-A938A0F420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607B-5E39-4865-BA7E-78DB734D71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CBFA-6BCA-4CA2-B729-1741B8540D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231B-0263-4F2A-8261-412E6F6585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46E4-9B5A-4D93-BB05-59065A7ADA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31C7-C045-45F9-B2D9-6280874603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2160" y="4711320"/>
            <a:ext cx="60274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C9B9-224A-434D-A305-F09FCFE1D7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FD70-B031-4281-A00C-208A9E20E2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028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179DC43-2F7C-4D6F-82D2-F4475970809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32" descr="UNECElogoDarkBlue200px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Line 1033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34" descr="UNECElogoDarkBlue200px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Line 1035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NECElogoDarkBlue200px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UNECElogoDarkBlue200px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United Nations Economic Commission for Europe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Book Antiqua"/>
              </a:rPr>
              <a:t>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Измерение устойчивого развития</a:t>
            </a:r>
            <a:r>
              <a:rPr b="0" lang="en-GB" sz="4000" spc="-1" strike="noStrike">
                <a:solidFill>
                  <a:srgbClr val="000000"/>
                </a:solidFill>
                <a:latin typeface="Franklin Gothic Medium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опыт стран ВЕКЦ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Franklin Gothic Medium"/>
              </a:rPr>
              <a:t>Ольга Харито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Franklin Gothic Medium"/>
              </a:rPr>
              <a:t>Статистический отдел ЕЭК 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личие показателей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группам показателе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Content Placeholder 5" descr=""/>
          <p:cNvPicPr/>
          <p:nvPr/>
        </p:nvPicPr>
        <p:blipFill>
          <a:blip r:embed="rId1"/>
          <a:stretch/>
        </p:blipFill>
        <p:spPr>
          <a:xfrm>
            <a:off x="378000" y="1755720"/>
            <a:ext cx="79246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09480" y="213372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СРАВНЕНИЕ СО СТРАНАМИ Е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тупные показатели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457200" y="1523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показателей по групп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hart 5" descr=""/>
          <p:cNvPicPr/>
          <p:nvPr/>
        </p:nvPicPr>
        <p:blipFill>
          <a:blip r:embed="rId1"/>
          <a:stretch/>
        </p:blipFill>
        <p:spPr>
          <a:xfrm>
            <a:off x="530280" y="2133720"/>
            <a:ext cx="640080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тупные показатели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45720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отдельных показа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Graphique 7" descr=""/>
          <p:cNvPicPr/>
          <p:nvPr/>
        </p:nvPicPr>
        <p:blipFill>
          <a:blip r:embed="rId1"/>
          <a:stretch/>
        </p:blipFill>
        <p:spPr>
          <a:xfrm>
            <a:off x="420840" y="1828800"/>
            <a:ext cx="78818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казатели, требующие пояс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зн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етен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ходы на физическую безопас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й уровень довер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ица между актива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обязатель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поставимость показателе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а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и рас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одичность изме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838080" y="3657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гут различаться от страны к стра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чет показателя устойчивого развития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iagram 3" descr=""/>
          <p:cNvPicPr/>
          <p:nvPr/>
        </p:nvPicPr>
        <p:blipFill>
          <a:blip r:embed="rId1"/>
          <a:stretch/>
        </p:blipFill>
        <p:spPr>
          <a:xfrm>
            <a:off x="523800" y="1908000"/>
            <a:ext cx="7553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бликация доступных показателе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ontent Placeholder 5" descr=""/>
          <p:cNvPicPr/>
          <p:nvPr/>
        </p:nvPicPr>
        <p:blipFill>
          <a:blip r:embed="rId1"/>
          <a:stretch/>
        </p:blipFill>
        <p:spPr>
          <a:xfrm>
            <a:off x="5230800" y="1755720"/>
            <a:ext cx="2236680" cy="4340160"/>
          </a:xfrm>
          <a:prstGeom prst="rect">
            <a:avLst/>
          </a:prstGeom>
          <a:ln w="0">
            <a:noFill/>
          </a:ln>
        </p:spPr>
      </p:pic>
      <p:pic>
        <p:nvPicPr>
          <p:cNvPr id="141" name="Diagram 4" descr=""/>
          <p:cNvPicPr/>
          <p:nvPr/>
        </p:nvPicPr>
        <p:blipFill>
          <a:blip r:embed="rId2"/>
          <a:stretch/>
        </p:blipFill>
        <p:spPr>
          <a:xfrm>
            <a:off x="304920" y="1755720"/>
            <a:ext cx="48765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09480" y="213372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выв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"/>
          <p:cNvSpPr/>
          <p:nvPr/>
        </p:nvSpPr>
        <p:spPr>
          <a:xfrm>
            <a:off x="533520" y="1600200"/>
            <a:ext cx="6933960" cy="614520"/>
          </a:xfrm>
          <a:prstGeom prst="pie">
            <a:avLst/>
          </a:prstGeom>
          <a:solidFill>
            <a:srgbClr val="349698"/>
          </a:solidFill>
          <a:ln w="25560">
            <a:solidFill>
              <a:srgbClr val="349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80640" bIns="8064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нство стран ВЕКЦА имеют официально утвержденную стратегию УР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6"/>
          <p:cNvSpPr/>
          <p:nvPr/>
        </p:nvSpPr>
        <p:spPr>
          <a:xfrm>
            <a:off x="533520" y="2286000"/>
            <a:ext cx="6933960" cy="614520"/>
          </a:xfrm>
          <a:prstGeom prst="pie">
            <a:avLst/>
          </a:prstGeom>
          <a:solidFill>
            <a:srgbClr val="349698"/>
          </a:solidFill>
          <a:ln w="25560">
            <a:solidFill>
              <a:srgbClr val="349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80640" bIns="8064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тегии некоторых стран включают более широкий круг целей (например, снижение уровня бедности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533520" y="3009960"/>
            <a:ext cx="6933960" cy="614160"/>
          </a:xfrm>
          <a:prstGeom prst="pie">
            <a:avLst/>
          </a:prstGeom>
          <a:solidFill>
            <a:srgbClr val="349698"/>
          </a:solidFill>
          <a:ln w="25560">
            <a:solidFill>
              <a:srgbClr val="349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80640" bIns="8064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вина стран располагает официально утвержденными показателями устойчивого развития, которые определены целями, установленными стратегиями УР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8"/>
          <p:cNvSpPr/>
          <p:nvPr/>
        </p:nvSpPr>
        <p:spPr>
          <a:xfrm>
            <a:off x="533520" y="3713040"/>
            <a:ext cx="6933960" cy="612720"/>
          </a:xfrm>
          <a:prstGeom prst="pie">
            <a:avLst/>
          </a:prstGeom>
          <a:solidFill>
            <a:srgbClr val="349698"/>
          </a:solidFill>
          <a:ln w="25560">
            <a:solidFill>
              <a:srgbClr val="349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80640" bIns="8064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ая часть показателей, предложенных отчетом Целевой группы по измерению УР, доступны в странах ВЕКЦ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9"/>
          <p:cNvSpPr/>
          <p:nvPr/>
        </p:nvSpPr>
        <p:spPr>
          <a:xfrm>
            <a:off x="533520" y="4414680"/>
            <a:ext cx="6933960" cy="614520"/>
          </a:xfrm>
          <a:prstGeom prst="pie">
            <a:avLst/>
          </a:prstGeom>
          <a:solidFill>
            <a:srgbClr val="349698"/>
          </a:solidFill>
          <a:ln w="25560">
            <a:solidFill>
              <a:srgbClr val="349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80640" bIns="8064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стран разработали композитные показатели УР по аналогии с Индексом развития человеческого потенциала ПРООН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533520" y="5105520"/>
            <a:ext cx="6933960" cy="914400"/>
          </a:xfrm>
          <a:prstGeom prst="pie">
            <a:avLst/>
          </a:prstGeom>
          <a:solidFill>
            <a:srgbClr val="349698"/>
          </a:solidFill>
          <a:ln w="25560">
            <a:solidFill>
              <a:srgbClr val="349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88560" bIns="8856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600120"/>
                <a:tab algn="l" pos="1200240"/>
                <a:tab algn="l" pos="1800360"/>
                <a:tab algn="l" pos="2400480"/>
                <a:tab algn="l" pos="3000240"/>
                <a:tab algn="l" pos="3600360"/>
                <a:tab algn="l" pos="4200480"/>
                <a:tab algn="l" pos="4800600"/>
                <a:tab algn="l" pos="5400720"/>
                <a:tab algn="l" pos="6000840"/>
                <a:tab algn="l" pos="6600960"/>
                <a:tab algn="l" pos="7201080"/>
                <a:tab algn="l" pos="7800840"/>
                <a:tab algn="l" pos="8400960"/>
                <a:tab algn="l" pos="9001080"/>
                <a:tab algn="l" pos="9601200"/>
                <a:tab algn="l" pos="10201320"/>
                <a:tab algn="l" pos="1080144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ели УР, используемые странами ВЕКЦА разнятся, так как они отвечают различным целям. Однако, в перспективе, для обеспечения возможности сравнения показателей между странами необходим гармонизированный набор показателей УР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09480" y="213372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ВВЕД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09480" y="213372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ontent Placeholder 12" descr=""/>
          <p:cNvPicPr/>
          <p:nvPr/>
        </p:nvPicPr>
        <p:blipFill>
          <a:blip r:embed="rId1"/>
          <a:stretch/>
        </p:blipFill>
        <p:spPr>
          <a:xfrm>
            <a:off x="536400" y="1755720"/>
            <a:ext cx="7925040" cy="2359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 Счета Развития ООН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Diagram 15" descr=""/>
          <p:cNvPicPr/>
          <p:nvPr/>
        </p:nvPicPr>
        <p:blipFill>
          <a:blip r:embed="rId2"/>
          <a:stretch/>
        </p:blipFill>
        <p:spPr>
          <a:xfrm>
            <a:off x="914400" y="4254480"/>
            <a:ext cx="5565600" cy="1012680"/>
          </a:xfrm>
          <a:prstGeom prst="rect">
            <a:avLst/>
          </a:prstGeom>
          <a:ln w="0">
            <a:noFill/>
          </a:ln>
        </p:spPr>
      </p:pic>
      <p:cxnSp>
        <p:nvCxnSpPr>
          <p:cNvPr id="107" name="Straight Arrow Connector 18"/>
          <p:cNvCxnSpPr/>
          <p:nvPr/>
        </p:nvCxnSpPr>
        <p:spPr>
          <a:xfrm flipV="1">
            <a:off x="2285640" y="3428640"/>
            <a:ext cx="108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Straight Arrow Connector 22"/>
          <p:cNvCxnSpPr/>
          <p:nvPr/>
        </p:nvCxnSpPr>
        <p:spPr>
          <a:xfrm flipV="1">
            <a:off x="3885840" y="3428640"/>
            <a:ext cx="108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Straight Arrow Connector 23"/>
          <p:cNvCxnSpPr/>
          <p:nvPr/>
        </p:nvCxnSpPr>
        <p:spPr>
          <a:xfrm flipV="1">
            <a:off x="5257440" y="3437640"/>
            <a:ext cx="1080" cy="83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ontent Placeholder 7" descr=""/>
          <p:cNvPicPr/>
          <p:nvPr/>
        </p:nvPicPr>
        <p:blipFill>
          <a:blip r:embed="rId1"/>
          <a:stretch/>
        </p:blipFill>
        <p:spPr>
          <a:xfrm>
            <a:off x="371520" y="1743120"/>
            <a:ext cx="8089920" cy="4365720"/>
          </a:xfrm>
          <a:prstGeom prst="rect">
            <a:avLst/>
          </a:prstGeom>
          <a:ln w="0">
            <a:noFill/>
          </a:ln>
        </p:spPr>
      </p:pic>
      <p:pic>
        <p:nvPicPr>
          <p:cNvPr id="111" name="Diagram 4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6327720" cy="3048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чет Целевой группы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измерению У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09480" y="213372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Результаты опро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1"/>
          <a:stretch/>
        </p:blipFill>
        <p:spPr>
          <a:xfrm>
            <a:off x="7516800" y="1620720"/>
            <a:ext cx="792000" cy="437220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3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егии и измерение У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классификации показателей по группам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Espace réservé du contenu 3" descr=""/>
          <p:cNvPicPr/>
          <p:nvPr/>
        </p:nvPicPr>
        <p:blipFill>
          <a:blip r:embed="rId1"/>
          <a:stretch/>
        </p:blipFill>
        <p:spPr>
          <a:xfrm>
            <a:off x="536400" y="1828800"/>
            <a:ext cx="79250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пы показателей УР Казахстан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Espace réservé du contenu 3" descr=""/>
          <p:cNvPicPr/>
          <p:nvPr/>
        </p:nvPicPr>
        <p:blipFill>
          <a:blip r:embed="rId1"/>
          <a:stretch/>
        </p:blipFill>
        <p:spPr>
          <a:xfrm>
            <a:off x="536400" y="1755720"/>
            <a:ext cx="79552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личие показателей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странам, в процента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Chart 6" descr=""/>
          <p:cNvPicPr/>
          <p:nvPr/>
        </p:nvPicPr>
        <p:blipFill>
          <a:blip r:embed="rId1"/>
          <a:stretch/>
        </p:blipFill>
        <p:spPr>
          <a:xfrm>
            <a:off x="482760" y="1930320"/>
            <a:ext cx="6959520" cy="4064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2:55:16Z</dcterms:created>
  <dc:creator>Boko</dc:creator>
  <dc:description/>
  <dc:language>en-US</dc:language>
  <cp:lastModifiedBy>Muriel</cp:lastModifiedBy>
  <cp:lastPrinted>2012-11-09T08:11:48Z</cp:lastPrinted>
  <dcterms:modified xsi:type="dcterms:W3CDTF">2012-11-09T08:12:34Z</dcterms:modified>
  <cp:revision>1069</cp:revision>
  <dc:subject/>
  <dc:title>The UNECE Gender database and Website</dc:title>
</cp:coreProperties>
</file>