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0"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move the slide</a:t>
            </a:r>
            <a:endParaRPr b="0" lang="en-US" sz="4400" spc="-1" strike="noStrike">
              <a:solidFill>
                <a:srgbClr val="000000"/>
              </a:solidFill>
              <a:latin typeface="Lucida Grande"/>
            </a:endParaRPr>
          </a:p>
        </p:txBody>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purpose of this presentation is to </a:t>
            </a:r>
            <a:r>
              <a:rPr b="1" lang="en-GB" sz="1200" spc="-1" strike="noStrike">
                <a:solidFill>
                  <a:srgbClr val="000000"/>
                </a:solidFill>
                <a:latin typeface="Gill Sans"/>
              </a:rPr>
              <a:t>provide an overview of EEA relevant elements from the Rio+20 </a:t>
            </a:r>
            <a:r>
              <a:rPr b="0" lang="en-GB" sz="1200" spc="-1" strike="noStrike">
                <a:solidFill>
                  <a:srgbClr val="000000"/>
                </a:solidFill>
                <a:latin typeface="Gill Sans"/>
              </a:rPr>
              <a:t>took place on 20-22 June 2012 and </a:t>
            </a:r>
            <a:r>
              <a:rPr b="1" lang="en-GB" sz="1200" spc="-1" strike="noStrike">
                <a:solidFill>
                  <a:srgbClr val="000000"/>
                </a:solidFill>
                <a:latin typeface="Gill Sans"/>
              </a:rPr>
              <a:t>reflect on implications for the preparation of the EEA Strategy 2014-20</a:t>
            </a:r>
            <a:r>
              <a:rPr b="0" lang="en-GB" sz="1200" spc="-1" strike="noStrike">
                <a:solidFill>
                  <a:srgbClr val="000000"/>
                </a:solidFill>
                <a:latin typeface="Gill Sans"/>
              </a:rPr>
              <a:t>.</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Work in the EEA under the label of green economy </a:t>
            </a:r>
            <a:r>
              <a:rPr b="1" lang="en-GB" sz="1200" spc="-1" strike="noStrike">
                <a:solidFill>
                  <a:srgbClr val="000000"/>
                </a:solidFill>
                <a:latin typeface="Gill Sans"/>
              </a:rPr>
              <a:t>started in the EEA only a few years ago</a:t>
            </a:r>
            <a:r>
              <a:rPr b="0" lang="en-GB" sz="1200" spc="-1" strike="noStrike">
                <a:solidFill>
                  <a:srgbClr val="000000"/>
                </a:solidFill>
                <a:latin typeface="Gill Sans"/>
              </a:rPr>
              <a:t>. Building on work by the OECD and UNEP in particular, the 2012 EEA indicator report focused on green economy and concluded that </a:t>
            </a:r>
            <a:r>
              <a:rPr b="1" lang="en-GB" sz="1200" spc="-1" strike="noStrike">
                <a:solidFill>
                  <a:srgbClr val="000000"/>
                </a:solidFill>
                <a:latin typeface="Gill Sans"/>
              </a:rPr>
              <a:t>resource efficiency and ecosystem resilience are essential elements of a green economy.</a:t>
            </a:r>
            <a:r>
              <a:rPr b="0" lang="en-GB" sz="1200" spc="-1" strike="noStrike">
                <a:solidFill>
                  <a:srgbClr val="000000"/>
                </a:solidFill>
                <a:latin typeface="Gill Sans"/>
              </a:rPr>
              <a: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Very closely linked to the work on green economy is the </a:t>
            </a:r>
            <a:r>
              <a:rPr b="1" lang="en-GB" sz="1200" spc="-1" strike="noStrike">
                <a:solidFill>
                  <a:srgbClr val="000000"/>
                </a:solidFill>
                <a:latin typeface="Gill Sans"/>
              </a:rPr>
              <a:t>EEA work on SCP in the past six - seven years</a:t>
            </a:r>
            <a:r>
              <a:rPr b="0" lang="en-GB" sz="1200" spc="-1" strike="noStrike">
                <a:solidFill>
                  <a:srgbClr val="000000"/>
                </a:solidFill>
                <a:latin typeface="Gill Sans"/>
              </a:rPr>
              <a:t>. This work included country fact sheets on SCP, </a:t>
            </a:r>
            <a:r>
              <a:rPr b="1" lang="en-GB" sz="1200" spc="-1" strike="noStrike">
                <a:solidFill>
                  <a:srgbClr val="000000"/>
                </a:solidFill>
                <a:latin typeface="Gill Sans"/>
              </a:rPr>
              <a:t>assessing environmental impacts from a consumption perspective</a:t>
            </a:r>
            <a:r>
              <a:rPr b="0" lang="en-GB" sz="1200" spc="-1" strike="noStrike">
                <a:solidFill>
                  <a:srgbClr val="000000"/>
                </a:solidFill>
                <a:latin typeface="Gill Sans"/>
              </a:rPr>
              <a:t>, SOER reports on sustainable consumption, and </a:t>
            </a:r>
            <a:r>
              <a:rPr b="1" lang="en-GB" sz="1200" spc="-1" strike="noStrike">
                <a:solidFill>
                  <a:srgbClr val="000000"/>
                </a:solidFill>
                <a:latin typeface="Gill Sans"/>
              </a:rPr>
              <a:t>most recently embedding SCP indicators in the EEA indicators system.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One of the major outcomes of Rio+20 was the decision to </a:t>
            </a:r>
            <a:r>
              <a:rPr b="1" lang="en-GB" sz="1200" spc="-1" strike="noStrike">
                <a:solidFill>
                  <a:srgbClr val="000000"/>
                </a:solidFill>
                <a:latin typeface="Gill Sans"/>
              </a:rPr>
              <a:t>establish a high level forum </a:t>
            </a:r>
            <a:r>
              <a:rPr b="0" lang="en-GB" sz="1200" spc="-1" strike="noStrike">
                <a:solidFill>
                  <a:srgbClr val="000000"/>
                </a:solidFill>
                <a:latin typeface="Gill Sans"/>
              </a:rPr>
              <a:t>that will replace the UN Commission on Sustainable Development, which since 1994 has been the global forum assessing progress in implementing Agenda 21. </a:t>
            </a:r>
            <a:r>
              <a:rPr b="1" lang="en-GB" sz="1200" spc="-1" strike="noStrike">
                <a:solidFill>
                  <a:srgbClr val="000000"/>
                </a:solidFill>
                <a:latin typeface="Gill Sans"/>
              </a:rPr>
              <a:t>The new high-level forum is to be anchored under the UN Economic and Social Committee (ECOSOC) and the UN General Assembly.</a:t>
            </a:r>
            <a:r>
              <a:rPr b="0" lang="en-GB" sz="1200" spc="-1" strike="noStrike">
                <a:solidFill>
                  <a:srgbClr val="000000"/>
                </a:solidFill>
                <a:latin typeface="Gill Sans"/>
              </a:rPr>
              <a:t>  </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establishment of the </a:t>
            </a:r>
            <a:r>
              <a:rPr b="1" lang="en-GB" sz="1200" spc="-1" strike="noStrike">
                <a:solidFill>
                  <a:srgbClr val="000000"/>
                </a:solidFill>
                <a:latin typeface="Gill Sans"/>
              </a:rPr>
              <a:t>high-level forum and the reform of UNEP marks a significant change in the global governance of sustainable development and environment</a:t>
            </a:r>
            <a:r>
              <a:rPr b="0" lang="en-GB" sz="1200" spc="-1" strike="noStrike">
                <a:solidFill>
                  <a:srgbClr val="000000"/>
                </a:solidFill>
                <a:latin typeface="Gill Sans"/>
              </a:rPr>
              <a: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is change </a:t>
            </a:r>
            <a:r>
              <a:rPr b="1" lang="en-GB" sz="1200" spc="-1" strike="noStrike">
                <a:solidFill>
                  <a:srgbClr val="000000"/>
                </a:solidFill>
                <a:latin typeface="Gill Sans"/>
              </a:rPr>
              <a:t>provides a unique opportunity for the EEA in its 2014-20 Strategy to define its role in such governance processes through supporting mainly the Commission</a:t>
            </a: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At Rio+20 the </a:t>
            </a:r>
            <a:r>
              <a:rPr b="1" lang="en-GB" sz="1200" spc="-1" strike="noStrike">
                <a:solidFill>
                  <a:srgbClr val="000000"/>
                </a:solidFill>
                <a:latin typeface="Gill Sans"/>
              </a:rPr>
              <a:t>major groups took part in a parallel forum during Rio+20 </a:t>
            </a:r>
            <a:r>
              <a:rPr b="0" lang="en-GB" sz="1200" spc="-1" strike="noStrike">
                <a:solidFill>
                  <a:srgbClr val="000000"/>
                </a:solidFill>
                <a:latin typeface="Gill Sans"/>
              </a:rPr>
              <a:t>and also </a:t>
            </a:r>
            <a:r>
              <a:rPr b="1" lang="en-GB" sz="1200" spc="-1" strike="noStrike">
                <a:solidFill>
                  <a:srgbClr val="000000"/>
                </a:solidFill>
                <a:latin typeface="Gill Sans"/>
              </a:rPr>
              <a:t>participated in the conference </a:t>
            </a:r>
            <a:r>
              <a:rPr b="0" lang="en-GB" sz="1200" spc="-1" strike="noStrike">
                <a:solidFill>
                  <a:srgbClr val="000000"/>
                </a:solidFill>
                <a:latin typeface="Gill Sans"/>
              </a:rPr>
              <a:t>itself.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a:t>
            </a:r>
            <a:r>
              <a:rPr b="1" lang="en-GB" sz="1200" spc="-1" strike="noStrike">
                <a:solidFill>
                  <a:srgbClr val="000000"/>
                </a:solidFill>
                <a:latin typeface="Gill Sans"/>
              </a:rPr>
              <a:t>European Commission has been very keen after Rio to invite </a:t>
            </a:r>
            <a:r>
              <a:rPr b="0" lang="en-GB" sz="1200" spc="-1" strike="noStrike">
                <a:solidFill>
                  <a:srgbClr val="000000"/>
                </a:solidFill>
                <a:latin typeface="Gill Sans"/>
              </a:rPr>
              <a:t>the Member States to </a:t>
            </a:r>
            <a:r>
              <a:rPr b="1" lang="en-GB" sz="1200" spc="-1" strike="noStrike">
                <a:solidFill>
                  <a:srgbClr val="000000"/>
                </a:solidFill>
                <a:latin typeface="Gill Sans"/>
              </a:rPr>
              <a:t>engage with the national civil society and provide feedback on their position</a:t>
            </a:r>
            <a:r>
              <a:rPr b="0" lang="en-GB" sz="1200" spc="-1" strike="noStrike">
                <a:solidFill>
                  <a:srgbClr val="000000"/>
                </a:solidFill>
                <a:latin typeface="Gill Sans"/>
              </a:rPr>
              <a:t>, idea and proposals.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draft EU Council conclusions “reaffirm its support for an open and inclusive </a:t>
            </a:r>
            <a:r>
              <a:rPr b="1" lang="en-GB" sz="1200" spc="-1" strike="noStrike">
                <a:solidFill>
                  <a:srgbClr val="000000"/>
                </a:solidFill>
                <a:latin typeface="Gill Sans"/>
              </a:rPr>
              <a:t>follow-up process allowing full participation of all major groups and other stakeholders, and stresses the importance of strong involvement of civil society as a whole…”</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As a networking organisations, EEA and Eionet has many years of experience working with </a:t>
            </a:r>
            <a:r>
              <a:rPr b="1" lang="en-GB" sz="1200" spc="-1" strike="noStrike">
                <a:solidFill>
                  <a:srgbClr val="000000"/>
                </a:solidFill>
                <a:latin typeface="Gill Sans"/>
              </a:rPr>
              <a:t>many stakeholders ranging from policy makers in the EU and in member countries, to NGOs, the scientific community </a:t>
            </a:r>
            <a:r>
              <a:rPr b="0" lang="en-GB" sz="1200" spc="-1" strike="noStrike">
                <a:solidFill>
                  <a:srgbClr val="000000"/>
                </a:solidFill>
                <a:latin typeface="Gill Sans"/>
              </a:rPr>
              <a:t>and </a:t>
            </a:r>
            <a:r>
              <a:rPr b="1" lang="en-GB" sz="1200" spc="-1" strike="noStrike">
                <a:solidFill>
                  <a:srgbClr val="000000"/>
                </a:solidFill>
                <a:latin typeface="Gill Sans"/>
              </a:rPr>
              <a:t>the public at large</a:t>
            </a:r>
            <a:r>
              <a:rPr b="0" lang="en-GB" sz="1200" spc="-1" strike="noStrike">
                <a:solidFill>
                  <a:srgbClr val="000000"/>
                </a:solidFill>
                <a:latin typeface="Gill Sans"/>
              </a:rPr>
              <a:t>.</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EEA provides data, information and knowledge both to policy makers and to the general public.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In the past the </a:t>
            </a:r>
            <a:r>
              <a:rPr b="1" lang="en-GB" sz="1200" spc="-1" strike="noStrike">
                <a:solidFill>
                  <a:srgbClr val="000000"/>
                </a:solidFill>
                <a:latin typeface="Gill Sans"/>
              </a:rPr>
              <a:t>EEA has worked to further improve communication, partnerships and methods of information sharing between EEA and key stakeholders</a:t>
            </a:r>
            <a:r>
              <a:rPr b="0" lang="en-GB" sz="1200" spc="-1" strike="noStrike">
                <a:solidFill>
                  <a:srgbClr val="000000"/>
                </a:solidFill>
                <a:latin typeface="Gill Sans"/>
              </a:rPr>
              <a: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EEA work with business has occurred on many occasions, including for example the past two years through our joint workshops with the World Business Council on Sustainable Development on new business models for sustainable lifestyles. However, working with business is not consistently integrated in the EEA work programmes.</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nd EEA has already started to shape </a:t>
            </a:r>
            <a:r>
              <a:rPr b="1" lang="en-US" sz="1200" spc="-1" strike="noStrike">
                <a:solidFill>
                  <a:srgbClr val="000000"/>
                </a:solidFill>
                <a:latin typeface="Lucida Grande"/>
                <a:ea typeface="Lucida Grande"/>
              </a:rPr>
              <a:t>its next strategy based on these opportunities</a:t>
            </a:r>
            <a:r>
              <a:rPr b="0" lang="en-US" sz="1200" spc="-1" strike="noStrike">
                <a:solidFill>
                  <a:srgbClr val="000000"/>
                </a:solidFill>
                <a:latin typeface="Lucida Grande"/>
                <a:ea typeface="Lucida Grande"/>
              </a:rPr>
              <a:t>.  </a:t>
            </a: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nd EEA has already started to shape </a:t>
            </a:r>
            <a:r>
              <a:rPr b="1" lang="en-US" sz="1200" spc="-1" strike="noStrike">
                <a:solidFill>
                  <a:srgbClr val="000000"/>
                </a:solidFill>
                <a:latin typeface="Lucida Grande"/>
                <a:ea typeface="Lucida Grande"/>
              </a:rPr>
              <a:t>its next strategy based on these opportunities</a:t>
            </a:r>
            <a:r>
              <a:rPr b="0" lang="en-US" sz="1200" spc="-1" strike="noStrike">
                <a:solidFill>
                  <a:srgbClr val="000000"/>
                </a:solidFill>
                <a:latin typeface="Lucida Grande"/>
                <a:ea typeface="Lucida Grande"/>
              </a:rPr>
              <a:t>.  </a:t>
            </a: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hat EU considers most relevant outcomes and most importan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Rio+20 outcome calls for increased global, regional and national efforts in a number of areas, and the most important outcomes for EU which the EEA has a specific mandate in Europe and for which the EEA has considerable knowledge and expertise. </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For each of those five areas, an attempt has been made </a:t>
            </a:r>
            <a:r>
              <a:rPr b="1" lang="en-GB" sz="1200" spc="-1" strike="noStrike">
                <a:solidFill>
                  <a:srgbClr val="000000"/>
                </a:solidFill>
                <a:latin typeface="Gill Sans"/>
              </a:rPr>
              <a:t>to identify </a:t>
            </a:r>
            <a:r>
              <a:rPr b="0" lang="en-GB" sz="1200" spc="-1" strike="noStrike">
                <a:solidFill>
                  <a:srgbClr val="000000"/>
                </a:solidFill>
                <a:latin typeface="Gill Sans"/>
              </a:rPr>
              <a:t>the major Rio+20 outcomes, </a:t>
            </a:r>
            <a:r>
              <a:rPr b="1" lang="en-GB" sz="1200" spc="-1" strike="noStrike">
                <a:solidFill>
                  <a:srgbClr val="000000"/>
                </a:solidFill>
                <a:latin typeface="Gill Sans"/>
              </a:rPr>
              <a:t>compare these to existing EEA activities, and highlight possible consequences and opportunities for the EEA in its new EEA Strategy 2014-20.</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Moreover, the Rio+20 outcome document also </a:t>
            </a:r>
            <a:r>
              <a:rPr b="1" lang="en-US" sz="1200" spc="-1" strike="noStrike">
                <a:solidFill>
                  <a:srgbClr val="000000"/>
                </a:solidFill>
                <a:latin typeface="Lucida Grande"/>
                <a:ea typeface="Lucida Grande"/>
              </a:rPr>
              <a:t>includes small steps in the right direction in a number of thematic areas </a:t>
            </a:r>
            <a:r>
              <a:rPr b="0" lang="en-US" sz="1200" spc="-1" strike="noStrike">
                <a:solidFill>
                  <a:srgbClr val="000000"/>
                </a:solidFill>
                <a:latin typeface="Lucida Grande"/>
                <a:ea typeface="Lucida Grande"/>
              </a:rPr>
              <a:t>of work which are related to existing EEA activities, including marine issues, biodiversity, land degradation, urban areas, water and sanitation, and waste.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se outcomes are tackled with SEIS main pillars which are: Content, infrastructure and networking (governance) </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EEA can contribute within five areas in particular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GE=Green Economy, SCP= Sustainable Consumption and Production </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Let me start with Access to information.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Rio+20 outcome document contains a number of </a:t>
            </a:r>
            <a:r>
              <a:rPr b="1" lang="en-GB" sz="1200" spc="-1" strike="noStrike">
                <a:solidFill>
                  <a:srgbClr val="000000"/>
                </a:solidFill>
                <a:latin typeface="Gill Sans"/>
              </a:rPr>
              <a:t>references to the need for improving the access to environmental information </a:t>
            </a:r>
            <a:r>
              <a:rPr b="0" lang="en-GB" sz="1200" spc="-1" strike="noStrike">
                <a:solidFill>
                  <a:srgbClr val="000000"/>
                </a:solidFill>
                <a:latin typeface="Gill Sans"/>
              </a:rPr>
              <a:t>and for </a:t>
            </a:r>
            <a:r>
              <a:rPr b="1" lang="en-GB" sz="1200" spc="-1" strike="noStrike">
                <a:solidFill>
                  <a:srgbClr val="000000"/>
                </a:solidFill>
                <a:latin typeface="Gill Sans"/>
              </a:rPr>
              <a:t>strengthening the science-policy interface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In the period of the current EEA Strategy </a:t>
            </a:r>
            <a:r>
              <a:rPr b="1" lang="en-GB" sz="1200" spc="-1" strike="noStrike">
                <a:solidFill>
                  <a:srgbClr val="000000"/>
                </a:solidFill>
                <a:latin typeface="Gill Sans"/>
              </a:rPr>
              <a:t>(2009-2013), EEA have made significant efforts to strengthen the access to environmental information basing on networks and partnerships</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SEIS has been major focus of all its work in EEA.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nformation should be: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Managed </a:t>
            </a:r>
            <a:r>
              <a:rPr b="1" lang="en-US" sz="1200" spc="-1" strike="noStrike">
                <a:solidFill>
                  <a:srgbClr val="000000"/>
                </a:solidFill>
                <a:latin typeface="Gill Sans"/>
              </a:rPr>
              <a:t>as close as possible to its source</a:t>
            </a:r>
            <a:r>
              <a:rPr b="0" lang="en-US" sz="1200" spc="-1" strike="noStrike">
                <a:solidFill>
                  <a:srgbClr val="000000"/>
                </a:solidFill>
                <a:latin typeface="Gill Sans"/>
              </a:rPr>
              <a:t>.</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Collected once</a:t>
            </a:r>
            <a:r>
              <a:rPr b="0" lang="en-US" sz="1200" spc="-1" strike="noStrike">
                <a:solidFill>
                  <a:srgbClr val="000000"/>
                </a:solidFill>
                <a:latin typeface="Gill Sans"/>
              </a:rPr>
              <a:t>, and shared with others for many purposes.</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Readily available.</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Easily accessible</a:t>
            </a:r>
            <a:r>
              <a:rPr b="0" lang="en-US" sz="1200" spc="-1" strike="noStrike">
                <a:solidFill>
                  <a:srgbClr val="000000"/>
                </a:solidFill>
                <a:latin typeface="Gill Sans"/>
              </a:rPr>
              <a:t>.</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Comparable at the appropriate geographical scale</a:t>
            </a:r>
            <a:r>
              <a:rPr b="0" lang="en-US" sz="1200" spc="-1" strike="noStrike">
                <a:solidFill>
                  <a:srgbClr val="000000"/>
                </a:solidFill>
                <a:latin typeface="Gill Sans"/>
              </a:rPr>
              <a:t>, and citizen participation.</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Fully available to the general public </a:t>
            </a:r>
            <a:r>
              <a:rPr b="0" lang="en-US" sz="1200" spc="-1" strike="noStrike">
                <a:solidFill>
                  <a:srgbClr val="000000"/>
                </a:solidFill>
                <a:latin typeface="Gill Sans"/>
              </a:rPr>
              <a:t>in the relevant national language(s).</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mmon, </a:t>
            </a:r>
            <a:r>
              <a:rPr b="1" lang="en-US" sz="1200" spc="-1" strike="noStrike">
                <a:solidFill>
                  <a:srgbClr val="000000"/>
                </a:solidFill>
                <a:latin typeface="Gill Sans"/>
              </a:rPr>
              <a:t>free open software standard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EoE </a:t>
            </a:r>
            <a:r>
              <a:rPr b="1" lang="en-US" sz="1200" spc="-1" strike="noStrike">
                <a:solidFill>
                  <a:srgbClr val="000000"/>
                </a:solidFill>
                <a:latin typeface="Lucida Grande"/>
                <a:ea typeface="Lucida Grande"/>
              </a:rPr>
              <a:t>global public information network</a:t>
            </a:r>
            <a:r>
              <a:rPr b="0" lang="en-US" sz="1200" spc="-1" strike="noStrike">
                <a:solidFill>
                  <a:srgbClr val="000000"/>
                </a:solidFill>
                <a:latin typeface="Lucida Grande"/>
                <a:ea typeface="Lucida Grande"/>
              </a:rPr>
              <a:t>’ for </a:t>
            </a:r>
            <a:r>
              <a:rPr b="1" lang="en-US" sz="1200" spc="-1" strike="noStrike">
                <a:solidFill>
                  <a:srgbClr val="000000"/>
                </a:solidFill>
                <a:latin typeface="Lucida Grande"/>
                <a:ea typeface="Lucida Grande"/>
              </a:rPr>
              <a:t>creating and sharing environmentally relevant data and information online</a:t>
            </a:r>
            <a:r>
              <a:rPr b="0" lang="en-US" sz="1200" spc="-1" strike="noStrike">
                <a:solidFill>
                  <a:srgbClr val="000000"/>
                </a:solidFill>
                <a:latin typeface="Lucida Grande"/>
                <a:ea typeface="Lucida Grande"/>
              </a:rPr>
              <a:t> through interactive map-based visualisations. </a:t>
            </a:r>
            <a:r>
              <a:rPr b="0" lang="en-GB" sz="1200" spc="-1" strike="noStrike">
                <a:solidFill>
                  <a:srgbClr val="000000"/>
                </a:solidFill>
                <a:latin typeface="Gill Sans"/>
              </a:rPr>
              <a:t>It </a:t>
            </a:r>
            <a:r>
              <a:rPr b="1" lang="en-GB" sz="1200" spc="-1" strike="noStrike">
                <a:solidFill>
                  <a:srgbClr val="000000"/>
                </a:solidFill>
                <a:latin typeface="Gill Sans"/>
              </a:rPr>
              <a:t>represents a good practice for implementing the principles</a:t>
            </a:r>
            <a:r>
              <a:rPr b="0" lang="en-GB" sz="1200" spc="-1" strike="noStrike">
                <a:solidFill>
                  <a:srgbClr val="000000"/>
                </a:solidFill>
                <a:latin typeface="Gill Sans"/>
              </a:rPr>
              <a:t> of a Shared Environmental Information System (SEIS) for Europe.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EEA will use Eye on Earth to support its expanding role to </a:t>
            </a:r>
            <a:r>
              <a:rPr b="1" lang="en-GB" sz="1200" spc="-1" strike="noStrike">
                <a:solidFill>
                  <a:srgbClr val="000000"/>
                </a:solidFill>
                <a:latin typeface="Gill Sans"/>
              </a:rPr>
              <a:t>facilitates information sharing</a:t>
            </a:r>
            <a:r>
              <a:rPr b="0" lang="en-GB" sz="1200" spc="-1" strike="noStrike">
                <a:solidFill>
                  <a:srgbClr val="000000"/>
                </a:solidFill>
                <a:latin typeface="Gill Sans"/>
              </a:rPr>
              <a:t>, and to strengthen its </a:t>
            </a:r>
            <a:r>
              <a:rPr b="1" lang="en-GB" sz="1200" spc="-1" strike="noStrike">
                <a:solidFill>
                  <a:srgbClr val="000000"/>
                </a:solidFill>
                <a:latin typeface="Gill Sans"/>
              </a:rPr>
              <a:t>effectiveness and efficiency in collecting and providing environmental information</a:t>
            </a:r>
            <a:r>
              <a:rPr b="0" lang="en-GB" sz="1200" spc="-1" strike="noStrike">
                <a:solidFill>
                  <a:srgbClr val="000000"/>
                </a:solidFill>
                <a:latin typeface="Gill Sans"/>
              </a:rPr>
              <a:t>. </a:t>
            </a: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agreement to develop </a:t>
            </a:r>
            <a:r>
              <a:rPr b="1" lang="en-GB" sz="1200" spc="-1" strike="noStrike">
                <a:solidFill>
                  <a:srgbClr val="000000"/>
                </a:solidFill>
                <a:latin typeface="Gill Sans"/>
              </a:rPr>
              <a:t>Sustainable Development Goals (SDGs) is one of the major outcomes of the Rio+20 process</a:t>
            </a:r>
            <a:r>
              <a:rPr b="0" lang="en-GB" sz="1200" spc="-1" strike="noStrike">
                <a:solidFill>
                  <a:srgbClr val="000000"/>
                </a:solidFill>
                <a:latin typeface="Gill Sans"/>
              </a:rPr>
              <a: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a:t>
            </a:r>
            <a:r>
              <a:rPr b="1" lang="en-GB" sz="1200" spc="-1" strike="noStrike">
                <a:solidFill>
                  <a:srgbClr val="000000"/>
                </a:solidFill>
                <a:latin typeface="Gill Sans"/>
              </a:rPr>
              <a:t>Open Working Group of Experts has been tasked to design these SDGs</a:t>
            </a:r>
            <a:r>
              <a:rPr b="0" lang="en-GB" sz="1200" spc="-1" strike="noStrike">
                <a:solidFill>
                  <a:srgbClr val="000000"/>
                </a:solidFill>
                <a:latin typeface="Gill Sans"/>
              </a:rPr>
              <a:t>, and to produce a report between September 2013 and September 2014.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ill Sans"/>
              </a:rPr>
              <a:t>SDGs will replace the Millennium Development Goals </a:t>
            </a:r>
            <a:r>
              <a:rPr b="0" lang="en-GB" sz="1200" spc="-1" strike="noStrike">
                <a:solidFill>
                  <a:srgbClr val="000000"/>
                </a:solidFill>
                <a:latin typeface="Gill Sans"/>
              </a:rPr>
              <a:t>(MDGs) beyond 2015.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main difference of the SDGs with the MDGs regards their level of inclusion, as the SDGs need to </a:t>
            </a:r>
            <a:r>
              <a:rPr b="1" lang="en-GB" sz="1200" spc="-1" strike="noStrike">
                <a:solidFill>
                  <a:srgbClr val="000000"/>
                </a:solidFill>
                <a:latin typeface="Gill Sans"/>
              </a:rPr>
              <a:t>be applicable to all the countries</a:t>
            </a:r>
            <a:r>
              <a:rPr b="0" lang="en-GB" sz="1200" spc="-1" strike="noStrike">
                <a:solidFill>
                  <a:srgbClr val="000000"/>
                </a:solidFill>
                <a:latin typeface="Gill Sans"/>
              </a:rPr>
              <a:t> </a:t>
            </a:r>
            <a:r>
              <a:rPr b="1" lang="en-GB" sz="1200" spc="-1" strike="noStrike">
                <a:solidFill>
                  <a:srgbClr val="000000"/>
                </a:solidFill>
                <a:latin typeface="Gill Sans"/>
              </a:rPr>
              <a:t>regardless of their level of development</a:t>
            </a:r>
            <a:r>
              <a:rPr b="0" lang="en-GB" sz="1200" spc="-1" strike="noStrike">
                <a:solidFill>
                  <a:srgbClr val="000000"/>
                </a:solidFill>
                <a:latin typeface="Gill Sans"/>
              </a:rPr>
              <a: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a:t>
            </a:r>
            <a:r>
              <a:rPr b="1" lang="en-GB" sz="1200" spc="-1" strike="noStrike">
                <a:solidFill>
                  <a:srgbClr val="000000"/>
                </a:solidFill>
                <a:latin typeface="Gill Sans"/>
              </a:rPr>
              <a:t>UN Statistics Committee will be in charge of guiding future technical discussions </a:t>
            </a:r>
            <a:r>
              <a:rPr b="0" lang="en-GB" sz="1200" spc="-1" strike="noStrike">
                <a:solidFill>
                  <a:srgbClr val="000000"/>
                </a:solidFill>
                <a:latin typeface="Gill Sans"/>
              </a:rPr>
              <a:t>and studies.</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a:t>
            </a:r>
            <a:r>
              <a:rPr b="1" lang="en-GB" sz="1200" spc="-1" strike="noStrike">
                <a:solidFill>
                  <a:srgbClr val="000000"/>
                </a:solidFill>
                <a:latin typeface="Gill Sans"/>
              </a:rPr>
              <a:t>development and use of data and indicators </a:t>
            </a:r>
            <a:r>
              <a:rPr b="0" lang="en-GB" sz="1200" spc="-1" strike="noStrike">
                <a:solidFill>
                  <a:srgbClr val="000000"/>
                </a:solidFill>
                <a:latin typeface="Gill Sans"/>
              </a:rPr>
              <a:t>has been </a:t>
            </a:r>
            <a:r>
              <a:rPr b="1" lang="en-GB" sz="1200" spc="-1" strike="noStrike">
                <a:solidFill>
                  <a:srgbClr val="000000"/>
                </a:solidFill>
                <a:latin typeface="Gill Sans"/>
              </a:rPr>
              <a:t>central to the work of the EEA </a:t>
            </a:r>
            <a:r>
              <a:rPr b="0" lang="en-GB" sz="1200" spc="-1" strike="noStrike">
                <a:solidFill>
                  <a:srgbClr val="000000"/>
                </a:solidFill>
                <a:latin typeface="Gill Sans"/>
              </a:rPr>
              <a:t>since it was established.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re is no doubt that the SDG process will led to requests from </a:t>
            </a:r>
            <a:r>
              <a:rPr b="1" lang="en-GB" sz="1200" spc="-1" strike="noStrike">
                <a:solidFill>
                  <a:srgbClr val="000000"/>
                </a:solidFill>
                <a:latin typeface="Gill Sans"/>
              </a:rPr>
              <a:t>the Commission </a:t>
            </a:r>
            <a:r>
              <a:rPr b="0" lang="en-GB" sz="1200" spc="-1" strike="noStrike">
                <a:solidFill>
                  <a:srgbClr val="000000"/>
                </a:solidFill>
                <a:latin typeface="Gill Sans"/>
              </a:rPr>
              <a:t>or countries for the EEA to contribute with our knowledge and expertise, and we therefore </a:t>
            </a:r>
            <a:r>
              <a:rPr b="1" lang="en-GB" sz="1200" spc="-1" strike="noStrike">
                <a:solidFill>
                  <a:srgbClr val="000000"/>
                </a:solidFill>
                <a:latin typeface="Gill Sans"/>
              </a:rPr>
              <a:t>need to integrate this in the new Strategy</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process of developing SDGs is just starting as agreed in the Rio+20 text and it is likely to draw much attention in the coming years.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In this regard, </a:t>
            </a:r>
            <a:r>
              <a:rPr b="1" lang="en-GB" sz="1200" spc="-1" strike="noStrike">
                <a:solidFill>
                  <a:srgbClr val="000000"/>
                </a:solidFill>
                <a:latin typeface="Gill Sans"/>
              </a:rPr>
              <a:t>available expertise will be needed from various regions of the world, including from Europe, on goals and accompanying indicators, data and accounting systems</a:t>
            </a:r>
            <a:r>
              <a:rPr b="0" lang="en-GB" sz="1200" spc="-1" strike="noStrike">
                <a:solidFill>
                  <a:srgbClr val="000000"/>
                </a:solidFill>
                <a:latin typeface="Gill Sans"/>
              </a:rPr>
              <a:t>. EEA </a:t>
            </a:r>
            <a:r>
              <a:rPr b="1" lang="en-GB" sz="1200" spc="-1" strike="noStrike">
                <a:solidFill>
                  <a:srgbClr val="000000"/>
                </a:solidFill>
                <a:latin typeface="Gill Sans"/>
              </a:rPr>
              <a:t>work on these issues will be driven by the Commission and Member States’ requests to provide scientific contribution </a:t>
            </a:r>
            <a:r>
              <a:rPr b="0" lang="en-GB" sz="1200" spc="-1" strike="noStrike">
                <a:solidFill>
                  <a:srgbClr val="000000"/>
                </a:solidFill>
                <a:latin typeface="Gill Sans"/>
              </a:rPr>
              <a:t>and expertise on the indicators and targets, work together with institutions like EUROSTAT, the JRC and the OECD to support and provide the needed knowledge for its many stakeholder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Bhutanese initiative, led by its Prime Minister and supported by many other countries, is very ambitious and aims to develop a new development paradigm through the </a:t>
            </a:r>
            <a:r>
              <a:rPr b="1" lang="en-US" sz="1200" spc="-1" strike="noStrike">
                <a:solidFill>
                  <a:srgbClr val="000000"/>
                </a:solidFill>
                <a:latin typeface="Lucida Grande"/>
                <a:ea typeface="Lucida Grande"/>
              </a:rPr>
              <a:t>identification of happiness and well-being indicators </a:t>
            </a:r>
            <a:r>
              <a:rPr b="0" lang="en-US" sz="1200" spc="-1" strike="noStrike">
                <a:solidFill>
                  <a:srgbClr val="000000"/>
                </a:solidFill>
                <a:latin typeface="Lucida Grande"/>
                <a:ea typeface="Lucida Grande"/>
              </a:rPr>
              <a:t>that can supplement or eventually replace GDP. The Bhutan initiative makes a genuine and ambitious attempt to </a:t>
            </a:r>
            <a:r>
              <a:rPr b="1" lang="en-US" sz="1200" spc="-1" strike="noStrike">
                <a:solidFill>
                  <a:srgbClr val="000000"/>
                </a:solidFill>
                <a:latin typeface="Lucida Grande"/>
                <a:ea typeface="Lucida Grande"/>
              </a:rPr>
              <a:t>shift focus from GDP to wellbeing and has already gained support from many governments </a:t>
            </a:r>
            <a:r>
              <a:rPr b="0" lang="en-US" sz="1200" spc="-1" strike="noStrike">
                <a:solidFill>
                  <a:srgbClr val="000000"/>
                </a:solidFill>
                <a:latin typeface="Lucida Grande"/>
                <a:ea typeface="Lucida Grande"/>
              </a:rPr>
              <a:t>and from highly recognised researchers worldwide. Considering its high level of ambition, it could be one global initiative, possibly among others, </a:t>
            </a:r>
            <a:r>
              <a:rPr b="1" lang="en-US" sz="1200" spc="-1" strike="noStrike">
                <a:solidFill>
                  <a:srgbClr val="000000"/>
                </a:solidFill>
                <a:latin typeface="Lucida Grande"/>
                <a:ea typeface="Lucida Grande"/>
              </a:rPr>
              <a:t>that the EEA strategically to contribute to in the period of the next Strategy</a:t>
            </a:r>
            <a:r>
              <a:rPr b="0" lang="en-US" sz="1200" spc="-1" strike="noStrike">
                <a:solidFill>
                  <a:srgbClr val="000000"/>
                </a:solidFill>
                <a:latin typeface="Lucida Grande"/>
                <a:ea typeface="Lucida Grande"/>
              </a:rPr>
              <a:t>. </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green economy is an element of the Rio+20 outcome document proposed </a:t>
            </a:r>
            <a:r>
              <a:rPr b="1" lang="en-GB" sz="1200" spc="-1" strike="noStrike">
                <a:solidFill>
                  <a:srgbClr val="000000"/>
                </a:solidFill>
                <a:latin typeface="Gill Sans"/>
              </a:rPr>
              <a:t>by the EU and was included in the outcome text</a:t>
            </a:r>
            <a:r>
              <a:rPr b="0" lang="en-GB" sz="1200" spc="-1" strike="noStrike">
                <a:solidFill>
                  <a:srgbClr val="000000"/>
                </a:solidFill>
                <a:latin typeface="Gill Sans"/>
              </a:rPr>
              <a:t>.  For the first time in a UN Conference </a:t>
            </a:r>
            <a:r>
              <a:rPr b="1" lang="en-GB" sz="1200" spc="-1" strike="noStrike">
                <a:solidFill>
                  <a:srgbClr val="000000"/>
                </a:solidFill>
                <a:latin typeface="Gill Sans"/>
              </a:rPr>
              <a:t>an agreed outcome document contains explicit reference to an inclusive green economy </a:t>
            </a:r>
            <a:r>
              <a:rPr b="0" lang="en-GB" sz="1200" spc="-1" strike="noStrike">
                <a:solidFill>
                  <a:srgbClr val="000000"/>
                </a:solidFill>
                <a:latin typeface="Gill Sans"/>
              </a:rPr>
              <a:t>as one of the tools to achieve </a:t>
            </a:r>
            <a:r>
              <a:rPr b="1" lang="en-GB" sz="1200" spc="-1" strike="noStrike">
                <a:solidFill>
                  <a:srgbClr val="000000"/>
                </a:solidFill>
                <a:latin typeface="Gill Sans"/>
              </a:rPr>
              <a:t>poverty eradication and sustainable developmen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rPr>
              <a:t>the adoption of a </a:t>
            </a:r>
            <a:r>
              <a:rPr b="1" lang="en-GB" sz="1200" spc="-1" strike="noStrike">
                <a:solidFill>
                  <a:srgbClr val="000000"/>
                </a:solidFill>
                <a:latin typeface="Gill Sans"/>
              </a:rPr>
              <a:t>10-Year Framework of Programmes on Sustainable Consumption and Production (SCP) was considered a successful outcome of Rio+20</a:t>
            </a:r>
            <a:r>
              <a:rPr b="0" lang="en-GB" sz="1200" spc="-1" strike="noStrike">
                <a:solidFill>
                  <a:srgbClr val="000000"/>
                </a:solidFill>
                <a:latin typeface="Gill Sans"/>
              </a:rPr>
              <a:t> by the EU after governments had failed to adopt it as the UNCSD negotiations broke down in May 2011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1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econd Outline Level</a:t>
            </a:r>
            <a:endParaRPr b="0" lang="en-US" sz="2800" spc="-1" strike="noStrike">
              <a:solidFill>
                <a:srgbClr val="000000"/>
              </a:solidFill>
              <a:latin typeface="Lucida Grande"/>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ird Outline Level</a:t>
            </a:r>
            <a:endParaRPr b="0" lang="en-US" sz="2400" spc="-1" strike="noStrike">
              <a:solidFill>
                <a:srgbClr val="000000"/>
              </a:solidFill>
              <a:latin typeface="Lucida Grande"/>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ourth Outline Level</a:t>
            </a:r>
            <a:endParaRPr b="0" lang="en-US" sz="2000" spc="-1" strike="noStrike">
              <a:solidFill>
                <a:srgbClr val="000000"/>
              </a:solidFill>
              <a:latin typeface="Lucida Grande"/>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ifth Outline Level</a:t>
            </a:r>
            <a:endParaRPr b="0" lang="en-US" sz="2000" spc="-1" strike="noStrike">
              <a:solidFill>
                <a:srgbClr val="000000"/>
              </a:solidFill>
              <a:latin typeface="Lucida Grande"/>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ixth Outline Level</a:t>
            </a:r>
            <a:endParaRPr b="0" lang="en-US" sz="2000" spc="-1" strike="noStrike">
              <a:solidFill>
                <a:srgbClr val="000000"/>
              </a:solidFill>
              <a:latin typeface="Lucida Grande"/>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eventh Outline Level</a:t>
            </a:r>
            <a:endParaRPr b="0" lang="en-US" sz="20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53" name="Picture 2" descr=""/>
          <p:cNvPicPr/>
          <p:nvPr/>
        </p:nvPicPr>
        <p:blipFill>
          <a:blip r:embed="rId1"/>
          <a:stretch/>
        </p:blipFill>
        <p:spPr>
          <a:xfrm>
            <a:off x="6140520" y="6143760"/>
            <a:ext cx="2860560" cy="576000"/>
          </a:xfrm>
          <a:prstGeom prst="rect">
            <a:avLst/>
          </a:prstGeom>
          <a:ln w="0">
            <a:noFill/>
          </a:ln>
        </p:spPr>
      </p:pic>
      <p:sp>
        <p:nvSpPr>
          <p:cNvPr id="154" name="Rectangle 3"/>
          <p:cNvSpPr/>
          <p:nvPr/>
        </p:nvSpPr>
        <p:spPr>
          <a:xfrm>
            <a:off x="0" y="0"/>
            <a:ext cx="9156600" cy="68580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5" name="Rectangle 4"/>
          <p:cNvSpPr/>
          <p:nvPr/>
        </p:nvSpPr>
        <p:spPr>
          <a:xfrm>
            <a:off x="0" y="17640"/>
            <a:ext cx="9156600" cy="6065640"/>
          </a:xfrm>
          <a:prstGeom prst="rect">
            <a:avLst/>
          </a:prstGeom>
          <a:gradFill rotWithShape="0">
            <a:gsLst>
              <a:gs pos="0">
                <a:srgbClr val="204162"/>
              </a:gs>
              <a:gs pos="100000">
                <a:srgbClr val="bbd5df"/>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6" name="Rectangle 5"/>
          <p:cNvSpPr/>
          <p:nvPr/>
        </p:nvSpPr>
        <p:spPr>
          <a:xfrm>
            <a:off x="0" y="2637000"/>
            <a:ext cx="8653320" cy="2232000"/>
          </a:xfrm>
          <a:prstGeom prst="rect">
            <a:avLst/>
          </a:prstGeom>
          <a:solidFill>
            <a:srgbClr val="204162"/>
          </a:soli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7" name="Rectangle 6"/>
          <p:cNvSpPr/>
          <p:nvPr/>
        </p:nvSpPr>
        <p:spPr>
          <a:xfrm>
            <a:off x="8893080" y="2637000"/>
            <a:ext cx="263520" cy="2232000"/>
          </a:xfrm>
          <a:prstGeom prst="rect">
            <a:avLst/>
          </a:prstGeom>
          <a:solidFill>
            <a:srgbClr val="204162"/>
          </a:soli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nvGrpSpPr>
          <p:cNvPr id="158" name="Group 97"/>
          <p:cNvGrpSpPr/>
          <p:nvPr/>
        </p:nvGrpSpPr>
        <p:grpSpPr>
          <a:xfrm>
            <a:off x="6012000" y="6143760"/>
            <a:ext cx="2860200" cy="575640"/>
            <a:chOff x="6012000" y="6143760"/>
            <a:chExt cx="2860200" cy="575640"/>
          </a:xfrm>
        </p:grpSpPr>
        <p:sp>
          <p:nvSpPr>
            <p:cNvPr id="159" name="Freeform 7"/>
            <p:cNvSpPr/>
            <p:nvPr/>
          </p:nvSpPr>
          <p:spPr>
            <a:xfrm>
              <a:off x="6012000" y="6381360"/>
              <a:ext cx="76320" cy="112680"/>
            </a:xfrm>
            <a:custGeom>
              <a:avLst/>
              <a:gdLst/>
              <a:ahLst/>
              <a:rect l="l" t="t" r="r" b="b"/>
              <a:pathLst>
                <a:path w="21600" h="21600">
                  <a:moveTo>
                    <a:pt x="0" y="0"/>
                  </a:moveTo>
                  <a:lnTo>
                    <a:pt x="0" y="21600"/>
                  </a:lnTo>
                  <a:lnTo>
                    <a:pt x="21600" y="21600"/>
                  </a:lnTo>
                  <a:lnTo>
                    <a:pt x="21600" y="18300"/>
                  </a:lnTo>
                  <a:lnTo>
                    <a:pt x="5616" y="18300"/>
                  </a:lnTo>
                  <a:lnTo>
                    <a:pt x="5616" y="12600"/>
                  </a:lnTo>
                  <a:lnTo>
                    <a:pt x="19872" y="12600"/>
                  </a:lnTo>
                  <a:lnTo>
                    <a:pt x="19872" y="9000"/>
                  </a:lnTo>
                  <a:lnTo>
                    <a:pt x="5616" y="9000"/>
                  </a:lnTo>
                  <a:lnTo>
                    <a:pt x="5616" y="3600"/>
                  </a:lnTo>
                  <a:lnTo>
                    <a:pt x="20304" y="3600"/>
                  </a:lnTo>
                  <a:lnTo>
                    <a:pt x="20304" y="0"/>
                  </a:lnTo>
                  <a:lnTo>
                    <a:pt x="0" y="0"/>
                  </a:lnTo>
                  <a:close/>
                  <a:moveTo>
                    <a:pt x="0"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0" name="Freeform 8"/>
            <p:cNvSpPr/>
            <p:nvPr/>
          </p:nvSpPr>
          <p:spPr>
            <a:xfrm>
              <a:off x="6102360" y="6418080"/>
              <a:ext cx="66960" cy="74160"/>
            </a:xfrm>
            <a:custGeom>
              <a:avLst/>
              <a:gdLst/>
              <a:ahLst/>
              <a:rect l="l" t="t" r="r" b="b"/>
              <a:pathLst>
                <a:path w="21600" h="21600">
                  <a:moveTo>
                    <a:pt x="21600" y="21600"/>
                  </a:moveTo>
                  <a:lnTo>
                    <a:pt x="15709" y="21600"/>
                  </a:lnTo>
                  <a:lnTo>
                    <a:pt x="15709" y="18000"/>
                  </a:lnTo>
                  <a:lnTo>
                    <a:pt x="14236" y="19800"/>
                  </a:lnTo>
                  <a:lnTo>
                    <a:pt x="12764" y="21150"/>
                  </a:lnTo>
                  <a:lnTo>
                    <a:pt x="10800" y="21600"/>
                  </a:lnTo>
                  <a:lnTo>
                    <a:pt x="8345" y="21600"/>
                  </a:lnTo>
                  <a:lnTo>
                    <a:pt x="6382" y="21600"/>
                  </a:lnTo>
                  <a:lnTo>
                    <a:pt x="4418" y="21150"/>
                  </a:lnTo>
                  <a:lnTo>
                    <a:pt x="1473" y="19800"/>
                  </a:lnTo>
                  <a:lnTo>
                    <a:pt x="0" y="16650"/>
                  </a:lnTo>
                  <a:lnTo>
                    <a:pt x="0" y="13950"/>
                  </a:lnTo>
                  <a:lnTo>
                    <a:pt x="0" y="0"/>
                  </a:lnTo>
                  <a:lnTo>
                    <a:pt x="5891" y="0"/>
                  </a:lnTo>
                  <a:lnTo>
                    <a:pt x="5891" y="10350"/>
                  </a:lnTo>
                  <a:lnTo>
                    <a:pt x="5891" y="13050"/>
                  </a:lnTo>
                  <a:lnTo>
                    <a:pt x="6382" y="15300"/>
                  </a:lnTo>
                  <a:lnTo>
                    <a:pt x="6873" y="16650"/>
                  </a:lnTo>
                  <a:lnTo>
                    <a:pt x="8345" y="17100"/>
                  </a:lnTo>
                  <a:lnTo>
                    <a:pt x="9818" y="17100"/>
                  </a:lnTo>
                  <a:lnTo>
                    <a:pt x="12273" y="16650"/>
                  </a:lnTo>
                  <a:lnTo>
                    <a:pt x="14236" y="15750"/>
                  </a:lnTo>
                  <a:lnTo>
                    <a:pt x="15218" y="13950"/>
                  </a:lnTo>
                  <a:lnTo>
                    <a:pt x="15218" y="11700"/>
                  </a:lnTo>
                  <a:lnTo>
                    <a:pt x="15218" y="0"/>
                  </a:lnTo>
                  <a:lnTo>
                    <a:pt x="21600" y="0"/>
                  </a:lnTo>
                  <a:lnTo>
                    <a:pt x="21600" y="21600"/>
                  </a:lnTo>
                  <a:close/>
                  <a:moveTo>
                    <a:pt x="21600" y="2160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1" name="Freeform 9"/>
            <p:cNvSpPr/>
            <p:nvPr/>
          </p:nvSpPr>
          <p:spPr>
            <a:xfrm>
              <a:off x="6189840" y="6414840"/>
              <a:ext cx="46080" cy="77400"/>
            </a:xfrm>
            <a:custGeom>
              <a:avLst/>
              <a:gdLst/>
              <a:ahLst/>
              <a:rect l="l" t="t" r="r" b="b"/>
              <a:pathLst>
                <a:path w="21600" h="21600">
                  <a:moveTo>
                    <a:pt x="0" y="864"/>
                  </a:moveTo>
                  <a:lnTo>
                    <a:pt x="9360" y="864"/>
                  </a:lnTo>
                  <a:lnTo>
                    <a:pt x="9360" y="3888"/>
                  </a:lnTo>
                  <a:lnTo>
                    <a:pt x="10080" y="2592"/>
                  </a:lnTo>
                  <a:lnTo>
                    <a:pt x="13680" y="1296"/>
                  </a:lnTo>
                  <a:lnTo>
                    <a:pt x="15840" y="864"/>
                  </a:lnTo>
                  <a:lnTo>
                    <a:pt x="18720" y="0"/>
                  </a:lnTo>
                  <a:lnTo>
                    <a:pt x="21600" y="864"/>
                  </a:lnTo>
                  <a:lnTo>
                    <a:pt x="21600" y="5184"/>
                  </a:lnTo>
                  <a:lnTo>
                    <a:pt x="18000" y="5184"/>
                  </a:lnTo>
                  <a:lnTo>
                    <a:pt x="15840" y="5184"/>
                  </a:lnTo>
                  <a:lnTo>
                    <a:pt x="13680" y="6048"/>
                  </a:lnTo>
                  <a:lnTo>
                    <a:pt x="10080" y="7344"/>
                  </a:lnTo>
                  <a:lnTo>
                    <a:pt x="9360" y="9072"/>
                  </a:lnTo>
                  <a:lnTo>
                    <a:pt x="9360" y="10368"/>
                  </a:lnTo>
                  <a:lnTo>
                    <a:pt x="9360"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2" name="AutoShape 10"/>
            <p:cNvSpPr/>
            <p:nvPr/>
          </p:nvSpPr>
          <p:spPr>
            <a:xfrm>
              <a:off x="6243840" y="6414840"/>
              <a:ext cx="79200" cy="77400"/>
            </a:xfrm>
            <a:custGeom>
              <a:avLst/>
              <a:gdLst/>
              <a:ahLst/>
              <a:rect l="l" t="t" r="r" b="b"/>
              <a:pathLst>
                <a:path w="21600" h="21600">
                  <a:moveTo>
                    <a:pt x="10588" y="17280"/>
                  </a:moveTo>
                  <a:lnTo>
                    <a:pt x="10588" y="17280"/>
                  </a:lnTo>
                  <a:lnTo>
                    <a:pt x="13129" y="16848"/>
                  </a:lnTo>
                  <a:lnTo>
                    <a:pt x="15671" y="15552"/>
                  </a:lnTo>
                  <a:lnTo>
                    <a:pt x="16094" y="13392"/>
                  </a:lnTo>
                  <a:lnTo>
                    <a:pt x="16941" y="10800"/>
                  </a:lnTo>
                  <a:lnTo>
                    <a:pt x="16094" y="9072"/>
                  </a:lnTo>
                  <a:lnTo>
                    <a:pt x="15671" y="6480"/>
                  </a:lnTo>
                  <a:lnTo>
                    <a:pt x="13129" y="5184"/>
                  </a:lnTo>
                  <a:lnTo>
                    <a:pt x="10588" y="4752"/>
                  </a:lnTo>
                  <a:lnTo>
                    <a:pt x="8047" y="5184"/>
                  </a:lnTo>
                  <a:lnTo>
                    <a:pt x="6353" y="6480"/>
                  </a:lnTo>
                  <a:lnTo>
                    <a:pt x="5506" y="9072"/>
                  </a:lnTo>
                  <a:lnTo>
                    <a:pt x="5082" y="10800"/>
                  </a:lnTo>
                  <a:lnTo>
                    <a:pt x="5506" y="13392"/>
                  </a:lnTo>
                  <a:lnTo>
                    <a:pt x="6353" y="15552"/>
                  </a:lnTo>
                  <a:lnTo>
                    <a:pt x="8047" y="16848"/>
                  </a:lnTo>
                  <a:lnTo>
                    <a:pt x="10588" y="17280"/>
                  </a:lnTo>
                  <a:close/>
                  <a:moveTo>
                    <a:pt x="10588" y="0"/>
                  </a:moveTo>
                  <a:lnTo>
                    <a:pt x="10588" y="0"/>
                  </a:lnTo>
                  <a:lnTo>
                    <a:pt x="13129" y="0"/>
                  </a:lnTo>
                  <a:lnTo>
                    <a:pt x="14824" y="864"/>
                  </a:lnTo>
                  <a:lnTo>
                    <a:pt x="16941" y="2160"/>
                  </a:lnTo>
                  <a:lnTo>
                    <a:pt x="18635" y="3456"/>
                  </a:lnTo>
                  <a:lnTo>
                    <a:pt x="19906" y="4752"/>
                  </a:lnTo>
                  <a:lnTo>
                    <a:pt x="21176" y="6480"/>
                  </a:lnTo>
                  <a:lnTo>
                    <a:pt x="21600" y="9072"/>
                  </a:lnTo>
                  <a:lnTo>
                    <a:pt x="21600" y="10800"/>
                  </a:lnTo>
                  <a:lnTo>
                    <a:pt x="21600" y="13392"/>
                  </a:lnTo>
                  <a:lnTo>
                    <a:pt x="21176" y="15552"/>
                  </a:lnTo>
                  <a:lnTo>
                    <a:pt x="19906" y="17280"/>
                  </a:lnTo>
                  <a:lnTo>
                    <a:pt x="18635" y="19440"/>
                  </a:lnTo>
                  <a:lnTo>
                    <a:pt x="16941" y="20304"/>
                  </a:lnTo>
                  <a:lnTo>
                    <a:pt x="14824" y="21168"/>
                  </a:lnTo>
                  <a:lnTo>
                    <a:pt x="13129" y="21600"/>
                  </a:lnTo>
                  <a:lnTo>
                    <a:pt x="10588" y="21600"/>
                  </a:lnTo>
                  <a:lnTo>
                    <a:pt x="8471" y="21600"/>
                  </a:lnTo>
                  <a:lnTo>
                    <a:pt x="6776" y="21168"/>
                  </a:lnTo>
                  <a:lnTo>
                    <a:pt x="4235" y="20304"/>
                  </a:lnTo>
                  <a:lnTo>
                    <a:pt x="2965" y="19440"/>
                  </a:lnTo>
                  <a:lnTo>
                    <a:pt x="1694" y="17280"/>
                  </a:lnTo>
                  <a:lnTo>
                    <a:pt x="424" y="15552"/>
                  </a:lnTo>
                  <a:lnTo>
                    <a:pt x="0" y="13392"/>
                  </a:lnTo>
                  <a:lnTo>
                    <a:pt x="0" y="10800"/>
                  </a:lnTo>
                  <a:lnTo>
                    <a:pt x="0" y="9072"/>
                  </a:lnTo>
                  <a:lnTo>
                    <a:pt x="424" y="6480"/>
                  </a:lnTo>
                  <a:lnTo>
                    <a:pt x="1694" y="4752"/>
                  </a:lnTo>
                  <a:lnTo>
                    <a:pt x="2965" y="3456"/>
                  </a:lnTo>
                  <a:lnTo>
                    <a:pt x="4235" y="2160"/>
                  </a:lnTo>
                  <a:lnTo>
                    <a:pt x="6776" y="864"/>
                  </a:lnTo>
                  <a:lnTo>
                    <a:pt x="8471" y="0"/>
                  </a:lnTo>
                  <a:lnTo>
                    <a:pt x="10588" y="0"/>
                  </a:lnTo>
                  <a:close/>
                  <a:moveTo>
                    <a:pt x="10588"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3" name="AutoShape 11"/>
            <p:cNvSpPr/>
            <p:nvPr/>
          </p:nvSpPr>
          <p:spPr>
            <a:xfrm>
              <a:off x="6336000" y="6414840"/>
              <a:ext cx="82440" cy="112320"/>
            </a:xfrm>
            <a:custGeom>
              <a:avLst/>
              <a:gdLst/>
              <a:ahLst/>
              <a:rect l="l" t="t" r="r" b="b"/>
              <a:pathLst>
                <a:path w="21600" h="21600">
                  <a:moveTo>
                    <a:pt x="11004" y="3300"/>
                  </a:moveTo>
                  <a:lnTo>
                    <a:pt x="11004" y="3300"/>
                  </a:lnTo>
                  <a:lnTo>
                    <a:pt x="8558" y="3600"/>
                  </a:lnTo>
                  <a:lnTo>
                    <a:pt x="6521" y="4500"/>
                  </a:lnTo>
                  <a:lnTo>
                    <a:pt x="5298" y="6300"/>
                  </a:lnTo>
                  <a:lnTo>
                    <a:pt x="4891" y="7500"/>
                  </a:lnTo>
                  <a:lnTo>
                    <a:pt x="5298" y="9300"/>
                  </a:lnTo>
                  <a:lnTo>
                    <a:pt x="6521" y="10800"/>
                  </a:lnTo>
                  <a:lnTo>
                    <a:pt x="8558" y="11700"/>
                  </a:lnTo>
                  <a:lnTo>
                    <a:pt x="11004" y="12000"/>
                  </a:lnTo>
                  <a:lnTo>
                    <a:pt x="13042" y="11700"/>
                  </a:lnTo>
                  <a:lnTo>
                    <a:pt x="15079" y="10800"/>
                  </a:lnTo>
                  <a:lnTo>
                    <a:pt x="16302" y="9300"/>
                  </a:lnTo>
                  <a:lnTo>
                    <a:pt x="16302" y="7500"/>
                  </a:lnTo>
                  <a:lnTo>
                    <a:pt x="16302" y="6300"/>
                  </a:lnTo>
                  <a:lnTo>
                    <a:pt x="15079" y="4500"/>
                  </a:lnTo>
                  <a:lnTo>
                    <a:pt x="13042" y="3600"/>
                  </a:lnTo>
                  <a:lnTo>
                    <a:pt x="11004" y="3300"/>
                  </a:lnTo>
                  <a:close/>
                  <a:moveTo>
                    <a:pt x="0" y="600"/>
                  </a:moveTo>
                  <a:lnTo>
                    <a:pt x="4891" y="600"/>
                  </a:lnTo>
                  <a:lnTo>
                    <a:pt x="4891" y="2700"/>
                  </a:lnTo>
                  <a:lnTo>
                    <a:pt x="6113" y="1500"/>
                  </a:lnTo>
                  <a:lnTo>
                    <a:pt x="7743" y="600"/>
                  </a:lnTo>
                  <a:lnTo>
                    <a:pt x="9781" y="0"/>
                  </a:lnTo>
                  <a:lnTo>
                    <a:pt x="11411" y="0"/>
                  </a:lnTo>
                  <a:lnTo>
                    <a:pt x="13857" y="0"/>
                  </a:lnTo>
                  <a:lnTo>
                    <a:pt x="15487" y="600"/>
                  </a:lnTo>
                  <a:lnTo>
                    <a:pt x="17525" y="1500"/>
                  </a:lnTo>
                  <a:lnTo>
                    <a:pt x="18747" y="2400"/>
                  </a:lnTo>
                  <a:lnTo>
                    <a:pt x="19970" y="3600"/>
                  </a:lnTo>
                  <a:lnTo>
                    <a:pt x="20377" y="5100"/>
                  </a:lnTo>
                  <a:lnTo>
                    <a:pt x="21600" y="7500"/>
                  </a:lnTo>
                  <a:lnTo>
                    <a:pt x="21192" y="9300"/>
                  </a:lnTo>
                  <a:lnTo>
                    <a:pt x="20377" y="10800"/>
                  </a:lnTo>
                  <a:lnTo>
                    <a:pt x="19970" y="12000"/>
                  </a:lnTo>
                  <a:lnTo>
                    <a:pt x="18747" y="13500"/>
                  </a:lnTo>
                  <a:lnTo>
                    <a:pt x="17525" y="14100"/>
                  </a:lnTo>
                  <a:lnTo>
                    <a:pt x="15487" y="14700"/>
                  </a:lnTo>
                  <a:lnTo>
                    <a:pt x="13857" y="15000"/>
                  </a:lnTo>
                  <a:lnTo>
                    <a:pt x="12226" y="15000"/>
                  </a:lnTo>
                  <a:lnTo>
                    <a:pt x="9781" y="15000"/>
                  </a:lnTo>
                  <a:lnTo>
                    <a:pt x="7743" y="14700"/>
                  </a:lnTo>
                  <a:lnTo>
                    <a:pt x="6113" y="13800"/>
                  </a:lnTo>
                  <a:lnTo>
                    <a:pt x="5298" y="12900"/>
                  </a:lnTo>
                  <a:lnTo>
                    <a:pt x="4891" y="12900"/>
                  </a:lnTo>
                  <a:lnTo>
                    <a:pt x="4891" y="21600"/>
                  </a:lnTo>
                  <a:lnTo>
                    <a:pt x="0" y="21600"/>
                  </a:lnTo>
                  <a:lnTo>
                    <a:pt x="0" y="600"/>
                  </a:lnTo>
                  <a:close/>
                  <a:moveTo>
                    <a:pt x="0" y="60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4" name="AutoShape 12"/>
            <p:cNvSpPr/>
            <p:nvPr/>
          </p:nvSpPr>
          <p:spPr>
            <a:xfrm>
              <a:off x="6427800" y="6414840"/>
              <a:ext cx="74880" cy="77400"/>
            </a:xfrm>
            <a:custGeom>
              <a:avLst/>
              <a:gdLst/>
              <a:ahLst/>
              <a:rect l="l" t="t" r="r" b="b"/>
              <a:pathLst>
                <a:path w="21600" h="21600">
                  <a:moveTo>
                    <a:pt x="16650" y="9072"/>
                  </a:moveTo>
                  <a:lnTo>
                    <a:pt x="16650" y="9072"/>
                  </a:lnTo>
                  <a:lnTo>
                    <a:pt x="15750" y="7344"/>
                  </a:lnTo>
                  <a:lnTo>
                    <a:pt x="15300" y="5184"/>
                  </a:lnTo>
                  <a:lnTo>
                    <a:pt x="13050" y="4752"/>
                  </a:lnTo>
                  <a:lnTo>
                    <a:pt x="11250" y="3888"/>
                  </a:lnTo>
                  <a:lnTo>
                    <a:pt x="8550" y="4752"/>
                  </a:lnTo>
                  <a:lnTo>
                    <a:pt x="7200" y="5184"/>
                  </a:lnTo>
                  <a:lnTo>
                    <a:pt x="5850" y="7344"/>
                  </a:lnTo>
                  <a:lnTo>
                    <a:pt x="5400" y="9072"/>
                  </a:lnTo>
                  <a:lnTo>
                    <a:pt x="16650" y="9072"/>
                  </a:lnTo>
                  <a:close/>
                  <a:moveTo>
                    <a:pt x="5400" y="12960"/>
                  </a:moveTo>
                  <a:lnTo>
                    <a:pt x="5400" y="12960"/>
                  </a:lnTo>
                  <a:lnTo>
                    <a:pt x="5850" y="14688"/>
                  </a:lnTo>
                  <a:lnTo>
                    <a:pt x="7200" y="16848"/>
                  </a:lnTo>
                  <a:lnTo>
                    <a:pt x="9000" y="17280"/>
                  </a:lnTo>
                  <a:lnTo>
                    <a:pt x="11250" y="18144"/>
                  </a:lnTo>
                  <a:lnTo>
                    <a:pt x="13050" y="18144"/>
                  </a:lnTo>
                  <a:lnTo>
                    <a:pt x="14400" y="17280"/>
                  </a:lnTo>
                  <a:lnTo>
                    <a:pt x="17100" y="14688"/>
                  </a:lnTo>
                  <a:lnTo>
                    <a:pt x="21150" y="18144"/>
                  </a:lnTo>
                  <a:lnTo>
                    <a:pt x="18450" y="19872"/>
                  </a:lnTo>
                  <a:lnTo>
                    <a:pt x="16650" y="21168"/>
                  </a:lnTo>
                  <a:lnTo>
                    <a:pt x="13950" y="21600"/>
                  </a:lnTo>
                  <a:lnTo>
                    <a:pt x="11700" y="21600"/>
                  </a:lnTo>
                  <a:lnTo>
                    <a:pt x="9000" y="21600"/>
                  </a:lnTo>
                  <a:lnTo>
                    <a:pt x="7200" y="21168"/>
                  </a:lnTo>
                  <a:lnTo>
                    <a:pt x="5400" y="20304"/>
                  </a:lnTo>
                  <a:lnTo>
                    <a:pt x="3150" y="19440"/>
                  </a:lnTo>
                  <a:lnTo>
                    <a:pt x="1800" y="17280"/>
                  </a:lnTo>
                  <a:lnTo>
                    <a:pt x="450" y="15552"/>
                  </a:lnTo>
                  <a:lnTo>
                    <a:pt x="0" y="13392"/>
                  </a:lnTo>
                  <a:lnTo>
                    <a:pt x="0" y="10800"/>
                  </a:lnTo>
                  <a:lnTo>
                    <a:pt x="0" y="9072"/>
                  </a:lnTo>
                  <a:lnTo>
                    <a:pt x="450" y="6480"/>
                  </a:lnTo>
                  <a:lnTo>
                    <a:pt x="1800" y="4752"/>
                  </a:lnTo>
                  <a:lnTo>
                    <a:pt x="3150" y="3456"/>
                  </a:lnTo>
                  <a:lnTo>
                    <a:pt x="5400" y="2160"/>
                  </a:lnTo>
                  <a:lnTo>
                    <a:pt x="7200" y="864"/>
                  </a:lnTo>
                  <a:lnTo>
                    <a:pt x="9000" y="0"/>
                  </a:lnTo>
                  <a:lnTo>
                    <a:pt x="11700" y="0"/>
                  </a:lnTo>
                  <a:lnTo>
                    <a:pt x="13950" y="0"/>
                  </a:lnTo>
                  <a:lnTo>
                    <a:pt x="15750" y="864"/>
                  </a:lnTo>
                  <a:lnTo>
                    <a:pt x="18000" y="2160"/>
                  </a:lnTo>
                  <a:lnTo>
                    <a:pt x="19350" y="3456"/>
                  </a:lnTo>
                  <a:lnTo>
                    <a:pt x="20250" y="4752"/>
                  </a:lnTo>
                  <a:lnTo>
                    <a:pt x="21150" y="6480"/>
                  </a:lnTo>
                  <a:lnTo>
                    <a:pt x="21600" y="9072"/>
                  </a:lnTo>
                  <a:lnTo>
                    <a:pt x="21600" y="11664"/>
                  </a:lnTo>
                  <a:lnTo>
                    <a:pt x="21600" y="12960"/>
                  </a:lnTo>
                  <a:lnTo>
                    <a:pt x="5400" y="12960"/>
                  </a:lnTo>
                  <a:close/>
                  <a:moveTo>
                    <a:pt x="5400" y="1296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5" name="AutoShape 13"/>
            <p:cNvSpPr/>
            <p:nvPr/>
          </p:nvSpPr>
          <p:spPr>
            <a:xfrm>
              <a:off x="6515280" y="6414840"/>
              <a:ext cx="68400" cy="77400"/>
            </a:xfrm>
            <a:custGeom>
              <a:avLst/>
              <a:gdLst/>
              <a:ahLst/>
              <a:rect l="l" t="t" r="r" b="b"/>
              <a:pathLst>
                <a:path w="21600" h="21600">
                  <a:moveTo>
                    <a:pt x="15709" y="12096"/>
                  </a:moveTo>
                  <a:lnTo>
                    <a:pt x="15218" y="12096"/>
                  </a:lnTo>
                  <a:lnTo>
                    <a:pt x="12273" y="12096"/>
                  </a:lnTo>
                  <a:lnTo>
                    <a:pt x="9327" y="12960"/>
                  </a:lnTo>
                  <a:lnTo>
                    <a:pt x="6873" y="13392"/>
                  </a:lnTo>
                  <a:lnTo>
                    <a:pt x="6382" y="14256"/>
                  </a:lnTo>
                  <a:lnTo>
                    <a:pt x="5400" y="15552"/>
                  </a:lnTo>
                  <a:lnTo>
                    <a:pt x="6382" y="16848"/>
                  </a:lnTo>
                  <a:lnTo>
                    <a:pt x="6873" y="17280"/>
                  </a:lnTo>
                  <a:lnTo>
                    <a:pt x="9818" y="18144"/>
                  </a:lnTo>
                  <a:lnTo>
                    <a:pt x="12764" y="18144"/>
                  </a:lnTo>
                  <a:lnTo>
                    <a:pt x="14236" y="16848"/>
                  </a:lnTo>
                  <a:lnTo>
                    <a:pt x="15709" y="15552"/>
                  </a:lnTo>
                  <a:lnTo>
                    <a:pt x="15709" y="13392"/>
                  </a:lnTo>
                  <a:lnTo>
                    <a:pt x="15709" y="12096"/>
                  </a:lnTo>
                  <a:close/>
                  <a:moveTo>
                    <a:pt x="16691" y="18576"/>
                  </a:moveTo>
                  <a:lnTo>
                    <a:pt x="16691" y="18576"/>
                  </a:lnTo>
                  <a:lnTo>
                    <a:pt x="15218" y="20304"/>
                  </a:lnTo>
                  <a:lnTo>
                    <a:pt x="12764" y="21168"/>
                  </a:lnTo>
                  <a:lnTo>
                    <a:pt x="10800" y="21600"/>
                  </a:lnTo>
                  <a:lnTo>
                    <a:pt x="8345" y="21600"/>
                  </a:lnTo>
                  <a:lnTo>
                    <a:pt x="5400" y="21600"/>
                  </a:lnTo>
                  <a:lnTo>
                    <a:pt x="2945" y="20304"/>
                  </a:lnTo>
                  <a:lnTo>
                    <a:pt x="491" y="18576"/>
                  </a:lnTo>
                  <a:lnTo>
                    <a:pt x="0" y="15984"/>
                  </a:lnTo>
                  <a:lnTo>
                    <a:pt x="491" y="13392"/>
                  </a:lnTo>
                  <a:lnTo>
                    <a:pt x="1473" y="11664"/>
                  </a:lnTo>
                  <a:lnTo>
                    <a:pt x="3436" y="10368"/>
                  </a:lnTo>
                  <a:lnTo>
                    <a:pt x="4909" y="9504"/>
                  </a:lnTo>
                  <a:lnTo>
                    <a:pt x="9818" y="9072"/>
                  </a:lnTo>
                  <a:lnTo>
                    <a:pt x="15218" y="8640"/>
                  </a:lnTo>
                  <a:lnTo>
                    <a:pt x="16691" y="8640"/>
                  </a:lnTo>
                  <a:lnTo>
                    <a:pt x="16691" y="7776"/>
                  </a:lnTo>
                  <a:lnTo>
                    <a:pt x="15709" y="6480"/>
                  </a:lnTo>
                  <a:lnTo>
                    <a:pt x="15218" y="5184"/>
                  </a:lnTo>
                  <a:lnTo>
                    <a:pt x="12764" y="4752"/>
                  </a:lnTo>
                  <a:lnTo>
                    <a:pt x="10800" y="3888"/>
                  </a:lnTo>
                  <a:lnTo>
                    <a:pt x="6873" y="4752"/>
                  </a:lnTo>
                  <a:lnTo>
                    <a:pt x="4909" y="6480"/>
                  </a:lnTo>
                  <a:lnTo>
                    <a:pt x="1473" y="3456"/>
                  </a:lnTo>
                  <a:lnTo>
                    <a:pt x="3436" y="2160"/>
                  </a:lnTo>
                  <a:lnTo>
                    <a:pt x="6382" y="864"/>
                  </a:lnTo>
                  <a:lnTo>
                    <a:pt x="8345" y="0"/>
                  </a:lnTo>
                  <a:lnTo>
                    <a:pt x="11291" y="0"/>
                  </a:lnTo>
                  <a:lnTo>
                    <a:pt x="15218" y="864"/>
                  </a:lnTo>
                  <a:lnTo>
                    <a:pt x="17182" y="1296"/>
                  </a:lnTo>
                  <a:lnTo>
                    <a:pt x="19145" y="2592"/>
                  </a:lnTo>
                  <a:lnTo>
                    <a:pt x="20127" y="3888"/>
                  </a:lnTo>
                  <a:lnTo>
                    <a:pt x="21600" y="7344"/>
                  </a:lnTo>
                  <a:lnTo>
                    <a:pt x="21600" y="9504"/>
                  </a:lnTo>
                  <a:lnTo>
                    <a:pt x="21600" y="21600"/>
                  </a:lnTo>
                  <a:lnTo>
                    <a:pt x="16691" y="21600"/>
                  </a:lnTo>
                  <a:lnTo>
                    <a:pt x="16691" y="18576"/>
                  </a:lnTo>
                  <a:close/>
                  <a:moveTo>
                    <a:pt x="16691" y="18576"/>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6" name="Freeform 14"/>
            <p:cNvSpPr/>
            <p:nvPr/>
          </p:nvSpPr>
          <p:spPr>
            <a:xfrm>
              <a:off x="6597720" y="6414840"/>
              <a:ext cx="68400" cy="77400"/>
            </a:xfrm>
            <a:custGeom>
              <a:avLst/>
              <a:gdLst/>
              <a:ahLst/>
              <a:rect l="l" t="t" r="r" b="b"/>
              <a:pathLst>
                <a:path w="21600" h="21600">
                  <a:moveTo>
                    <a:pt x="0" y="864"/>
                  </a:moveTo>
                  <a:lnTo>
                    <a:pt x="5891" y="864"/>
                  </a:lnTo>
                  <a:lnTo>
                    <a:pt x="5891" y="3888"/>
                  </a:lnTo>
                  <a:lnTo>
                    <a:pt x="7364" y="2592"/>
                  </a:lnTo>
                  <a:lnTo>
                    <a:pt x="8836" y="1296"/>
                  </a:lnTo>
                  <a:lnTo>
                    <a:pt x="10800" y="864"/>
                  </a:lnTo>
                  <a:lnTo>
                    <a:pt x="13255" y="0"/>
                  </a:lnTo>
                  <a:lnTo>
                    <a:pt x="15218" y="0"/>
                  </a:lnTo>
                  <a:lnTo>
                    <a:pt x="17182" y="864"/>
                  </a:lnTo>
                  <a:lnTo>
                    <a:pt x="19636" y="2592"/>
                  </a:lnTo>
                  <a:lnTo>
                    <a:pt x="21600" y="5184"/>
                  </a:lnTo>
                  <a:lnTo>
                    <a:pt x="21600" y="8640"/>
                  </a:lnTo>
                  <a:lnTo>
                    <a:pt x="21600" y="21600"/>
                  </a:lnTo>
                  <a:lnTo>
                    <a:pt x="15709" y="21600"/>
                  </a:lnTo>
                  <a:lnTo>
                    <a:pt x="15709" y="10800"/>
                  </a:lnTo>
                  <a:lnTo>
                    <a:pt x="15709" y="9072"/>
                  </a:lnTo>
                  <a:lnTo>
                    <a:pt x="15218" y="7344"/>
                  </a:lnTo>
                  <a:lnTo>
                    <a:pt x="13745" y="5184"/>
                  </a:lnTo>
                  <a:lnTo>
                    <a:pt x="13255" y="5184"/>
                  </a:lnTo>
                  <a:lnTo>
                    <a:pt x="11782" y="4752"/>
                  </a:lnTo>
                  <a:lnTo>
                    <a:pt x="9327" y="5184"/>
                  </a:lnTo>
                  <a:lnTo>
                    <a:pt x="7364" y="6480"/>
                  </a:lnTo>
                  <a:lnTo>
                    <a:pt x="6382" y="8640"/>
                  </a:lnTo>
                  <a:lnTo>
                    <a:pt x="5891" y="10368"/>
                  </a:lnTo>
                  <a:lnTo>
                    <a:pt x="5891"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7" name="Freeform 15"/>
            <p:cNvSpPr/>
            <p:nvPr/>
          </p:nvSpPr>
          <p:spPr>
            <a:xfrm>
              <a:off x="6734520" y="6381360"/>
              <a:ext cx="74880" cy="112680"/>
            </a:xfrm>
            <a:custGeom>
              <a:avLst/>
              <a:gdLst/>
              <a:ahLst/>
              <a:rect l="l" t="t" r="r" b="b"/>
              <a:pathLst>
                <a:path w="21600" h="21600">
                  <a:moveTo>
                    <a:pt x="0" y="0"/>
                  </a:moveTo>
                  <a:lnTo>
                    <a:pt x="20718" y="0"/>
                  </a:lnTo>
                  <a:lnTo>
                    <a:pt x="20718" y="3600"/>
                  </a:lnTo>
                  <a:lnTo>
                    <a:pt x="5290" y="3600"/>
                  </a:lnTo>
                  <a:lnTo>
                    <a:pt x="5290" y="9000"/>
                  </a:lnTo>
                  <a:lnTo>
                    <a:pt x="20278" y="9000"/>
                  </a:lnTo>
                  <a:lnTo>
                    <a:pt x="20278" y="12600"/>
                  </a:lnTo>
                  <a:lnTo>
                    <a:pt x="5290" y="12600"/>
                  </a:lnTo>
                  <a:lnTo>
                    <a:pt x="5290" y="18300"/>
                  </a:lnTo>
                  <a:lnTo>
                    <a:pt x="21600" y="18300"/>
                  </a:lnTo>
                  <a:lnTo>
                    <a:pt x="21600" y="21600"/>
                  </a:lnTo>
                  <a:lnTo>
                    <a:pt x="0" y="21600"/>
                  </a:lnTo>
                  <a:lnTo>
                    <a:pt x="0" y="0"/>
                  </a:lnTo>
                  <a:close/>
                  <a:moveTo>
                    <a:pt x="0"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8" name="Freeform 16"/>
            <p:cNvSpPr/>
            <p:nvPr/>
          </p:nvSpPr>
          <p:spPr>
            <a:xfrm>
              <a:off x="6826680" y="6414840"/>
              <a:ext cx="68400" cy="77400"/>
            </a:xfrm>
            <a:custGeom>
              <a:avLst/>
              <a:gdLst/>
              <a:ahLst/>
              <a:rect l="l" t="t" r="r" b="b"/>
              <a:pathLst>
                <a:path w="21600" h="21600">
                  <a:moveTo>
                    <a:pt x="0" y="864"/>
                  </a:moveTo>
                  <a:lnTo>
                    <a:pt x="5891" y="864"/>
                  </a:lnTo>
                  <a:lnTo>
                    <a:pt x="5891" y="3888"/>
                  </a:lnTo>
                  <a:lnTo>
                    <a:pt x="7364" y="2592"/>
                  </a:lnTo>
                  <a:lnTo>
                    <a:pt x="8836" y="1296"/>
                  </a:lnTo>
                  <a:lnTo>
                    <a:pt x="10800" y="864"/>
                  </a:lnTo>
                  <a:lnTo>
                    <a:pt x="12764" y="0"/>
                  </a:lnTo>
                  <a:lnTo>
                    <a:pt x="15218" y="0"/>
                  </a:lnTo>
                  <a:lnTo>
                    <a:pt x="17182" y="864"/>
                  </a:lnTo>
                  <a:lnTo>
                    <a:pt x="20127" y="2592"/>
                  </a:lnTo>
                  <a:lnTo>
                    <a:pt x="21600" y="5184"/>
                  </a:lnTo>
                  <a:lnTo>
                    <a:pt x="21600" y="8640"/>
                  </a:lnTo>
                  <a:lnTo>
                    <a:pt x="21600" y="21600"/>
                  </a:lnTo>
                  <a:lnTo>
                    <a:pt x="15709" y="21600"/>
                  </a:lnTo>
                  <a:lnTo>
                    <a:pt x="15709" y="10800"/>
                  </a:lnTo>
                  <a:lnTo>
                    <a:pt x="15709" y="9072"/>
                  </a:lnTo>
                  <a:lnTo>
                    <a:pt x="15218" y="7344"/>
                  </a:lnTo>
                  <a:lnTo>
                    <a:pt x="13745" y="5184"/>
                  </a:lnTo>
                  <a:lnTo>
                    <a:pt x="12764" y="5184"/>
                  </a:lnTo>
                  <a:lnTo>
                    <a:pt x="11782" y="4752"/>
                  </a:lnTo>
                  <a:lnTo>
                    <a:pt x="9327" y="5184"/>
                  </a:lnTo>
                  <a:lnTo>
                    <a:pt x="7364" y="6480"/>
                  </a:lnTo>
                  <a:lnTo>
                    <a:pt x="6382" y="8640"/>
                  </a:lnTo>
                  <a:lnTo>
                    <a:pt x="6382" y="10368"/>
                  </a:lnTo>
                  <a:lnTo>
                    <a:pt x="6382"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9" name="Freeform 17"/>
            <p:cNvSpPr/>
            <p:nvPr/>
          </p:nvSpPr>
          <p:spPr>
            <a:xfrm>
              <a:off x="6901200" y="6418080"/>
              <a:ext cx="79560" cy="74160"/>
            </a:xfrm>
            <a:custGeom>
              <a:avLst/>
              <a:gdLst/>
              <a:ahLst/>
              <a:rect l="l" t="t" r="r" b="b"/>
              <a:pathLst>
                <a:path w="21600" h="21600">
                  <a:moveTo>
                    <a:pt x="0" y="0"/>
                  </a:moveTo>
                  <a:lnTo>
                    <a:pt x="5506" y="0"/>
                  </a:lnTo>
                  <a:lnTo>
                    <a:pt x="11012" y="15300"/>
                  </a:lnTo>
                  <a:lnTo>
                    <a:pt x="16518" y="0"/>
                  </a:lnTo>
                  <a:lnTo>
                    <a:pt x="21600" y="0"/>
                  </a:lnTo>
                  <a:lnTo>
                    <a:pt x="13553" y="21600"/>
                  </a:lnTo>
                  <a:lnTo>
                    <a:pt x="8471" y="21600"/>
                  </a:lnTo>
                  <a:lnTo>
                    <a:pt x="0" y="0"/>
                  </a:lnTo>
                  <a:close/>
                  <a:moveTo>
                    <a:pt x="0"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0" name="AutoShape 18"/>
            <p:cNvSpPr/>
            <p:nvPr/>
          </p:nvSpPr>
          <p:spPr>
            <a:xfrm>
              <a:off x="6990120" y="6381360"/>
              <a:ext cx="22320" cy="112680"/>
            </a:xfrm>
            <a:custGeom>
              <a:avLst/>
              <a:gdLst/>
              <a:ahLst/>
              <a:rect l="l" t="t" r="r" b="b"/>
              <a:pathLst>
                <a:path w="21600" h="21600">
                  <a:moveTo>
                    <a:pt x="10080" y="0"/>
                  </a:moveTo>
                  <a:lnTo>
                    <a:pt x="10080" y="0"/>
                  </a:lnTo>
                  <a:lnTo>
                    <a:pt x="14400" y="0"/>
                  </a:lnTo>
                  <a:lnTo>
                    <a:pt x="18720" y="600"/>
                  </a:lnTo>
                  <a:lnTo>
                    <a:pt x="21600" y="1500"/>
                  </a:lnTo>
                  <a:lnTo>
                    <a:pt x="21600" y="2400"/>
                  </a:lnTo>
                  <a:lnTo>
                    <a:pt x="21600" y="3300"/>
                  </a:lnTo>
                  <a:lnTo>
                    <a:pt x="18720" y="3600"/>
                  </a:lnTo>
                  <a:lnTo>
                    <a:pt x="14400" y="4200"/>
                  </a:lnTo>
                  <a:lnTo>
                    <a:pt x="10080" y="4500"/>
                  </a:lnTo>
                  <a:lnTo>
                    <a:pt x="5760" y="4200"/>
                  </a:lnTo>
                  <a:lnTo>
                    <a:pt x="1440" y="3600"/>
                  </a:lnTo>
                  <a:lnTo>
                    <a:pt x="0" y="3300"/>
                  </a:lnTo>
                  <a:lnTo>
                    <a:pt x="0" y="2400"/>
                  </a:lnTo>
                  <a:lnTo>
                    <a:pt x="0" y="1500"/>
                  </a:lnTo>
                  <a:lnTo>
                    <a:pt x="1440" y="600"/>
                  </a:lnTo>
                  <a:lnTo>
                    <a:pt x="5760" y="0"/>
                  </a:lnTo>
                  <a:lnTo>
                    <a:pt x="10080" y="0"/>
                  </a:lnTo>
                  <a:close/>
                  <a:moveTo>
                    <a:pt x="1440" y="7200"/>
                  </a:moveTo>
                  <a:lnTo>
                    <a:pt x="18720" y="7200"/>
                  </a:lnTo>
                  <a:lnTo>
                    <a:pt x="18720" y="21600"/>
                  </a:lnTo>
                  <a:lnTo>
                    <a:pt x="1440" y="21600"/>
                  </a:lnTo>
                  <a:lnTo>
                    <a:pt x="1440" y="7200"/>
                  </a:lnTo>
                  <a:close/>
                  <a:moveTo>
                    <a:pt x="1440" y="720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1" name="Freeform 19"/>
            <p:cNvSpPr/>
            <p:nvPr/>
          </p:nvSpPr>
          <p:spPr>
            <a:xfrm>
              <a:off x="6990120" y="6381360"/>
              <a:ext cx="22320" cy="21960"/>
            </a:xfrm>
            <a:custGeom>
              <a:avLst/>
              <a:gdLst/>
              <a:ahLst/>
              <a:rect l="l" t="t" r="r" b="b"/>
              <a:pathLst>
                <a:path w="21600" h="21600">
                  <a:moveTo>
                    <a:pt x="10080" y="0"/>
                  </a:moveTo>
                  <a:lnTo>
                    <a:pt x="10080" y="0"/>
                  </a:lnTo>
                  <a:lnTo>
                    <a:pt x="14400" y="0"/>
                  </a:lnTo>
                  <a:lnTo>
                    <a:pt x="18720" y="2880"/>
                  </a:lnTo>
                  <a:lnTo>
                    <a:pt x="21600" y="7200"/>
                  </a:lnTo>
                  <a:lnTo>
                    <a:pt x="21600" y="11520"/>
                  </a:lnTo>
                  <a:lnTo>
                    <a:pt x="21600" y="15840"/>
                  </a:lnTo>
                  <a:lnTo>
                    <a:pt x="18720" y="17280"/>
                  </a:lnTo>
                  <a:lnTo>
                    <a:pt x="14400" y="20160"/>
                  </a:lnTo>
                  <a:lnTo>
                    <a:pt x="10080" y="21600"/>
                  </a:lnTo>
                  <a:lnTo>
                    <a:pt x="5760" y="20160"/>
                  </a:lnTo>
                  <a:lnTo>
                    <a:pt x="1440" y="17280"/>
                  </a:lnTo>
                  <a:lnTo>
                    <a:pt x="0" y="15840"/>
                  </a:lnTo>
                  <a:lnTo>
                    <a:pt x="0" y="11520"/>
                  </a:lnTo>
                  <a:lnTo>
                    <a:pt x="0" y="7200"/>
                  </a:lnTo>
                  <a:lnTo>
                    <a:pt x="1440" y="2880"/>
                  </a:lnTo>
                  <a:lnTo>
                    <a:pt x="5760" y="0"/>
                  </a:lnTo>
                  <a:lnTo>
                    <a:pt x="10080" y="0"/>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2" name="Rectangle 20"/>
            <p:cNvSpPr/>
            <p:nvPr/>
          </p:nvSpPr>
          <p:spPr>
            <a:xfrm>
              <a:off x="6991920" y="6418080"/>
              <a:ext cx="30240" cy="74160"/>
            </a:xfrm>
            <a:prstGeom prst="rect">
              <a:avLst/>
            </a:pr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3" name="Freeform 21"/>
            <p:cNvSpPr/>
            <p:nvPr/>
          </p:nvSpPr>
          <p:spPr>
            <a:xfrm>
              <a:off x="7030080" y="6414840"/>
              <a:ext cx="48960" cy="77400"/>
            </a:xfrm>
            <a:custGeom>
              <a:avLst/>
              <a:gdLst/>
              <a:ahLst/>
              <a:rect l="l" t="t" r="r" b="b"/>
              <a:pathLst>
                <a:path w="21600" h="21600">
                  <a:moveTo>
                    <a:pt x="0" y="864"/>
                  </a:moveTo>
                  <a:lnTo>
                    <a:pt x="8361" y="864"/>
                  </a:lnTo>
                  <a:lnTo>
                    <a:pt x="8361" y="3888"/>
                  </a:lnTo>
                  <a:lnTo>
                    <a:pt x="9755" y="3888"/>
                  </a:lnTo>
                  <a:lnTo>
                    <a:pt x="10452" y="2592"/>
                  </a:lnTo>
                  <a:lnTo>
                    <a:pt x="12542" y="1296"/>
                  </a:lnTo>
                  <a:lnTo>
                    <a:pt x="15329" y="864"/>
                  </a:lnTo>
                  <a:lnTo>
                    <a:pt x="18813" y="0"/>
                  </a:lnTo>
                  <a:lnTo>
                    <a:pt x="21600" y="864"/>
                  </a:lnTo>
                  <a:lnTo>
                    <a:pt x="21600" y="5184"/>
                  </a:lnTo>
                  <a:lnTo>
                    <a:pt x="17419" y="5184"/>
                  </a:lnTo>
                  <a:lnTo>
                    <a:pt x="15329" y="5184"/>
                  </a:lnTo>
                  <a:lnTo>
                    <a:pt x="13239" y="6048"/>
                  </a:lnTo>
                  <a:lnTo>
                    <a:pt x="10452" y="7344"/>
                  </a:lnTo>
                  <a:lnTo>
                    <a:pt x="9755" y="9072"/>
                  </a:lnTo>
                  <a:lnTo>
                    <a:pt x="8361" y="10368"/>
                  </a:lnTo>
                  <a:lnTo>
                    <a:pt x="8361"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4" name="AutoShape 22"/>
            <p:cNvSpPr/>
            <p:nvPr/>
          </p:nvSpPr>
          <p:spPr>
            <a:xfrm>
              <a:off x="7084080" y="6414840"/>
              <a:ext cx="80640" cy="77400"/>
            </a:xfrm>
            <a:custGeom>
              <a:avLst/>
              <a:gdLst/>
              <a:ahLst/>
              <a:rect l="l" t="t" r="r" b="b"/>
              <a:pathLst>
                <a:path w="21600" h="21600">
                  <a:moveTo>
                    <a:pt x="11004" y="17280"/>
                  </a:moveTo>
                  <a:lnTo>
                    <a:pt x="11004" y="17280"/>
                  </a:lnTo>
                  <a:lnTo>
                    <a:pt x="13042" y="16848"/>
                  </a:lnTo>
                  <a:lnTo>
                    <a:pt x="15079" y="15552"/>
                  </a:lnTo>
                  <a:lnTo>
                    <a:pt x="16302" y="13392"/>
                  </a:lnTo>
                  <a:lnTo>
                    <a:pt x="16709" y="10800"/>
                  </a:lnTo>
                  <a:lnTo>
                    <a:pt x="16302" y="9072"/>
                  </a:lnTo>
                  <a:lnTo>
                    <a:pt x="15079" y="6480"/>
                  </a:lnTo>
                  <a:lnTo>
                    <a:pt x="13042" y="5184"/>
                  </a:lnTo>
                  <a:lnTo>
                    <a:pt x="11004" y="4752"/>
                  </a:lnTo>
                  <a:lnTo>
                    <a:pt x="8558" y="5184"/>
                  </a:lnTo>
                  <a:lnTo>
                    <a:pt x="6521" y="6480"/>
                  </a:lnTo>
                  <a:lnTo>
                    <a:pt x="5298" y="9072"/>
                  </a:lnTo>
                  <a:lnTo>
                    <a:pt x="5298" y="10800"/>
                  </a:lnTo>
                  <a:lnTo>
                    <a:pt x="5298" y="13392"/>
                  </a:lnTo>
                  <a:lnTo>
                    <a:pt x="6521" y="15552"/>
                  </a:lnTo>
                  <a:lnTo>
                    <a:pt x="8558" y="16848"/>
                  </a:lnTo>
                  <a:lnTo>
                    <a:pt x="11004" y="17280"/>
                  </a:lnTo>
                  <a:close/>
                  <a:moveTo>
                    <a:pt x="11004" y="0"/>
                  </a:moveTo>
                  <a:lnTo>
                    <a:pt x="11004" y="0"/>
                  </a:lnTo>
                  <a:lnTo>
                    <a:pt x="13042" y="0"/>
                  </a:lnTo>
                  <a:lnTo>
                    <a:pt x="15079" y="864"/>
                  </a:lnTo>
                  <a:lnTo>
                    <a:pt x="16709" y="2160"/>
                  </a:lnTo>
                  <a:lnTo>
                    <a:pt x="18747" y="3456"/>
                  </a:lnTo>
                  <a:lnTo>
                    <a:pt x="19970" y="4752"/>
                  </a:lnTo>
                  <a:lnTo>
                    <a:pt x="21192" y="6480"/>
                  </a:lnTo>
                  <a:lnTo>
                    <a:pt x="21600" y="9072"/>
                  </a:lnTo>
                  <a:lnTo>
                    <a:pt x="21600" y="10800"/>
                  </a:lnTo>
                  <a:lnTo>
                    <a:pt x="21600" y="13392"/>
                  </a:lnTo>
                  <a:lnTo>
                    <a:pt x="21192" y="15552"/>
                  </a:lnTo>
                  <a:lnTo>
                    <a:pt x="19970" y="17280"/>
                  </a:lnTo>
                  <a:lnTo>
                    <a:pt x="18747" y="19440"/>
                  </a:lnTo>
                  <a:lnTo>
                    <a:pt x="16709" y="20304"/>
                  </a:lnTo>
                  <a:lnTo>
                    <a:pt x="15079" y="21168"/>
                  </a:lnTo>
                  <a:lnTo>
                    <a:pt x="13042" y="21600"/>
                  </a:lnTo>
                  <a:lnTo>
                    <a:pt x="11004" y="21600"/>
                  </a:lnTo>
                  <a:lnTo>
                    <a:pt x="8966" y="21600"/>
                  </a:lnTo>
                  <a:lnTo>
                    <a:pt x="6521" y="21168"/>
                  </a:lnTo>
                  <a:lnTo>
                    <a:pt x="4891" y="20304"/>
                  </a:lnTo>
                  <a:lnTo>
                    <a:pt x="3668" y="19440"/>
                  </a:lnTo>
                  <a:lnTo>
                    <a:pt x="1630" y="17280"/>
                  </a:lnTo>
                  <a:lnTo>
                    <a:pt x="1223" y="15552"/>
                  </a:lnTo>
                  <a:lnTo>
                    <a:pt x="815" y="13392"/>
                  </a:lnTo>
                  <a:lnTo>
                    <a:pt x="0" y="10800"/>
                  </a:lnTo>
                  <a:lnTo>
                    <a:pt x="815" y="9072"/>
                  </a:lnTo>
                  <a:lnTo>
                    <a:pt x="1223" y="6480"/>
                  </a:lnTo>
                  <a:lnTo>
                    <a:pt x="1630" y="4752"/>
                  </a:lnTo>
                  <a:lnTo>
                    <a:pt x="3668" y="3456"/>
                  </a:lnTo>
                  <a:lnTo>
                    <a:pt x="4891" y="2160"/>
                  </a:lnTo>
                  <a:lnTo>
                    <a:pt x="6521" y="864"/>
                  </a:lnTo>
                  <a:lnTo>
                    <a:pt x="8966" y="0"/>
                  </a:lnTo>
                  <a:lnTo>
                    <a:pt x="11004" y="0"/>
                  </a:lnTo>
                  <a:close/>
                  <a:moveTo>
                    <a:pt x="11004"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5" name="Freeform 23"/>
            <p:cNvSpPr/>
            <p:nvPr/>
          </p:nvSpPr>
          <p:spPr>
            <a:xfrm>
              <a:off x="7179120" y="6414840"/>
              <a:ext cx="68400" cy="77400"/>
            </a:xfrm>
            <a:custGeom>
              <a:avLst/>
              <a:gdLst/>
              <a:ahLst/>
              <a:rect l="l" t="t" r="r" b="b"/>
              <a:pathLst>
                <a:path w="21600" h="21600">
                  <a:moveTo>
                    <a:pt x="0" y="864"/>
                  </a:moveTo>
                  <a:lnTo>
                    <a:pt x="5891" y="864"/>
                  </a:lnTo>
                  <a:lnTo>
                    <a:pt x="5891" y="3888"/>
                  </a:lnTo>
                  <a:lnTo>
                    <a:pt x="6382" y="2592"/>
                  </a:lnTo>
                  <a:lnTo>
                    <a:pt x="7855" y="1296"/>
                  </a:lnTo>
                  <a:lnTo>
                    <a:pt x="9818" y="864"/>
                  </a:lnTo>
                  <a:lnTo>
                    <a:pt x="12764" y="0"/>
                  </a:lnTo>
                  <a:lnTo>
                    <a:pt x="15218" y="0"/>
                  </a:lnTo>
                  <a:lnTo>
                    <a:pt x="17182" y="864"/>
                  </a:lnTo>
                  <a:lnTo>
                    <a:pt x="19145" y="2592"/>
                  </a:lnTo>
                  <a:lnTo>
                    <a:pt x="20618" y="5184"/>
                  </a:lnTo>
                  <a:lnTo>
                    <a:pt x="21600" y="8640"/>
                  </a:lnTo>
                  <a:lnTo>
                    <a:pt x="21600" y="21600"/>
                  </a:lnTo>
                  <a:lnTo>
                    <a:pt x="15709" y="21600"/>
                  </a:lnTo>
                  <a:lnTo>
                    <a:pt x="15709" y="10800"/>
                  </a:lnTo>
                  <a:lnTo>
                    <a:pt x="15709" y="9072"/>
                  </a:lnTo>
                  <a:lnTo>
                    <a:pt x="15218" y="7344"/>
                  </a:lnTo>
                  <a:lnTo>
                    <a:pt x="13745" y="5184"/>
                  </a:lnTo>
                  <a:lnTo>
                    <a:pt x="12764" y="5184"/>
                  </a:lnTo>
                  <a:lnTo>
                    <a:pt x="11291" y="4752"/>
                  </a:lnTo>
                  <a:lnTo>
                    <a:pt x="8345" y="5184"/>
                  </a:lnTo>
                  <a:lnTo>
                    <a:pt x="6873" y="6480"/>
                  </a:lnTo>
                  <a:lnTo>
                    <a:pt x="6382" y="8640"/>
                  </a:lnTo>
                  <a:lnTo>
                    <a:pt x="5891" y="10368"/>
                  </a:lnTo>
                  <a:lnTo>
                    <a:pt x="5891"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6" name="Freeform 24"/>
            <p:cNvSpPr/>
            <p:nvPr/>
          </p:nvSpPr>
          <p:spPr>
            <a:xfrm>
              <a:off x="7268040" y="6414840"/>
              <a:ext cx="114480" cy="77400"/>
            </a:xfrm>
            <a:custGeom>
              <a:avLst/>
              <a:gdLst/>
              <a:ahLst/>
              <a:rect l="l" t="t" r="r" b="b"/>
              <a:pathLst>
                <a:path w="21600" h="21600">
                  <a:moveTo>
                    <a:pt x="0" y="864"/>
                  </a:moveTo>
                  <a:lnTo>
                    <a:pt x="2919" y="864"/>
                  </a:lnTo>
                  <a:lnTo>
                    <a:pt x="2919" y="3888"/>
                  </a:lnTo>
                  <a:lnTo>
                    <a:pt x="3795" y="2592"/>
                  </a:lnTo>
                  <a:lnTo>
                    <a:pt x="4670" y="1296"/>
                  </a:lnTo>
                  <a:lnTo>
                    <a:pt x="6130" y="864"/>
                  </a:lnTo>
                  <a:lnTo>
                    <a:pt x="7297" y="0"/>
                  </a:lnTo>
                  <a:lnTo>
                    <a:pt x="9049" y="0"/>
                  </a:lnTo>
                  <a:lnTo>
                    <a:pt x="10216" y="1296"/>
                  </a:lnTo>
                  <a:lnTo>
                    <a:pt x="11092" y="2160"/>
                  </a:lnTo>
                  <a:lnTo>
                    <a:pt x="11968" y="3888"/>
                  </a:lnTo>
                  <a:lnTo>
                    <a:pt x="12843" y="2160"/>
                  </a:lnTo>
                  <a:lnTo>
                    <a:pt x="13719" y="1296"/>
                  </a:lnTo>
                  <a:lnTo>
                    <a:pt x="15178" y="0"/>
                  </a:lnTo>
                  <a:lnTo>
                    <a:pt x="16346" y="0"/>
                  </a:lnTo>
                  <a:lnTo>
                    <a:pt x="17514" y="0"/>
                  </a:lnTo>
                  <a:lnTo>
                    <a:pt x="18973" y="864"/>
                  </a:lnTo>
                  <a:lnTo>
                    <a:pt x="19849" y="1296"/>
                  </a:lnTo>
                  <a:lnTo>
                    <a:pt x="20724" y="2592"/>
                  </a:lnTo>
                  <a:lnTo>
                    <a:pt x="21600" y="6048"/>
                  </a:lnTo>
                  <a:lnTo>
                    <a:pt x="21600" y="9072"/>
                  </a:lnTo>
                  <a:lnTo>
                    <a:pt x="21600" y="21600"/>
                  </a:lnTo>
                  <a:lnTo>
                    <a:pt x="18097" y="21600"/>
                  </a:lnTo>
                  <a:lnTo>
                    <a:pt x="18097" y="9504"/>
                  </a:lnTo>
                  <a:lnTo>
                    <a:pt x="18097" y="7776"/>
                  </a:lnTo>
                  <a:lnTo>
                    <a:pt x="17514" y="6480"/>
                  </a:lnTo>
                  <a:lnTo>
                    <a:pt x="16638" y="5184"/>
                  </a:lnTo>
                  <a:lnTo>
                    <a:pt x="15470" y="4752"/>
                  </a:lnTo>
                  <a:lnTo>
                    <a:pt x="14303" y="5184"/>
                  </a:lnTo>
                  <a:lnTo>
                    <a:pt x="13427" y="6480"/>
                  </a:lnTo>
                  <a:lnTo>
                    <a:pt x="12551" y="8640"/>
                  </a:lnTo>
                  <a:lnTo>
                    <a:pt x="12551" y="10368"/>
                  </a:lnTo>
                  <a:lnTo>
                    <a:pt x="12551" y="21600"/>
                  </a:lnTo>
                  <a:lnTo>
                    <a:pt x="9049" y="21600"/>
                  </a:lnTo>
                  <a:lnTo>
                    <a:pt x="9049" y="9072"/>
                  </a:lnTo>
                  <a:lnTo>
                    <a:pt x="8465" y="7344"/>
                  </a:lnTo>
                  <a:lnTo>
                    <a:pt x="8173" y="6048"/>
                  </a:lnTo>
                  <a:lnTo>
                    <a:pt x="7881" y="5184"/>
                  </a:lnTo>
                  <a:lnTo>
                    <a:pt x="6422" y="4752"/>
                  </a:lnTo>
                  <a:lnTo>
                    <a:pt x="5254" y="5184"/>
                  </a:lnTo>
                  <a:lnTo>
                    <a:pt x="3795" y="6480"/>
                  </a:lnTo>
                  <a:lnTo>
                    <a:pt x="3503" y="8640"/>
                  </a:lnTo>
                  <a:lnTo>
                    <a:pt x="3503" y="10368"/>
                  </a:lnTo>
                  <a:lnTo>
                    <a:pt x="3503"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7" name="AutoShape 25"/>
            <p:cNvSpPr/>
            <p:nvPr/>
          </p:nvSpPr>
          <p:spPr>
            <a:xfrm>
              <a:off x="7395120" y="6414840"/>
              <a:ext cx="76320" cy="77400"/>
            </a:xfrm>
            <a:custGeom>
              <a:avLst/>
              <a:gdLst/>
              <a:ahLst/>
              <a:rect l="l" t="t" r="r" b="b"/>
              <a:pathLst>
                <a:path w="21600" h="21600">
                  <a:moveTo>
                    <a:pt x="16310" y="9072"/>
                  </a:moveTo>
                  <a:lnTo>
                    <a:pt x="16310" y="9072"/>
                  </a:lnTo>
                  <a:lnTo>
                    <a:pt x="15869" y="7344"/>
                  </a:lnTo>
                  <a:lnTo>
                    <a:pt x="14988" y="5184"/>
                  </a:lnTo>
                  <a:lnTo>
                    <a:pt x="13224" y="4752"/>
                  </a:lnTo>
                  <a:lnTo>
                    <a:pt x="11020" y="3888"/>
                  </a:lnTo>
                  <a:lnTo>
                    <a:pt x="8376" y="4752"/>
                  </a:lnTo>
                  <a:lnTo>
                    <a:pt x="7494" y="5184"/>
                  </a:lnTo>
                  <a:lnTo>
                    <a:pt x="6171" y="7344"/>
                  </a:lnTo>
                  <a:lnTo>
                    <a:pt x="5290" y="9072"/>
                  </a:lnTo>
                  <a:lnTo>
                    <a:pt x="16310" y="9072"/>
                  </a:lnTo>
                  <a:close/>
                  <a:moveTo>
                    <a:pt x="5290" y="12960"/>
                  </a:moveTo>
                  <a:lnTo>
                    <a:pt x="5290" y="12960"/>
                  </a:lnTo>
                  <a:lnTo>
                    <a:pt x="6171" y="14688"/>
                  </a:lnTo>
                  <a:lnTo>
                    <a:pt x="7494" y="16848"/>
                  </a:lnTo>
                  <a:lnTo>
                    <a:pt x="9257" y="17280"/>
                  </a:lnTo>
                  <a:lnTo>
                    <a:pt x="11020" y="18144"/>
                  </a:lnTo>
                  <a:lnTo>
                    <a:pt x="13224" y="18144"/>
                  </a:lnTo>
                  <a:lnTo>
                    <a:pt x="14547" y="17280"/>
                  </a:lnTo>
                  <a:lnTo>
                    <a:pt x="17192" y="14688"/>
                  </a:lnTo>
                  <a:lnTo>
                    <a:pt x="20718" y="18144"/>
                  </a:lnTo>
                  <a:lnTo>
                    <a:pt x="18955" y="19872"/>
                  </a:lnTo>
                  <a:lnTo>
                    <a:pt x="16310" y="21168"/>
                  </a:lnTo>
                  <a:lnTo>
                    <a:pt x="14547" y="21600"/>
                  </a:lnTo>
                  <a:lnTo>
                    <a:pt x="11902" y="21600"/>
                  </a:lnTo>
                  <a:lnTo>
                    <a:pt x="9257" y="21600"/>
                  </a:lnTo>
                  <a:lnTo>
                    <a:pt x="7494" y="21168"/>
                  </a:lnTo>
                  <a:lnTo>
                    <a:pt x="5290" y="20304"/>
                  </a:lnTo>
                  <a:lnTo>
                    <a:pt x="3527" y="19440"/>
                  </a:lnTo>
                  <a:lnTo>
                    <a:pt x="2204" y="17280"/>
                  </a:lnTo>
                  <a:lnTo>
                    <a:pt x="882" y="15552"/>
                  </a:lnTo>
                  <a:lnTo>
                    <a:pt x="0" y="13392"/>
                  </a:lnTo>
                  <a:lnTo>
                    <a:pt x="0" y="10800"/>
                  </a:lnTo>
                  <a:lnTo>
                    <a:pt x="0" y="9072"/>
                  </a:lnTo>
                  <a:lnTo>
                    <a:pt x="882" y="6480"/>
                  </a:lnTo>
                  <a:lnTo>
                    <a:pt x="2204" y="4752"/>
                  </a:lnTo>
                  <a:lnTo>
                    <a:pt x="3527" y="3456"/>
                  </a:lnTo>
                  <a:lnTo>
                    <a:pt x="5290" y="2160"/>
                  </a:lnTo>
                  <a:lnTo>
                    <a:pt x="7494" y="864"/>
                  </a:lnTo>
                  <a:lnTo>
                    <a:pt x="9257" y="0"/>
                  </a:lnTo>
                  <a:lnTo>
                    <a:pt x="11902" y="0"/>
                  </a:lnTo>
                  <a:lnTo>
                    <a:pt x="13665" y="0"/>
                  </a:lnTo>
                  <a:lnTo>
                    <a:pt x="15869" y="864"/>
                  </a:lnTo>
                  <a:lnTo>
                    <a:pt x="17633" y="2160"/>
                  </a:lnTo>
                  <a:lnTo>
                    <a:pt x="18955" y="3456"/>
                  </a:lnTo>
                  <a:lnTo>
                    <a:pt x="20278" y="4752"/>
                  </a:lnTo>
                  <a:lnTo>
                    <a:pt x="20718" y="6480"/>
                  </a:lnTo>
                  <a:lnTo>
                    <a:pt x="21600" y="9072"/>
                  </a:lnTo>
                  <a:lnTo>
                    <a:pt x="21600" y="11664"/>
                  </a:lnTo>
                  <a:lnTo>
                    <a:pt x="21600" y="12960"/>
                  </a:lnTo>
                  <a:lnTo>
                    <a:pt x="5290" y="12960"/>
                  </a:lnTo>
                  <a:close/>
                  <a:moveTo>
                    <a:pt x="5290" y="1296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8" name="Freeform 26"/>
            <p:cNvSpPr/>
            <p:nvPr/>
          </p:nvSpPr>
          <p:spPr>
            <a:xfrm>
              <a:off x="7485840" y="6414840"/>
              <a:ext cx="68400" cy="77400"/>
            </a:xfrm>
            <a:custGeom>
              <a:avLst/>
              <a:gdLst/>
              <a:ahLst/>
              <a:rect l="l" t="t" r="r" b="b"/>
              <a:pathLst>
                <a:path w="21600" h="21600">
                  <a:moveTo>
                    <a:pt x="0" y="864"/>
                  </a:moveTo>
                  <a:lnTo>
                    <a:pt x="5891" y="864"/>
                  </a:lnTo>
                  <a:lnTo>
                    <a:pt x="5891" y="3888"/>
                  </a:lnTo>
                  <a:lnTo>
                    <a:pt x="7364" y="2592"/>
                  </a:lnTo>
                  <a:lnTo>
                    <a:pt x="8836" y="1296"/>
                  </a:lnTo>
                  <a:lnTo>
                    <a:pt x="10800" y="864"/>
                  </a:lnTo>
                  <a:lnTo>
                    <a:pt x="13255" y="0"/>
                  </a:lnTo>
                  <a:lnTo>
                    <a:pt x="15218" y="0"/>
                  </a:lnTo>
                  <a:lnTo>
                    <a:pt x="17182" y="864"/>
                  </a:lnTo>
                  <a:lnTo>
                    <a:pt x="20127" y="2592"/>
                  </a:lnTo>
                  <a:lnTo>
                    <a:pt x="21600" y="5184"/>
                  </a:lnTo>
                  <a:lnTo>
                    <a:pt x="21600" y="8640"/>
                  </a:lnTo>
                  <a:lnTo>
                    <a:pt x="21600" y="21600"/>
                  </a:lnTo>
                  <a:lnTo>
                    <a:pt x="15709" y="21600"/>
                  </a:lnTo>
                  <a:lnTo>
                    <a:pt x="15709" y="10800"/>
                  </a:lnTo>
                  <a:lnTo>
                    <a:pt x="15709" y="9072"/>
                  </a:lnTo>
                  <a:lnTo>
                    <a:pt x="15218" y="7344"/>
                  </a:lnTo>
                  <a:lnTo>
                    <a:pt x="13745" y="5184"/>
                  </a:lnTo>
                  <a:lnTo>
                    <a:pt x="13255" y="5184"/>
                  </a:lnTo>
                  <a:lnTo>
                    <a:pt x="11782" y="4752"/>
                  </a:lnTo>
                  <a:lnTo>
                    <a:pt x="9327" y="5184"/>
                  </a:lnTo>
                  <a:lnTo>
                    <a:pt x="7364" y="6480"/>
                  </a:lnTo>
                  <a:lnTo>
                    <a:pt x="6382" y="8640"/>
                  </a:lnTo>
                  <a:lnTo>
                    <a:pt x="6382" y="10368"/>
                  </a:lnTo>
                  <a:lnTo>
                    <a:pt x="6382"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9" name="Freeform 27"/>
            <p:cNvSpPr/>
            <p:nvPr/>
          </p:nvSpPr>
          <p:spPr>
            <a:xfrm>
              <a:off x="7566840" y="6395760"/>
              <a:ext cx="54000" cy="98280"/>
            </a:xfrm>
            <a:custGeom>
              <a:avLst/>
              <a:gdLst/>
              <a:ahLst/>
              <a:rect l="l" t="t" r="r" b="b"/>
              <a:pathLst>
                <a:path w="21600" h="21600">
                  <a:moveTo>
                    <a:pt x="0" y="8571"/>
                  </a:moveTo>
                  <a:lnTo>
                    <a:pt x="0" y="5143"/>
                  </a:lnTo>
                  <a:lnTo>
                    <a:pt x="6171" y="5143"/>
                  </a:lnTo>
                  <a:lnTo>
                    <a:pt x="6171" y="0"/>
                  </a:lnTo>
                  <a:lnTo>
                    <a:pt x="13577" y="0"/>
                  </a:lnTo>
                  <a:lnTo>
                    <a:pt x="13577" y="5143"/>
                  </a:lnTo>
                  <a:lnTo>
                    <a:pt x="21600" y="5143"/>
                  </a:lnTo>
                  <a:lnTo>
                    <a:pt x="21600" y="8571"/>
                  </a:lnTo>
                  <a:lnTo>
                    <a:pt x="13577" y="8571"/>
                  </a:lnTo>
                  <a:lnTo>
                    <a:pt x="13577" y="15771"/>
                  </a:lnTo>
                  <a:lnTo>
                    <a:pt x="14194" y="16800"/>
                  </a:lnTo>
                  <a:lnTo>
                    <a:pt x="14194" y="17829"/>
                  </a:lnTo>
                  <a:lnTo>
                    <a:pt x="16046" y="18171"/>
                  </a:lnTo>
                  <a:lnTo>
                    <a:pt x="17897" y="18857"/>
                  </a:lnTo>
                  <a:lnTo>
                    <a:pt x="19749" y="18171"/>
                  </a:lnTo>
                  <a:lnTo>
                    <a:pt x="21600" y="17829"/>
                  </a:lnTo>
                  <a:lnTo>
                    <a:pt x="21600" y="21257"/>
                  </a:lnTo>
                  <a:lnTo>
                    <a:pt x="18514" y="21600"/>
                  </a:lnTo>
                  <a:lnTo>
                    <a:pt x="16046" y="21600"/>
                  </a:lnTo>
                  <a:lnTo>
                    <a:pt x="11726" y="21600"/>
                  </a:lnTo>
                  <a:lnTo>
                    <a:pt x="8023" y="20571"/>
                  </a:lnTo>
                  <a:lnTo>
                    <a:pt x="6789" y="18857"/>
                  </a:lnTo>
                  <a:lnTo>
                    <a:pt x="6171" y="16114"/>
                  </a:lnTo>
                  <a:lnTo>
                    <a:pt x="6171" y="8571"/>
                  </a:lnTo>
                  <a:lnTo>
                    <a:pt x="0" y="8571"/>
                  </a:lnTo>
                  <a:close/>
                  <a:moveTo>
                    <a:pt x="0" y="8571"/>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0" name="AutoShape 28"/>
            <p:cNvSpPr/>
            <p:nvPr/>
          </p:nvSpPr>
          <p:spPr>
            <a:xfrm>
              <a:off x="7670160" y="6381360"/>
              <a:ext cx="112680" cy="112680"/>
            </a:xfrm>
            <a:custGeom>
              <a:avLst/>
              <a:gdLst/>
              <a:ahLst/>
              <a:rect l="l" t="t" r="r" b="b"/>
              <a:pathLst>
                <a:path w="21600" h="21600">
                  <a:moveTo>
                    <a:pt x="14100" y="13200"/>
                  </a:moveTo>
                  <a:lnTo>
                    <a:pt x="10500" y="5100"/>
                  </a:lnTo>
                  <a:lnTo>
                    <a:pt x="7500" y="13200"/>
                  </a:lnTo>
                  <a:lnTo>
                    <a:pt x="14100" y="13200"/>
                  </a:lnTo>
                  <a:close/>
                  <a:moveTo>
                    <a:pt x="9300" y="0"/>
                  </a:moveTo>
                  <a:lnTo>
                    <a:pt x="12300" y="0"/>
                  </a:lnTo>
                  <a:lnTo>
                    <a:pt x="21600" y="21600"/>
                  </a:lnTo>
                  <a:lnTo>
                    <a:pt x="17100" y="21600"/>
                  </a:lnTo>
                  <a:lnTo>
                    <a:pt x="15600" y="16800"/>
                  </a:lnTo>
                  <a:lnTo>
                    <a:pt x="6300" y="16800"/>
                  </a:lnTo>
                  <a:lnTo>
                    <a:pt x="3900" y="21600"/>
                  </a:lnTo>
                  <a:lnTo>
                    <a:pt x="0" y="21600"/>
                  </a:lnTo>
                  <a:lnTo>
                    <a:pt x="9300" y="0"/>
                  </a:lnTo>
                  <a:close/>
                  <a:moveTo>
                    <a:pt x="9300"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1" name="AutoShape 29"/>
            <p:cNvSpPr/>
            <p:nvPr/>
          </p:nvSpPr>
          <p:spPr>
            <a:xfrm>
              <a:off x="7786080" y="6414840"/>
              <a:ext cx="81000" cy="114120"/>
            </a:xfrm>
            <a:custGeom>
              <a:avLst/>
              <a:gdLst/>
              <a:ahLst/>
              <a:rect l="l" t="t" r="r" b="b"/>
              <a:pathLst>
                <a:path w="21600" h="21600">
                  <a:moveTo>
                    <a:pt x="4483" y="7297"/>
                  </a:moveTo>
                  <a:lnTo>
                    <a:pt x="4483" y="7297"/>
                  </a:lnTo>
                  <a:lnTo>
                    <a:pt x="5298" y="9049"/>
                  </a:lnTo>
                  <a:lnTo>
                    <a:pt x="6521" y="10508"/>
                  </a:lnTo>
                  <a:lnTo>
                    <a:pt x="8151" y="11384"/>
                  </a:lnTo>
                  <a:lnTo>
                    <a:pt x="10596" y="11676"/>
                  </a:lnTo>
                  <a:lnTo>
                    <a:pt x="13042" y="11384"/>
                  </a:lnTo>
                  <a:lnTo>
                    <a:pt x="14672" y="10508"/>
                  </a:lnTo>
                  <a:lnTo>
                    <a:pt x="15894" y="9049"/>
                  </a:lnTo>
                  <a:lnTo>
                    <a:pt x="16709" y="7297"/>
                  </a:lnTo>
                  <a:lnTo>
                    <a:pt x="15894" y="5838"/>
                  </a:lnTo>
                  <a:lnTo>
                    <a:pt x="14672" y="4378"/>
                  </a:lnTo>
                  <a:lnTo>
                    <a:pt x="13042" y="3503"/>
                  </a:lnTo>
                  <a:lnTo>
                    <a:pt x="10596" y="3211"/>
                  </a:lnTo>
                  <a:lnTo>
                    <a:pt x="8151" y="3503"/>
                  </a:lnTo>
                  <a:lnTo>
                    <a:pt x="6521" y="4378"/>
                  </a:lnTo>
                  <a:lnTo>
                    <a:pt x="5298" y="5838"/>
                  </a:lnTo>
                  <a:lnTo>
                    <a:pt x="4483" y="7297"/>
                  </a:lnTo>
                  <a:close/>
                  <a:moveTo>
                    <a:pt x="21600" y="584"/>
                  </a:moveTo>
                  <a:lnTo>
                    <a:pt x="21600" y="13427"/>
                  </a:lnTo>
                  <a:lnTo>
                    <a:pt x="20785" y="15178"/>
                  </a:lnTo>
                  <a:lnTo>
                    <a:pt x="20377" y="16930"/>
                  </a:lnTo>
                  <a:lnTo>
                    <a:pt x="19562" y="18097"/>
                  </a:lnTo>
                  <a:lnTo>
                    <a:pt x="18340" y="19557"/>
                  </a:lnTo>
                  <a:lnTo>
                    <a:pt x="17117" y="20432"/>
                  </a:lnTo>
                  <a:lnTo>
                    <a:pt x="14672" y="21016"/>
                  </a:lnTo>
                  <a:lnTo>
                    <a:pt x="13042" y="21600"/>
                  </a:lnTo>
                  <a:lnTo>
                    <a:pt x="10189" y="21600"/>
                  </a:lnTo>
                  <a:lnTo>
                    <a:pt x="7743" y="21600"/>
                  </a:lnTo>
                  <a:lnTo>
                    <a:pt x="4483" y="21016"/>
                  </a:lnTo>
                  <a:lnTo>
                    <a:pt x="2445" y="20432"/>
                  </a:lnTo>
                  <a:lnTo>
                    <a:pt x="408" y="19557"/>
                  </a:lnTo>
                  <a:lnTo>
                    <a:pt x="3260" y="16346"/>
                  </a:lnTo>
                  <a:lnTo>
                    <a:pt x="6521" y="17805"/>
                  </a:lnTo>
                  <a:lnTo>
                    <a:pt x="8151" y="18097"/>
                  </a:lnTo>
                  <a:lnTo>
                    <a:pt x="10189" y="18681"/>
                  </a:lnTo>
                  <a:lnTo>
                    <a:pt x="13042" y="18097"/>
                  </a:lnTo>
                  <a:lnTo>
                    <a:pt x="14672" y="17222"/>
                  </a:lnTo>
                  <a:lnTo>
                    <a:pt x="15894" y="15470"/>
                  </a:lnTo>
                  <a:lnTo>
                    <a:pt x="15894" y="13719"/>
                  </a:lnTo>
                  <a:lnTo>
                    <a:pt x="15894" y="12551"/>
                  </a:lnTo>
                  <a:lnTo>
                    <a:pt x="14672" y="13427"/>
                  </a:lnTo>
                  <a:lnTo>
                    <a:pt x="13449" y="14303"/>
                  </a:lnTo>
                  <a:lnTo>
                    <a:pt x="11819" y="14595"/>
                  </a:lnTo>
                  <a:lnTo>
                    <a:pt x="10189" y="14595"/>
                  </a:lnTo>
                  <a:lnTo>
                    <a:pt x="7743" y="14595"/>
                  </a:lnTo>
                  <a:lnTo>
                    <a:pt x="5706" y="14303"/>
                  </a:lnTo>
                  <a:lnTo>
                    <a:pt x="4075" y="13427"/>
                  </a:lnTo>
                  <a:lnTo>
                    <a:pt x="2853" y="12551"/>
                  </a:lnTo>
                  <a:lnTo>
                    <a:pt x="1630" y="11676"/>
                  </a:lnTo>
                  <a:lnTo>
                    <a:pt x="408" y="10508"/>
                  </a:lnTo>
                  <a:lnTo>
                    <a:pt x="0" y="9049"/>
                  </a:lnTo>
                  <a:lnTo>
                    <a:pt x="0" y="7297"/>
                  </a:lnTo>
                  <a:lnTo>
                    <a:pt x="408" y="4962"/>
                  </a:lnTo>
                  <a:lnTo>
                    <a:pt x="1630" y="3503"/>
                  </a:lnTo>
                  <a:lnTo>
                    <a:pt x="2445" y="2335"/>
                  </a:lnTo>
                  <a:lnTo>
                    <a:pt x="4075" y="1459"/>
                  </a:lnTo>
                  <a:lnTo>
                    <a:pt x="5706" y="584"/>
                  </a:lnTo>
                  <a:lnTo>
                    <a:pt x="7743" y="0"/>
                  </a:lnTo>
                  <a:lnTo>
                    <a:pt x="9374" y="0"/>
                  </a:lnTo>
                  <a:lnTo>
                    <a:pt x="11819" y="0"/>
                  </a:lnTo>
                  <a:lnTo>
                    <a:pt x="13449" y="584"/>
                  </a:lnTo>
                  <a:lnTo>
                    <a:pt x="15487" y="1459"/>
                  </a:lnTo>
                  <a:lnTo>
                    <a:pt x="16709" y="2627"/>
                  </a:lnTo>
                  <a:lnTo>
                    <a:pt x="16709" y="584"/>
                  </a:lnTo>
                  <a:lnTo>
                    <a:pt x="21600" y="584"/>
                  </a:lnTo>
                  <a:close/>
                  <a:moveTo>
                    <a:pt x="21600" y="58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AutoShape 30"/>
            <p:cNvSpPr/>
            <p:nvPr/>
          </p:nvSpPr>
          <p:spPr>
            <a:xfrm>
              <a:off x="7877880" y="6414840"/>
              <a:ext cx="76320" cy="77400"/>
            </a:xfrm>
            <a:custGeom>
              <a:avLst/>
              <a:gdLst/>
              <a:ahLst/>
              <a:rect l="l" t="t" r="r" b="b"/>
              <a:pathLst>
                <a:path w="21600" h="21600">
                  <a:moveTo>
                    <a:pt x="15984" y="9072"/>
                  </a:moveTo>
                  <a:lnTo>
                    <a:pt x="15984" y="9072"/>
                  </a:lnTo>
                  <a:lnTo>
                    <a:pt x="15984" y="7344"/>
                  </a:lnTo>
                  <a:lnTo>
                    <a:pt x="14688" y="5184"/>
                  </a:lnTo>
                  <a:lnTo>
                    <a:pt x="13392" y="4752"/>
                  </a:lnTo>
                  <a:lnTo>
                    <a:pt x="10800" y="3888"/>
                  </a:lnTo>
                  <a:lnTo>
                    <a:pt x="8640" y="4752"/>
                  </a:lnTo>
                  <a:lnTo>
                    <a:pt x="6912" y="5184"/>
                  </a:lnTo>
                  <a:lnTo>
                    <a:pt x="6480" y="7344"/>
                  </a:lnTo>
                  <a:lnTo>
                    <a:pt x="5616" y="9072"/>
                  </a:lnTo>
                  <a:lnTo>
                    <a:pt x="15984" y="9072"/>
                  </a:lnTo>
                  <a:close/>
                  <a:moveTo>
                    <a:pt x="5616" y="12960"/>
                  </a:moveTo>
                  <a:lnTo>
                    <a:pt x="5616" y="12960"/>
                  </a:lnTo>
                  <a:lnTo>
                    <a:pt x="6480" y="14688"/>
                  </a:lnTo>
                  <a:lnTo>
                    <a:pt x="7776" y="16848"/>
                  </a:lnTo>
                  <a:lnTo>
                    <a:pt x="8640" y="17280"/>
                  </a:lnTo>
                  <a:lnTo>
                    <a:pt x="10800" y="18144"/>
                  </a:lnTo>
                  <a:lnTo>
                    <a:pt x="12528" y="18144"/>
                  </a:lnTo>
                  <a:lnTo>
                    <a:pt x="14688" y="17280"/>
                  </a:lnTo>
                  <a:lnTo>
                    <a:pt x="16416" y="14688"/>
                  </a:lnTo>
                  <a:lnTo>
                    <a:pt x="20304" y="18144"/>
                  </a:lnTo>
                  <a:lnTo>
                    <a:pt x="18144" y="19872"/>
                  </a:lnTo>
                  <a:lnTo>
                    <a:pt x="16416" y="21168"/>
                  </a:lnTo>
                  <a:lnTo>
                    <a:pt x="13824" y="21600"/>
                  </a:lnTo>
                  <a:lnTo>
                    <a:pt x="11232" y="21600"/>
                  </a:lnTo>
                  <a:lnTo>
                    <a:pt x="9504" y="21600"/>
                  </a:lnTo>
                  <a:lnTo>
                    <a:pt x="6912" y="21168"/>
                  </a:lnTo>
                  <a:lnTo>
                    <a:pt x="5184" y="20304"/>
                  </a:lnTo>
                  <a:lnTo>
                    <a:pt x="3888" y="19440"/>
                  </a:lnTo>
                  <a:lnTo>
                    <a:pt x="2592" y="17280"/>
                  </a:lnTo>
                  <a:lnTo>
                    <a:pt x="1296" y="15552"/>
                  </a:lnTo>
                  <a:lnTo>
                    <a:pt x="432" y="13392"/>
                  </a:lnTo>
                  <a:lnTo>
                    <a:pt x="0" y="10800"/>
                  </a:lnTo>
                  <a:lnTo>
                    <a:pt x="432" y="9072"/>
                  </a:lnTo>
                  <a:lnTo>
                    <a:pt x="1296" y="6480"/>
                  </a:lnTo>
                  <a:lnTo>
                    <a:pt x="2592" y="4752"/>
                  </a:lnTo>
                  <a:lnTo>
                    <a:pt x="3888" y="3456"/>
                  </a:lnTo>
                  <a:lnTo>
                    <a:pt x="5184" y="2160"/>
                  </a:lnTo>
                  <a:lnTo>
                    <a:pt x="6912" y="864"/>
                  </a:lnTo>
                  <a:lnTo>
                    <a:pt x="9504" y="0"/>
                  </a:lnTo>
                  <a:lnTo>
                    <a:pt x="11232" y="0"/>
                  </a:lnTo>
                  <a:lnTo>
                    <a:pt x="13824" y="0"/>
                  </a:lnTo>
                  <a:lnTo>
                    <a:pt x="15984" y="864"/>
                  </a:lnTo>
                  <a:lnTo>
                    <a:pt x="17280" y="2160"/>
                  </a:lnTo>
                  <a:lnTo>
                    <a:pt x="18144" y="3456"/>
                  </a:lnTo>
                  <a:lnTo>
                    <a:pt x="19440" y="4752"/>
                  </a:lnTo>
                  <a:lnTo>
                    <a:pt x="20736" y="6480"/>
                  </a:lnTo>
                  <a:lnTo>
                    <a:pt x="20736" y="9072"/>
                  </a:lnTo>
                  <a:lnTo>
                    <a:pt x="21600" y="11664"/>
                  </a:lnTo>
                  <a:lnTo>
                    <a:pt x="21600" y="12960"/>
                  </a:lnTo>
                  <a:lnTo>
                    <a:pt x="5616" y="12960"/>
                  </a:lnTo>
                  <a:close/>
                  <a:moveTo>
                    <a:pt x="5616" y="1296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Freeform 31"/>
            <p:cNvSpPr/>
            <p:nvPr/>
          </p:nvSpPr>
          <p:spPr>
            <a:xfrm>
              <a:off x="7970040" y="6414840"/>
              <a:ext cx="65160" cy="77400"/>
            </a:xfrm>
            <a:custGeom>
              <a:avLst/>
              <a:gdLst/>
              <a:ahLst/>
              <a:rect l="l" t="t" r="r" b="b"/>
              <a:pathLst>
                <a:path w="21600" h="21600">
                  <a:moveTo>
                    <a:pt x="0" y="864"/>
                  </a:moveTo>
                  <a:lnTo>
                    <a:pt x="5143" y="864"/>
                  </a:lnTo>
                  <a:lnTo>
                    <a:pt x="5143" y="3888"/>
                  </a:lnTo>
                  <a:lnTo>
                    <a:pt x="5657" y="3888"/>
                  </a:lnTo>
                  <a:lnTo>
                    <a:pt x="6686" y="2592"/>
                  </a:lnTo>
                  <a:lnTo>
                    <a:pt x="8229" y="1296"/>
                  </a:lnTo>
                  <a:lnTo>
                    <a:pt x="10286" y="864"/>
                  </a:lnTo>
                  <a:lnTo>
                    <a:pt x="13371" y="0"/>
                  </a:lnTo>
                  <a:lnTo>
                    <a:pt x="15943" y="0"/>
                  </a:lnTo>
                  <a:lnTo>
                    <a:pt x="16971" y="864"/>
                  </a:lnTo>
                  <a:lnTo>
                    <a:pt x="20057" y="2592"/>
                  </a:lnTo>
                  <a:lnTo>
                    <a:pt x="21600" y="5184"/>
                  </a:lnTo>
                  <a:lnTo>
                    <a:pt x="21600" y="8640"/>
                  </a:lnTo>
                  <a:lnTo>
                    <a:pt x="21600" y="21600"/>
                  </a:lnTo>
                  <a:lnTo>
                    <a:pt x="15943" y="21600"/>
                  </a:lnTo>
                  <a:lnTo>
                    <a:pt x="15943" y="10800"/>
                  </a:lnTo>
                  <a:lnTo>
                    <a:pt x="15943" y="9072"/>
                  </a:lnTo>
                  <a:lnTo>
                    <a:pt x="14914" y="7344"/>
                  </a:lnTo>
                  <a:lnTo>
                    <a:pt x="14400" y="5184"/>
                  </a:lnTo>
                  <a:lnTo>
                    <a:pt x="12857" y="5184"/>
                  </a:lnTo>
                  <a:lnTo>
                    <a:pt x="11314" y="4752"/>
                  </a:lnTo>
                  <a:lnTo>
                    <a:pt x="8743" y="5184"/>
                  </a:lnTo>
                  <a:lnTo>
                    <a:pt x="7200" y="6480"/>
                  </a:lnTo>
                  <a:lnTo>
                    <a:pt x="5657" y="8640"/>
                  </a:lnTo>
                  <a:lnTo>
                    <a:pt x="5657" y="10368"/>
                  </a:lnTo>
                  <a:lnTo>
                    <a:pt x="5657"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4" name="Freeform 32"/>
            <p:cNvSpPr/>
            <p:nvPr/>
          </p:nvSpPr>
          <p:spPr>
            <a:xfrm>
              <a:off x="8046360" y="6414840"/>
              <a:ext cx="68040" cy="77400"/>
            </a:xfrm>
            <a:custGeom>
              <a:avLst/>
              <a:gdLst/>
              <a:ahLst/>
              <a:rect l="l" t="t" r="r" b="b"/>
              <a:pathLst>
                <a:path w="21600" h="21600">
                  <a:moveTo>
                    <a:pt x="17182" y="7344"/>
                  </a:moveTo>
                  <a:lnTo>
                    <a:pt x="17182" y="7344"/>
                  </a:lnTo>
                  <a:lnTo>
                    <a:pt x="14727" y="5184"/>
                  </a:lnTo>
                  <a:lnTo>
                    <a:pt x="12764" y="4752"/>
                  </a:lnTo>
                  <a:lnTo>
                    <a:pt x="9818" y="5184"/>
                  </a:lnTo>
                  <a:lnTo>
                    <a:pt x="7855" y="6480"/>
                  </a:lnTo>
                  <a:lnTo>
                    <a:pt x="6382" y="9072"/>
                  </a:lnTo>
                  <a:lnTo>
                    <a:pt x="5400" y="10800"/>
                  </a:lnTo>
                  <a:lnTo>
                    <a:pt x="6382" y="13392"/>
                  </a:lnTo>
                  <a:lnTo>
                    <a:pt x="7855" y="15552"/>
                  </a:lnTo>
                  <a:lnTo>
                    <a:pt x="9818" y="16848"/>
                  </a:lnTo>
                  <a:lnTo>
                    <a:pt x="12764" y="17280"/>
                  </a:lnTo>
                  <a:lnTo>
                    <a:pt x="14727" y="16848"/>
                  </a:lnTo>
                  <a:lnTo>
                    <a:pt x="17182" y="15552"/>
                  </a:lnTo>
                  <a:lnTo>
                    <a:pt x="21600" y="19440"/>
                  </a:lnTo>
                  <a:lnTo>
                    <a:pt x="19145" y="20304"/>
                  </a:lnTo>
                  <a:lnTo>
                    <a:pt x="17182" y="21168"/>
                  </a:lnTo>
                  <a:lnTo>
                    <a:pt x="12764" y="21600"/>
                  </a:lnTo>
                  <a:lnTo>
                    <a:pt x="9818" y="21600"/>
                  </a:lnTo>
                  <a:lnTo>
                    <a:pt x="7855" y="21168"/>
                  </a:lnTo>
                  <a:lnTo>
                    <a:pt x="5400" y="20304"/>
                  </a:lnTo>
                  <a:lnTo>
                    <a:pt x="3436" y="19440"/>
                  </a:lnTo>
                  <a:lnTo>
                    <a:pt x="1964" y="17280"/>
                  </a:lnTo>
                  <a:lnTo>
                    <a:pt x="491" y="15552"/>
                  </a:lnTo>
                  <a:lnTo>
                    <a:pt x="0" y="13392"/>
                  </a:lnTo>
                  <a:lnTo>
                    <a:pt x="0" y="10800"/>
                  </a:lnTo>
                  <a:lnTo>
                    <a:pt x="0" y="9072"/>
                  </a:lnTo>
                  <a:lnTo>
                    <a:pt x="491" y="6480"/>
                  </a:lnTo>
                  <a:lnTo>
                    <a:pt x="1964" y="4752"/>
                  </a:lnTo>
                  <a:lnTo>
                    <a:pt x="3436" y="3456"/>
                  </a:lnTo>
                  <a:lnTo>
                    <a:pt x="5400" y="2160"/>
                  </a:lnTo>
                  <a:lnTo>
                    <a:pt x="7855" y="864"/>
                  </a:lnTo>
                  <a:lnTo>
                    <a:pt x="9818" y="0"/>
                  </a:lnTo>
                  <a:lnTo>
                    <a:pt x="12764" y="0"/>
                  </a:lnTo>
                  <a:lnTo>
                    <a:pt x="14727" y="0"/>
                  </a:lnTo>
                  <a:lnTo>
                    <a:pt x="17182" y="864"/>
                  </a:lnTo>
                  <a:lnTo>
                    <a:pt x="19145" y="2160"/>
                  </a:lnTo>
                  <a:lnTo>
                    <a:pt x="21600" y="3456"/>
                  </a:lnTo>
                  <a:lnTo>
                    <a:pt x="17182" y="7344"/>
                  </a:lnTo>
                  <a:close/>
                  <a:moveTo>
                    <a:pt x="17182" y="734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5" name="Freeform 33"/>
            <p:cNvSpPr/>
            <p:nvPr/>
          </p:nvSpPr>
          <p:spPr>
            <a:xfrm>
              <a:off x="8120880" y="6418080"/>
              <a:ext cx="81000" cy="110880"/>
            </a:xfrm>
            <a:custGeom>
              <a:avLst/>
              <a:gdLst/>
              <a:ahLst/>
              <a:rect l="l" t="t" r="r" b="b"/>
              <a:pathLst>
                <a:path w="21600" h="21600">
                  <a:moveTo>
                    <a:pt x="0" y="0"/>
                  </a:moveTo>
                  <a:lnTo>
                    <a:pt x="5400" y="0"/>
                  </a:lnTo>
                  <a:lnTo>
                    <a:pt x="11215" y="10200"/>
                  </a:lnTo>
                  <a:lnTo>
                    <a:pt x="15785" y="0"/>
                  </a:lnTo>
                  <a:lnTo>
                    <a:pt x="21600" y="0"/>
                  </a:lnTo>
                  <a:lnTo>
                    <a:pt x="11631" y="17700"/>
                  </a:lnTo>
                  <a:lnTo>
                    <a:pt x="10385" y="19500"/>
                  </a:lnTo>
                  <a:lnTo>
                    <a:pt x="9138" y="20700"/>
                  </a:lnTo>
                  <a:lnTo>
                    <a:pt x="6646" y="21000"/>
                  </a:lnTo>
                  <a:lnTo>
                    <a:pt x="4154" y="21600"/>
                  </a:lnTo>
                  <a:lnTo>
                    <a:pt x="0" y="21000"/>
                  </a:lnTo>
                  <a:lnTo>
                    <a:pt x="831" y="18000"/>
                  </a:lnTo>
                  <a:lnTo>
                    <a:pt x="2908" y="18600"/>
                  </a:lnTo>
                  <a:lnTo>
                    <a:pt x="4985" y="18000"/>
                  </a:lnTo>
                  <a:lnTo>
                    <a:pt x="6231" y="18000"/>
                  </a:lnTo>
                  <a:lnTo>
                    <a:pt x="6646" y="17100"/>
                  </a:lnTo>
                  <a:lnTo>
                    <a:pt x="7477" y="16200"/>
                  </a:lnTo>
                  <a:lnTo>
                    <a:pt x="8723" y="14400"/>
                  </a:lnTo>
                  <a:lnTo>
                    <a:pt x="0" y="0"/>
                  </a:lnTo>
                  <a:close/>
                  <a:moveTo>
                    <a:pt x="0"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Freeform 34"/>
            <p:cNvSpPr/>
            <p:nvPr/>
          </p:nvSpPr>
          <p:spPr>
            <a:xfrm>
              <a:off x="8537040" y="6330600"/>
              <a:ext cx="185760" cy="237960"/>
            </a:xfrm>
            <a:custGeom>
              <a:avLst/>
              <a:gdLst/>
              <a:ahLst/>
              <a:rect l="l" t="t" r="r" b="b"/>
              <a:pathLst>
                <a:path w="21600" h="21600">
                  <a:moveTo>
                    <a:pt x="21600" y="9678"/>
                  </a:moveTo>
                  <a:lnTo>
                    <a:pt x="21600" y="9678"/>
                  </a:lnTo>
                  <a:lnTo>
                    <a:pt x="21420" y="7153"/>
                  </a:lnTo>
                  <a:lnTo>
                    <a:pt x="20520" y="4909"/>
                  </a:lnTo>
                  <a:lnTo>
                    <a:pt x="18900" y="2805"/>
                  </a:lnTo>
                  <a:lnTo>
                    <a:pt x="17100" y="982"/>
                  </a:lnTo>
                  <a:lnTo>
                    <a:pt x="15300" y="0"/>
                  </a:lnTo>
                  <a:lnTo>
                    <a:pt x="12960" y="3086"/>
                  </a:lnTo>
                  <a:lnTo>
                    <a:pt x="14760" y="4208"/>
                  </a:lnTo>
                  <a:lnTo>
                    <a:pt x="16020" y="5891"/>
                  </a:lnTo>
                  <a:lnTo>
                    <a:pt x="16920" y="7574"/>
                  </a:lnTo>
                  <a:lnTo>
                    <a:pt x="17100" y="8556"/>
                  </a:lnTo>
                  <a:lnTo>
                    <a:pt x="17100" y="9678"/>
                  </a:lnTo>
                  <a:lnTo>
                    <a:pt x="17100" y="11221"/>
                  </a:lnTo>
                  <a:lnTo>
                    <a:pt x="16380" y="12904"/>
                  </a:lnTo>
                  <a:lnTo>
                    <a:pt x="15300" y="14306"/>
                  </a:lnTo>
                  <a:lnTo>
                    <a:pt x="13860" y="15569"/>
                  </a:lnTo>
                  <a:lnTo>
                    <a:pt x="12420" y="16831"/>
                  </a:lnTo>
                  <a:lnTo>
                    <a:pt x="10440" y="17532"/>
                  </a:lnTo>
                  <a:lnTo>
                    <a:pt x="8460" y="18094"/>
                  </a:lnTo>
                  <a:lnTo>
                    <a:pt x="6300" y="18234"/>
                  </a:lnTo>
                  <a:lnTo>
                    <a:pt x="4140" y="18094"/>
                  </a:lnTo>
                  <a:lnTo>
                    <a:pt x="1980" y="17673"/>
                  </a:lnTo>
                  <a:lnTo>
                    <a:pt x="0" y="20618"/>
                  </a:lnTo>
                  <a:lnTo>
                    <a:pt x="1440" y="21179"/>
                  </a:lnTo>
                  <a:lnTo>
                    <a:pt x="2880" y="21319"/>
                  </a:lnTo>
                  <a:lnTo>
                    <a:pt x="4680" y="21600"/>
                  </a:lnTo>
                  <a:lnTo>
                    <a:pt x="6300" y="21600"/>
                  </a:lnTo>
                  <a:lnTo>
                    <a:pt x="7920" y="21600"/>
                  </a:lnTo>
                  <a:lnTo>
                    <a:pt x="9360" y="21319"/>
                  </a:lnTo>
                  <a:lnTo>
                    <a:pt x="12060" y="20758"/>
                  </a:lnTo>
                  <a:lnTo>
                    <a:pt x="14760" y="19496"/>
                  </a:lnTo>
                  <a:lnTo>
                    <a:pt x="17100" y="18094"/>
                  </a:lnTo>
                  <a:lnTo>
                    <a:pt x="18900" y="16410"/>
                  </a:lnTo>
                  <a:lnTo>
                    <a:pt x="20520" y="14306"/>
                  </a:lnTo>
                  <a:lnTo>
                    <a:pt x="21420" y="12062"/>
                  </a:lnTo>
                  <a:lnTo>
                    <a:pt x="21600" y="10800"/>
                  </a:lnTo>
                  <a:lnTo>
                    <a:pt x="21600" y="9678"/>
                  </a:lnTo>
                  <a:close/>
                  <a:moveTo>
                    <a:pt x="21600" y="9678"/>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7" name="Freeform 35"/>
            <p:cNvSpPr/>
            <p:nvPr/>
          </p:nvSpPr>
          <p:spPr>
            <a:xfrm>
              <a:off x="8537040" y="6330600"/>
              <a:ext cx="185760" cy="237960"/>
            </a:xfrm>
            <a:custGeom>
              <a:avLst/>
              <a:gdLst/>
              <a:ahLst/>
              <a:rect l="l" t="t" r="r" b="b"/>
              <a:pathLst>
                <a:path w="21600" h="21600">
                  <a:moveTo>
                    <a:pt x="21600" y="9678"/>
                  </a:moveTo>
                  <a:lnTo>
                    <a:pt x="21600" y="9678"/>
                  </a:lnTo>
                  <a:lnTo>
                    <a:pt x="21420" y="7153"/>
                  </a:lnTo>
                  <a:lnTo>
                    <a:pt x="20520" y="4909"/>
                  </a:lnTo>
                  <a:lnTo>
                    <a:pt x="18900" y="2805"/>
                  </a:lnTo>
                  <a:lnTo>
                    <a:pt x="17100" y="982"/>
                  </a:lnTo>
                  <a:lnTo>
                    <a:pt x="15300" y="0"/>
                  </a:lnTo>
                  <a:lnTo>
                    <a:pt x="12960" y="3086"/>
                  </a:lnTo>
                  <a:lnTo>
                    <a:pt x="14760" y="4208"/>
                  </a:lnTo>
                  <a:lnTo>
                    <a:pt x="16020" y="5891"/>
                  </a:lnTo>
                  <a:lnTo>
                    <a:pt x="16920" y="7574"/>
                  </a:lnTo>
                  <a:lnTo>
                    <a:pt x="17100" y="8556"/>
                  </a:lnTo>
                  <a:lnTo>
                    <a:pt x="17100" y="9678"/>
                  </a:lnTo>
                  <a:lnTo>
                    <a:pt x="17100" y="11221"/>
                  </a:lnTo>
                  <a:lnTo>
                    <a:pt x="16380" y="12904"/>
                  </a:lnTo>
                  <a:lnTo>
                    <a:pt x="15300" y="14306"/>
                  </a:lnTo>
                  <a:lnTo>
                    <a:pt x="13860" y="15569"/>
                  </a:lnTo>
                  <a:lnTo>
                    <a:pt x="12420" y="16831"/>
                  </a:lnTo>
                  <a:lnTo>
                    <a:pt x="10440" y="17532"/>
                  </a:lnTo>
                  <a:lnTo>
                    <a:pt x="8460" y="18094"/>
                  </a:lnTo>
                  <a:lnTo>
                    <a:pt x="6300" y="18234"/>
                  </a:lnTo>
                  <a:lnTo>
                    <a:pt x="4140" y="18094"/>
                  </a:lnTo>
                  <a:lnTo>
                    <a:pt x="1980" y="17673"/>
                  </a:lnTo>
                  <a:lnTo>
                    <a:pt x="0" y="20618"/>
                  </a:lnTo>
                  <a:lnTo>
                    <a:pt x="1440" y="21179"/>
                  </a:lnTo>
                  <a:lnTo>
                    <a:pt x="2880" y="21319"/>
                  </a:lnTo>
                  <a:lnTo>
                    <a:pt x="4680" y="21600"/>
                  </a:lnTo>
                  <a:lnTo>
                    <a:pt x="6300" y="21600"/>
                  </a:lnTo>
                  <a:lnTo>
                    <a:pt x="7920" y="21600"/>
                  </a:lnTo>
                  <a:lnTo>
                    <a:pt x="9360" y="21319"/>
                  </a:lnTo>
                  <a:lnTo>
                    <a:pt x="12060" y="20758"/>
                  </a:lnTo>
                  <a:lnTo>
                    <a:pt x="14760" y="19496"/>
                  </a:lnTo>
                  <a:lnTo>
                    <a:pt x="17100" y="18094"/>
                  </a:lnTo>
                  <a:lnTo>
                    <a:pt x="18900" y="16410"/>
                  </a:lnTo>
                  <a:lnTo>
                    <a:pt x="20520" y="14306"/>
                  </a:lnTo>
                  <a:lnTo>
                    <a:pt x="21420" y="12062"/>
                  </a:lnTo>
                  <a:lnTo>
                    <a:pt x="21600" y="10800"/>
                  </a:lnTo>
                  <a:lnTo>
                    <a:pt x="21600" y="9678"/>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8" name="Freeform 36"/>
            <p:cNvSpPr/>
            <p:nvPr/>
          </p:nvSpPr>
          <p:spPr>
            <a:xfrm>
              <a:off x="8610120" y="6156000"/>
              <a:ext cx="77760" cy="195120"/>
            </a:xfrm>
            <a:custGeom>
              <a:avLst/>
              <a:gdLst/>
              <a:ahLst/>
              <a:rect l="l" t="t" r="r" b="b"/>
              <a:pathLst>
                <a:path w="21600" h="21600">
                  <a:moveTo>
                    <a:pt x="21600" y="4286"/>
                  </a:moveTo>
                  <a:lnTo>
                    <a:pt x="21600" y="4286"/>
                  </a:lnTo>
                  <a:lnTo>
                    <a:pt x="21600" y="2229"/>
                  </a:lnTo>
                  <a:lnTo>
                    <a:pt x="21176" y="514"/>
                  </a:lnTo>
                  <a:lnTo>
                    <a:pt x="21176" y="0"/>
                  </a:lnTo>
                  <a:lnTo>
                    <a:pt x="19906" y="171"/>
                  </a:lnTo>
                  <a:lnTo>
                    <a:pt x="16518" y="1543"/>
                  </a:lnTo>
                  <a:lnTo>
                    <a:pt x="13553" y="3257"/>
                  </a:lnTo>
                  <a:lnTo>
                    <a:pt x="9741" y="5314"/>
                  </a:lnTo>
                  <a:lnTo>
                    <a:pt x="6776" y="7543"/>
                  </a:lnTo>
                  <a:lnTo>
                    <a:pt x="3388" y="10114"/>
                  </a:lnTo>
                  <a:lnTo>
                    <a:pt x="1694" y="12343"/>
                  </a:lnTo>
                  <a:lnTo>
                    <a:pt x="424" y="14914"/>
                  </a:lnTo>
                  <a:lnTo>
                    <a:pt x="0" y="17143"/>
                  </a:lnTo>
                  <a:lnTo>
                    <a:pt x="0" y="19200"/>
                  </a:lnTo>
                  <a:lnTo>
                    <a:pt x="424" y="20914"/>
                  </a:lnTo>
                  <a:lnTo>
                    <a:pt x="424" y="21086"/>
                  </a:lnTo>
                  <a:lnTo>
                    <a:pt x="847" y="21086"/>
                  </a:lnTo>
                  <a:lnTo>
                    <a:pt x="2965" y="21429"/>
                  </a:lnTo>
                  <a:lnTo>
                    <a:pt x="4659" y="21600"/>
                  </a:lnTo>
                  <a:lnTo>
                    <a:pt x="5506" y="21600"/>
                  </a:lnTo>
                  <a:lnTo>
                    <a:pt x="9318" y="20400"/>
                  </a:lnTo>
                  <a:lnTo>
                    <a:pt x="12282" y="18686"/>
                  </a:lnTo>
                  <a:lnTo>
                    <a:pt x="14824" y="16629"/>
                  </a:lnTo>
                  <a:lnTo>
                    <a:pt x="17365" y="14400"/>
                  </a:lnTo>
                  <a:lnTo>
                    <a:pt x="19059" y="12000"/>
                  </a:lnTo>
                  <a:lnTo>
                    <a:pt x="21176" y="9600"/>
                  </a:lnTo>
                  <a:lnTo>
                    <a:pt x="21600" y="6857"/>
                  </a:lnTo>
                  <a:lnTo>
                    <a:pt x="21600" y="4286"/>
                  </a:lnTo>
                  <a:close/>
                  <a:moveTo>
                    <a:pt x="21600" y="4286"/>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9" name="Freeform 37"/>
            <p:cNvSpPr/>
            <p:nvPr/>
          </p:nvSpPr>
          <p:spPr>
            <a:xfrm>
              <a:off x="8610120" y="6156000"/>
              <a:ext cx="77760" cy="195120"/>
            </a:xfrm>
            <a:custGeom>
              <a:avLst/>
              <a:gdLst/>
              <a:ahLst/>
              <a:rect l="l" t="t" r="r" b="b"/>
              <a:pathLst>
                <a:path w="21600" h="21600">
                  <a:moveTo>
                    <a:pt x="21600" y="4286"/>
                  </a:moveTo>
                  <a:lnTo>
                    <a:pt x="21600" y="4286"/>
                  </a:lnTo>
                  <a:lnTo>
                    <a:pt x="21600" y="2229"/>
                  </a:lnTo>
                  <a:lnTo>
                    <a:pt x="21176" y="514"/>
                  </a:lnTo>
                  <a:lnTo>
                    <a:pt x="21176" y="0"/>
                  </a:lnTo>
                  <a:lnTo>
                    <a:pt x="19906" y="171"/>
                  </a:lnTo>
                  <a:lnTo>
                    <a:pt x="16518" y="1543"/>
                  </a:lnTo>
                  <a:lnTo>
                    <a:pt x="13553" y="3257"/>
                  </a:lnTo>
                  <a:lnTo>
                    <a:pt x="9741" y="5314"/>
                  </a:lnTo>
                  <a:lnTo>
                    <a:pt x="6776" y="7543"/>
                  </a:lnTo>
                  <a:lnTo>
                    <a:pt x="3388" y="10114"/>
                  </a:lnTo>
                  <a:lnTo>
                    <a:pt x="1694" y="12343"/>
                  </a:lnTo>
                  <a:lnTo>
                    <a:pt x="424" y="14914"/>
                  </a:lnTo>
                  <a:lnTo>
                    <a:pt x="0" y="17143"/>
                  </a:lnTo>
                  <a:lnTo>
                    <a:pt x="0" y="19200"/>
                  </a:lnTo>
                  <a:lnTo>
                    <a:pt x="424" y="20914"/>
                  </a:lnTo>
                  <a:lnTo>
                    <a:pt x="424" y="21086"/>
                  </a:lnTo>
                  <a:lnTo>
                    <a:pt x="847" y="21086"/>
                  </a:lnTo>
                  <a:lnTo>
                    <a:pt x="2965" y="21429"/>
                  </a:lnTo>
                  <a:lnTo>
                    <a:pt x="4659" y="21600"/>
                  </a:lnTo>
                  <a:lnTo>
                    <a:pt x="5506" y="21600"/>
                  </a:lnTo>
                  <a:lnTo>
                    <a:pt x="9318" y="20400"/>
                  </a:lnTo>
                  <a:lnTo>
                    <a:pt x="12282" y="18686"/>
                  </a:lnTo>
                  <a:lnTo>
                    <a:pt x="14824" y="16629"/>
                  </a:lnTo>
                  <a:lnTo>
                    <a:pt x="17365" y="14400"/>
                  </a:lnTo>
                  <a:lnTo>
                    <a:pt x="19059" y="12000"/>
                  </a:lnTo>
                  <a:lnTo>
                    <a:pt x="21176" y="9600"/>
                  </a:lnTo>
                  <a:lnTo>
                    <a:pt x="21600" y="6857"/>
                  </a:lnTo>
                  <a:lnTo>
                    <a:pt x="21600" y="4286"/>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0" name="Freeform 38"/>
            <p:cNvSpPr/>
            <p:nvPr/>
          </p:nvSpPr>
          <p:spPr>
            <a:xfrm>
              <a:off x="8537040" y="6143760"/>
              <a:ext cx="63720" cy="202680"/>
            </a:xfrm>
            <a:custGeom>
              <a:avLst/>
              <a:gdLst/>
              <a:ahLst/>
              <a:rect l="l" t="t" r="r" b="b"/>
              <a:pathLst>
                <a:path w="21600" h="21600">
                  <a:moveTo>
                    <a:pt x="5795" y="491"/>
                  </a:moveTo>
                  <a:lnTo>
                    <a:pt x="5268" y="0"/>
                  </a:lnTo>
                  <a:lnTo>
                    <a:pt x="4215" y="491"/>
                  </a:lnTo>
                  <a:lnTo>
                    <a:pt x="2634" y="2127"/>
                  </a:lnTo>
                  <a:lnTo>
                    <a:pt x="1054" y="4091"/>
                  </a:lnTo>
                  <a:lnTo>
                    <a:pt x="0" y="6545"/>
                  </a:lnTo>
                  <a:lnTo>
                    <a:pt x="0" y="9164"/>
                  </a:lnTo>
                  <a:lnTo>
                    <a:pt x="0" y="11618"/>
                  </a:lnTo>
                  <a:lnTo>
                    <a:pt x="527" y="13909"/>
                  </a:lnTo>
                  <a:lnTo>
                    <a:pt x="2107" y="16200"/>
                  </a:lnTo>
                  <a:lnTo>
                    <a:pt x="4215" y="18327"/>
                  </a:lnTo>
                  <a:lnTo>
                    <a:pt x="7376" y="19964"/>
                  </a:lnTo>
                  <a:lnTo>
                    <a:pt x="10537" y="21600"/>
                  </a:lnTo>
                  <a:lnTo>
                    <a:pt x="11590" y="21600"/>
                  </a:lnTo>
                  <a:lnTo>
                    <a:pt x="13698" y="21436"/>
                  </a:lnTo>
                  <a:lnTo>
                    <a:pt x="16859" y="21436"/>
                  </a:lnTo>
                  <a:lnTo>
                    <a:pt x="17385" y="21436"/>
                  </a:lnTo>
                  <a:lnTo>
                    <a:pt x="17385" y="21109"/>
                  </a:lnTo>
                  <a:lnTo>
                    <a:pt x="18966" y="19473"/>
                  </a:lnTo>
                  <a:lnTo>
                    <a:pt x="20546" y="17509"/>
                  </a:lnTo>
                  <a:lnTo>
                    <a:pt x="21600" y="15382"/>
                  </a:lnTo>
                  <a:lnTo>
                    <a:pt x="20546" y="12927"/>
                  </a:lnTo>
                  <a:lnTo>
                    <a:pt x="20020" y="10636"/>
                  </a:lnTo>
                  <a:lnTo>
                    <a:pt x="17385" y="8182"/>
                  </a:lnTo>
                  <a:lnTo>
                    <a:pt x="15278" y="5727"/>
                  </a:lnTo>
                  <a:lnTo>
                    <a:pt x="12117" y="3600"/>
                  </a:lnTo>
                  <a:lnTo>
                    <a:pt x="8956" y="1964"/>
                  </a:lnTo>
                  <a:lnTo>
                    <a:pt x="5795" y="491"/>
                  </a:lnTo>
                  <a:close/>
                  <a:moveTo>
                    <a:pt x="5795" y="491"/>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1" name="Freeform 39"/>
            <p:cNvSpPr/>
            <p:nvPr/>
          </p:nvSpPr>
          <p:spPr>
            <a:xfrm>
              <a:off x="8537040" y="6143760"/>
              <a:ext cx="63720" cy="202680"/>
            </a:xfrm>
            <a:custGeom>
              <a:avLst/>
              <a:gdLst/>
              <a:ahLst/>
              <a:rect l="l" t="t" r="r" b="b"/>
              <a:pathLst>
                <a:path w="21600" h="21600">
                  <a:moveTo>
                    <a:pt x="5795" y="491"/>
                  </a:moveTo>
                  <a:lnTo>
                    <a:pt x="5268" y="0"/>
                  </a:lnTo>
                  <a:lnTo>
                    <a:pt x="4215" y="491"/>
                  </a:lnTo>
                  <a:lnTo>
                    <a:pt x="2634" y="2127"/>
                  </a:lnTo>
                  <a:lnTo>
                    <a:pt x="1054" y="4091"/>
                  </a:lnTo>
                  <a:lnTo>
                    <a:pt x="0" y="6545"/>
                  </a:lnTo>
                  <a:lnTo>
                    <a:pt x="0" y="9164"/>
                  </a:lnTo>
                  <a:lnTo>
                    <a:pt x="0" y="11618"/>
                  </a:lnTo>
                  <a:lnTo>
                    <a:pt x="527" y="13909"/>
                  </a:lnTo>
                  <a:lnTo>
                    <a:pt x="2107" y="16200"/>
                  </a:lnTo>
                  <a:lnTo>
                    <a:pt x="4215" y="18327"/>
                  </a:lnTo>
                  <a:lnTo>
                    <a:pt x="7376" y="19964"/>
                  </a:lnTo>
                  <a:lnTo>
                    <a:pt x="10537" y="21600"/>
                  </a:lnTo>
                  <a:lnTo>
                    <a:pt x="11590" y="21600"/>
                  </a:lnTo>
                  <a:lnTo>
                    <a:pt x="13698" y="21436"/>
                  </a:lnTo>
                  <a:lnTo>
                    <a:pt x="16859" y="21436"/>
                  </a:lnTo>
                  <a:lnTo>
                    <a:pt x="17385" y="21436"/>
                  </a:lnTo>
                  <a:lnTo>
                    <a:pt x="17385" y="21109"/>
                  </a:lnTo>
                  <a:lnTo>
                    <a:pt x="18966" y="19473"/>
                  </a:lnTo>
                  <a:lnTo>
                    <a:pt x="20546" y="17509"/>
                  </a:lnTo>
                  <a:lnTo>
                    <a:pt x="21600" y="15382"/>
                  </a:lnTo>
                  <a:lnTo>
                    <a:pt x="20546" y="12927"/>
                  </a:lnTo>
                  <a:lnTo>
                    <a:pt x="20020" y="10636"/>
                  </a:lnTo>
                  <a:lnTo>
                    <a:pt x="17385" y="8182"/>
                  </a:lnTo>
                  <a:lnTo>
                    <a:pt x="15278" y="5727"/>
                  </a:lnTo>
                  <a:lnTo>
                    <a:pt x="12117" y="3600"/>
                  </a:lnTo>
                  <a:lnTo>
                    <a:pt x="8956" y="1964"/>
                  </a:lnTo>
                  <a:lnTo>
                    <a:pt x="5795" y="491"/>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2" name="Freeform 40"/>
            <p:cNvSpPr/>
            <p:nvPr/>
          </p:nvSpPr>
          <p:spPr>
            <a:xfrm>
              <a:off x="8427600" y="6190920"/>
              <a:ext cx="120600" cy="176040"/>
            </a:xfrm>
            <a:custGeom>
              <a:avLst/>
              <a:gdLst/>
              <a:ahLst/>
              <a:rect l="l" t="t" r="r" b="b"/>
              <a:pathLst>
                <a:path w="21600" h="21600">
                  <a:moveTo>
                    <a:pt x="5815" y="2485"/>
                  </a:moveTo>
                  <a:lnTo>
                    <a:pt x="5815" y="2485"/>
                  </a:lnTo>
                  <a:lnTo>
                    <a:pt x="2769" y="1338"/>
                  </a:lnTo>
                  <a:lnTo>
                    <a:pt x="277" y="191"/>
                  </a:lnTo>
                  <a:lnTo>
                    <a:pt x="0" y="0"/>
                  </a:lnTo>
                  <a:lnTo>
                    <a:pt x="0" y="573"/>
                  </a:lnTo>
                  <a:lnTo>
                    <a:pt x="277" y="2485"/>
                  </a:lnTo>
                  <a:lnTo>
                    <a:pt x="831" y="4779"/>
                  </a:lnTo>
                  <a:lnTo>
                    <a:pt x="1938" y="7646"/>
                  </a:lnTo>
                  <a:lnTo>
                    <a:pt x="4154" y="10322"/>
                  </a:lnTo>
                  <a:lnTo>
                    <a:pt x="5815" y="12998"/>
                  </a:lnTo>
                  <a:lnTo>
                    <a:pt x="8031" y="15483"/>
                  </a:lnTo>
                  <a:lnTo>
                    <a:pt x="10523" y="17395"/>
                  </a:lnTo>
                  <a:lnTo>
                    <a:pt x="13015" y="19115"/>
                  </a:lnTo>
                  <a:lnTo>
                    <a:pt x="15785" y="20453"/>
                  </a:lnTo>
                  <a:lnTo>
                    <a:pt x="18831" y="21600"/>
                  </a:lnTo>
                  <a:lnTo>
                    <a:pt x="19108" y="21600"/>
                  </a:lnTo>
                  <a:lnTo>
                    <a:pt x="19938" y="21027"/>
                  </a:lnTo>
                  <a:lnTo>
                    <a:pt x="21046" y="20453"/>
                  </a:lnTo>
                  <a:lnTo>
                    <a:pt x="21600" y="20453"/>
                  </a:lnTo>
                  <a:lnTo>
                    <a:pt x="21600" y="20262"/>
                  </a:lnTo>
                  <a:lnTo>
                    <a:pt x="21046" y="17968"/>
                  </a:lnTo>
                  <a:lnTo>
                    <a:pt x="20215" y="15674"/>
                  </a:lnTo>
                  <a:lnTo>
                    <a:pt x="18831" y="13381"/>
                  </a:lnTo>
                  <a:lnTo>
                    <a:pt x="17169" y="10896"/>
                  </a:lnTo>
                  <a:lnTo>
                    <a:pt x="14677" y="8602"/>
                  </a:lnTo>
                  <a:lnTo>
                    <a:pt x="11908" y="6499"/>
                  </a:lnTo>
                  <a:lnTo>
                    <a:pt x="8862" y="4396"/>
                  </a:lnTo>
                  <a:lnTo>
                    <a:pt x="5815" y="2485"/>
                  </a:lnTo>
                  <a:close/>
                  <a:moveTo>
                    <a:pt x="5815" y="2485"/>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3" name="Freeform 41"/>
            <p:cNvSpPr/>
            <p:nvPr/>
          </p:nvSpPr>
          <p:spPr>
            <a:xfrm>
              <a:off x="8427600" y="6190920"/>
              <a:ext cx="120600" cy="176040"/>
            </a:xfrm>
            <a:custGeom>
              <a:avLst/>
              <a:gdLst/>
              <a:ahLst/>
              <a:rect l="l" t="t" r="r" b="b"/>
              <a:pathLst>
                <a:path w="21600" h="21600">
                  <a:moveTo>
                    <a:pt x="5815" y="2485"/>
                  </a:moveTo>
                  <a:lnTo>
                    <a:pt x="5815" y="2485"/>
                  </a:lnTo>
                  <a:lnTo>
                    <a:pt x="2769" y="1338"/>
                  </a:lnTo>
                  <a:lnTo>
                    <a:pt x="277" y="191"/>
                  </a:lnTo>
                  <a:lnTo>
                    <a:pt x="0" y="0"/>
                  </a:lnTo>
                  <a:lnTo>
                    <a:pt x="0" y="573"/>
                  </a:lnTo>
                  <a:lnTo>
                    <a:pt x="277" y="2485"/>
                  </a:lnTo>
                  <a:lnTo>
                    <a:pt x="831" y="4779"/>
                  </a:lnTo>
                  <a:lnTo>
                    <a:pt x="1938" y="7646"/>
                  </a:lnTo>
                  <a:lnTo>
                    <a:pt x="4154" y="10322"/>
                  </a:lnTo>
                  <a:lnTo>
                    <a:pt x="5815" y="12998"/>
                  </a:lnTo>
                  <a:lnTo>
                    <a:pt x="8031" y="15483"/>
                  </a:lnTo>
                  <a:lnTo>
                    <a:pt x="10523" y="17395"/>
                  </a:lnTo>
                  <a:lnTo>
                    <a:pt x="13015" y="19115"/>
                  </a:lnTo>
                  <a:lnTo>
                    <a:pt x="15785" y="20453"/>
                  </a:lnTo>
                  <a:lnTo>
                    <a:pt x="18831" y="21600"/>
                  </a:lnTo>
                  <a:lnTo>
                    <a:pt x="19108" y="21600"/>
                  </a:lnTo>
                  <a:lnTo>
                    <a:pt x="19938" y="21027"/>
                  </a:lnTo>
                  <a:lnTo>
                    <a:pt x="21046" y="20453"/>
                  </a:lnTo>
                  <a:lnTo>
                    <a:pt x="21600" y="20453"/>
                  </a:lnTo>
                  <a:lnTo>
                    <a:pt x="21600" y="20262"/>
                  </a:lnTo>
                  <a:lnTo>
                    <a:pt x="21046" y="17968"/>
                  </a:lnTo>
                  <a:lnTo>
                    <a:pt x="20215" y="15674"/>
                  </a:lnTo>
                  <a:lnTo>
                    <a:pt x="18831" y="13381"/>
                  </a:lnTo>
                  <a:lnTo>
                    <a:pt x="17169" y="10896"/>
                  </a:lnTo>
                  <a:lnTo>
                    <a:pt x="14677" y="8602"/>
                  </a:lnTo>
                  <a:lnTo>
                    <a:pt x="11908" y="6499"/>
                  </a:lnTo>
                  <a:lnTo>
                    <a:pt x="8862" y="4396"/>
                  </a:lnTo>
                  <a:lnTo>
                    <a:pt x="5815" y="2485"/>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4" name="Freeform 42"/>
            <p:cNvSpPr/>
            <p:nvPr/>
          </p:nvSpPr>
          <p:spPr>
            <a:xfrm>
              <a:off x="8334000" y="6287760"/>
              <a:ext cx="182520" cy="110880"/>
            </a:xfrm>
            <a:custGeom>
              <a:avLst/>
              <a:gdLst/>
              <a:ahLst/>
              <a:rect l="l" t="t" r="r" b="b"/>
              <a:pathLst>
                <a:path w="21600" h="21600">
                  <a:moveTo>
                    <a:pt x="2585" y="6300"/>
                  </a:moveTo>
                  <a:lnTo>
                    <a:pt x="2585" y="6300"/>
                  </a:lnTo>
                  <a:lnTo>
                    <a:pt x="4615" y="9600"/>
                  </a:lnTo>
                  <a:lnTo>
                    <a:pt x="6646" y="12900"/>
                  </a:lnTo>
                  <a:lnTo>
                    <a:pt x="9231" y="15600"/>
                  </a:lnTo>
                  <a:lnTo>
                    <a:pt x="11631" y="17700"/>
                  </a:lnTo>
                  <a:lnTo>
                    <a:pt x="13846" y="19500"/>
                  </a:lnTo>
                  <a:lnTo>
                    <a:pt x="16246" y="20700"/>
                  </a:lnTo>
                  <a:lnTo>
                    <a:pt x="18462" y="21600"/>
                  </a:lnTo>
                  <a:lnTo>
                    <a:pt x="20492" y="21600"/>
                  </a:lnTo>
                  <a:lnTo>
                    <a:pt x="20492" y="21300"/>
                  </a:lnTo>
                  <a:lnTo>
                    <a:pt x="21046" y="19800"/>
                  </a:lnTo>
                  <a:lnTo>
                    <a:pt x="21600" y="18600"/>
                  </a:lnTo>
                  <a:lnTo>
                    <a:pt x="21600" y="18000"/>
                  </a:lnTo>
                  <a:lnTo>
                    <a:pt x="20492" y="15600"/>
                  </a:lnTo>
                  <a:lnTo>
                    <a:pt x="19015" y="12300"/>
                  </a:lnTo>
                  <a:lnTo>
                    <a:pt x="16985" y="9600"/>
                  </a:lnTo>
                  <a:lnTo>
                    <a:pt x="14954" y="7500"/>
                  </a:lnTo>
                  <a:lnTo>
                    <a:pt x="12738" y="5400"/>
                  </a:lnTo>
                  <a:lnTo>
                    <a:pt x="9969" y="3600"/>
                  </a:lnTo>
                  <a:lnTo>
                    <a:pt x="7200" y="1800"/>
                  </a:lnTo>
                  <a:lnTo>
                    <a:pt x="4615" y="900"/>
                  </a:lnTo>
                  <a:lnTo>
                    <a:pt x="2400" y="600"/>
                  </a:lnTo>
                  <a:lnTo>
                    <a:pt x="554" y="0"/>
                  </a:lnTo>
                  <a:lnTo>
                    <a:pt x="0" y="0"/>
                  </a:lnTo>
                  <a:lnTo>
                    <a:pt x="185" y="900"/>
                  </a:lnTo>
                  <a:lnTo>
                    <a:pt x="1292" y="3600"/>
                  </a:lnTo>
                  <a:lnTo>
                    <a:pt x="2585" y="6300"/>
                  </a:lnTo>
                  <a:close/>
                  <a:moveTo>
                    <a:pt x="2585" y="630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5" name="Freeform 43"/>
            <p:cNvSpPr/>
            <p:nvPr/>
          </p:nvSpPr>
          <p:spPr>
            <a:xfrm>
              <a:off x="8334000" y="6287760"/>
              <a:ext cx="182520" cy="110880"/>
            </a:xfrm>
            <a:custGeom>
              <a:avLst/>
              <a:gdLst/>
              <a:ahLst/>
              <a:rect l="l" t="t" r="r" b="b"/>
              <a:pathLst>
                <a:path w="21600" h="21600">
                  <a:moveTo>
                    <a:pt x="2585" y="6300"/>
                  </a:moveTo>
                  <a:lnTo>
                    <a:pt x="2585" y="6300"/>
                  </a:lnTo>
                  <a:lnTo>
                    <a:pt x="4615" y="9600"/>
                  </a:lnTo>
                  <a:lnTo>
                    <a:pt x="6646" y="12900"/>
                  </a:lnTo>
                  <a:lnTo>
                    <a:pt x="9231" y="15600"/>
                  </a:lnTo>
                  <a:lnTo>
                    <a:pt x="11631" y="17700"/>
                  </a:lnTo>
                  <a:lnTo>
                    <a:pt x="13846" y="19500"/>
                  </a:lnTo>
                  <a:lnTo>
                    <a:pt x="16246" y="20700"/>
                  </a:lnTo>
                  <a:lnTo>
                    <a:pt x="18462" y="21600"/>
                  </a:lnTo>
                  <a:lnTo>
                    <a:pt x="20492" y="21600"/>
                  </a:lnTo>
                  <a:lnTo>
                    <a:pt x="20492" y="21300"/>
                  </a:lnTo>
                  <a:lnTo>
                    <a:pt x="21046" y="19800"/>
                  </a:lnTo>
                  <a:lnTo>
                    <a:pt x="21600" y="18600"/>
                  </a:lnTo>
                  <a:lnTo>
                    <a:pt x="21600" y="18000"/>
                  </a:lnTo>
                  <a:lnTo>
                    <a:pt x="20492" y="15600"/>
                  </a:lnTo>
                  <a:lnTo>
                    <a:pt x="19015" y="12300"/>
                  </a:lnTo>
                  <a:lnTo>
                    <a:pt x="16985" y="9600"/>
                  </a:lnTo>
                  <a:lnTo>
                    <a:pt x="14954" y="7500"/>
                  </a:lnTo>
                  <a:lnTo>
                    <a:pt x="12738" y="5400"/>
                  </a:lnTo>
                  <a:lnTo>
                    <a:pt x="9969" y="3600"/>
                  </a:lnTo>
                  <a:lnTo>
                    <a:pt x="7200" y="1800"/>
                  </a:lnTo>
                  <a:lnTo>
                    <a:pt x="4615" y="900"/>
                  </a:lnTo>
                  <a:lnTo>
                    <a:pt x="2400" y="600"/>
                  </a:lnTo>
                  <a:lnTo>
                    <a:pt x="554" y="0"/>
                  </a:lnTo>
                  <a:lnTo>
                    <a:pt x="0" y="0"/>
                  </a:lnTo>
                  <a:lnTo>
                    <a:pt x="185" y="900"/>
                  </a:lnTo>
                  <a:lnTo>
                    <a:pt x="1292" y="3600"/>
                  </a:lnTo>
                  <a:lnTo>
                    <a:pt x="2585" y="6300"/>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6" name="Freeform 44"/>
            <p:cNvSpPr/>
            <p:nvPr/>
          </p:nvSpPr>
          <p:spPr>
            <a:xfrm>
              <a:off x="8295840" y="6395760"/>
              <a:ext cx="203400" cy="61560"/>
            </a:xfrm>
            <a:custGeom>
              <a:avLst/>
              <a:gdLst/>
              <a:ahLst/>
              <a:rect l="l" t="t" r="r" b="b"/>
              <a:pathLst>
                <a:path w="21600" h="21600">
                  <a:moveTo>
                    <a:pt x="21436" y="16200"/>
                  </a:moveTo>
                  <a:lnTo>
                    <a:pt x="21600" y="16200"/>
                  </a:lnTo>
                  <a:lnTo>
                    <a:pt x="21600" y="15120"/>
                  </a:lnTo>
                  <a:lnTo>
                    <a:pt x="21600" y="12960"/>
                  </a:lnTo>
                  <a:lnTo>
                    <a:pt x="21600" y="9720"/>
                  </a:lnTo>
                  <a:lnTo>
                    <a:pt x="21600" y="8640"/>
                  </a:lnTo>
                  <a:lnTo>
                    <a:pt x="19964" y="5940"/>
                  </a:lnTo>
                  <a:lnTo>
                    <a:pt x="18000" y="3240"/>
                  </a:lnTo>
                  <a:lnTo>
                    <a:pt x="15873" y="1620"/>
                  </a:lnTo>
                  <a:lnTo>
                    <a:pt x="13745" y="0"/>
                  </a:lnTo>
                  <a:lnTo>
                    <a:pt x="11291" y="0"/>
                  </a:lnTo>
                  <a:lnTo>
                    <a:pt x="8836" y="0"/>
                  </a:lnTo>
                  <a:lnTo>
                    <a:pt x="6218" y="1620"/>
                  </a:lnTo>
                  <a:lnTo>
                    <a:pt x="3764" y="3240"/>
                  </a:lnTo>
                  <a:lnTo>
                    <a:pt x="1964" y="4860"/>
                  </a:lnTo>
                  <a:lnTo>
                    <a:pt x="491" y="7020"/>
                  </a:lnTo>
                  <a:lnTo>
                    <a:pt x="0" y="8100"/>
                  </a:lnTo>
                  <a:lnTo>
                    <a:pt x="491" y="8640"/>
                  </a:lnTo>
                  <a:lnTo>
                    <a:pt x="1964" y="11880"/>
                  </a:lnTo>
                  <a:lnTo>
                    <a:pt x="3600" y="14580"/>
                  </a:lnTo>
                  <a:lnTo>
                    <a:pt x="6055" y="17820"/>
                  </a:lnTo>
                  <a:lnTo>
                    <a:pt x="8345" y="18900"/>
                  </a:lnTo>
                  <a:lnTo>
                    <a:pt x="10964" y="20520"/>
                  </a:lnTo>
                  <a:lnTo>
                    <a:pt x="13418" y="21600"/>
                  </a:lnTo>
                  <a:lnTo>
                    <a:pt x="15545" y="21600"/>
                  </a:lnTo>
                  <a:lnTo>
                    <a:pt x="17836" y="19980"/>
                  </a:lnTo>
                  <a:lnTo>
                    <a:pt x="19636" y="18360"/>
                  </a:lnTo>
                  <a:lnTo>
                    <a:pt x="21436" y="16200"/>
                  </a:lnTo>
                  <a:close/>
                  <a:moveTo>
                    <a:pt x="21436" y="1620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7" name="Freeform 45"/>
            <p:cNvSpPr/>
            <p:nvPr/>
          </p:nvSpPr>
          <p:spPr>
            <a:xfrm>
              <a:off x="8295840" y="6395760"/>
              <a:ext cx="203400" cy="61560"/>
            </a:xfrm>
            <a:custGeom>
              <a:avLst/>
              <a:gdLst/>
              <a:ahLst/>
              <a:rect l="l" t="t" r="r" b="b"/>
              <a:pathLst>
                <a:path w="21600" h="21600">
                  <a:moveTo>
                    <a:pt x="21436" y="16200"/>
                  </a:moveTo>
                  <a:lnTo>
                    <a:pt x="21600" y="16200"/>
                  </a:lnTo>
                  <a:lnTo>
                    <a:pt x="21600" y="15120"/>
                  </a:lnTo>
                  <a:lnTo>
                    <a:pt x="21600" y="12960"/>
                  </a:lnTo>
                  <a:lnTo>
                    <a:pt x="21600" y="9720"/>
                  </a:lnTo>
                  <a:lnTo>
                    <a:pt x="21600" y="8640"/>
                  </a:lnTo>
                  <a:lnTo>
                    <a:pt x="19964" y="5940"/>
                  </a:lnTo>
                  <a:lnTo>
                    <a:pt x="18000" y="3240"/>
                  </a:lnTo>
                  <a:lnTo>
                    <a:pt x="15873" y="1620"/>
                  </a:lnTo>
                  <a:lnTo>
                    <a:pt x="13745" y="0"/>
                  </a:lnTo>
                  <a:lnTo>
                    <a:pt x="11291" y="0"/>
                  </a:lnTo>
                  <a:lnTo>
                    <a:pt x="8836" y="0"/>
                  </a:lnTo>
                  <a:lnTo>
                    <a:pt x="6218" y="1620"/>
                  </a:lnTo>
                  <a:lnTo>
                    <a:pt x="3764" y="3240"/>
                  </a:lnTo>
                  <a:lnTo>
                    <a:pt x="1964" y="4860"/>
                  </a:lnTo>
                  <a:lnTo>
                    <a:pt x="491" y="7020"/>
                  </a:lnTo>
                  <a:lnTo>
                    <a:pt x="0" y="8100"/>
                  </a:lnTo>
                  <a:lnTo>
                    <a:pt x="491" y="8640"/>
                  </a:lnTo>
                  <a:lnTo>
                    <a:pt x="1964" y="11880"/>
                  </a:lnTo>
                  <a:lnTo>
                    <a:pt x="3600" y="14580"/>
                  </a:lnTo>
                  <a:lnTo>
                    <a:pt x="6055" y="17820"/>
                  </a:lnTo>
                  <a:lnTo>
                    <a:pt x="8345" y="18900"/>
                  </a:lnTo>
                  <a:lnTo>
                    <a:pt x="10964" y="20520"/>
                  </a:lnTo>
                  <a:lnTo>
                    <a:pt x="13418" y="21600"/>
                  </a:lnTo>
                  <a:lnTo>
                    <a:pt x="15545" y="21600"/>
                  </a:lnTo>
                  <a:lnTo>
                    <a:pt x="17836" y="19980"/>
                  </a:lnTo>
                  <a:lnTo>
                    <a:pt x="19636" y="18360"/>
                  </a:lnTo>
                  <a:lnTo>
                    <a:pt x="21436" y="16200"/>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8" name="Freeform 46"/>
            <p:cNvSpPr/>
            <p:nvPr/>
          </p:nvSpPr>
          <p:spPr>
            <a:xfrm>
              <a:off x="8314920" y="6462360"/>
              <a:ext cx="193680" cy="90360"/>
            </a:xfrm>
            <a:custGeom>
              <a:avLst/>
              <a:gdLst/>
              <a:ahLst/>
              <a:rect l="l" t="t" r="r" b="b"/>
              <a:pathLst>
                <a:path w="21600" h="21600">
                  <a:moveTo>
                    <a:pt x="21600" y="4469"/>
                  </a:moveTo>
                  <a:lnTo>
                    <a:pt x="21600" y="4469"/>
                  </a:lnTo>
                  <a:lnTo>
                    <a:pt x="21600" y="4097"/>
                  </a:lnTo>
                  <a:lnTo>
                    <a:pt x="21082" y="2234"/>
                  </a:lnTo>
                  <a:lnTo>
                    <a:pt x="20736" y="745"/>
                  </a:lnTo>
                  <a:lnTo>
                    <a:pt x="20563" y="0"/>
                  </a:lnTo>
                  <a:lnTo>
                    <a:pt x="18835" y="0"/>
                  </a:lnTo>
                  <a:lnTo>
                    <a:pt x="16589" y="0"/>
                  </a:lnTo>
                  <a:lnTo>
                    <a:pt x="14170" y="1117"/>
                  </a:lnTo>
                  <a:lnTo>
                    <a:pt x="11923" y="2979"/>
                  </a:lnTo>
                  <a:lnTo>
                    <a:pt x="9677" y="5214"/>
                  </a:lnTo>
                  <a:lnTo>
                    <a:pt x="7430" y="7821"/>
                  </a:lnTo>
                  <a:lnTo>
                    <a:pt x="5011" y="11172"/>
                  </a:lnTo>
                  <a:lnTo>
                    <a:pt x="3110" y="14524"/>
                  </a:lnTo>
                  <a:lnTo>
                    <a:pt x="1555" y="17503"/>
                  </a:lnTo>
                  <a:lnTo>
                    <a:pt x="173" y="20483"/>
                  </a:lnTo>
                  <a:lnTo>
                    <a:pt x="0" y="21600"/>
                  </a:lnTo>
                  <a:lnTo>
                    <a:pt x="518" y="21600"/>
                  </a:lnTo>
                  <a:lnTo>
                    <a:pt x="2592" y="21600"/>
                  </a:lnTo>
                  <a:lnTo>
                    <a:pt x="4493" y="21600"/>
                  </a:lnTo>
                  <a:lnTo>
                    <a:pt x="7085" y="20855"/>
                  </a:lnTo>
                  <a:lnTo>
                    <a:pt x="9677" y="19738"/>
                  </a:lnTo>
                  <a:lnTo>
                    <a:pt x="12269" y="18248"/>
                  </a:lnTo>
                  <a:lnTo>
                    <a:pt x="14688" y="16014"/>
                  </a:lnTo>
                  <a:lnTo>
                    <a:pt x="16762" y="13779"/>
                  </a:lnTo>
                  <a:lnTo>
                    <a:pt x="18835" y="11172"/>
                  </a:lnTo>
                  <a:lnTo>
                    <a:pt x="20390" y="7821"/>
                  </a:lnTo>
                  <a:lnTo>
                    <a:pt x="21600" y="4469"/>
                  </a:lnTo>
                  <a:close/>
                  <a:moveTo>
                    <a:pt x="21600" y="4469"/>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9" name="Freeform 47"/>
            <p:cNvSpPr/>
            <p:nvPr/>
          </p:nvSpPr>
          <p:spPr>
            <a:xfrm>
              <a:off x="8314920" y="6462360"/>
              <a:ext cx="193680" cy="90360"/>
            </a:xfrm>
            <a:custGeom>
              <a:avLst/>
              <a:gdLst/>
              <a:ahLst/>
              <a:rect l="l" t="t" r="r" b="b"/>
              <a:pathLst>
                <a:path w="21600" h="21600">
                  <a:moveTo>
                    <a:pt x="21600" y="4469"/>
                  </a:moveTo>
                  <a:lnTo>
                    <a:pt x="21600" y="4469"/>
                  </a:lnTo>
                  <a:lnTo>
                    <a:pt x="21600" y="4097"/>
                  </a:lnTo>
                  <a:lnTo>
                    <a:pt x="21082" y="2234"/>
                  </a:lnTo>
                  <a:lnTo>
                    <a:pt x="20736" y="745"/>
                  </a:lnTo>
                  <a:lnTo>
                    <a:pt x="20563" y="0"/>
                  </a:lnTo>
                  <a:lnTo>
                    <a:pt x="18835" y="0"/>
                  </a:lnTo>
                  <a:lnTo>
                    <a:pt x="16589" y="0"/>
                  </a:lnTo>
                  <a:lnTo>
                    <a:pt x="14170" y="1117"/>
                  </a:lnTo>
                  <a:lnTo>
                    <a:pt x="11923" y="2979"/>
                  </a:lnTo>
                  <a:lnTo>
                    <a:pt x="9677" y="5214"/>
                  </a:lnTo>
                  <a:lnTo>
                    <a:pt x="7430" y="7821"/>
                  </a:lnTo>
                  <a:lnTo>
                    <a:pt x="5011" y="11172"/>
                  </a:lnTo>
                  <a:lnTo>
                    <a:pt x="3110" y="14524"/>
                  </a:lnTo>
                  <a:lnTo>
                    <a:pt x="1555" y="17503"/>
                  </a:lnTo>
                  <a:lnTo>
                    <a:pt x="173" y="20483"/>
                  </a:lnTo>
                  <a:lnTo>
                    <a:pt x="0" y="21600"/>
                  </a:lnTo>
                  <a:lnTo>
                    <a:pt x="518" y="21600"/>
                  </a:lnTo>
                  <a:lnTo>
                    <a:pt x="2592" y="21600"/>
                  </a:lnTo>
                  <a:lnTo>
                    <a:pt x="4493" y="21600"/>
                  </a:lnTo>
                  <a:lnTo>
                    <a:pt x="7085" y="20855"/>
                  </a:lnTo>
                  <a:lnTo>
                    <a:pt x="9677" y="19738"/>
                  </a:lnTo>
                  <a:lnTo>
                    <a:pt x="12269" y="18248"/>
                  </a:lnTo>
                  <a:lnTo>
                    <a:pt x="14688" y="16014"/>
                  </a:lnTo>
                  <a:lnTo>
                    <a:pt x="16762" y="13779"/>
                  </a:lnTo>
                  <a:lnTo>
                    <a:pt x="18835" y="11172"/>
                  </a:lnTo>
                  <a:lnTo>
                    <a:pt x="20390" y="7821"/>
                  </a:lnTo>
                  <a:lnTo>
                    <a:pt x="21600" y="4469"/>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0" name="Freeform 48"/>
            <p:cNvSpPr/>
            <p:nvPr/>
          </p:nvSpPr>
          <p:spPr>
            <a:xfrm>
              <a:off x="8394480" y="6502320"/>
              <a:ext cx="141120" cy="159840"/>
            </a:xfrm>
            <a:custGeom>
              <a:avLst/>
              <a:gdLst/>
              <a:ahLst/>
              <a:rect l="l" t="t" r="r" b="b"/>
              <a:pathLst>
                <a:path w="21600" h="21600">
                  <a:moveTo>
                    <a:pt x="20426" y="1049"/>
                  </a:moveTo>
                  <a:lnTo>
                    <a:pt x="20426" y="1049"/>
                  </a:lnTo>
                  <a:lnTo>
                    <a:pt x="19487" y="0"/>
                  </a:lnTo>
                  <a:lnTo>
                    <a:pt x="16670" y="1049"/>
                  </a:lnTo>
                  <a:lnTo>
                    <a:pt x="14322" y="2307"/>
                  </a:lnTo>
                  <a:lnTo>
                    <a:pt x="11739" y="3775"/>
                  </a:lnTo>
                  <a:lnTo>
                    <a:pt x="9391" y="5872"/>
                  </a:lnTo>
                  <a:lnTo>
                    <a:pt x="7043" y="8388"/>
                  </a:lnTo>
                  <a:lnTo>
                    <a:pt x="4930" y="10905"/>
                  </a:lnTo>
                  <a:lnTo>
                    <a:pt x="3287" y="13631"/>
                  </a:lnTo>
                  <a:lnTo>
                    <a:pt x="1878" y="16777"/>
                  </a:lnTo>
                  <a:lnTo>
                    <a:pt x="704" y="18874"/>
                  </a:lnTo>
                  <a:lnTo>
                    <a:pt x="0" y="20971"/>
                  </a:lnTo>
                  <a:lnTo>
                    <a:pt x="0" y="21600"/>
                  </a:lnTo>
                  <a:lnTo>
                    <a:pt x="470" y="21390"/>
                  </a:lnTo>
                  <a:lnTo>
                    <a:pt x="2817" y="20342"/>
                  </a:lnTo>
                  <a:lnTo>
                    <a:pt x="5165" y="19503"/>
                  </a:lnTo>
                  <a:lnTo>
                    <a:pt x="8452" y="17616"/>
                  </a:lnTo>
                  <a:lnTo>
                    <a:pt x="11504" y="15728"/>
                  </a:lnTo>
                  <a:lnTo>
                    <a:pt x="13852" y="13631"/>
                  </a:lnTo>
                  <a:lnTo>
                    <a:pt x="16200" y="11115"/>
                  </a:lnTo>
                  <a:lnTo>
                    <a:pt x="18313" y="8598"/>
                  </a:lnTo>
                  <a:lnTo>
                    <a:pt x="19722" y="6291"/>
                  </a:lnTo>
                  <a:lnTo>
                    <a:pt x="20896" y="3984"/>
                  </a:lnTo>
                  <a:lnTo>
                    <a:pt x="21600" y="1678"/>
                  </a:lnTo>
                  <a:lnTo>
                    <a:pt x="21600" y="1258"/>
                  </a:lnTo>
                  <a:lnTo>
                    <a:pt x="20426" y="1049"/>
                  </a:lnTo>
                  <a:close/>
                  <a:moveTo>
                    <a:pt x="20426" y="1049"/>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1" name="Freeform 49"/>
            <p:cNvSpPr/>
            <p:nvPr/>
          </p:nvSpPr>
          <p:spPr>
            <a:xfrm>
              <a:off x="8394480" y="6502320"/>
              <a:ext cx="141120" cy="159840"/>
            </a:xfrm>
            <a:custGeom>
              <a:avLst/>
              <a:gdLst/>
              <a:ahLst/>
              <a:rect l="l" t="t" r="r" b="b"/>
              <a:pathLst>
                <a:path w="21600" h="21600">
                  <a:moveTo>
                    <a:pt x="20426" y="1049"/>
                  </a:moveTo>
                  <a:lnTo>
                    <a:pt x="20426" y="1049"/>
                  </a:lnTo>
                  <a:lnTo>
                    <a:pt x="19487" y="0"/>
                  </a:lnTo>
                  <a:lnTo>
                    <a:pt x="16670" y="1049"/>
                  </a:lnTo>
                  <a:lnTo>
                    <a:pt x="14322" y="2307"/>
                  </a:lnTo>
                  <a:lnTo>
                    <a:pt x="11739" y="3775"/>
                  </a:lnTo>
                  <a:lnTo>
                    <a:pt x="9391" y="5872"/>
                  </a:lnTo>
                  <a:lnTo>
                    <a:pt x="7043" y="8388"/>
                  </a:lnTo>
                  <a:lnTo>
                    <a:pt x="4930" y="10905"/>
                  </a:lnTo>
                  <a:lnTo>
                    <a:pt x="3287" y="13631"/>
                  </a:lnTo>
                  <a:lnTo>
                    <a:pt x="1878" y="16777"/>
                  </a:lnTo>
                  <a:lnTo>
                    <a:pt x="704" y="18874"/>
                  </a:lnTo>
                  <a:lnTo>
                    <a:pt x="0" y="20971"/>
                  </a:lnTo>
                  <a:lnTo>
                    <a:pt x="0" y="21600"/>
                  </a:lnTo>
                  <a:lnTo>
                    <a:pt x="470" y="21390"/>
                  </a:lnTo>
                  <a:lnTo>
                    <a:pt x="2817" y="20342"/>
                  </a:lnTo>
                  <a:lnTo>
                    <a:pt x="5165" y="19503"/>
                  </a:lnTo>
                  <a:lnTo>
                    <a:pt x="8452" y="17616"/>
                  </a:lnTo>
                  <a:lnTo>
                    <a:pt x="11504" y="15728"/>
                  </a:lnTo>
                  <a:lnTo>
                    <a:pt x="13852" y="13631"/>
                  </a:lnTo>
                  <a:lnTo>
                    <a:pt x="16200" y="11115"/>
                  </a:lnTo>
                  <a:lnTo>
                    <a:pt x="18313" y="8598"/>
                  </a:lnTo>
                  <a:lnTo>
                    <a:pt x="19722" y="6291"/>
                  </a:lnTo>
                  <a:lnTo>
                    <a:pt x="20896" y="3984"/>
                  </a:lnTo>
                  <a:lnTo>
                    <a:pt x="21600" y="1678"/>
                  </a:lnTo>
                  <a:lnTo>
                    <a:pt x="21600" y="1258"/>
                  </a:lnTo>
                  <a:lnTo>
                    <a:pt x="20426" y="1049"/>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2" name="Freeform 50"/>
            <p:cNvSpPr/>
            <p:nvPr/>
          </p:nvSpPr>
          <p:spPr>
            <a:xfrm>
              <a:off x="8464320" y="6202080"/>
              <a:ext cx="407880" cy="517320"/>
            </a:xfrm>
            <a:custGeom>
              <a:avLst/>
              <a:gdLst/>
              <a:ahLst/>
              <a:rect l="l" t="t" r="r" b="b"/>
              <a:pathLst>
                <a:path w="21600" h="21600">
                  <a:moveTo>
                    <a:pt x="20045" y="11447"/>
                  </a:moveTo>
                  <a:lnTo>
                    <a:pt x="20045" y="11447"/>
                  </a:lnTo>
                  <a:lnTo>
                    <a:pt x="21518" y="11059"/>
                  </a:lnTo>
                  <a:lnTo>
                    <a:pt x="21600" y="9442"/>
                  </a:lnTo>
                  <a:lnTo>
                    <a:pt x="20127" y="8925"/>
                  </a:lnTo>
                  <a:lnTo>
                    <a:pt x="19309" y="8860"/>
                  </a:lnTo>
                  <a:lnTo>
                    <a:pt x="18491" y="8795"/>
                  </a:lnTo>
                  <a:lnTo>
                    <a:pt x="16936" y="8601"/>
                  </a:lnTo>
                  <a:lnTo>
                    <a:pt x="16691" y="7696"/>
                  </a:lnTo>
                  <a:lnTo>
                    <a:pt x="18082" y="7049"/>
                  </a:lnTo>
                  <a:lnTo>
                    <a:pt x="18818" y="6661"/>
                  </a:lnTo>
                  <a:lnTo>
                    <a:pt x="19473" y="6273"/>
                  </a:lnTo>
                  <a:lnTo>
                    <a:pt x="20536" y="5432"/>
                  </a:lnTo>
                  <a:lnTo>
                    <a:pt x="20045" y="4656"/>
                  </a:lnTo>
                  <a:lnTo>
                    <a:pt x="19555" y="3945"/>
                  </a:lnTo>
                  <a:lnTo>
                    <a:pt x="18082" y="4074"/>
                  </a:lnTo>
                  <a:lnTo>
                    <a:pt x="17264" y="4204"/>
                  </a:lnTo>
                  <a:lnTo>
                    <a:pt x="16445" y="4398"/>
                  </a:lnTo>
                  <a:lnTo>
                    <a:pt x="14973" y="4980"/>
                  </a:lnTo>
                  <a:lnTo>
                    <a:pt x="14236" y="4204"/>
                  </a:lnTo>
                  <a:lnTo>
                    <a:pt x="15136" y="3169"/>
                  </a:lnTo>
                  <a:lnTo>
                    <a:pt x="15464" y="2587"/>
                  </a:lnTo>
                  <a:lnTo>
                    <a:pt x="15791" y="1940"/>
                  </a:lnTo>
                  <a:lnTo>
                    <a:pt x="16200" y="841"/>
                  </a:lnTo>
                  <a:lnTo>
                    <a:pt x="14891" y="0"/>
                  </a:lnTo>
                  <a:lnTo>
                    <a:pt x="11618" y="4398"/>
                  </a:lnTo>
                  <a:lnTo>
                    <a:pt x="12600" y="5044"/>
                  </a:lnTo>
                  <a:lnTo>
                    <a:pt x="13173" y="5626"/>
                  </a:lnTo>
                  <a:lnTo>
                    <a:pt x="13664" y="6079"/>
                  </a:lnTo>
                  <a:lnTo>
                    <a:pt x="14155" y="6661"/>
                  </a:lnTo>
                  <a:lnTo>
                    <a:pt x="14400" y="7243"/>
                  </a:lnTo>
                  <a:lnTo>
                    <a:pt x="14727" y="7825"/>
                  </a:lnTo>
                  <a:lnTo>
                    <a:pt x="14891" y="8472"/>
                  </a:lnTo>
                  <a:lnTo>
                    <a:pt x="14973" y="9119"/>
                  </a:lnTo>
                  <a:lnTo>
                    <a:pt x="15136" y="9830"/>
                  </a:lnTo>
                  <a:lnTo>
                    <a:pt x="14973" y="10477"/>
                  </a:lnTo>
                  <a:lnTo>
                    <a:pt x="14891" y="11123"/>
                  </a:lnTo>
                  <a:lnTo>
                    <a:pt x="14727" y="11705"/>
                  </a:lnTo>
                  <a:lnTo>
                    <a:pt x="14400" y="12352"/>
                  </a:lnTo>
                  <a:lnTo>
                    <a:pt x="14155" y="12934"/>
                  </a:lnTo>
                  <a:lnTo>
                    <a:pt x="13664" y="13516"/>
                  </a:lnTo>
                  <a:lnTo>
                    <a:pt x="13173" y="13969"/>
                  </a:lnTo>
                  <a:lnTo>
                    <a:pt x="12600" y="14486"/>
                  </a:lnTo>
                  <a:lnTo>
                    <a:pt x="11945" y="14939"/>
                  </a:lnTo>
                  <a:lnTo>
                    <a:pt x="11373" y="15327"/>
                  </a:lnTo>
                  <a:lnTo>
                    <a:pt x="10636" y="15715"/>
                  </a:lnTo>
                  <a:lnTo>
                    <a:pt x="9900" y="15974"/>
                  </a:lnTo>
                  <a:lnTo>
                    <a:pt x="9082" y="16168"/>
                  </a:lnTo>
                  <a:lnTo>
                    <a:pt x="8264" y="16362"/>
                  </a:lnTo>
                  <a:lnTo>
                    <a:pt x="7527" y="16491"/>
                  </a:lnTo>
                  <a:lnTo>
                    <a:pt x="6709" y="16491"/>
                  </a:lnTo>
                  <a:lnTo>
                    <a:pt x="5727" y="16491"/>
                  </a:lnTo>
                  <a:lnTo>
                    <a:pt x="4909" y="16297"/>
                  </a:lnTo>
                  <a:lnTo>
                    <a:pt x="4009" y="16168"/>
                  </a:lnTo>
                  <a:lnTo>
                    <a:pt x="3191" y="15909"/>
                  </a:lnTo>
                  <a:lnTo>
                    <a:pt x="0" y="20371"/>
                  </a:lnTo>
                  <a:lnTo>
                    <a:pt x="1555" y="20824"/>
                  </a:lnTo>
                  <a:lnTo>
                    <a:pt x="2455" y="20048"/>
                  </a:lnTo>
                  <a:lnTo>
                    <a:pt x="2945" y="19531"/>
                  </a:lnTo>
                  <a:lnTo>
                    <a:pt x="3436" y="18949"/>
                  </a:lnTo>
                  <a:lnTo>
                    <a:pt x="4173" y="17784"/>
                  </a:lnTo>
                  <a:lnTo>
                    <a:pt x="5236" y="17978"/>
                  </a:lnTo>
                  <a:lnTo>
                    <a:pt x="5482" y="19207"/>
                  </a:lnTo>
                  <a:lnTo>
                    <a:pt x="5727" y="19919"/>
                  </a:lnTo>
                  <a:lnTo>
                    <a:pt x="5973" y="20565"/>
                  </a:lnTo>
                  <a:lnTo>
                    <a:pt x="6545" y="21600"/>
                  </a:lnTo>
                  <a:lnTo>
                    <a:pt x="7445" y="21600"/>
                  </a:lnTo>
                  <a:lnTo>
                    <a:pt x="8755" y="21535"/>
                  </a:lnTo>
                  <a:lnTo>
                    <a:pt x="9082" y="20371"/>
                  </a:lnTo>
                  <a:lnTo>
                    <a:pt x="9245" y="19789"/>
                  </a:lnTo>
                  <a:lnTo>
                    <a:pt x="9245" y="19013"/>
                  </a:lnTo>
                  <a:lnTo>
                    <a:pt x="9245" y="17784"/>
                  </a:lnTo>
                  <a:lnTo>
                    <a:pt x="10309" y="17526"/>
                  </a:lnTo>
                  <a:lnTo>
                    <a:pt x="11291" y="18560"/>
                  </a:lnTo>
                  <a:lnTo>
                    <a:pt x="11782" y="19013"/>
                  </a:lnTo>
                  <a:lnTo>
                    <a:pt x="12355" y="19531"/>
                  </a:lnTo>
                  <a:lnTo>
                    <a:pt x="13582" y="20242"/>
                  </a:lnTo>
                  <a:lnTo>
                    <a:pt x="14482" y="19789"/>
                  </a:lnTo>
                  <a:lnTo>
                    <a:pt x="15382" y="19401"/>
                  </a:lnTo>
                  <a:lnTo>
                    <a:pt x="14973" y="18302"/>
                  </a:lnTo>
                  <a:lnTo>
                    <a:pt x="14727" y="17590"/>
                  </a:lnTo>
                  <a:lnTo>
                    <a:pt x="14400" y="17008"/>
                  </a:lnTo>
                  <a:lnTo>
                    <a:pt x="13664" y="15909"/>
                  </a:lnTo>
                  <a:lnTo>
                    <a:pt x="14400" y="15198"/>
                  </a:lnTo>
                  <a:lnTo>
                    <a:pt x="15791" y="15780"/>
                  </a:lnTo>
                  <a:lnTo>
                    <a:pt x="16691" y="16103"/>
                  </a:lnTo>
                  <a:lnTo>
                    <a:pt x="17427" y="16297"/>
                  </a:lnTo>
                  <a:lnTo>
                    <a:pt x="18982" y="16491"/>
                  </a:lnTo>
                  <a:lnTo>
                    <a:pt x="19555" y="15780"/>
                  </a:lnTo>
                  <a:lnTo>
                    <a:pt x="20045" y="15068"/>
                  </a:lnTo>
                  <a:lnTo>
                    <a:pt x="19064" y="14098"/>
                  </a:lnTo>
                  <a:lnTo>
                    <a:pt x="18491" y="13710"/>
                  </a:lnTo>
                  <a:lnTo>
                    <a:pt x="17755" y="13257"/>
                  </a:lnTo>
                  <a:lnTo>
                    <a:pt x="16445" y="12546"/>
                  </a:lnTo>
                  <a:lnTo>
                    <a:pt x="16691" y="11705"/>
                  </a:lnTo>
                  <a:lnTo>
                    <a:pt x="18327" y="11641"/>
                  </a:lnTo>
                  <a:lnTo>
                    <a:pt x="19227" y="11641"/>
                  </a:lnTo>
                  <a:lnTo>
                    <a:pt x="20045" y="11447"/>
                  </a:lnTo>
                  <a:close/>
                  <a:moveTo>
                    <a:pt x="20045" y="11447"/>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3" name="Freeform 51"/>
            <p:cNvSpPr/>
            <p:nvPr/>
          </p:nvSpPr>
          <p:spPr>
            <a:xfrm>
              <a:off x="8464320" y="6202080"/>
              <a:ext cx="407880" cy="517320"/>
            </a:xfrm>
            <a:custGeom>
              <a:avLst/>
              <a:gdLst/>
              <a:ahLst/>
              <a:rect l="l" t="t" r="r" b="b"/>
              <a:pathLst>
                <a:path w="21600" h="21600">
                  <a:moveTo>
                    <a:pt x="20045" y="11447"/>
                  </a:moveTo>
                  <a:lnTo>
                    <a:pt x="20045" y="11447"/>
                  </a:lnTo>
                  <a:lnTo>
                    <a:pt x="21518" y="11059"/>
                  </a:lnTo>
                  <a:lnTo>
                    <a:pt x="21600" y="9442"/>
                  </a:lnTo>
                  <a:lnTo>
                    <a:pt x="20127" y="8925"/>
                  </a:lnTo>
                  <a:lnTo>
                    <a:pt x="19309" y="8860"/>
                  </a:lnTo>
                  <a:lnTo>
                    <a:pt x="18491" y="8795"/>
                  </a:lnTo>
                  <a:lnTo>
                    <a:pt x="16936" y="8601"/>
                  </a:lnTo>
                  <a:lnTo>
                    <a:pt x="16691" y="7696"/>
                  </a:lnTo>
                  <a:lnTo>
                    <a:pt x="18082" y="7049"/>
                  </a:lnTo>
                  <a:lnTo>
                    <a:pt x="18818" y="6661"/>
                  </a:lnTo>
                  <a:lnTo>
                    <a:pt x="19473" y="6273"/>
                  </a:lnTo>
                  <a:lnTo>
                    <a:pt x="20536" y="5432"/>
                  </a:lnTo>
                  <a:lnTo>
                    <a:pt x="20045" y="4656"/>
                  </a:lnTo>
                  <a:lnTo>
                    <a:pt x="19555" y="3945"/>
                  </a:lnTo>
                  <a:lnTo>
                    <a:pt x="18082" y="4074"/>
                  </a:lnTo>
                  <a:lnTo>
                    <a:pt x="17264" y="4204"/>
                  </a:lnTo>
                  <a:lnTo>
                    <a:pt x="16445" y="4398"/>
                  </a:lnTo>
                  <a:lnTo>
                    <a:pt x="14973" y="4980"/>
                  </a:lnTo>
                  <a:lnTo>
                    <a:pt x="14236" y="4204"/>
                  </a:lnTo>
                  <a:lnTo>
                    <a:pt x="15136" y="3169"/>
                  </a:lnTo>
                  <a:lnTo>
                    <a:pt x="15464" y="2587"/>
                  </a:lnTo>
                  <a:lnTo>
                    <a:pt x="15791" y="1940"/>
                  </a:lnTo>
                  <a:lnTo>
                    <a:pt x="16200" y="841"/>
                  </a:lnTo>
                  <a:lnTo>
                    <a:pt x="14891" y="0"/>
                  </a:lnTo>
                  <a:lnTo>
                    <a:pt x="11618" y="4398"/>
                  </a:lnTo>
                  <a:lnTo>
                    <a:pt x="12600" y="5044"/>
                  </a:lnTo>
                  <a:lnTo>
                    <a:pt x="13173" y="5626"/>
                  </a:lnTo>
                  <a:lnTo>
                    <a:pt x="13664" y="6079"/>
                  </a:lnTo>
                  <a:lnTo>
                    <a:pt x="14155" y="6661"/>
                  </a:lnTo>
                  <a:lnTo>
                    <a:pt x="14400" y="7243"/>
                  </a:lnTo>
                  <a:lnTo>
                    <a:pt x="14727" y="7825"/>
                  </a:lnTo>
                  <a:lnTo>
                    <a:pt x="14891" y="8472"/>
                  </a:lnTo>
                  <a:lnTo>
                    <a:pt x="14973" y="9119"/>
                  </a:lnTo>
                  <a:lnTo>
                    <a:pt x="15136" y="9830"/>
                  </a:lnTo>
                  <a:lnTo>
                    <a:pt x="14973" y="10477"/>
                  </a:lnTo>
                  <a:lnTo>
                    <a:pt x="14891" y="11123"/>
                  </a:lnTo>
                  <a:lnTo>
                    <a:pt x="14727" y="11705"/>
                  </a:lnTo>
                  <a:lnTo>
                    <a:pt x="14400" y="12352"/>
                  </a:lnTo>
                  <a:lnTo>
                    <a:pt x="14155" y="12934"/>
                  </a:lnTo>
                  <a:lnTo>
                    <a:pt x="13664" y="13516"/>
                  </a:lnTo>
                  <a:lnTo>
                    <a:pt x="13173" y="13969"/>
                  </a:lnTo>
                  <a:lnTo>
                    <a:pt x="12600" y="14486"/>
                  </a:lnTo>
                  <a:lnTo>
                    <a:pt x="11945" y="14939"/>
                  </a:lnTo>
                  <a:lnTo>
                    <a:pt x="11373" y="15327"/>
                  </a:lnTo>
                  <a:lnTo>
                    <a:pt x="10636" y="15715"/>
                  </a:lnTo>
                  <a:lnTo>
                    <a:pt x="9900" y="15974"/>
                  </a:lnTo>
                  <a:lnTo>
                    <a:pt x="9082" y="16168"/>
                  </a:lnTo>
                  <a:lnTo>
                    <a:pt x="8264" y="16362"/>
                  </a:lnTo>
                  <a:lnTo>
                    <a:pt x="7527" y="16491"/>
                  </a:lnTo>
                  <a:lnTo>
                    <a:pt x="6709" y="16491"/>
                  </a:lnTo>
                  <a:lnTo>
                    <a:pt x="5727" y="16491"/>
                  </a:lnTo>
                  <a:lnTo>
                    <a:pt x="4909" y="16297"/>
                  </a:lnTo>
                  <a:lnTo>
                    <a:pt x="4009" y="16168"/>
                  </a:lnTo>
                  <a:lnTo>
                    <a:pt x="3191" y="15909"/>
                  </a:lnTo>
                  <a:lnTo>
                    <a:pt x="0" y="20371"/>
                  </a:lnTo>
                  <a:lnTo>
                    <a:pt x="1555" y="20824"/>
                  </a:lnTo>
                  <a:lnTo>
                    <a:pt x="2455" y="20048"/>
                  </a:lnTo>
                  <a:lnTo>
                    <a:pt x="2945" y="19531"/>
                  </a:lnTo>
                  <a:lnTo>
                    <a:pt x="3436" y="18949"/>
                  </a:lnTo>
                  <a:lnTo>
                    <a:pt x="4173" y="17784"/>
                  </a:lnTo>
                  <a:lnTo>
                    <a:pt x="5236" y="17978"/>
                  </a:lnTo>
                  <a:lnTo>
                    <a:pt x="5482" y="19207"/>
                  </a:lnTo>
                  <a:lnTo>
                    <a:pt x="5727" y="19919"/>
                  </a:lnTo>
                  <a:lnTo>
                    <a:pt x="5973" y="20565"/>
                  </a:lnTo>
                  <a:lnTo>
                    <a:pt x="6545" y="21600"/>
                  </a:lnTo>
                  <a:lnTo>
                    <a:pt x="7445" y="21600"/>
                  </a:lnTo>
                  <a:lnTo>
                    <a:pt x="8755" y="21535"/>
                  </a:lnTo>
                  <a:lnTo>
                    <a:pt x="9082" y="20371"/>
                  </a:lnTo>
                  <a:lnTo>
                    <a:pt x="9245" y="19789"/>
                  </a:lnTo>
                  <a:lnTo>
                    <a:pt x="9245" y="19013"/>
                  </a:lnTo>
                  <a:lnTo>
                    <a:pt x="9245" y="17784"/>
                  </a:lnTo>
                  <a:lnTo>
                    <a:pt x="10309" y="17526"/>
                  </a:lnTo>
                  <a:lnTo>
                    <a:pt x="11291" y="18560"/>
                  </a:lnTo>
                  <a:lnTo>
                    <a:pt x="11782" y="19013"/>
                  </a:lnTo>
                  <a:lnTo>
                    <a:pt x="12355" y="19531"/>
                  </a:lnTo>
                  <a:lnTo>
                    <a:pt x="13582" y="20242"/>
                  </a:lnTo>
                  <a:lnTo>
                    <a:pt x="14482" y="19789"/>
                  </a:lnTo>
                  <a:lnTo>
                    <a:pt x="15382" y="19401"/>
                  </a:lnTo>
                  <a:lnTo>
                    <a:pt x="14973" y="18302"/>
                  </a:lnTo>
                  <a:lnTo>
                    <a:pt x="14727" y="17590"/>
                  </a:lnTo>
                  <a:lnTo>
                    <a:pt x="14400" y="17008"/>
                  </a:lnTo>
                  <a:lnTo>
                    <a:pt x="13664" y="15909"/>
                  </a:lnTo>
                  <a:lnTo>
                    <a:pt x="14400" y="15198"/>
                  </a:lnTo>
                  <a:lnTo>
                    <a:pt x="15791" y="15780"/>
                  </a:lnTo>
                  <a:lnTo>
                    <a:pt x="16691" y="16103"/>
                  </a:lnTo>
                  <a:lnTo>
                    <a:pt x="17427" y="16297"/>
                  </a:lnTo>
                  <a:lnTo>
                    <a:pt x="18982" y="16491"/>
                  </a:lnTo>
                  <a:lnTo>
                    <a:pt x="19555" y="15780"/>
                  </a:lnTo>
                  <a:lnTo>
                    <a:pt x="20045" y="15068"/>
                  </a:lnTo>
                  <a:lnTo>
                    <a:pt x="19064" y="14098"/>
                  </a:lnTo>
                  <a:lnTo>
                    <a:pt x="18491" y="13710"/>
                  </a:lnTo>
                  <a:lnTo>
                    <a:pt x="17755" y="13257"/>
                  </a:lnTo>
                  <a:lnTo>
                    <a:pt x="16445" y="12546"/>
                  </a:lnTo>
                  <a:lnTo>
                    <a:pt x="16691" y="11705"/>
                  </a:lnTo>
                  <a:lnTo>
                    <a:pt x="18327" y="11641"/>
                  </a:lnTo>
                  <a:lnTo>
                    <a:pt x="19227" y="11641"/>
                  </a:lnTo>
                  <a:lnTo>
                    <a:pt x="20045" y="11447"/>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4" name="Freeform 52"/>
            <p:cNvSpPr/>
            <p:nvPr/>
          </p:nvSpPr>
          <p:spPr>
            <a:xfrm>
              <a:off x="6012000" y="6381360"/>
              <a:ext cx="76320" cy="112680"/>
            </a:xfrm>
            <a:custGeom>
              <a:avLst/>
              <a:gdLst/>
              <a:ahLst/>
              <a:rect l="l" t="t" r="r" b="b"/>
              <a:pathLst>
                <a:path w="21600" h="21600">
                  <a:moveTo>
                    <a:pt x="0" y="0"/>
                  </a:moveTo>
                  <a:lnTo>
                    <a:pt x="0" y="21600"/>
                  </a:lnTo>
                  <a:lnTo>
                    <a:pt x="21600" y="21600"/>
                  </a:lnTo>
                  <a:lnTo>
                    <a:pt x="21600" y="18300"/>
                  </a:lnTo>
                  <a:lnTo>
                    <a:pt x="5616" y="18300"/>
                  </a:lnTo>
                  <a:lnTo>
                    <a:pt x="5616" y="12600"/>
                  </a:lnTo>
                  <a:lnTo>
                    <a:pt x="19872" y="12600"/>
                  </a:lnTo>
                  <a:lnTo>
                    <a:pt x="19872" y="9000"/>
                  </a:lnTo>
                  <a:lnTo>
                    <a:pt x="5616" y="9000"/>
                  </a:lnTo>
                  <a:lnTo>
                    <a:pt x="5616" y="3600"/>
                  </a:lnTo>
                  <a:lnTo>
                    <a:pt x="20304" y="3600"/>
                  </a:lnTo>
                  <a:lnTo>
                    <a:pt x="20304" y="0"/>
                  </a:lnTo>
                  <a:lnTo>
                    <a:pt x="0" y="0"/>
                  </a:lnTo>
                  <a:close/>
                  <a:moveTo>
                    <a:pt x="0"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5" name="Freeform 53"/>
            <p:cNvSpPr/>
            <p:nvPr/>
          </p:nvSpPr>
          <p:spPr>
            <a:xfrm>
              <a:off x="6102360" y="6418080"/>
              <a:ext cx="66960" cy="74160"/>
            </a:xfrm>
            <a:custGeom>
              <a:avLst/>
              <a:gdLst/>
              <a:ahLst/>
              <a:rect l="l" t="t" r="r" b="b"/>
              <a:pathLst>
                <a:path w="21600" h="21600">
                  <a:moveTo>
                    <a:pt x="21600" y="21600"/>
                  </a:moveTo>
                  <a:lnTo>
                    <a:pt x="15709" y="21600"/>
                  </a:lnTo>
                  <a:lnTo>
                    <a:pt x="15709" y="18000"/>
                  </a:lnTo>
                  <a:lnTo>
                    <a:pt x="14236" y="19800"/>
                  </a:lnTo>
                  <a:lnTo>
                    <a:pt x="12764" y="21150"/>
                  </a:lnTo>
                  <a:lnTo>
                    <a:pt x="10800" y="21600"/>
                  </a:lnTo>
                  <a:lnTo>
                    <a:pt x="8345" y="21600"/>
                  </a:lnTo>
                  <a:lnTo>
                    <a:pt x="6382" y="21600"/>
                  </a:lnTo>
                  <a:lnTo>
                    <a:pt x="4418" y="21150"/>
                  </a:lnTo>
                  <a:lnTo>
                    <a:pt x="1473" y="19800"/>
                  </a:lnTo>
                  <a:lnTo>
                    <a:pt x="0" y="16650"/>
                  </a:lnTo>
                  <a:lnTo>
                    <a:pt x="0" y="13950"/>
                  </a:lnTo>
                  <a:lnTo>
                    <a:pt x="0" y="0"/>
                  </a:lnTo>
                  <a:lnTo>
                    <a:pt x="5891" y="0"/>
                  </a:lnTo>
                  <a:lnTo>
                    <a:pt x="5891" y="10350"/>
                  </a:lnTo>
                  <a:lnTo>
                    <a:pt x="5891" y="13050"/>
                  </a:lnTo>
                  <a:lnTo>
                    <a:pt x="6382" y="15300"/>
                  </a:lnTo>
                  <a:lnTo>
                    <a:pt x="6873" y="16650"/>
                  </a:lnTo>
                  <a:lnTo>
                    <a:pt x="8345" y="17100"/>
                  </a:lnTo>
                  <a:lnTo>
                    <a:pt x="9818" y="17100"/>
                  </a:lnTo>
                  <a:lnTo>
                    <a:pt x="12273" y="16650"/>
                  </a:lnTo>
                  <a:lnTo>
                    <a:pt x="14236" y="15750"/>
                  </a:lnTo>
                  <a:lnTo>
                    <a:pt x="15218" y="13950"/>
                  </a:lnTo>
                  <a:lnTo>
                    <a:pt x="15218" y="11700"/>
                  </a:lnTo>
                  <a:lnTo>
                    <a:pt x="15218" y="0"/>
                  </a:lnTo>
                  <a:lnTo>
                    <a:pt x="21600" y="0"/>
                  </a:lnTo>
                  <a:lnTo>
                    <a:pt x="21600" y="21600"/>
                  </a:lnTo>
                  <a:close/>
                  <a:moveTo>
                    <a:pt x="21600" y="2160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6" name="Freeform 54"/>
            <p:cNvSpPr/>
            <p:nvPr/>
          </p:nvSpPr>
          <p:spPr>
            <a:xfrm>
              <a:off x="6189840" y="6414840"/>
              <a:ext cx="46080" cy="77400"/>
            </a:xfrm>
            <a:custGeom>
              <a:avLst/>
              <a:gdLst/>
              <a:ahLst/>
              <a:rect l="l" t="t" r="r" b="b"/>
              <a:pathLst>
                <a:path w="21600" h="21600">
                  <a:moveTo>
                    <a:pt x="0" y="864"/>
                  </a:moveTo>
                  <a:lnTo>
                    <a:pt x="9360" y="864"/>
                  </a:lnTo>
                  <a:lnTo>
                    <a:pt x="9360" y="3888"/>
                  </a:lnTo>
                  <a:lnTo>
                    <a:pt x="10080" y="2592"/>
                  </a:lnTo>
                  <a:lnTo>
                    <a:pt x="13680" y="1296"/>
                  </a:lnTo>
                  <a:lnTo>
                    <a:pt x="15840" y="864"/>
                  </a:lnTo>
                  <a:lnTo>
                    <a:pt x="18720" y="0"/>
                  </a:lnTo>
                  <a:lnTo>
                    <a:pt x="21600" y="864"/>
                  </a:lnTo>
                  <a:lnTo>
                    <a:pt x="21600" y="5184"/>
                  </a:lnTo>
                  <a:lnTo>
                    <a:pt x="18000" y="5184"/>
                  </a:lnTo>
                  <a:lnTo>
                    <a:pt x="15840" y="5184"/>
                  </a:lnTo>
                  <a:lnTo>
                    <a:pt x="13680" y="6048"/>
                  </a:lnTo>
                  <a:lnTo>
                    <a:pt x="10080" y="7344"/>
                  </a:lnTo>
                  <a:lnTo>
                    <a:pt x="9360" y="9072"/>
                  </a:lnTo>
                  <a:lnTo>
                    <a:pt x="9360" y="10368"/>
                  </a:lnTo>
                  <a:lnTo>
                    <a:pt x="9360"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7" name="AutoShape 55"/>
            <p:cNvSpPr/>
            <p:nvPr/>
          </p:nvSpPr>
          <p:spPr>
            <a:xfrm>
              <a:off x="6243840" y="6414840"/>
              <a:ext cx="79200" cy="77400"/>
            </a:xfrm>
            <a:custGeom>
              <a:avLst/>
              <a:gdLst/>
              <a:ahLst/>
              <a:rect l="l" t="t" r="r" b="b"/>
              <a:pathLst>
                <a:path w="21600" h="21600">
                  <a:moveTo>
                    <a:pt x="10588" y="17280"/>
                  </a:moveTo>
                  <a:lnTo>
                    <a:pt x="10588" y="17280"/>
                  </a:lnTo>
                  <a:lnTo>
                    <a:pt x="13129" y="16848"/>
                  </a:lnTo>
                  <a:lnTo>
                    <a:pt x="15671" y="15552"/>
                  </a:lnTo>
                  <a:lnTo>
                    <a:pt x="16094" y="13392"/>
                  </a:lnTo>
                  <a:lnTo>
                    <a:pt x="16941" y="10800"/>
                  </a:lnTo>
                  <a:lnTo>
                    <a:pt x="16094" y="9072"/>
                  </a:lnTo>
                  <a:lnTo>
                    <a:pt x="15671" y="6480"/>
                  </a:lnTo>
                  <a:lnTo>
                    <a:pt x="13129" y="5184"/>
                  </a:lnTo>
                  <a:lnTo>
                    <a:pt x="10588" y="4752"/>
                  </a:lnTo>
                  <a:lnTo>
                    <a:pt x="8047" y="5184"/>
                  </a:lnTo>
                  <a:lnTo>
                    <a:pt x="6353" y="6480"/>
                  </a:lnTo>
                  <a:lnTo>
                    <a:pt x="5506" y="9072"/>
                  </a:lnTo>
                  <a:lnTo>
                    <a:pt x="5082" y="10800"/>
                  </a:lnTo>
                  <a:lnTo>
                    <a:pt x="5506" y="13392"/>
                  </a:lnTo>
                  <a:lnTo>
                    <a:pt x="6353" y="15552"/>
                  </a:lnTo>
                  <a:lnTo>
                    <a:pt x="8047" y="16848"/>
                  </a:lnTo>
                  <a:lnTo>
                    <a:pt x="10588" y="17280"/>
                  </a:lnTo>
                  <a:close/>
                  <a:moveTo>
                    <a:pt x="10588" y="0"/>
                  </a:moveTo>
                  <a:lnTo>
                    <a:pt x="10588" y="0"/>
                  </a:lnTo>
                  <a:lnTo>
                    <a:pt x="13129" y="0"/>
                  </a:lnTo>
                  <a:lnTo>
                    <a:pt x="14824" y="864"/>
                  </a:lnTo>
                  <a:lnTo>
                    <a:pt x="16941" y="2160"/>
                  </a:lnTo>
                  <a:lnTo>
                    <a:pt x="18635" y="3456"/>
                  </a:lnTo>
                  <a:lnTo>
                    <a:pt x="19906" y="4752"/>
                  </a:lnTo>
                  <a:lnTo>
                    <a:pt x="21176" y="6480"/>
                  </a:lnTo>
                  <a:lnTo>
                    <a:pt x="21600" y="9072"/>
                  </a:lnTo>
                  <a:lnTo>
                    <a:pt x="21600" y="10800"/>
                  </a:lnTo>
                  <a:lnTo>
                    <a:pt x="21600" y="13392"/>
                  </a:lnTo>
                  <a:lnTo>
                    <a:pt x="21176" y="15552"/>
                  </a:lnTo>
                  <a:lnTo>
                    <a:pt x="19906" y="17280"/>
                  </a:lnTo>
                  <a:lnTo>
                    <a:pt x="18635" y="19440"/>
                  </a:lnTo>
                  <a:lnTo>
                    <a:pt x="16941" y="20304"/>
                  </a:lnTo>
                  <a:lnTo>
                    <a:pt x="14824" y="21168"/>
                  </a:lnTo>
                  <a:lnTo>
                    <a:pt x="13129" y="21600"/>
                  </a:lnTo>
                  <a:lnTo>
                    <a:pt x="10588" y="21600"/>
                  </a:lnTo>
                  <a:lnTo>
                    <a:pt x="8471" y="21600"/>
                  </a:lnTo>
                  <a:lnTo>
                    <a:pt x="6776" y="21168"/>
                  </a:lnTo>
                  <a:lnTo>
                    <a:pt x="4235" y="20304"/>
                  </a:lnTo>
                  <a:lnTo>
                    <a:pt x="2965" y="19440"/>
                  </a:lnTo>
                  <a:lnTo>
                    <a:pt x="1694" y="17280"/>
                  </a:lnTo>
                  <a:lnTo>
                    <a:pt x="424" y="15552"/>
                  </a:lnTo>
                  <a:lnTo>
                    <a:pt x="0" y="13392"/>
                  </a:lnTo>
                  <a:lnTo>
                    <a:pt x="0" y="10800"/>
                  </a:lnTo>
                  <a:lnTo>
                    <a:pt x="0" y="9072"/>
                  </a:lnTo>
                  <a:lnTo>
                    <a:pt x="424" y="6480"/>
                  </a:lnTo>
                  <a:lnTo>
                    <a:pt x="1694" y="4752"/>
                  </a:lnTo>
                  <a:lnTo>
                    <a:pt x="2965" y="3456"/>
                  </a:lnTo>
                  <a:lnTo>
                    <a:pt x="4235" y="2160"/>
                  </a:lnTo>
                  <a:lnTo>
                    <a:pt x="6776" y="864"/>
                  </a:lnTo>
                  <a:lnTo>
                    <a:pt x="8471" y="0"/>
                  </a:lnTo>
                  <a:lnTo>
                    <a:pt x="10588" y="0"/>
                  </a:lnTo>
                  <a:close/>
                  <a:moveTo>
                    <a:pt x="10588"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8" name="AutoShape 56"/>
            <p:cNvSpPr/>
            <p:nvPr/>
          </p:nvSpPr>
          <p:spPr>
            <a:xfrm>
              <a:off x="6336000" y="6414840"/>
              <a:ext cx="82440" cy="112320"/>
            </a:xfrm>
            <a:custGeom>
              <a:avLst/>
              <a:gdLst/>
              <a:ahLst/>
              <a:rect l="l" t="t" r="r" b="b"/>
              <a:pathLst>
                <a:path w="21600" h="21600">
                  <a:moveTo>
                    <a:pt x="11004" y="3300"/>
                  </a:moveTo>
                  <a:lnTo>
                    <a:pt x="11004" y="3300"/>
                  </a:lnTo>
                  <a:lnTo>
                    <a:pt x="8558" y="3600"/>
                  </a:lnTo>
                  <a:lnTo>
                    <a:pt x="6521" y="4500"/>
                  </a:lnTo>
                  <a:lnTo>
                    <a:pt x="5298" y="6300"/>
                  </a:lnTo>
                  <a:lnTo>
                    <a:pt x="4891" y="7500"/>
                  </a:lnTo>
                  <a:lnTo>
                    <a:pt x="5298" y="9300"/>
                  </a:lnTo>
                  <a:lnTo>
                    <a:pt x="6521" y="10800"/>
                  </a:lnTo>
                  <a:lnTo>
                    <a:pt x="8558" y="11700"/>
                  </a:lnTo>
                  <a:lnTo>
                    <a:pt x="11004" y="12000"/>
                  </a:lnTo>
                  <a:lnTo>
                    <a:pt x="13042" y="11700"/>
                  </a:lnTo>
                  <a:lnTo>
                    <a:pt x="15079" y="10800"/>
                  </a:lnTo>
                  <a:lnTo>
                    <a:pt x="16302" y="9300"/>
                  </a:lnTo>
                  <a:lnTo>
                    <a:pt x="16302" y="7500"/>
                  </a:lnTo>
                  <a:lnTo>
                    <a:pt x="16302" y="6300"/>
                  </a:lnTo>
                  <a:lnTo>
                    <a:pt x="15079" y="4500"/>
                  </a:lnTo>
                  <a:lnTo>
                    <a:pt x="13042" y="3600"/>
                  </a:lnTo>
                  <a:lnTo>
                    <a:pt x="11004" y="3300"/>
                  </a:lnTo>
                  <a:close/>
                  <a:moveTo>
                    <a:pt x="0" y="600"/>
                  </a:moveTo>
                  <a:lnTo>
                    <a:pt x="4891" y="600"/>
                  </a:lnTo>
                  <a:lnTo>
                    <a:pt x="4891" y="2700"/>
                  </a:lnTo>
                  <a:lnTo>
                    <a:pt x="6113" y="1500"/>
                  </a:lnTo>
                  <a:lnTo>
                    <a:pt x="7743" y="600"/>
                  </a:lnTo>
                  <a:lnTo>
                    <a:pt x="9781" y="0"/>
                  </a:lnTo>
                  <a:lnTo>
                    <a:pt x="11411" y="0"/>
                  </a:lnTo>
                  <a:lnTo>
                    <a:pt x="13857" y="0"/>
                  </a:lnTo>
                  <a:lnTo>
                    <a:pt x="15487" y="600"/>
                  </a:lnTo>
                  <a:lnTo>
                    <a:pt x="17525" y="1500"/>
                  </a:lnTo>
                  <a:lnTo>
                    <a:pt x="18747" y="2400"/>
                  </a:lnTo>
                  <a:lnTo>
                    <a:pt x="19970" y="3600"/>
                  </a:lnTo>
                  <a:lnTo>
                    <a:pt x="20377" y="5100"/>
                  </a:lnTo>
                  <a:lnTo>
                    <a:pt x="21600" y="7500"/>
                  </a:lnTo>
                  <a:lnTo>
                    <a:pt x="21192" y="9300"/>
                  </a:lnTo>
                  <a:lnTo>
                    <a:pt x="20377" y="10800"/>
                  </a:lnTo>
                  <a:lnTo>
                    <a:pt x="19970" y="12000"/>
                  </a:lnTo>
                  <a:lnTo>
                    <a:pt x="18747" y="13500"/>
                  </a:lnTo>
                  <a:lnTo>
                    <a:pt x="17525" y="14100"/>
                  </a:lnTo>
                  <a:lnTo>
                    <a:pt x="15487" y="14700"/>
                  </a:lnTo>
                  <a:lnTo>
                    <a:pt x="13857" y="15000"/>
                  </a:lnTo>
                  <a:lnTo>
                    <a:pt x="12226" y="15000"/>
                  </a:lnTo>
                  <a:lnTo>
                    <a:pt x="9781" y="15000"/>
                  </a:lnTo>
                  <a:lnTo>
                    <a:pt x="7743" y="14700"/>
                  </a:lnTo>
                  <a:lnTo>
                    <a:pt x="6113" y="13800"/>
                  </a:lnTo>
                  <a:lnTo>
                    <a:pt x="5298" y="12900"/>
                  </a:lnTo>
                  <a:lnTo>
                    <a:pt x="4891" y="12900"/>
                  </a:lnTo>
                  <a:lnTo>
                    <a:pt x="4891" y="21600"/>
                  </a:lnTo>
                  <a:lnTo>
                    <a:pt x="0" y="21600"/>
                  </a:lnTo>
                  <a:lnTo>
                    <a:pt x="0" y="600"/>
                  </a:lnTo>
                  <a:close/>
                  <a:moveTo>
                    <a:pt x="0" y="60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9" name="AutoShape 57"/>
            <p:cNvSpPr/>
            <p:nvPr/>
          </p:nvSpPr>
          <p:spPr>
            <a:xfrm>
              <a:off x="6427800" y="6414840"/>
              <a:ext cx="74880" cy="77400"/>
            </a:xfrm>
            <a:custGeom>
              <a:avLst/>
              <a:gdLst/>
              <a:ahLst/>
              <a:rect l="l" t="t" r="r" b="b"/>
              <a:pathLst>
                <a:path w="21600" h="21600">
                  <a:moveTo>
                    <a:pt x="16650" y="9072"/>
                  </a:moveTo>
                  <a:lnTo>
                    <a:pt x="16650" y="9072"/>
                  </a:lnTo>
                  <a:lnTo>
                    <a:pt x="15750" y="7344"/>
                  </a:lnTo>
                  <a:lnTo>
                    <a:pt x="15300" y="5184"/>
                  </a:lnTo>
                  <a:lnTo>
                    <a:pt x="13050" y="4752"/>
                  </a:lnTo>
                  <a:lnTo>
                    <a:pt x="11250" y="3888"/>
                  </a:lnTo>
                  <a:lnTo>
                    <a:pt x="8550" y="4752"/>
                  </a:lnTo>
                  <a:lnTo>
                    <a:pt x="7200" y="5184"/>
                  </a:lnTo>
                  <a:lnTo>
                    <a:pt x="5850" y="7344"/>
                  </a:lnTo>
                  <a:lnTo>
                    <a:pt x="5400" y="9072"/>
                  </a:lnTo>
                  <a:lnTo>
                    <a:pt x="16650" y="9072"/>
                  </a:lnTo>
                  <a:close/>
                  <a:moveTo>
                    <a:pt x="5400" y="12960"/>
                  </a:moveTo>
                  <a:lnTo>
                    <a:pt x="5400" y="12960"/>
                  </a:lnTo>
                  <a:lnTo>
                    <a:pt x="5850" y="14688"/>
                  </a:lnTo>
                  <a:lnTo>
                    <a:pt x="7200" y="16848"/>
                  </a:lnTo>
                  <a:lnTo>
                    <a:pt x="9000" y="17280"/>
                  </a:lnTo>
                  <a:lnTo>
                    <a:pt x="11250" y="18144"/>
                  </a:lnTo>
                  <a:lnTo>
                    <a:pt x="13050" y="18144"/>
                  </a:lnTo>
                  <a:lnTo>
                    <a:pt x="14400" y="17280"/>
                  </a:lnTo>
                  <a:lnTo>
                    <a:pt x="17100" y="14688"/>
                  </a:lnTo>
                  <a:lnTo>
                    <a:pt x="21150" y="18144"/>
                  </a:lnTo>
                  <a:lnTo>
                    <a:pt x="18450" y="19872"/>
                  </a:lnTo>
                  <a:lnTo>
                    <a:pt x="16650" y="21168"/>
                  </a:lnTo>
                  <a:lnTo>
                    <a:pt x="13950" y="21600"/>
                  </a:lnTo>
                  <a:lnTo>
                    <a:pt x="11700" y="21600"/>
                  </a:lnTo>
                  <a:lnTo>
                    <a:pt x="9000" y="21600"/>
                  </a:lnTo>
                  <a:lnTo>
                    <a:pt x="7200" y="21168"/>
                  </a:lnTo>
                  <a:lnTo>
                    <a:pt x="5400" y="20304"/>
                  </a:lnTo>
                  <a:lnTo>
                    <a:pt x="3150" y="19440"/>
                  </a:lnTo>
                  <a:lnTo>
                    <a:pt x="1800" y="17280"/>
                  </a:lnTo>
                  <a:lnTo>
                    <a:pt x="450" y="15552"/>
                  </a:lnTo>
                  <a:lnTo>
                    <a:pt x="0" y="13392"/>
                  </a:lnTo>
                  <a:lnTo>
                    <a:pt x="0" y="10800"/>
                  </a:lnTo>
                  <a:lnTo>
                    <a:pt x="0" y="9072"/>
                  </a:lnTo>
                  <a:lnTo>
                    <a:pt x="450" y="6480"/>
                  </a:lnTo>
                  <a:lnTo>
                    <a:pt x="1800" y="4752"/>
                  </a:lnTo>
                  <a:lnTo>
                    <a:pt x="3150" y="3456"/>
                  </a:lnTo>
                  <a:lnTo>
                    <a:pt x="5400" y="2160"/>
                  </a:lnTo>
                  <a:lnTo>
                    <a:pt x="7200" y="864"/>
                  </a:lnTo>
                  <a:lnTo>
                    <a:pt x="9000" y="0"/>
                  </a:lnTo>
                  <a:lnTo>
                    <a:pt x="11700" y="0"/>
                  </a:lnTo>
                  <a:lnTo>
                    <a:pt x="13950" y="0"/>
                  </a:lnTo>
                  <a:lnTo>
                    <a:pt x="15750" y="864"/>
                  </a:lnTo>
                  <a:lnTo>
                    <a:pt x="18000" y="2160"/>
                  </a:lnTo>
                  <a:lnTo>
                    <a:pt x="19350" y="3456"/>
                  </a:lnTo>
                  <a:lnTo>
                    <a:pt x="20250" y="4752"/>
                  </a:lnTo>
                  <a:lnTo>
                    <a:pt x="21150" y="6480"/>
                  </a:lnTo>
                  <a:lnTo>
                    <a:pt x="21600" y="9072"/>
                  </a:lnTo>
                  <a:lnTo>
                    <a:pt x="21600" y="11664"/>
                  </a:lnTo>
                  <a:lnTo>
                    <a:pt x="21600" y="12960"/>
                  </a:lnTo>
                  <a:lnTo>
                    <a:pt x="5400" y="12960"/>
                  </a:lnTo>
                  <a:close/>
                  <a:moveTo>
                    <a:pt x="5400" y="1296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0" name="AutoShape 58"/>
            <p:cNvSpPr/>
            <p:nvPr/>
          </p:nvSpPr>
          <p:spPr>
            <a:xfrm>
              <a:off x="6515280" y="6414840"/>
              <a:ext cx="68400" cy="77400"/>
            </a:xfrm>
            <a:custGeom>
              <a:avLst/>
              <a:gdLst/>
              <a:ahLst/>
              <a:rect l="l" t="t" r="r" b="b"/>
              <a:pathLst>
                <a:path w="21600" h="21600">
                  <a:moveTo>
                    <a:pt x="15709" y="12096"/>
                  </a:moveTo>
                  <a:lnTo>
                    <a:pt x="15218" y="12096"/>
                  </a:lnTo>
                  <a:lnTo>
                    <a:pt x="12273" y="12096"/>
                  </a:lnTo>
                  <a:lnTo>
                    <a:pt x="9327" y="12960"/>
                  </a:lnTo>
                  <a:lnTo>
                    <a:pt x="6873" y="13392"/>
                  </a:lnTo>
                  <a:lnTo>
                    <a:pt x="6382" y="14256"/>
                  </a:lnTo>
                  <a:lnTo>
                    <a:pt x="5400" y="15552"/>
                  </a:lnTo>
                  <a:lnTo>
                    <a:pt x="6382" y="16848"/>
                  </a:lnTo>
                  <a:lnTo>
                    <a:pt x="6873" y="17280"/>
                  </a:lnTo>
                  <a:lnTo>
                    <a:pt x="9818" y="18144"/>
                  </a:lnTo>
                  <a:lnTo>
                    <a:pt x="12764" y="18144"/>
                  </a:lnTo>
                  <a:lnTo>
                    <a:pt x="14236" y="16848"/>
                  </a:lnTo>
                  <a:lnTo>
                    <a:pt x="15709" y="15552"/>
                  </a:lnTo>
                  <a:lnTo>
                    <a:pt x="15709" y="13392"/>
                  </a:lnTo>
                  <a:lnTo>
                    <a:pt x="15709" y="12096"/>
                  </a:lnTo>
                  <a:close/>
                  <a:moveTo>
                    <a:pt x="16691" y="18576"/>
                  </a:moveTo>
                  <a:lnTo>
                    <a:pt x="16691" y="18576"/>
                  </a:lnTo>
                  <a:lnTo>
                    <a:pt x="15218" y="20304"/>
                  </a:lnTo>
                  <a:lnTo>
                    <a:pt x="12764" y="21168"/>
                  </a:lnTo>
                  <a:lnTo>
                    <a:pt x="10800" y="21600"/>
                  </a:lnTo>
                  <a:lnTo>
                    <a:pt x="8345" y="21600"/>
                  </a:lnTo>
                  <a:lnTo>
                    <a:pt x="5400" y="21600"/>
                  </a:lnTo>
                  <a:lnTo>
                    <a:pt x="2945" y="20304"/>
                  </a:lnTo>
                  <a:lnTo>
                    <a:pt x="491" y="18576"/>
                  </a:lnTo>
                  <a:lnTo>
                    <a:pt x="0" y="15984"/>
                  </a:lnTo>
                  <a:lnTo>
                    <a:pt x="491" y="13392"/>
                  </a:lnTo>
                  <a:lnTo>
                    <a:pt x="1473" y="11664"/>
                  </a:lnTo>
                  <a:lnTo>
                    <a:pt x="3436" y="10368"/>
                  </a:lnTo>
                  <a:lnTo>
                    <a:pt x="4909" y="9504"/>
                  </a:lnTo>
                  <a:lnTo>
                    <a:pt x="9818" y="9072"/>
                  </a:lnTo>
                  <a:lnTo>
                    <a:pt x="15218" y="8640"/>
                  </a:lnTo>
                  <a:lnTo>
                    <a:pt x="16691" y="8640"/>
                  </a:lnTo>
                  <a:lnTo>
                    <a:pt x="16691" y="7776"/>
                  </a:lnTo>
                  <a:lnTo>
                    <a:pt x="15709" y="6480"/>
                  </a:lnTo>
                  <a:lnTo>
                    <a:pt x="15218" y="5184"/>
                  </a:lnTo>
                  <a:lnTo>
                    <a:pt x="12764" y="4752"/>
                  </a:lnTo>
                  <a:lnTo>
                    <a:pt x="10800" y="3888"/>
                  </a:lnTo>
                  <a:lnTo>
                    <a:pt x="6873" y="4752"/>
                  </a:lnTo>
                  <a:lnTo>
                    <a:pt x="4909" y="6480"/>
                  </a:lnTo>
                  <a:lnTo>
                    <a:pt x="1473" y="3456"/>
                  </a:lnTo>
                  <a:lnTo>
                    <a:pt x="3436" y="2160"/>
                  </a:lnTo>
                  <a:lnTo>
                    <a:pt x="6382" y="864"/>
                  </a:lnTo>
                  <a:lnTo>
                    <a:pt x="8345" y="0"/>
                  </a:lnTo>
                  <a:lnTo>
                    <a:pt x="11291" y="0"/>
                  </a:lnTo>
                  <a:lnTo>
                    <a:pt x="15218" y="864"/>
                  </a:lnTo>
                  <a:lnTo>
                    <a:pt x="17182" y="1296"/>
                  </a:lnTo>
                  <a:lnTo>
                    <a:pt x="19145" y="2592"/>
                  </a:lnTo>
                  <a:lnTo>
                    <a:pt x="20127" y="3888"/>
                  </a:lnTo>
                  <a:lnTo>
                    <a:pt x="21600" y="7344"/>
                  </a:lnTo>
                  <a:lnTo>
                    <a:pt x="21600" y="9504"/>
                  </a:lnTo>
                  <a:lnTo>
                    <a:pt x="21600" y="21600"/>
                  </a:lnTo>
                  <a:lnTo>
                    <a:pt x="16691" y="21600"/>
                  </a:lnTo>
                  <a:lnTo>
                    <a:pt x="16691" y="18576"/>
                  </a:lnTo>
                  <a:close/>
                  <a:moveTo>
                    <a:pt x="16691" y="18576"/>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1" name="Freeform 59"/>
            <p:cNvSpPr/>
            <p:nvPr/>
          </p:nvSpPr>
          <p:spPr>
            <a:xfrm>
              <a:off x="6597720" y="6414840"/>
              <a:ext cx="68400" cy="77400"/>
            </a:xfrm>
            <a:custGeom>
              <a:avLst/>
              <a:gdLst/>
              <a:ahLst/>
              <a:rect l="l" t="t" r="r" b="b"/>
              <a:pathLst>
                <a:path w="21600" h="21600">
                  <a:moveTo>
                    <a:pt x="0" y="864"/>
                  </a:moveTo>
                  <a:lnTo>
                    <a:pt x="5891" y="864"/>
                  </a:lnTo>
                  <a:lnTo>
                    <a:pt x="5891" y="3888"/>
                  </a:lnTo>
                  <a:lnTo>
                    <a:pt x="7364" y="2592"/>
                  </a:lnTo>
                  <a:lnTo>
                    <a:pt x="8836" y="1296"/>
                  </a:lnTo>
                  <a:lnTo>
                    <a:pt x="10800" y="864"/>
                  </a:lnTo>
                  <a:lnTo>
                    <a:pt x="13255" y="0"/>
                  </a:lnTo>
                  <a:lnTo>
                    <a:pt x="15218" y="0"/>
                  </a:lnTo>
                  <a:lnTo>
                    <a:pt x="17182" y="864"/>
                  </a:lnTo>
                  <a:lnTo>
                    <a:pt x="19636" y="2592"/>
                  </a:lnTo>
                  <a:lnTo>
                    <a:pt x="21600" y="5184"/>
                  </a:lnTo>
                  <a:lnTo>
                    <a:pt x="21600" y="8640"/>
                  </a:lnTo>
                  <a:lnTo>
                    <a:pt x="21600" y="21600"/>
                  </a:lnTo>
                  <a:lnTo>
                    <a:pt x="15709" y="21600"/>
                  </a:lnTo>
                  <a:lnTo>
                    <a:pt x="15709" y="10800"/>
                  </a:lnTo>
                  <a:lnTo>
                    <a:pt x="15709" y="9072"/>
                  </a:lnTo>
                  <a:lnTo>
                    <a:pt x="15218" y="7344"/>
                  </a:lnTo>
                  <a:lnTo>
                    <a:pt x="13745" y="5184"/>
                  </a:lnTo>
                  <a:lnTo>
                    <a:pt x="13255" y="5184"/>
                  </a:lnTo>
                  <a:lnTo>
                    <a:pt x="11782" y="4752"/>
                  </a:lnTo>
                  <a:lnTo>
                    <a:pt x="9327" y="5184"/>
                  </a:lnTo>
                  <a:lnTo>
                    <a:pt x="7364" y="6480"/>
                  </a:lnTo>
                  <a:lnTo>
                    <a:pt x="6382" y="8640"/>
                  </a:lnTo>
                  <a:lnTo>
                    <a:pt x="5891" y="10368"/>
                  </a:lnTo>
                  <a:lnTo>
                    <a:pt x="5891"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2" name="Freeform 60"/>
            <p:cNvSpPr/>
            <p:nvPr/>
          </p:nvSpPr>
          <p:spPr>
            <a:xfrm>
              <a:off x="6734520" y="6381360"/>
              <a:ext cx="74880" cy="112680"/>
            </a:xfrm>
            <a:custGeom>
              <a:avLst/>
              <a:gdLst/>
              <a:ahLst/>
              <a:rect l="l" t="t" r="r" b="b"/>
              <a:pathLst>
                <a:path w="21600" h="21600">
                  <a:moveTo>
                    <a:pt x="0" y="0"/>
                  </a:moveTo>
                  <a:lnTo>
                    <a:pt x="20718" y="0"/>
                  </a:lnTo>
                  <a:lnTo>
                    <a:pt x="20718" y="3600"/>
                  </a:lnTo>
                  <a:lnTo>
                    <a:pt x="5290" y="3600"/>
                  </a:lnTo>
                  <a:lnTo>
                    <a:pt x="5290" y="9000"/>
                  </a:lnTo>
                  <a:lnTo>
                    <a:pt x="20278" y="9000"/>
                  </a:lnTo>
                  <a:lnTo>
                    <a:pt x="20278" y="12600"/>
                  </a:lnTo>
                  <a:lnTo>
                    <a:pt x="5290" y="12600"/>
                  </a:lnTo>
                  <a:lnTo>
                    <a:pt x="5290" y="18300"/>
                  </a:lnTo>
                  <a:lnTo>
                    <a:pt x="21600" y="18300"/>
                  </a:lnTo>
                  <a:lnTo>
                    <a:pt x="21600" y="21600"/>
                  </a:lnTo>
                  <a:lnTo>
                    <a:pt x="0" y="21600"/>
                  </a:lnTo>
                  <a:lnTo>
                    <a:pt x="0" y="0"/>
                  </a:lnTo>
                  <a:close/>
                  <a:moveTo>
                    <a:pt x="0"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3" name="Freeform 61"/>
            <p:cNvSpPr/>
            <p:nvPr/>
          </p:nvSpPr>
          <p:spPr>
            <a:xfrm>
              <a:off x="6826680" y="6414840"/>
              <a:ext cx="68400" cy="77400"/>
            </a:xfrm>
            <a:custGeom>
              <a:avLst/>
              <a:gdLst/>
              <a:ahLst/>
              <a:rect l="l" t="t" r="r" b="b"/>
              <a:pathLst>
                <a:path w="21600" h="21600">
                  <a:moveTo>
                    <a:pt x="0" y="864"/>
                  </a:moveTo>
                  <a:lnTo>
                    <a:pt x="5891" y="864"/>
                  </a:lnTo>
                  <a:lnTo>
                    <a:pt x="5891" y="3888"/>
                  </a:lnTo>
                  <a:lnTo>
                    <a:pt x="7364" y="2592"/>
                  </a:lnTo>
                  <a:lnTo>
                    <a:pt x="8836" y="1296"/>
                  </a:lnTo>
                  <a:lnTo>
                    <a:pt x="10800" y="864"/>
                  </a:lnTo>
                  <a:lnTo>
                    <a:pt x="12764" y="0"/>
                  </a:lnTo>
                  <a:lnTo>
                    <a:pt x="15218" y="0"/>
                  </a:lnTo>
                  <a:lnTo>
                    <a:pt x="17182" y="864"/>
                  </a:lnTo>
                  <a:lnTo>
                    <a:pt x="20127" y="2592"/>
                  </a:lnTo>
                  <a:lnTo>
                    <a:pt x="21600" y="5184"/>
                  </a:lnTo>
                  <a:lnTo>
                    <a:pt x="21600" y="8640"/>
                  </a:lnTo>
                  <a:lnTo>
                    <a:pt x="21600" y="21600"/>
                  </a:lnTo>
                  <a:lnTo>
                    <a:pt x="15709" y="21600"/>
                  </a:lnTo>
                  <a:lnTo>
                    <a:pt x="15709" y="10800"/>
                  </a:lnTo>
                  <a:lnTo>
                    <a:pt x="15709" y="9072"/>
                  </a:lnTo>
                  <a:lnTo>
                    <a:pt x="15218" y="7344"/>
                  </a:lnTo>
                  <a:lnTo>
                    <a:pt x="13745" y="5184"/>
                  </a:lnTo>
                  <a:lnTo>
                    <a:pt x="12764" y="5184"/>
                  </a:lnTo>
                  <a:lnTo>
                    <a:pt x="11782" y="4752"/>
                  </a:lnTo>
                  <a:lnTo>
                    <a:pt x="9327" y="5184"/>
                  </a:lnTo>
                  <a:lnTo>
                    <a:pt x="7364" y="6480"/>
                  </a:lnTo>
                  <a:lnTo>
                    <a:pt x="6382" y="8640"/>
                  </a:lnTo>
                  <a:lnTo>
                    <a:pt x="6382" y="10368"/>
                  </a:lnTo>
                  <a:lnTo>
                    <a:pt x="6382"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4" name="Freeform 62"/>
            <p:cNvSpPr/>
            <p:nvPr/>
          </p:nvSpPr>
          <p:spPr>
            <a:xfrm>
              <a:off x="6901200" y="6418080"/>
              <a:ext cx="79560" cy="74160"/>
            </a:xfrm>
            <a:custGeom>
              <a:avLst/>
              <a:gdLst/>
              <a:ahLst/>
              <a:rect l="l" t="t" r="r" b="b"/>
              <a:pathLst>
                <a:path w="21600" h="21600">
                  <a:moveTo>
                    <a:pt x="0" y="0"/>
                  </a:moveTo>
                  <a:lnTo>
                    <a:pt x="5506" y="0"/>
                  </a:lnTo>
                  <a:lnTo>
                    <a:pt x="11012" y="15300"/>
                  </a:lnTo>
                  <a:lnTo>
                    <a:pt x="16518" y="0"/>
                  </a:lnTo>
                  <a:lnTo>
                    <a:pt x="21600" y="0"/>
                  </a:lnTo>
                  <a:lnTo>
                    <a:pt x="13553" y="21600"/>
                  </a:lnTo>
                  <a:lnTo>
                    <a:pt x="8471" y="21600"/>
                  </a:lnTo>
                  <a:lnTo>
                    <a:pt x="0" y="0"/>
                  </a:lnTo>
                  <a:close/>
                  <a:moveTo>
                    <a:pt x="0"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5" name="AutoShape 63"/>
            <p:cNvSpPr/>
            <p:nvPr/>
          </p:nvSpPr>
          <p:spPr>
            <a:xfrm>
              <a:off x="6990120" y="6381360"/>
              <a:ext cx="22320" cy="112680"/>
            </a:xfrm>
            <a:custGeom>
              <a:avLst/>
              <a:gdLst/>
              <a:ahLst/>
              <a:rect l="l" t="t" r="r" b="b"/>
              <a:pathLst>
                <a:path w="21600" h="21600">
                  <a:moveTo>
                    <a:pt x="10080" y="0"/>
                  </a:moveTo>
                  <a:lnTo>
                    <a:pt x="10080" y="0"/>
                  </a:lnTo>
                  <a:lnTo>
                    <a:pt x="14400" y="0"/>
                  </a:lnTo>
                  <a:lnTo>
                    <a:pt x="18720" y="600"/>
                  </a:lnTo>
                  <a:lnTo>
                    <a:pt x="21600" y="1500"/>
                  </a:lnTo>
                  <a:lnTo>
                    <a:pt x="21600" y="2400"/>
                  </a:lnTo>
                  <a:lnTo>
                    <a:pt x="21600" y="3300"/>
                  </a:lnTo>
                  <a:lnTo>
                    <a:pt x="18720" y="3600"/>
                  </a:lnTo>
                  <a:lnTo>
                    <a:pt x="14400" y="4200"/>
                  </a:lnTo>
                  <a:lnTo>
                    <a:pt x="10080" y="4500"/>
                  </a:lnTo>
                  <a:lnTo>
                    <a:pt x="5760" y="4200"/>
                  </a:lnTo>
                  <a:lnTo>
                    <a:pt x="1440" y="3600"/>
                  </a:lnTo>
                  <a:lnTo>
                    <a:pt x="0" y="3300"/>
                  </a:lnTo>
                  <a:lnTo>
                    <a:pt x="0" y="2400"/>
                  </a:lnTo>
                  <a:lnTo>
                    <a:pt x="0" y="1500"/>
                  </a:lnTo>
                  <a:lnTo>
                    <a:pt x="1440" y="600"/>
                  </a:lnTo>
                  <a:lnTo>
                    <a:pt x="5760" y="0"/>
                  </a:lnTo>
                  <a:lnTo>
                    <a:pt x="10080" y="0"/>
                  </a:lnTo>
                  <a:close/>
                  <a:moveTo>
                    <a:pt x="1440" y="7200"/>
                  </a:moveTo>
                  <a:lnTo>
                    <a:pt x="18720" y="7200"/>
                  </a:lnTo>
                  <a:lnTo>
                    <a:pt x="18720" y="21600"/>
                  </a:lnTo>
                  <a:lnTo>
                    <a:pt x="1440" y="21600"/>
                  </a:lnTo>
                  <a:lnTo>
                    <a:pt x="1440" y="7200"/>
                  </a:lnTo>
                  <a:close/>
                  <a:moveTo>
                    <a:pt x="1440" y="720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6" name="Freeform 64"/>
            <p:cNvSpPr/>
            <p:nvPr/>
          </p:nvSpPr>
          <p:spPr>
            <a:xfrm>
              <a:off x="6990120" y="6381360"/>
              <a:ext cx="22320" cy="21960"/>
            </a:xfrm>
            <a:custGeom>
              <a:avLst/>
              <a:gdLst/>
              <a:ahLst/>
              <a:rect l="l" t="t" r="r" b="b"/>
              <a:pathLst>
                <a:path w="21600" h="21600">
                  <a:moveTo>
                    <a:pt x="10080" y="0"/>
                  </a:moveTo>
                  <a:lnTo>
                    <a:pt x="10080" y="0"/>
                  </a:lnTo>
                  <a:lnTo>
                    <a:pt x="14400" y="0"/>
                  </a:lnTo>
                  <a:lnTo>
                    <a:pt x="18720" y="2880"/>
                  </a:lnTo>
                  <a:lnTo>
                    <a:pt x="21600" y="7200"/>
                  </a:lnTo>
                  <a:lnTo>
                    <a:pt x="21600" y="11520"/>
                  </a:lnTo>
                  <a:lnTo>
                    <a:pt x="21600" y="15840"/>
                  </a:lnTo>
                  <a:lnTo>
                    <a:pt x="18720" y="17280"/>
                  </a:lnTo>
                  <a:lnTo>
                    <a:pt x="14400" y="20160"/>
                  </a:lnTo>
                  <a:lnTo>
                    <a:pt x="10080" y="21600"/>
                  </a:lnTo>
                  <a:lnTo>
                    <a:pt x="5760" y="20160"/>
                  </a:lnTo>
                  <a:lnTo>
                    <a:pt x="1440" y="17280"/>
                  </a:lnTo>
                  <a:lnTo>
                    <a:pt x="0" y="15840"/>
                  </a:lnTo>
                  <a:lnTo>
                    <a:pt x="0" y="11520"/>
                  </a:lnTo>
                  <a:lnTo>
                    <a:pt x="0" y="7200"/>
                  </a:lnTo>
                  <a:lnTo>
                    <a:pt x="1440" y="2880"/>
                  </a:lnTo>
                  <a:lnTo>
                    <a:pt x="5760" y="0"/>
                  </a:lnTo>
                  <a:lnTo>
                    <a:pt x="10080" y="0"/>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7" name="Rectangle 65"/>
            <p:cNvSpPr/>
            <p:nvPr/>
          </p:nvSpPr>
          <p:spPr>
            <a:xfrm>
              <a:off x="6991920" y="6418080"/>
              <a:ext cx="30240" cy="74160"/>
            </a:xfrm>
            <a:prstGeom prst="rect">
              <a:avLst/>
            </a:pr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8" name="Freeform 66"/>
            <p:cNvSpPr/>
            <p:nvPr/>
          </p:nvSpPr>
          <p:spPr>
            <a:xfrm>
              <a:off x="7030080" y="6414840"/>
              <a:ext cx="48960" cy="77400"/>
            </a:xfrm>
            <a:custGeom>
              <a:avLst/>
              <a:gdLst/>
              <a:ahLst/>
              <a:rect l="l" t="t" r="r" b="b"/>
              <a:pathLst>
                <a:path w="21600" h="21600">
                  <a:moveTo>
                    <a:pt x="0" y="864"/>
                  </a:moveTo>
                  <a:lnTo>
                    <a:pt x="8361" y="864"/>
                  </a:lnTo>
                  <a:lnTo>
                    <a:pt x="8361" y="3888"/>
                  </a:lnTo>
                  <a:lnTo>
                    <a:pt x="9755" y="3888"/>
                  </a:lnTo>
                  <a:lnTo>
                    <a:pt x="10452" y="2592"/>
                  </a:lnTo>
                  <a:lnTo>
                    <a:pt x="12542" y="1296"/>
                  </a:lnTo>
                  <a:lnTo>
                    <a:pt x="15329" y="864"/>
                  </a:lnTo>
                  <a:lnTo>
                    <a:pt x="18813" y="0"/>
                  </a:lnTo>
                  <a:lnTo>
                    <a:pt x="21600" y="864"/>
                  </a:lnTo>
                  <a:lnTo>
                    <a:pt x="21600" y="5184"/>
                  </a:lnTo>
                  <a:lnTo>
                    <a:pt x="17419" y="5184"/>
                  </a:lnTo>
                  <a:lnTo>
                    <a:pt x="15329" y="5184"/>
                  </a:lnTo>
                  <a:lnTo>
                    <a:pt x="13239" y="6048"/>
                  </a:lnTo>
                  <a:lnTo>
                    <a:pt x="10452" y="7344"/>
                  </a:lnTo>
                  <a:lnTo>
                    <a:pt x="9755" y="9072"/>
                  </a:lnTo>
                  <a:lnTo>
                    <a:pt x="8361" y="10368"/>
                  </a:lnTo>
                  <a:lnTo>
                    <a:pt x="8361"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9" name="AutoShape 67"/>
            <p:cNvSpPr/>
            <p:nvPr/>
          </p:nvSpPr>
          <p:spPr>
            <a:xfrm>
              <a:off x="7084080" y="6414840"/>
              <a:ext cx="80640" cy="77400"/>
            </a:xfrm>
            <a:custGeom>
              <a:avLst/>
              <a:gdLst/>
              <a:ahLst/>
              <a:rect l="l" t="t" r="r" b="b"/>
              <a:pathLst>
                <a:path w="21600" h="21600">
                  <a:moveTo>
                    <a:pt x="11004" y="17280"/>
                  </a:moveTo>
                  <a:lnTo>
                    <a:pt x="11004" y="17280"/>
                  </a:lnTo>
                  <a:lnTo>
                    <a:pt x="13042" y="16848"/>
                  </a:lnTo>
                  <a:lnTo>
                    <a:pt x="15079" y="15552"/>
                  </a:lnTo>
                  <a:lnTo>
                    <a:pt x="16302" y="13392"/>
                  </a:lnTo>
                  <a:lnTo>
                    <a:pt x="16709" y="10800"/>
                  </a:lnTo>
                  <a:lnTo>
                    <a:pt x="16302" y="9072"/>
                  </a:lnTo>
                  <a:lnTo>
                    <a:pt x="15079" y="6480"/>
                  </a:lnTo>
                  <a:lnTo>
                    <a:pt x="13042" y="5184"/>
                  </a:lnTo>
                  <a:lnTo>
                    <a:pt x="11004" y="4752"/>
                  </a:lnTo>
                  <a:lnTo>
                    <a:pt x="8558" y="5184"/>
                  </a:lnTo>
                  <a:lnTo>
                    <a:pt x="6521" y="6480"/>
                  </a:lnTo>
                  <a:lnTo>
                    <a:pt x="5298" y="9072"/>
                  </a:lnTo>
                  <a:lnTo>
                    <a:pt x="5298" y="10800"/>
                  </a:lnTo>
                  <a:lnTo>
                    <a:pt x="5298" y="13392"/>
                  </a:lnTo>
                  <a:lnTo>
                    <a:pt x="6521" y="15552"/>
                  </a:lnTo>
                  <a:lnTo>
                    <a:pt x="8558" y="16848"/>
                  </a:lnTo>
                  <a:lnTo>
                    <a:pt x="11004" y="17280"/>
                  </a:lnTo>
                  <a:close/>
                  <a:moveTo>
                    <a:pt x="11004" y="0"/>
                  </a:moveTo>
                  <a:lnTo>
                    <a:pt x="11004" y="0"/>
                  </a:lnTo>
                  <a:lnTo>
                    <a:pt x="13042" y="0"/>
                  </a:lnTo>
                  <a:lnTo>
                    <a:pt x="15079" y="864"/>
                  </a:lnTo>
                  <a:lnTo>
                    <a:pt x="16709" y="2160"/>
                  </a:lnTo>
                  <a:lnTo>
                    <a:pt x="18747" y="3456"/>
                  </a:lnTo>
                  <a:lnTo>
                    <a:pt x="19970" y="4752"/>
                  </a:lnTo>
                  <a:lnTo>
                    <a:pt x="21192" y="6480"/>
                  </a:lnTo>
                  <a:lnTo>
                    <a:pt x="21600" y="9072"/>
                  </a:lnTo>
                  <a:lnTo>
                    <a:pt x="21600" y="10800"/>
                  </a:lnTo>
                  <a:lnTo>
                    <a:pt x="21600" y="13392"/>
                  </a:lnTo>
                  <a:lnTo>
                    <a:pt x="21192" y="15552"/>
                  </a:lnTo>
                  <a:lnTo>
                    <a:pt x="19970" y="17280"/>
                  </a:lnTo>
                  <a:lnTo>
                    <a:pt x="18747" y="19440"/>
                  </a:lnTo>
                  <a:lnTo>
                    <a:pt x="16709" y="20304"/>
                  </a:lnTo>
                  <a:lnTo>
                    <a:pt x="15079" y="21168"/>
                  </a:lnTo>
                  <a:lnTo>
                    <a:pt x="13042" y="21600"/>
                  </a:lnTo>
                  <a:lnTo>
                    <a:pt x="11004" y="21600"/>
                  </a:lnTo>
                  <a:lnTo>
                    <a:pt x="8966" y="21600"/>
                  </a:lnTo>
                  <a:lnTo>
                    <a:pt x="6521" y="21168"/>
                  </a:lnTo>
                  <a:lnTo>
                    <a:pt x="4891" y="20304"/>
                  </a:lnTo>
                  <a:lnTo>
                    <a:pt x="3668" y="19440"/>
                  </a:lnTo>
                  <a:lnTo>
                    <a:pt x="1630" y="17280"/>
                  </a:lnTo>
                  <a:lnTo>
                    <a:pt x="1223" y="15552"/>
                  </a:lnTo>
                  <a:lnTo>
                    <a:pt x="815" y="13392"/>
                  </a:lnTo>
                  <a:lnTo>
                    <a:pt x="0" y="10800"/>
                  </a:lnTo>
                  <a:lnTo>
                    <a:pt x="815" y="9072"/>
                  </a:lnTo>
                  <a:lnTo>
                    <a:pt x="1223" y="6480"/>
                  </a:lnTo>
                  <a:lnTo>
                    <a:pt x="1630" y="4752"/>
                  </a:lnTo>
                  <a:lnTo>
                    <a:pt x="3668" y="3456"/>
                  </a:lnTo>
                  <a:lnTo>
                    <a:pt x="4891" y="2160"/>
                  </a:lnTo>
                  <a:lnTo>
                    <a:pt x="6521" y="864"/>
                  </a:lnTo>
                  <a:lnTo>
                    <a:pt x="8966" y="0"/>
                  </a:lnTo>
                  <a:lnTo>
                    <a:pt x="11004" y="0"/>
                  </a:lnTo>
                  <a:close/>
                  <a:moveTo>
                    <a:pt x="11004"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0" name="Freeform 68"/>
            <p:cNvSpPr/>
            <p:nvPr/>
          </p:nvSpPr>
          <p:spPr>
            <a:xfrm>
              <a:off x="7179120" y="6414840"/>
              <a:ext cx="68400" cy="77400"/>
            </a:xfrm>
            <a:custGeom>
              <a:avLst/>
              <a:gdLst/>
              <a:ahLst/>
              <a:rect l="l" t="t" r="r" b="b"/>
              <a:pathLst>
                <a:path w="21600" h="21600">
                  <a:moveTo>
                    <a:pt x="0" y="864"/>
                  </a:moveTo>
                  <a:lnTo>
                    <a:pt x="5891" y="864"/>
                  </a:lnTo>
                  <a:lnTo>
                    <a:pt x="5891" y="3888"/>
                  </a:lnTo>
                  <a:lnTo>
                    <a:pt x="6382" y="2592"/>
                  </a:lnTo>
                  <a:lnTo>
                    <a:pt x="7855" y="1296"/>
                  </a:lnTo>
                  <a:lnTo>
                    <a:pt x="9818" y="864"/>
                  </a:lnTo>
                  <a:lnTo>
                    <a:pt x="12764" y="0"/>
                  </a:lnTo>
                  <a:lnTo>
                    <a:pt x="15218" y="0"/>
                  </a:lnTo>
                  <a:lnTo>
                    <a:pt x="17182" y="864"/>
                  </a:lnTo>
                  <a:lnTo>
                    <a:pt x="19145" y="2592"/>
                  </a:lnTo>
                  <a:lnTo>
                    <a:pt x="20618" y="5184"/>
                  </a:lnTo>
                  <a:lnTo>
                    <a:pt x="21600" y="8640"/>
                  </a:lnTo>
                  <a:lnTo>
                    <a:pt x="21600" y="21600"/>
                  </a:lnTo>
                  <a:lnTo>
                    <a:pt x="15709" y="21600"/>
                  </a:lnTo>
                  <a:lnTo>
                    <a:pt x="15709" y="10800"/>
                  </a:lnTo>
                  <a:lnTo>
                    <a:pt x="15709" y="9072"/>
                  </a:lnTo>
                  <a:lnTo>
                    <a:pt x="15218" y="7344"/>
                  </a:lnTo>
                  <a:lnTo>
                    <a:pt x="13745" y="5184"/>
                  </a:lnTo>
                  <a:lnTo>
                    <a:pt x="12764" y="5184"/>
                  </a:lnTo>
                  <a:lnTo>
                    <a:pt x="11291" y="4752"/>
                  </a:lnTo>
                  <a:lnTo>
                    <a:pt x="8345" y="5184"/>
                  </a:lnTo>
                  <a:lnTo>
                    <a:pt x="6873" y="6480"/>
                  </a:lnTo>
                  <a:lnTo>
                    <a:pt x="6382" y="8640"/>
                  </a:lnTo>
                  <a:lnTo>
                    <a:pt x="5891" y="10368"/>
                  </a:lnTo>
                  <a:lnTo>
                    <a:pt x="5891"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1" name="Freeform 69"/>
            <p:cNvSpPr/>
            <p:nvPr/>
          </p:nvSpPr>
          <p:spPr>
            <a:xfrm>
              <a:off x="7268040" y="6414840"/>
              <a:ext cx="114480" cy="77400"/>
            </a:xfrm>
            <a:custGeom>
              <a:avLst/>
              <a:gdLst/>
              <a:ahLst/>
              <a:rect l="l" t="t" r="r" b="b"/>
              <a:pathLst>
                <a:path w="21600" h="21600">
                  <a:moveTo>
                    <a:pt x="0" y="864"/>
                  </a:moveTo>
                  <a:lnTo>
                    <a:pt x="2919" y="864"/>
                  </a:lnTo>
                  <a:lnTo>
                    <a:pt x="2919" y="3888"/>
                  </a:lnTo>
                  <a:lnTo>
                    <a:pt x="3795" y="2592"/>
                  </a:lnTo>
                  <a:lnTo>
                    <a:pt x="4670" y="1296"/>
                  </a:lnTo>
                  <a:lnTo>
                    <a:pt x="6130" y="864"/>
                  </a:lnTo>
                  <a:lnTo>
                    <a:pt x="7297" y="0"/>
                  </a:lnTo>
                  <a:lnTo>
                    <a:pt x="9049" y="0"/>
                  </a:lnTo>
                  <a:lnTo>
                    <a:pt x="10216" y="1296"/>
                  </a:lnTo>
                  <a:lnTo>
                    <a:pt x="11092" y="2160"/>
                  </a:lnTo>
                  <a:lnTo>
                    <a:pt x="11968" y="3888"/>
                  </a:lnTo>
                  <a:lnTo>
                    <a:pt x="12843" y="2160"/>
                  </a:lnTo>
                  <a:lnTo>
                    <a:pt x="13719" y="1296"/>
                  </a:lnTo>
                  <a:lnTo>
                    <a:pt x="15178" y="0"/>
                  </a:lnTo>
                  <a:lnTo>
                    <a:pt x="16346" y="0"/>
                  </a:lnTo>
                  <a:lnTo>
                    <a:pt x="17514" y="0"/>
                  </a:lnTo>
                  <a:lnTo>
                    <a:pt x="18973" y="864"/>
                  </a:lnTo>
                  <a:lnTo>
                    <a:pt x="19849" y="1296"/>
                  </a:lnTo>
                  <a:lnTo>
                    <a:pt x="20724" y="2592"/>
                  </a:lnTo>
                  <a:lnTo>
                    <a:pt x="21600" y="6048"/>
                  </a:lnTo>
                  <a:lnTo>
                    <a:pt x="21600" y="9072"/>
                  </a:lnTo>
                  <a:lnTo>
                    <a:pt x="21600" y="21600"/>
                  </a:lnTo>
                  <a:lnTo>
                    <a:pt x="18097" y="21600"/>
                  </a:lnTo>
                  <a:lnTo>
                    <a:pt x="18097" y="9504"/>
                  </a:lnTo>
                  <a:lnTo>
                    <a:pt x="18097" y="7776"/>
                  </a:lnTo>
                  <a:lnTo>
                    <a:pt x="17514" y="6480"/>
                  </a:lnTo>
                  <a:lnTo>
                    <a:pt x="16638" y="5184"/>
                  </a:lnTo>
                  <a:lnTo>
                    <a:pt x="15470" y="4752"/>
                  </a:lnTo>
                  <a:lnTo>
                    <a:pt x="14303" y="5184"/>
                  </a:lnTo>
                  <a:lnTo>
                    <a:pt x="13427" y="6480"/>
                  </a:lnTo>
                  <a:lnTo>
                    <a:pt x="12551" y="8640"/>
                  </a:lnTo>
                  <a:lnTo>
                    <a:pt x="12551" y="10368"/>
                  </a:lnTo>
                  <a:lnTo>
                    <a:pt x="12551" y="21600"/>
                  </a:lnTo>
                  <a:lnTo>
                    <a:pt x="9049" y="21600"/>
                  </a:lnTo>
                  <a:lnTo>
                    <a:pt x="9049" y="9072"/>
                  </a:lnTo>
                  <a:lnTo>
                    <a:pt x="8465" y="7344"/>
                  </a:lnTo>
                  <a:lnTo>
                    <a:pt x="8173" y="6048"/>
                  </a:lnTo>
                  <a:lnTo>
                    <a:pt x="7881" y="5184"/>
                  </a:lnTo>
                  <a:lnTo>
                    <a:pt x="6422" y="4752"/>
                  </a:lnTo>
                  <a:lnTo>
                    <a:pt x="5254" y="5184"/>
                  </a:lnTo>
                  <a:lnTo>
                    <a:pt x="3795" y="6480"/>
                  </a:lnTo>
                  <a:lnTo>
                    <a:pt x="3503" y="8640"/>
                  </a:lnTo>
                  <a:lnTo>
                    <a:pt x="3503" y="10368"/>
                  </a:lnTo>
                  <a:lnTo>
                    <a:pt x="3503"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2" name="AutoShape 70"/>
            <p:cNvSpPr/>
            <p:nvPr/>
          </p:nvSpPr>
          <p:spPr>
            <a:xfrm>
              <a:off x="7395120" y="6414840"/>
              <a:ext cx="76320" cy="77400"/>
            </a:xfrm>
            <a:custGeom>
              <a:avLst/>
              <a:gdLst/>
              <a:ahLst/>
              <a:rect l="l" t="t" r="r" b="b"/>
              <a:pathLst>
                <a:path w="21600" h="21600">
                  <a:moveTo>
                    <a:pt x="16310" y="9072"/>
                  </a:moveTo>
                  <a:lnTo>
                    <a:pt x="16310" y="9072"/>
                  </a:lnTo>
                  <a:lnTo>
                    <a:pt x="15869" y="7344"/>
                  </a:lnTo>
                  <a:lnTo>
                    <a:pt x="14988" y="5184"/>
                  </a:lnTo>
                  <a:lnTo>
                    <a:pt x="13224" y="4752"/>
                  </a:lnTo>
                  <a:lnTo>
                    <a:pt x="11020" y="3888"/>
                  </a:lnTo>
                  <a:lnTo>
                    <a:pt x="8376" y="4752"/>
                  </a:lnTo>
                  <a:lnTo>
                    <a:pt x="7494" y="5184"/>
                  </a:lnTo>
                  <a:lnTo>
                    <a:pt x="6171" y="7344"/>
                  </a:lnTo>
                  <a:lnTo>
                    <a:pt x="5290" y="9072"/>
                  </a:lnTo>
                  <a:lnTo>
                    <a:pt x="16310" y="9072"/>
                  </a:lnTo>
                  <a:close/>
                  <a:moveTo>
                    <a:pt x="5290" y="12960"/>
                  </a:moveTo>
                  <a:lnTo>
                    <a:pt x="5290" y="12960"/>
                  </a:lnTo>
                  <a:lnTo>
                    <a:pt x="6171" y="14688"/>
                  </a:lnTo>
                  <a:lnTo>
                    <a:pt x="7494" y="16848"/>
                  </a:lnTo>
                  <a:lnTo>
                    <a:pt x="9257" y="17280"/>
                  </a:lnTo>
                  <a:lnTo>
                    <a:pt x="11020" y="18144"/>
                  </a:lnTo>
                  <a:lnTo>
                    <a:pt x="13224" y="18144"/>
                  </a:lnTo>
                  <a:lnTo>
                    <a:pt x="14547" y="17280"/>
                  </a:lnTo>
                  <a:lnTo>
                    <a:pt x="17192" y="14688"/>
                  </a:lnTo>
                  <a:lnTo>
                    <a:pt x="20718" y="18144"/>
                  </a:lnTo>
                  <a:lnTo>
                    <a:pt x="18955" y="19872"/>
                  </a:lnTo>
                  <a:lnTo>
                    <a:pt x="16310" y="21168"/>
                  </a:lnTo>
                  <a:lnTo>
                    <a:pt x="14547" y="21600"/>
                  </a:lnTo>
                  <a:lnTo>
                    <a:pt x="11902" y="21600"/>
                  </a:lnTo>
                  <a:lnTo>
                    <a:pt x="9257" y="21600"/>
                  </a:lnTo>
                  <a:lnTo>
                    <a:pt x="7494" y="21168"/>
                  </a:lnTo>
                  <a:lnTo>
                    <a:pt x="5290" y="20304"/>
                  </a:lnTo>
                  <a:lnTo>
                    <a:pt x="3527" y="19440"/>
                  </a:lnTo>
                  <a:lnTo>
                    <a:pt x="2204" y="17280"/>
                  </a:lnTo>
                  <a:lnTo>
                    <a:pt x="882" y="15552"/>
                  </a:lnTo>
                  <a:lnTo>
                    <a:pt x="0" y="13392"/>
                  </a:lnTo>
                  <a:lnTo>
                    <a:pt x="0" y="10800"/>
                  </a:lnTo>
                  <a:lnTo>
                    <a:pt x="0" y="9072"/>
                  </a:lnTo>
                  <a:lnTo>
                    <a:pt x="882" y="6480"/>
                  </a:lnTo>
                  <a:lnTo>
                    <a:pt x="2204" y="4752"/>
                  </a:lnTo>
                  <a:lnTo>
                    <a:pt x="3527" y="3456"/>
                  </a:lnTo>
                  <a:lnTo>
                    <a:pt x="5290" y="2160"/>
                  </a:lnTo>
                  <a:lnTo>
                    <a:pt x="7494" y="864"/>
                  </a:lnTo>
                  <a:lnTo>
                    <a:pt x="9257" y="0"/>
                  </a:lnTo>
                  <a:lnTo>
                    <a:pt x="11902" y="0"/>
                  </a:lnTo>
                  <a:lnTo>
                    <a:pt x="13665" y="0"/>
                  </a:lnTo>
                  <a:lnTo>
                    <a:pt x="15869" y="864"/>
                  </a:lnTo>
                  <a:lnTo>
                    <a:pt x="17633" y="2160"/>
                  </a:lnTo>
                  <a:lnTo>
                    <a:pt x="18955" y="3456"/>
                  </a:lnTo>
                  <a:lnTo>
                    <a:pt x="20278" y="4752"/>
                  </a:lnTo>
                  <a:lnTo>
                    <a:pt x="20718" y="6480"/>
                  </a:lnTo>
                  <a:lnTo>
                    <a:pt x="21600" y="9072"/>
                  </a:lnTo>
                  <a:lnTo>
                    <a:pt x="21600" y="11664"/>
                  </a:lnTo>
                  <a:lnTo>
                    <a:pt x="21600" y="12960"/>
                  </a:lnTo>
                  <a:lnTo>
                    <a:pt x="5290" y="12960"/>
                  </a:lnTo>
                  <a:close/>
                  <a:moveTo>
                    <a:pt x="5290" y="1296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3" name="Freeform 71"/>
            <p:cNvSpPr/>
            <p:nvPr/>
          </p:nvSpPr>
          <p:spPr>
            <a:xfrm>
              <a:off x="7485840" y="6414840"/>
              <a:ext cx="68400" cy="77400"/>
            </a:xfrm>
            <a:custGeom>
              <a:avLst/>
              <a:gdLst/>
              <a:ahLst/>
              <a:rect l="l" t="t" r="r" b="b"/>
              <a:pathLst>
                <a:path w="21600" h="21600">
                  <a:moveTo>
                    <a:pt x="0" y="864"/>
                  </a:moveTo>
                  <a:lnTo>
                    <a:pt x="5891" y="864"/>
                  </a:lnTo>
                  <a:lnTo>
                    <a:pt x="5891" y="3888"/>
                  </a:lnTo>
                  <a:lnTo>
                    <a:pt x="7364" y="2592"/>
                  </a:lnTo>
                  <a:lnTo>
                    <a:pt x="8836" y="1296"/>
                  </a:lnTo>
                  <a:lnTo>
                    <a:pt x="10800" y="864"/>
                  </a:lnTo>
                  <a:lnTo>
                    <a:pt x="13255" y="0"/>
                  </a:lnTo>
                  <a:lnTo>
                    <a:pt x="15218" y="0"/>
                  </a:lnTo>
                  <a:lnTo>
                    <a:pt x="17182" y="864"/>
                  </a:lnTo>
                  <a:lnTo>
                    <a:pt x="20127" y="2592"/>
                  </a:lnTo>
                  <a:lnTo>
                    <a:pt x="21600" y="5184"/>
                  </a:lnTo>
                  <a:lnTo>
                    <a:pt x="21600" y="8640"/>
                  </a:lnTo>
                  <a:lnTo>
                    <a:pt x="21600" y="21600"/>
                  </a:lnTo>
                  <a:lnTo>
                    <a:pt x="15709" y="21600"/>
                  </a:lnTo>
                  <a:lnTo>
                    <a:pt x="15709" y="10800"/>
                  </a:lnTo>
                  <a:lnTo>
                    <a:pt x="15709" y="9072"/>
                  </a:lnTo>
                  <a:lnTo>
                    <a:pt x="15218" y="7344"/>
                  </a:lnTo>
                  <a:lnTo>
                    <a:pt x="13745" y="5184"/>
                  </a:lnTo>
                  <a:lnTo>
                    <a:pt x="13255" y="5184"/>
                  </a:lnTo>
                  <a:lnTo>
                    <a:pt x="11782" y="4752"/>
                  </a:lnTo>
                  <a:lnTo>
                    <a:pt x="9327" y="5184"/>
                  </a:lnTo>
                  <a:lnTo>
                    <a:pt x="7364" y="6480"/>
                  </a:lnTo>
                  <a:lnTo>
                    <a:pt x="6382" y="8640"/>
                  </a:lnTo>
                  <a:lnTo>
                    <a:pt x="6382" y="10368"/>
                  </a:lnTo>
                  <a:lnTo>
                    <a:pt x="6382"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4" name="Freeform 72"/>
            <p:cNvSpPr/>
            <p:nvPr/>
          </p:nvSpPr>
          <p:spPr>
            <a:xfrm>
              <a:off x="7566840" y="6395760"/>
              <a:ext cx="54000" cy="98280"/>
            </a:xfrm>
            <a:custGeom>
              <a:avLst/>
              <a:gdLst/>
              <a:ahLst/>
              <a:rect l="l" t="t" r="r" b="b"/>
              <a:pathLst>
                <a:path w="21600" h="21600">
                  <a:moveTo>
                    <a:pt x="0" y="8571"/>
                  </a:moveTo>
                  <a:lnTo>
                    <a:pt x="0" y="5143"/>
                  </a:lnTo>
                  <a:lnTo>
                    <a:pt x="6171" y="5143"/>
                  </a:lnTo>
                  <a:lnTo>
                    <a:pt x="6171" y="0"/>
                  </a:lnTo>
                  <a:lnTo>
                    <a:pt x="13577" y="0"/>
                  </a:lnTo>
                  <a:lnTo>
                    <a:pt x="13577" y="5143"/>
                  </a:lnTo>
                  <a:lnTo>
                    <a:pt x="21600" y="5143"/>
                  </a:lnTo>
                  <a:lnTo>
                    <a:pt x="21600" y="8571"/>
                  </a:lnTo>
                  <a:lnTo>
                    <a:pt x="13577" y="8571"/>
                  </a:lnTo>
                  <a:lnTo>
                    <a:pt x="13577" y="15771"/>
                  </a:lnTo>
                  <a:lnTo>
                    <a:pt x="14194" y="16800"/>
                  </a:lnTo>
                  <a:lnTo>
                    <a:pt x="14194" y="17829"/>
                  </a:lnTo>
                  <a:lnTo>
                    <a:pt x="16046" y="18171"/>
                  </a:lnTo>
                  <a:lnTo>
                    <a:pt x="17897" y="18857"/>
                  </a:lnTo>
                  <a:lnTo>
                    <a:pt x="19749" y="18171"/>
                  </a:lnTo>
                  <a:lnTo>
                    <a:pt x="21600" y="17829"/>
                  </a:lnTo>
                  <a:lnTo>
                    <a:pt x="21600" y="21257"/>
                  </a:lnTo>
                  <a:lnTo>
                    <a:pt x="18514" y="21600"/>
                  </a:lnTo>
                  <a:lnTo>
                    <a:pt x="16046" y="21600"/>
                  </a:lnTo>
                  <a:lnTo>
                    <a:pt x="11726" y="21600"/>
                  </a:lnTo>
                  <a:lnTo>
                    <a:pt x="8023" y="20571"/>
                  </a:lnTo>
                  <a:lnTo>
                    <a:pt x="6789" y="18857"/>
                  </a:lnTo>
                  <a:lnTo>
                    <a:pt x="6171" y="16114"/>
                  </a:lnTo>
                  <a:lnTo>
                    <a:pt x="6171" y="8571"/>
                  </a:lnTo>
                  <a:lnTo>
                    <a:pt x="0" y="8571"/>
                  </a:lnTo>
                  <a:close/>
                  <a:moveTo>
                    <a:pt x="0" y="8571"/>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5" name="AutoShape 73"/>
            <p:cNvSpPr/>
            <p:nvPr/>
          </p:nvSpPr>
          <p:spPr>
            <a:xfrm>
              <a:off x="7670160" y="6381360"/>
              <a:ext cx="112680" cy="112680"/>
            </a:xfrm>
            <a:custGeom>
              <a:avLst/>
              <a:gdLst/>
              <a:ahLst/>
              <a:rect l="l" t="t" r="r" b="b"/>
              <a:pathLst>
                <a:path w="21600" h="21600">
                  <a:moveTo>
                    <a:pt x="14100" y="13200"/>
                  </a:moveTo>
                  <a:lnTo>
                    <a:pt x="10500" y="5100"/>
                  </a:lnTo>
                  <a:lnTo>
                    <a:pt x="7500" y="13200"/>
                  </a:lnTo>
                  <a:lnTo>
                    <a:pt x="14100" y="13200"/>
                  </a:lnTo>
                  <a:close/>
                  <a:moveTo>
                    <a:pt x="9300" y="0"/>
                  </a:moveTo>
                  <a:lnTo>
                    <a:pt x="12300" y="0"/>
                  </a:lnTo>
                  <a:lnTo>
                    <a:pt x="21600" y="21600"/>
                  </a:lnTo>
                  <a:lnTo>
                    <a:pt x="17100" y="21600"/>
                  </a:lnTo>
                  <a:lnTo>
                    <a:pt x="15600" y="16800"/>
                  </a:lnTo>
                  <a:lnTo>
                    <a:pt x="6300" y="16800"/>
                  </a:lnTo>
                  <a:lnTo>
                    <a:pt x="3900" y="21600"/>
                  </a:lnTo>
                  <a:lnTo>
                    <a:pt x="0" y="21600"/>
                  </a:lnTo>
                  <a:lnTo>
                    <a:pt x="9300" y="0"/>
                  </a:lnTo>
                  <a:close/>
                  <a:moveTo>
                    <a:pt x="9300"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6" name="AutoShape 74"/>
            <p:cNvSpPr/>
            <p:nvPr/>
          </p:nvSpPr>
          <p:spPr>
            <a:xfrm>
              <a:off x="7786080" y="6414840"/>
              <a:ext cx="81000" cy="114120"/>
            </a:xfrm>
            <a:custGeom>
              <a:avLst/>
              <a:gdLst/>
              <a:ahLst/>
              <a:rect l="l" t="t" r="r" b="b"/>
              <a:pathLst>
                <a:path w="21600" h="21600">
                  <a:moveTo>
                    <a:pt x="4483" y="7297"/>
                  </a:moveTo>
                  <a:lnTo>
                    <a:pt x="4483" y="7297"/>
                  </a:lnTo>
                  <a:lnTo>
                    <a:pt x="5298" y="9049"/>
                  </a:lnTo>
                  <a:lnTo>
                    <a:pt x="6521" y="10508"/>
                  </a:lnTo>
                  <a:lnTo>
                    <a:pt x="8151" y="11384"/>
                  </a:lnTo>
                  <a:lnTo>
                    <a:pt x="10596" y="11676"/>
                  </a:lnTo>
                  <a:lnTo>
                    <a:pt x="13042" y="11384"/>
                  </a:lnTo>
                  <a:lnTo>
                    <a:pt x="14672" y="10508"/>
                  </a:lnTo>
                  <a:lnTo>
                    <a:pt x="15894" y="9049"/>
                  </a:lnTo>
                  <a:lnTo>
                    <a:pt x="16709" y="7297"/>
                  </a:lnTo>
                  <a:lnTo>
                    <a:pt x="15894" y="5838"/>
                  </a:lnTo>
                  <a:lnTo>
                    <a:pt x="14672" y="4378"/>
                  </a:lnTo>
                  <a:lnTo>
                    <a:pt x="13042" y="3503"/>
                  </a:lnTo>
                  <a:lnTo>
                    <a:pt x="10596" y="3211"/>
                  </a:lnTo>
                  <a:lnTo>
                    <a:pt x="8151" y="3503"/>
                  </a:lnTo>
                  <a:lnTo>
                    <a:pt x="6521" y="4378"/>
                  </a:lnTo>
                  <a:lnTo>
                    <a:pt x="5298" y="5838"/>
                  </a:lnTo>
                  <a:lnTo>
                    <a:pt x="4483" y="7297"/>
                  </a:lnTo>
                  <a:close/>
                  <a:moveTo>
                    <a:pt x="21600" y="584"/>
                  </a:moveTo>
                  <a:lnTo>
                    <a:pt x="21600" y="13427"/>
                  </a:lnTo>
                  <a:lnTo>
                    <a:pt x="20785" y="15178"/>
                  </a:lnTo>
                  <a:lnTo>
                    <a:pt x="20377" y="16930"/>
                  </a:lnTo>
                  <a:lnTo>
                    <a:pt x="19562" y="18097"/>
                  </a:lnTo>
                  <a:lnTo>
                    <a:pt x="18340" y="19557"/>
                  </a:lnTo>
                  <a:lnTo>
                    <a:pt x="17117" y="20432"/>
                  </a:lnTo>
                  <a:lnTo>
                    <a:pt x="14672" y="21016"/>
                  </a:lnTo>
                  <a:lnTo>
                    <a:pt x="13042" y="21600"/>
                  </a:lnTo>
                  <a:lnTo>
                    <a:pt x="10189" y="21600"/>
                  </a:lnTo>
                  <a:lnTo>
                    <a:pt x="7743" y="21600"/>
                  </a:lnTo>
                  <a:lnTo>
                    <a:pt x="4483" y="21016"/>
                  </a:lnTo>
                  <a:lnTo>
                    <a:pt x="2445" y="20432"/>
                  </a:lnTo>
                  <a:lnTo>
                    <a:pt x="408" y="19557"/>
                  </a:lnTo>
                  <a:lnTo>
                    <a:pt x="3260" y="16346"/>
                  </a:lnTo>
                  <a:lnTo>
                    <a:pt x="6521" y="17805"/>
                  </a:lnTo>
                  <a:lnTo>
                    <a:pt x="8151" y="18097"/>
                  </a:lnTo>
                  <a:lnTo>
                    <a:pt x="10189" y="18681"/>
                  </a:lnTo>
                  <a:lnTo>
                    <a:pt x="13042" y="18097"/>
                  </a:lnTo>
                  <a:lnTo>
                    <a:pt x="14672" y="17222"/>
                  </a:lnTo>
                  <a:lnTo>
                    <a:pt x="15894" y="15470"/>
                  </a:lnTo>
                  <a:lnTo>
                    <a:pt x="15894" y="13719"/>
                  </a:lnTo>
                  <a:lnTo>
                    <a:pt x="15894" y="12551"/>
                  </a:lnTo>
                  <a:lnTo>
                    <a:pt x="14672" y="13427"/>
                  </a:lnTo>
                  <a:lnTo>
                    <a:pt x="13449" y="14303"/>
                  </a:lnTo>
                  <a:lnTo>
                    <a:pt x="11819" y="14595"/>
                  </a:lnTo>
                  <a:lnTo>
                    <a:pt x="10189" y="14595"/>
                  </a:lnTo>
                  <a:lnTo>
                    <a:pt x="7743" y="14595"/>
                  </a:lnTo>
                  <a:lnTo>
                    <a:pt x="5706" y="14303"/>
                  </a:lnTo>
                  <a:lnTo>
                    <a:pt x="4075" y="13427"/>
                  </a:lnTo>
                  <a:lnTo>
                    <a:pt x="2853" y="12551"/>
                  </a:lnTo>
                  <a:lnTo>
                    <a:pt x="1630" y="11676"/>
                  </a:lnTo>
                  <a:lnTo>
                    <a:pt x="408" y="10508"/>
                  </a:lnTo>
                  <a:lnTo>
                    <a:pt x="0" y="9049"/>
                  </a:lnTo>
                  <a:lnTo>
                    <a:pt x="0" y="7297"/>
                  </a:lnTo>
                  <a:lnTo>
                    <a:pt x="408" y="4962"/>
                  </a:lnTo>
                  <a:lnTo>
                    <a:pt x="1630" y="3503"/>
                  </a:lnTo>
                  <a:lnTo>
                    <a:pt x="2445" y="2335"/>
                  </a:lnTo>
                  <a:lnTo>
                    <a:pt x="4075" y="1459"/>
                  </a:lnTo>
                  <a:lnTo>
                    <a:pt x="5706" y="584"/>
                  </a:lnTo>
                  <a:lnTo>
                    <a:pt x="7743" y="0"/>
                  </a:lnTo>
                  <a:lnTo>
                    <a:pt x="9374" y="0"/>
                  </a:lnTo>
                  <a:lnTo>
                    <a:pt x="11819" y="0"/>
                  </a:lnTo>
                  <a:lnTo>
                    <a:pt x="13449" y="584"/>
                  </a:lnTo>
                  <a:lnTo>
                    <a:pt x="15487" y="1459"/>
                  </a:lnTo>
                  <a:lnTo>
                    <a:pt x="16709" y="2627"/>
                  </a:lnTo>
                  <a:lnTo>
                    <a:pt x="16709" y="584"/>
                  </a:lnTo>
                  <a:lnTo>
                    <a:pt x="21600" y="584"/>
                  </a:lnTo>
                  <a:close/>
                  <a:moveTo>
                    <a:pt x="21600" y="58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7" name="AutoShape 75"/>
            <p:cNvSpPr/>
            <p:nvPr/>
          </p:nvSpPr>
          <p:spPr>
            <a:xfrm>
              <a:off x="7877880" y="6414840"/>
              <a:ext cx="76320" cy="77400"/>
            </a:xfrm>
            <a:custGeom>
              <a:avLst/>
              <a:gdLst/>
              <a:ahLst/>
              <a:rect l="l" t="t" r="r" b="b"/>
              <a:pathLst>
                <a:path w="21600" h="21600">
                  <a:moveTo>
                    <a:pt x="15984" y="9072"/>
                  </a:moveTo>
                  <a:lnTo>
                    <a:pt x="15984" y="9072"/>
                  </a:lnTo>
                  <a:lnTo>
                    <a:pt x="15984" y="7344"/>
                  </a:lnTo>
                  <a:lnTo>
                    <a:pt x="14688" y="5184"/>
                  </a:lnTo>
                  <a:lnTo>
                    <a:pt x="13392" y="4752"/>
                  </a:lnTo>
                  <a:lnTo>
                    <a:pt x="10800" y="3888"/>
                  </a:lnTo>
                  <a:lnTo>
                    <a:pt x="8640" y="4752"/>
                  </a:lnTo>
                  <a:lnTo>
                    <a:pt x="6912" y="5184"/>
                  </a:lnTo>
                  <a:lnTo>
                    <a:pt x="6480" y="7344"/>
                  </a:lnTo>
                  <a:lnTo>
                    <a:pt x="5616" y="9072"/>
                  </a:lnTo>
                  <a:lnTo>
                    <a:pt x="15984" y="9072"/>
                  </a:lnTo>
                  <a:close/>
                  <a:moveTo>
                    <a:pt x="5616" y="12960"/>
                  </a:moveTo>
                  <a:lnTo>
                    <a:pt x="5616" y="12960"/>
                  </a:lnTo>
                  <a:lnTo>
                    <a:pt x="6480" y="14688"/>
                  </a:lnTo>
                  <a:lnTo>
                    <a:pt x="7776" y="16848"/>
                  </a:lnTo>
                  <a:lnTo>
                    <a:pt x="8640" y="17280"/>
                  </a:lnTo>
                  <a:lnTo>
                    <a:pt x="10800" y="18144"/>
                  </a:lnTo>
                  <a:lnTo>
                    <a:pt x="12528" y="18144"/>
                  </a:lnTo>
                  <a:lnTo>
                    <a:pt x="14688" y="17280"/>
                  </a:lnTo>
                  <a:lnTo>
                    <a:pt x="16416" y="14688"/>
                  </a:lnTo>
                  <a:lnTo>
                    <a:pt x="20304" y="18144"/>
                  </a:lnTo>
                  <a:lnTo>
                    <a:pt x="18144" y="19872"/>
                  </a:lnTo>
                  <a:lnTo>
                    <a:pt x="16416" y="21168"/>
                  </a:lnTo>
                  <a:lnTo>
                    <a:pt x="13824" y="21600"/>
                  </a:lnTo>
                  <a:lnTo>
                    <a:pt x="11232" y="21600"/>
                  </a:lnTo>
                  <a:lnTo>
                    <a:pt x="9504" y="21600"/>
                  </a:lnTo>
                  <a:lnTo>
                    <a:pt x="6912" y="21168"/>
                  </a:lnTo>
                  <a:lnTo>
                    <a:pt x="5184" y="20304"/>
                  </a:lnTo>
                  <a:lnTo>
                    <a:pt x="3888" y="19440"/>
                  </a:lnTo>
                  <a:lnTo>
                    <a:pt x="2592" y="17280"/>
                  </a:lnTo>
                  <a:lnTo>
                    <a:pt x="1296" y="15552"/>
                  </a:lnTo>
                  <a:lnTo>
                    <a:pt x="432" y="13392"/>
                  </a:lnTo>
                  <a:lnTo>
                    <a:pt x="0" y="10800"/>
                  </a:lnTo>
                  <a:lnTo>
                    <a:pt x="432" y="9072"/>
                  </a:lnTo>
                  <a:lnTo>
                    <a:pt x="1296" y="6480"/>
                  </a:lnTo>
                  <a:lnTo>
                    <a:pt x="2592" y="4752"/>
                  </a:lnTo>
                  <a:lnTo>
                    <a:pt x="3888" y="3456"/>
                  </a:lnTo>
                  <a:lnTo>
                    <a:pt x="5184" y="2160"/>
                  </a:lnTo>
                  <a:lnTo>
                    <a:pt x="6912" y="864"/>
                  </a:lnTo>
                  <a:lnTo>
                    <a:pt x="9504" y="0"/>
                  </a:lnTo>
                  <a:lnTo>
                    <a:pt x="11232" y="0"/>
                  </a:lnTo>
                  <a:lnTo>
                    <a:pt x="13824" y="0"/>
                  </a:lnTo>
                  <a:lnTo>
                    <a:pt x="15984" y="864"/>
                  </a:lnTo>
                  <a:lnTo>
                    <a:pt x="17280" y="2160"/>
                  </a:lnTo>
                  <a:lnTo>
                    <a:pt x="18144" y="3456"/>
                  </a:lnTo>
                  <a:lnTo>
                    <a:pt x="19440" y="4752"/>
                  </a:lnTo>
                  <a:lnTo>
                    <a:pt x="20736" y="6480"/>
                  </a:lnTo>
                  <a:lnTo>
                    <a:pt x="20736" y="9072"/>
                  </a:lnTo>
                  <a:lnTo>
                    <a:pt x="21600" y="11664"/>
                  </a:lnTo>
                  <a:lnTo>
                    <a:pt x="21600" y="12960"/>
                  </a:lnTo>
                  <a:lnTo>
                    <a:pt x="5616" y="12960"/>
                  </a:lnTo>
                  <a:close/>
                  <a:moveTo>
                    <a:pt x="5616" y="1296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8" name="Freeform 76"/>
            <p:cNvSpPr/>
            <p:nvPr/>
          </p:nvSpPr>
          <p:spPr>
            <a:xfrm>
              <a:off x="7970040" y="6414840"/>
              <a:ext cx="65160" cy="77400"/>
            </a:xfrm>
            <a:custGeom>
              <a:avLst/>
              <a:gdLst/>
              <a:ahLst/>
              <a:rect l="l" t="t" r="r" b="b"/>
              <a:pathLst>
                <a:path w="21600" h="21600">
                  <a:moveTo>
                    <a:pt x="0" y="864"/>
                  </a:moveTo>
                  <a:lnTo>
                    <a:pt x="5143" y="864"/>
                  </a:lnTo>
                  <a:lnTo>
                    <a:pt x="5143" y="3888"/>
                  </a:lnTo>
                  <a:lnTo>
                    <a:pt x="5657" y="3888"/>
                  </a:lnTo>
                  <a:lnTo>
                    <a:pt x="6686" y="2592"/>
                  </a:lnTo>
                  <a:lnTo>
                    <a:pt x="8229" y="1296"/>
                  </a:lnTo>
                  <a:lnTo>
                    <a:pt x="10286" y="864"/>
                  </a:lnTo>
                  <a:lnTo>
                    <a:pt x="13371" y="0"/>
                  </a:lnTo>
                  <a:lnTo>
                    <a:pt x="15943" y="0"/>
                  </a:lnTo>
                  <a:lnTo>
                    <a:pt x="16971" y="864"/>
                  </a:lnTo>
                  <a:lnTo>
                    <a:pt x="20057" y="2592"/>
                  </a:lnTo>
                  <a:lnTo>
                    <a:pt x="21600" y="5184"/>
                  </a:lnTo>
                  <a:lnTo>
                    <a:pt x="21600" y="8640"/>
                  </a:lnTo>
                  <a:lnTo>
                    <a:pt x="21600" y="21600"/>
                  </a:lnTo>
                  <a:lnTo>
                    <a:pt x="15943" y="21600"/>
                  </a:lnTo>
                  <a:lnTo>
                    <a:pt x="15943" y="10800"/>
                  </a:lnTo>
                  <a:lnTo>
                    <a:pt x="15943" y="9072"/>
                  </a:lnTo>
                  <a:lnTo>
                    <a:pt x="14914" y="7344"/>
                  </a:lnTo>
                  <a:lnTo>
                    <a:pt x="14400" y="5184"/>
                  </a:lnTo>
                  <a:lnTo>
                    <a:pt x="12857" y="5184"/>
                  </a:lnTo>
                  <a:lnTo>
                    <a:pt x="11314" y="4752"/>
                  </a:lnTo>
                  <a:lnTo>
                    <a:pt x="8743" y="5184"/>
                  </a:lnTo>
                  <a:lnTo>
                    <a:pt x="7200" y="6480"/>
                  </a:lnTo>
                  <a:lnTo>
                    <a:pt x="5657" y="8640"/>
                  </a:lnTo>
                  <a:lnTo>
                    <a:pt x="5657" y="10368"/>
                  </a:lnTo>
                  <a:lnTo>
                    <a:pt x="5657" y="21600"/>
                  </a:lnTo>
                  <a:lnTo>
                    <a:pt x="0" y="21600"/>
                  </a:lnTo>
                  <a:lnTo>
                    <a:pt x="0" y="864"/>
                  </a:lnTo>
                  <a:close/>
                  <a:moveTo>
                    <a:pt x="0" y="86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9" name="Freeform 77"/>
            <p:cNvSpPr/>
            <p:nvPr/>
          </p:nvSpPr>
          <p:spPr>
            <a:xfrm>
              <a:off x="8046360" y="6414840"/>
              <a:ext cx="68040" cy="77400"/>
            </a:xfrm>
            <a:custGeom>
              <a:avLst/>
              <a:gdLst/>
              <a:ahLst/>
              <a:rect l="l" t="t" r="r" b="b"/>
              <a:pathLst>
                <a:path w="21600" h="21600">
                  <a:moveTo>
                    <a:pt x="17182" y="7344"/>
                  </a:moveTo>
                  <a:lnTo>
                    <a:pt x="17182" y="7344"/>
                  </a:lnTo>
                  <a:lnTo>
                    <a:pt x="14727" y="5184"/>
                  </a:lnTo>
                  <a:lnTo>
                    <a:pt x="12764" y="4752"/>
                  </a:lnTo>
                  <a:lnTo>
                    <a:pt x="9818" y="5184"/>
                  </a:lnTo>
                  <a:lnTo>
                    <a:pt x="7855" y="6480"/>
                  </a:lnTo>
                  <a:lnTo>
                    <a:pt x="6382" y="9072"/>
                  </a:lnTo>
                  <a:lnTo>
                    <a:pt x="5400" y="10800"/>
                  </a:lnTo>
                  <a:lnTo>
                    <a:pt x="6382" y="13392"/>
                  </a:lnTo>
                  <a:lnTo>
                    <a:pt x="7855" y="15552"/>
                  </a:lnTo>
                  <a:lnTo>
                    <a:pt x="9818" y="16848"/>
                  </a:lnTo>
                  <a:lnTo>
                    <a:pt x="12764" y="17280"/>
                  </a:lnTo>
                  <a:lnTo>
                    <a:pt x="14727" y="16848"/>
                  </a:lnTo>
                  <a:lnTo>
                    <a:pt x="17182" y="15552"/>
                  </a:lnTo>
                  <a:lnTo>
                    <a:pt x="21600" y="19440"/>
                  </a:lnTo>
                  <a:lnTo>
                    <a:pt x="19145" y="20304"/>
                  </a:lnTo>
                  <a:lnTo>
                    <a:pt x="17182" y="21168"/>
                  </a:lnTo>
                  <a:lnTo>
                    <a:pt x="12764" y="21600"/>
                  </a:lnTo>
                  <a:lnTo>
                    <a:pt x="9818" y="21600"/>
                  </a:lnTo>
                  <a:lnTo>
                    <a:pt x="7855" y="21168"/>
                  </a:lnTo>
                  <a:lnTo>
                    <a:pt x="5400" y="20304"/>
                  </a:lnTo>
                  <a:lnTo>
                    <a:pt x="3436" y="19440"/>
                  </a:lnTo>
                  <a:lnTo>
                    <a:pt x="1964" y="17280"/>
                  </a:lnTo>
                  <a:lnTo>
                    <a:pt x="491" y="15552"/>
                  </a:lnTo>
                  <a:lnTo>
                    <a:pt x="0" y="13392"/>
                  </a:lnTo>
                  <a:lnTo>
                    <a:pt x="0" y="10800"/>
                  </a:lnTo>
                  <a:lnTo>
                    <a:pt x="0" y="9072"/>
                  </a:lnTo>
                  <a:lnTo>
                    <a:pt x="491" y="6480"/>
                  </a:lnTo>
                  <a:lnTo>
                    <a:pt x="1964" y="4752"/>
                  </a:lnTo>
                  <a:lnTo>
                    <a:pt x="3436" y="3456"/>
                  </a:lnTo>
                  <a:lnTo>
                    <a:pt x="5400" y="2160"/>
                  </a:lnTo>
                  <a:lnTo>
                    <a:pt x="7855" y="864"/>
                  </a:lnTo>
                  <a:lnTo>
                    <a:pt x="9818" y="0"/>
                  </a:lnTo>
                  <a:lnTo>
                    <a:pt x="12764" y="0"/>
                  </a:lnTo>
                  <a:lnTo>
                    <a:pt x="14727" y="0"/>
                  </a:lnTo>
                  <a:lnTo>
                    <a:pt x="17182" y="864"/>
                  </a:lnTo>
                  <a:lnTo>
                    <a:pt x="19145" y="2160"/>
                  </a:lnTo>
                  <a:lnTo>
                    <a:pt x="21600" y="3456"/>
                  </a:lnTo>
                  <a:lnTo>
                    <a:pt x="17182" y="7344"/>
                  </a:lnTo>
                  <a:close/>
                  <a:moveTo>
                    <a:pt x="17182" y="7344"/>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0" name="Freeform 78"/>
            <p:cNvSpPr/>
            <p:nvPr/>
          </p:nvSpPr>
          <p:spPr>
            <a:xfrm>
              <a:off x="8120880" y="6418080"/>
              <a:ext cx="81000" cy="110880"/>
            </a:xfrm>
            <a:custGeom>
              <a:avLst/>
              <a:gdLst/>
              <a:ahLst/>
              <a:rect l="l" t="t" r="r" b="b"/>
              <a:pathLst>
                <a:path w="21600" h="21600">
                  <a:moveTo>
                    <a:pt x="0" y="0"/>
                  </a:moveTo>
                  <a:lnTo>
                    <a:pt x="5400" y="0"/>
                  </a:lnTo>
                  <a:lnTo>
                    <a:pt x="11215" y="10200"/>
                  </a:lnTo>
                  <a:lnTo>
                    <a:pt x="15785" y="0"/>
                  </a:lnTo>
                  <a:lnTo>
                    <a:pt x="21600" y="0"/>
                  </a:lnTo>
                  <a:lnTo>
                    <a:pt x="11631" y="17700"/>
                  </a:lnTo>
                  <a:lnTo>
                    <a:pt x="10385" y="19500"/>
                  </a:lnTo>
                  <a:lnTo>
                    <a:pt x="9138" y="20700"/>
                  </a:lnTo>
                  <a:lnTo>
                    <a:pt x="6646" y="21000"/>
                  </a:lnTo>
                  <a:lnTo>
                    <a:pt x="4154" y="21600"/>
                  </a:lnTo>
                  <a:lnTo>
                    <a:pt x="0" y="21000"/>
                  </a:lnTo>
                  <a:lnTo>
                    <a:pt x="831" y="18000"/>
                  </a:lnTo>
                  <a:lnTo>
                    <a:pt x="2908" y="18600"/>
                  </a:lnTo>
                  <a:lnTo>
                    <a:pt x="4985" y="18000"/>
                  </a:lnTo>
                  <a:lnTo>
                    <a:pt x="6231" y="18000"/>
                  </a:lnTo>
                  <a:lnTo>
                    <a:pt x="6646" y="17100"/>
                  </a:lnTo>
                  <a:lnTo>
                    <a:pt x="7477" y="16200"/>
                  </a:lnTo>
                  <a:lnTo>
                    <a:pt x="8723" y="14400"/>
                  </a:lnTo>
                  <a:lnTo>
                    <a:pt x="0" y="0"/>
                  </a:lnTo>
                  <a:close/>
                  <a:moveTo>
                    <a:pt x="0" y="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1" name="Freeform 79"/>
            <p:cNvSpPr/>
            <p:nvPr/>
          </p:nvSpPr>
          <p:spPr>
            <a:xfrm>
              <a:off x="8537040" y="6330600"/>
              <a:ext cx="185760" cy="237960"/>
            </a:xfrm>
            <a:custGeom>
              <a:avLst/>
              <a:gdLst/>
              <a:ahLst/>
              <a:rect l="l" t="t" r="r" b="b"/>
              <a:pathLst>
                <a:path w="21600" h="21600">
                  <a:moveTo>
                    <a:pt x="21600" y="9678"/>
                  </a:moveTo>
                  <a:lnTo>
                    <a:pt x="21600" y="9678"/>
                  </a:lnTo>
                  <a:lnTo>
                    <a:pt x="21420" y="7153"/>
                  </a:lnTo>
                  <a:lnTo>
                    <a:pt x="20520" y="4909"/>
                  </a:lnTo>
                  <a:lnTo>
                    <a:pt x="18900" y="2805"/>
                  </a:lnTo>
                  <a:lnTo>
                    <a:pt x="17100" y="982"/>
                  </a:lnTo>
                  <a:lnTo>
                    <a:pt x="15300" y="0"/>
                  </a:lnTo>
                  <a:lnTo>
                    <a:pt x="12960" y="3086"/>
                  </a:lnTo>
                  <a:lnTo>
                    <a:pt x="14760" y="4208"/>
                  </a:lnTo>
                  <a:lnTo>
                    <a:pt x="16020" y="5891"/>
                  </a:lnTo>
                  <a:lnTo>
                    <a:pt x="16920" y="7574"/>
                  </a:lnTo>
                  <a:lnTo>
                    <a:pt x="17100" y="8556"/>
                  </a:lnTo>
                  <a:lnTo>
                    <a:pt x="17100" y="9678"/>
                  </a:lnTo>
                  <a:lnTo>
                    <a:pt x="17100" y="11221"/>
                  </a:lnTo>
                  <a:lnTo>
                    <a:pt x="16380" y="12904"/>
                  </a:lnTo>
                  <a:lnTo>
                    <a:pt x="15300" y="14306"/>
                  </a:lnTo>
                  <a:lnTo>
                    <a:pt x="13860" y="15569"/>
                  </a:lnTo>
                  <a:lnTo>
                    <a:pt x="12420" y="16831"/>
                  </a:lnTo>
                  <a:lnTo>
                    <a:pt x="10440" y="17532"/>
                  </a:lnTo>
                  <a:lnTo>
                    <a:pt x="8460" y="18094"/>
                  </a:lnTo>
                  <a:lnTo>
                    <a:pt x="6300" y="18234"/>
                  </a:lnTo>
                  <a:lnTo>
                    <a:pt x="4140" y="18094"/>
                  </a:lnTo>
                  <a:lnTo>
                    <a:pt x="1980" y="17673"/>
                  </a:lnTo>
                  <a:lnTo>
                    <a:pt x="0" y="20618"/>
                  </a:lnTo>
                  <a:lnTo>
                    <a:pt x="1440" y="21179"/>
                  </a:lnTo>
                  <a:lnTo>
                    <a:pt x="2880" y="21319"/>
                  </a:lnTo>
                  <a:lnTo>
                    <a:pt x="4680" y="21600"/>
                  </a:lnTo>
                  <a:lnTo>
                    <a:pt x="6300" y="21600"/>
                  </a:lnTo>
                  <a:lnTo>
                    <a:pt x="7920" y="21600"/>
                  </a:lnTo>
                  <a:lnTo>
                    <a:pt x="9360" y="21319"/>
                  </a:lnTo>
                  <a:lnTo>
                    <a:pt x="12060" y="20758"/>
                  </a:lnTo>
                  <a:lnTo>
                    <a:pt x="14760" y="19496"/>
                  </a:lnTo>
                  <a:lnTo>
                    <a:pt x="17100" y="18094"/>
                  </a:lnTo>
                  <a:lnTo>
                    <a:pt x="18900" y="16410"/>
                  </a:lnTo>
                  <a:lnTo>
                    <a:pt x="20520" y="14306"/>
                  </a:lnTo>
                  <a:lnTo>
                    <a:pt x="21420" y="12062"/>
                  </a:lnTo>
                  <a:lnTo>
                    <a:pt x="21600" y="10800"/>
                  </a:lnTo>
                  <a:lnTo>
                    <a:pt x="21600" y="9678"/>
                  </a:lnTo>
                  <a:close/>
                  <a:moveTo>
                    <a:pt x="21600" y="9678"/>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2" name="Freeform 80"/>
            <p:cNvSpPr/>
            <p:nvPr/>
          </p:nvSpPr>
          <p:spPr>
            <a:xfrm>
              <a:off x="8537040" y="6330600"/>
              <a:ext cx="185760" cy="237960"/>
            </a:xfrm>
            <a:custGeom>
              <a:avLst/>
              <a:gdLst/>
              <a:ahLst/>
              <a:rect l="l" t="t" r="r" b="b"/>
              <a:pathLst>
                <a:path w="21600" h="21600">
                  <a:moveTo>
                    <a:pt x="21600" y="9678"/>
                  </a:moveTo>
                  <a:lnTo>
                    <a:pt x="21600" y="9678"/>
                  </a:lnTo>
                  <a:lnTo>
                    <a:pt x="21420" y="7153"/>
                  </a:lnTo>
                  <a:lnTo>
                    <a:pt x="20520" y="4909"/>
                  </a:lnTo>
                  <a:lnTo>
                    <a:pt x="18900" y="2805"/>
                  </a:lnTo>
                  <a:lnTo>
                    <a:pt x="17100" y="982"/>
                  </a:lnTo>
                  <a:lnTo>
                    <a:pt x="15300" y="0"/>
                  </a:lnTo>
                  <a:lnTo>
                    <a:pt x="12960" y="3086"/>
                  </a:lnTo>
                  <a:lnTo>
                    <a:pt x="14760" y="4208"/>
                  </a:lnTo>
                  <a:lnTo>
                    <a:pt x="16020" y="5891"/>
                  </a:lnTo>
                  <a:lnTo>
                    <a:pt x="16920" y="7574"/>
                  </a:lnTo>
                  <a:lnTo>
                    <a:pt x="17100" y="8556"/>
                  </a:lnTo>
                  <a:lnTo>
                    <a:pt x="17100" y="9678"/>
                  </a:lnTo>
                  <a:lnTo>
                    <a:pt x="17100" y="11221"/>
                  </a:lnTo>
                  <a:lnTo>
                    <a:pt x="16380" y="12904"/>
                  </a:lnTo>
                  <a:lnTo>
                    <a:pt x="15300" y="14306"/>
                  </a:lnTo>
                  <a:lnTo>
                    <a:pt x="13860" y="15569"/>
                  </a:lnTo>
                  <a:lnTo>
                    <a:pt x="12420" y="16831"/>
                  </a:lnTo>
                  <a:lnTo>
                    <a:pt x="10440" y="17532"/>
                  </a:lnTo>
                  <a:lnTo>
                    <a:pt x="8460" y="18094"/>
                  </a:lnTo>
                  <a:lnTo>
                    <a:pt x="6300" y="18234"/>
                  </a:lnTo>
                  <a:lnTo>
                    <a:pt x="4140" y="18094"/>
                  </a:lnTo>
                  <a:lnTo>
                    <a:pt x="1980" y="17673"/>
                  </a:lnTo>
                  <a:lnTo>
                    <a:pt x="0" y="20618"/>
                  </a:lnTo>
                  <a:lnTo>
                    <a:pt x="1440" y="21179"/>
                  </a:lnTo>
                  <a:lnTo>
                    <a:pt x="2880" y="21319"/>
                  </a:lnTo>
                  <a:lnTo>
                    <a:pt x="4680" y="21600"/>
                  </a:lnTo>
                  <a:lnTo>
                    <a:pt x="6300" y="21600"/>
                  </a:lnTo>
                  <a:lnTo>
                    <a:pt x="7920" y="21600"/>
                  </a:lnTo>
                  <a:lnTo>
                    <a:pt x="9360" y="21319"/>
                  </a:lnTo>
                  <a:lnTo>
                    <a:pt x="12060" y="20758"/>
                  </a:lnTo>
                  <a:lnTo>
                    <a:pt x="14760" y="19496"/>
                  </a:lnTo>
                  <a:lnTo>
                    <a:pt x="17100" y="18094"/>
                  </a:lnTo>
                  <a:lnTo>
                    <a:pt x="18900" y="16410"/>
                  </a:lnTo>
                  <a:lnTo>
                    <a:pt x="20520" y="14306"/>
                  </a:lnTo>
                  <a:lnTo>
                    <a:pt x="21420" y="12062"/>
                  </a:lnTo>
                  <a:lnTo>
                    <a:pt x="21600" y="10800"/>
                  </a:lnTo>
                  <a:lnTo>
                    <a:pt x="21600" y="9678"/>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3" name="Freeform 81"/>
            <p:cNvSpPr/>
            <p:nvPr/>
          </p:nvSpPr>
          <p:spPr>
            <a:xfrm>
              <a:off x="8610120" y="6156000"/>
              <a:ext cx="77760" cy="195120"/>
            </a:xfrm>
            <a:custGeom>
              <a:avLst/>
              <a:gdLst/>
              <a:ahLst/>
              <a:rect l="l" t="t" r="r" b="b"/>
              <a:pathLst>
                <a:path w="21600" h="21600">
                  <a:moveTo>
                    <a:pt x="21600" y="4286"/>
                  </a:moveTo>
                  <a:lnTo>
                    <a:pt x="21600" y="4286"/>
                  </a:lnTo>
                  <a:lnTo>
                    <a:pt x="21600" y="2229"/>
                  </a:lnTo>
                  <a:lnTo>
                    <a:pt x="21176" y="514"/>
                  </a:lnTo>
                  <a:lnTo>
                    <a:pt x="21176" y="0"/>
                  </a:lnTo>
                  <a:lnTo>
                    <a:pt x="19906" y="171"/>
                  </a:lnTo>
                  <a:lnTo>
                    <a:pt x="16518" y="1543"/>
                  </a:lnTo>
                  <a:lnTo>
                    <a:pt x="13553" y="3257"/>
                  </a:lnTo>
                  <a:lnTo>
                    <a:pt x="9741" y="5314"/>
                  </a:lnTo>
                  <a:lnTo>
                    <a:pt x="6776" y="7543"/>
                  </a:lnTo>
                  <a:lnTo>
                    <a:pt x="3388" y="10114"/>
                  </a:lnTo>
                  <a:lnTo>
                    <a:pt x="1694" y="12343"/>
                  </a:lnTo>
                  <a:lnTo>
                    <a:pt x="424" y="14914"/>
                  </a:lnTo>
                  <a:lnTo>
                    <a:pt x="0" y="17143"/>
                  </a:lnTo>
                  <a:lnTo>
                    <a:pt x="0" y="19200"/>
                  </a:lnTo>
                  <a:lnTo>
                    <a:pt x="424" y="20914"/>
                  </a:lnTo>
                  <a:lnTo>
                    <a:pt x="424" y="21086"/>
                  </a:lnTo>
                  <a:lnTo>
                    <a:pt x="847" y="21086"/>
                  </a:lnTo>
                  <a:lnTo>
                    <a:pt x="2965" y="21429"/>
                  </a:lnTo>
                  <a:lnTo>
                    <a:pt x="4659" y="21600"/>
                  </a:lnTo>
                  <a:lnTo>
                    <a:pt x="5506" y="21600"/>
                  </a:lnTo>
                  <a:lnTo>
                    <a:pt x="9318" y="20400"/>
                  </a:lnTo>
                  <a:lnTo>
                    <a:pt x="12282" y="18686"/>
                  </a:lnTo>
                  <a:lnTo>
                    <a:pt x="14824" y="16629"/>
                  </a:lnTo>
                  <a:lnTo>
                    <a:pt x="17365" y="14400"/>
                  </a:lnTo>
                  <a:lnTo>
                    <a:pt x="19059" y="12000"/>
                  </a:lnTo>
                  <a:lnTo>
                    <a:pt x="21176" y="9600"/>
                  </a:lnTo>
                  <a:lnTo>
                    <a:pt x="21600" y="6857"/>
                  </a:lnTo>
                  <a:lnTo>
                    <a:pt x="21600" y="4286"/>
                  </a:lnTo>
                  <a:close/>
                  <a:moveTo>
                    <a:pt x="21600" y="4286"/>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4" name="Freeform 82"/>
            <p:cNvSpPr/>
            <p:nvPr/>
          </p:nvSpPr>
          <p:spPr>
            <a:xfrm>
              <a:off x="8610120" y="6156000"/>
              <a:ext cx="77760" cy="195120"/>
            </a:xfrm>
            <a:custGeom>
              <a:avLst/>
              <a:gdLst/>
              <a:ahLst/>
              <a:rect l="l" t="t" r="r" b="b"/>
              <a:pathLst>
                <a:path w="21600" h="21600">
                  <a:moveTo>
                    <a:pt x="21600" y="4286"/>
                  </a:moveTo>
                  <a:lnTo>
                    <a:pt x="21600" y="4286"/>
                  </a:lnTo>
                  <a:lnTo>
                    <a:pt x="21600" y="2229"/>
                  </a:lnTo>
                  <a:lnTo>
                    <a:pt x="21176" y="514"/>
                  </a:lnTo>
                  <a:lnTo>
                    <a:pt x="21176" y="0"/>
                  </a:lnTo>
                  <a:lnTo>
                    <a:pt x="19906" y="171"/>
                  </a:lnTo>
                  <a:lnTo>
                    <a:pt x="16518" y="1543"/>
                  </a:lnTo>
                  <a:lnTo>
                    <a:pt x="13553" y="3257"/>
                  </a:lnTo>
                  <a:lnTo>
                    <a:pt x="9741" y="5314"/>
                  </a:lnTo>
                  <a:lnTo>
                    <a:pt x="6776" y="7543"/>
                  </a:lnTo>
                  <a:lnTo>
                    <a:pt x="3388" y="10114"/>
                  </a:lnTo>
                  <a:lnTo>
                    <a:pt x="1694" y="12343"/>
                  </a:lnTo>
                  <a:lnTo>
                    <a:pt x="424" y="14914"/>
                  </a:lnTo>
                  <a:lnTo>
                    <a:pt x="0" y="17143"/>
                  </a:lnTo>
                  <a:lnTo>
                    <a:pt x="0" y="19200"/>
                  </a:lnTo>
                  <a:lnTo>
                    <a:pt x="424" y="20914"/>
                  </a:lnTo>
                  <a:lnTo>
                    <a:pt x="424" y="21086"/>
                  </a:lnTo>
                  <a:lnTo>
                    <a:pt x="847" y="21086"/>
                  </a:lnTo>
                  <a:lnTo>
                    <a:pt x="2965" y="21429"/>
                  </a:lnTo>
                  <a:lnTo>
                    <a:pt x="4659" y="21600"/>
                  </a:lnTo>
                  <a:lnTo>
                    <a:pt x="5506" y="21600"/>
                  </a:lnTo>
                  <a:lnTo>
                    <a:pt x="9318" y="20400"/>
                  </a:lnTo>
                  <a:lnTo>
                    <a:pt x="12282" y="18686"/>
                  </a:lnTo>
                  <a:lnTo>
                    <a:pt x="14824" y="16629"/>
                  </a:lnTo>
                  <a:lnTo>
                    <a:pt x="17365" y="14400"/>
                  </a:lnTo>
                  <a:lnTo>
                    <a:pt x="19059" y="12000"/>
                  </a:lnTo>
                  <a:lnTo>
                    <a:pt x="21176" y="9600"/>
                  </a:lnTo>
                  <a:lnTo>
                    <a:pt x="21600" y="6857"/>
                  </a:lnTo>
                  <a:lnTo>
                    <a:pt x="21600" y="4286"/>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5" name="Freeform 83"/>
            <p:cNvSpPr/>
            <p:nvPr/>
          </p:nvSpPr>
          <p:spPr>
            <a:xfrm>
              <a:off x="8537040" y="6143760"/>
              <a:ext cx="63720" cy="202680"/>
            </a:xfrm>
            <a:custGeom>
              <a:avLst/>
              <a:gdLst/>
              <a:ahLst/>
              <a:rect l="l" t="t" r="r" b="b"/>
              <a:pathLst>
                <a:path w="21600" h="21600">
                  <a:moveTo>
                    <a:pt x="5795" y="491"/>
                  </a:moveTo>
                  <a:lnTo>
                    <a:pt x="5268" y="0"/>
                  </a:lnTo>
                  <a:lnTo>
                    <a:pt x="4215" y="491"/>
                  </a:lnTo>
                  <a:lnTo>
                    <a:pt x="2634" y="2127"/>
                  </a:lnTo>
                  <a:lnTo>
                    <a:pt x="1054" y="4091"/>
                  </a:lnTo>
                  <a:lnTo>
                    <a:pt x="0" y="6545"/>
                  </a:lnTo>
                  <a:lnTo>
                    <a:pt x="0" y="9164"/>
                  </a:lnTo>
                  <a:lnTo>
                    <a:pt x="0" y="11618"/>
                  </a:lnTo>
                  <a:lnTo>
                    <a:pt x="527" y="13909"/>
                  </a:lnTo>
                  <a:lnTo>
                    <a:pt x="2107" y="16200"/>
                  </a:lnTo>
                  <a:lnTo>
                    <a:pt x="4215" y="18327"/>
                  </a:lnTo>
                  <a:lnTo>
                    <a:pt x="7376" y="19964"/>
                  </a:lnTo>
                  <a:lnTo>
                    <a:pt x="10537" y="21600"/>
                  </a:lnTo>
                  <a:lnTo>
                    <a:pt x="11590" y="21600"/>
                  </a:lnTo>
                  <a:lnTo>
                    <a:pt x="13698" y="21436"/>
                  </a:lnTo>
                  <a:lnTo>
                    <a:pt x="16859" y="21436"/>
                  </a:lnTo>
                  <a:lnTo>
                    <a:pt x="17385" y="21436"/>
                  </a:lnTo>
                  <a:lnTo>
                    <a:pt x="17385" y="21109"/>
                  </a:lnTo>
                  <a:lnTo>
                    <a:pt x="18966" y="19473"/>
                  </a:lnTo>
                  <a:lnTo>
                    <a:pt x="20546" y="17509"/>
                  </a:lnTo>
                  <a:lnTo>
                    <a:pt x="21600" y="15382"/>
                  </a:lnTo>
                  <a:lnTo>
                    <a:pt x="20546" y="12927"/>
                  </a:lnTo>
                  <a:lnTo>
                    <a:pt x="20020" y="10636"/>
                  </a:lnTo>
                  <a:lnTo>
                    <a:pt x="17385" y="8182"/>
                  </a:lnTo>
                  <a:lnTo>
                    <a:pt x="15278" y="5727"/>
                  </a:lnTo>
                  <a:lnTo>
                    <a:pt x="12117" y="3600"/>
                  </a:lnTo>
                  <a:lnTo>
                    <a:pt x="8956" y="1964"/>
                  </a:lnTo>
                  <a:lnTo>
                    <a:pt x="5795" y="491"/>
                  </a:lnTo>
                  <a:close/>
                  <a:moveTo>
                    <a:pt x="5795" y="491"/>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6" name="Freeform 84"/>
            <p:cNvSpPr/>
            <p:nvPr/>
          </p:nvSpPr>
          <p:spPr>
            <a:xfrm>
              <a:off x="8537040" y="6143760"/>
              <a:ext cx="63720" cy="202680"/>
            </a:xfrm>
            <a:custGeom>
              <a:avLst/>
              <a:gdLst/>
              <a:ahLst/>
              <a:rect l="l" t="t" r="r" b="b"/>
              <a:pathLst>
                <a:path w="21600" h="21600">
                  <a:moveTo>
                    <a:pt x="5795" y="491"/>
                  </a:moveTo>
                  <a:lnTo>
                    <a:pt x="5268" y="0"/>
                  </a:lnTo>
                  <a:lnTo>
                    <a:pt x="4215" y="491"/>
                  </a:lnTo>
                  <a:lnTo>
                    <a:pt x="2634" y="2127"/>
                  </a:lnTo>
                  <a:lnTo>
                    <a:pt x="1054" y="4091"/>
                  </a:lnTo>
                  <a:lnTo>
                    <a:pt x="0" y="6545"/>
                  </a:lnTo>
                  <a:lnTo>
                    <a:pt x="0" y="9164"/>
                  </a:lnTo>
                  <a:lnTo>
                    <a:pt x="0" y="11618"/>
                  </a:lnTo>
                  <a:lnTo>
                    <a:pt x="527" y="13909"/>
                  </a:lnTo>
                  <a:lnTo>
                    <a:pt x="2107" y="16200"/>
                  </a:lnTo>
                  <a:lnTo>
                    <a:pt x="4215" y="18327"/>
                  </a:lnTo>
                  <a:lnTo>
                    <a:pt x="7376" y="19964"/>
                  </a:lnTo>
                  <a:lnTo>
                    <a:pt x="10537" y="21600"/>
                  </a:lnTo>
                  <a:lnTo>
                    <a:pt x="11590" y="21600"/>
                  </a:lnTo>
                  <a:lnTo>
                    <a:pt x="13698" y="21436"/>
                  </a:lnTo>
                  <a:lnTo>
                    <a:pt x="16859" y="21436"/>
                  </a:lnTo>
                  <a:lnTo>
                    <a:pt x="17385" y="21436"/>
                  </a:lnTo>
                  <a:lnTo>
                    <a:pt x="17385" y="21109"/>
                  </a:lnTo>
                  <a:lnTo>
                    <a:pt x="18966" y="19473"/>
                  </a:lnTo>
                  <a:lnTo>
                    <a:pt x="20546" y="17509"/>
                  </a:lnTo>
                  <a:lnTo>
                    <a:pt x="21600" y="15382"/>
                  </a:lnTo>
                  <a:lnTo>
                    <a:pt x="20546" y="12927"/>
                  </a:lnTo>
                  <a:lnTo>
                    <a:pt x="20020" y="10636"/>
                  </a:lnTo>
                  <a:lnTo>
                    <a:pt x="17385" y="8182"/>
                  </a:lnTo>
                  <a:lnTo>
                    <a:pt x="15278" y="5727"/>
                  </a:lnTo>
                  <a:lnTo>
                    <a:pt x="12117" y="3600"/>
                  </a:lnTo>
                  <a:lnTo>
                    <a:pt x="8956" y="1964"/>
                  </a:lnTo>
                  <a:lnTo>
                    <a:pt x="5795" y="491"/>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7" name="Freeform 85"/>
            <p:cNvSpPr/>
            <p:nvPr/>
          </p:nvSpPr>
          <p:spPr>
            <a:xfrm>
              <a:off x="8427600" y="6190920"/>
              <a:ext cx="120600" cy="176040"/>
            </a:xfrm>
            <a:custGeom>
              <a:avLst/>
              <a:gdLst/>
              <a:ahLst/>
              <a:rect l="l" t="t" r="r" b="b"/>
              <a:pathLst>
                <a:path w="21600" h="21600">
                  <a:moveTo>
                    <a:pt x="5815" y="2485"/>
                  </a:moveTo>
                  <a:lnTo>
                    <a:pt x="5815" y="2485"/>
                  </a:lnTo>
                  <a:lnTo>
                    <a:pt x="2769" y="1338"/>
                  </a:lnTo>
                  <a:lnTo>
                    <a:pt x="277" y="191"/>
                  </a:lnTo>
                  <a:lnTo>
                    <a:pt x="0" y="0"/>
                  </a:lnTo>
                  <a:lnTo>
                    <a:pt x="0" y="573"/>
                  </a:lnTo>
                  <a:lnTo>
                    <a:pt x="277" y="2485"/>
                  </a:lnTo>
                  <a:lnTo>
                    <a:pt x="831" y="4779"/>
                  </a:lnTo>
                  <a:lnTo>
                    <a:pt x="1938" y="7646"/>
                  </a:lnTo>
                  <a:lnTo>
                    <a:pt x="4154" y="10322"/>
                  </a:lnTo>
                  <a:lnTo>
                    <a:pt x="5815" y="12998"/>
                  </a:lnTo>
                  <a:lnTo>
                    <a:pt x="8031" y="15483"/>
                  </a:lnTo>
                  <a:lnTo>
                    <a:pt x="10523" y="17395"/>
                  </a:lnTo>
                  <a:lnTo>
                    <a:pt x="13015" y="19115"/>
                  </a:lnTo>
                  <a:lnTo>
                    <a:pt x="15785" y="20453"/>
                  </a:lnTo>
                  <a:lnTo>
                    <a:pt x="18831" y="21600"/>
                  </a:lnTo>
                  <a:lnTo>
                    <a:pt x="19108" y="21600"/>
                  </a:lnTo>
                  <a:lnTo>
                    <a:pt x="19938" y="21027"/>
                  </a:lnTo>
                  <a:lnTo>
                    <a:pt x="21046" y="20453"/>
                  </a:lnTo>
                  <a:lnTo>
                    <a:pt x="21600" y="20453"/>
                  </a:lnTo>
                  <a:lnTo>
                    <a:pt x="21600" y="20262"/>
                  </a:lnTo>
                  <a:lnTo>
                    <a:pt x="21046" y="17968"/>
                  </a:lnTo>
                  <a:lnTo>
                    <a:pt x="20215" y="15674"/>
                  </a:lnTo>
                  <a:lnTo>
                    <a:pt x="18831" y="13381"/>
                  </a:lnTo>
                  <a:lnTo>
                    <a:pt x="17169" y="10896"/>
                  </a:lnTo>
                  <a:lnTo>
                    <a:pt x="14677" y="8602"/>
                  </a:lnTo>
                  <a:lnTo>
                    <a:pt x="11908" y="6499"/>
                  </a:lnTo>
                  <a:lnTo>
                    <a:pt x="8862" y="4396"/>
                  </a:lnTo>
                  <a:lnTo>
                    <a:pt x="5815" y="2485"/>
                  </a:lnTo>
                  <a:close/>
                  <a:moveTo>
                    <a:pt x="5815" y="2485"/>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8" name="Freeform 86"/>
            <p:cNvSpPr/>
            <p:nvPr/>
          </p:nvSpPr>
          <p:spPr>
            <a:xfrm>
              <a:off x="8427600" y="6190920"/>
              <a:ext cx="120600" cy="176040"/>
            </a:xfrm>
            <a:custGeom>
              <a:avLst/>
              <a:gdLst/>
              <a:ahLst/>
              <a:rect l="l" t="t" r="r" b="b"/>
              <a:pathLst>
                <a:path w="21600" h="21600">
                  <a:moveTo>
                    <a:pt x="5815" y="2485"/>
                  </a:moveTo>
                  <a:lnTo>
                    <a:pt x="5815" y="2485"/>
                  </a:lnTo>
                  <a:lnTo>
                    <a:pt x="2769" y="1338"/>
                  </a:lnTo>
                  <a:lnTo>
                    <a:pt x="277" y="191"/>
                  </a:lnTo>
                  <a:lnTo>
                    <a:pt x="0" y="0"/>
                  </a:lnTo>
                  <a:lnTo>
                    <a:pt x="0" y="573"/>
                  </a:lnTo>
                  <a:lnTo>
                    <a:pt x="277" y="2485"/>
                  </a:lnTo>
                  <a:lnTo>
                    <a:pt x="831" y="4779"/>
                  </a:lnTo>
                  <a:lnTo>
                    <a:pt x="1938" y="7646"/>
                  </a:lnTo>
                  <a:lnTo>
                    <a:pt x="4154" y="10322"/>
                  </a:lnTo>
                  <a:lnTo>
                    <a:pt x="5815" y="12998"/>
                  </a:lnTo>
                  <a:lnTo>
                    <a:pt x="8031" y="15483"/>
                  </a:lnTo>
                  <a:lnTo>
                    <a:pt x="10523" y="17395"/>
                  </a:lnTo>
                  <a:lnTo>
                    <a:pt x="13015" y="19115"/>
                  </a:lnTo>
                  <a:lnTo>
                    <a:pt x="15785" y="20453"/>
                  </a:lnTo>
                  <a:lnTo>
                    <a:pt x="18831" y="21600"/>
                  </a:lnTo>
                  <a:lnTo>
                    <a:pt x="19108" y="21600"/>
                  </a:lnTo>
                  <a:lnTo>
                    <a:pt x="19938" y="21027"/>
                  </a:lnTo>
                  <a:lnTo>
                    <a:pt x="21046" y="20453"/>
                  </a:lnTo>
                  <a:lnTo>
                    <a:pt x="21600" y="20453"/>
                  </a:lnTo>
                  <a:lnTo>
                    <a:pt x="21600" y="20262"/>
                  </a:lnTo>
                  <a:lnTo>
                    <a:pt x="21046" y="17968"/>
                  </a:lnTo>
                  <a:lnTo>
                    <a:pt x="20215" y="15674"/>
                  </a:lnTo>
                  <a:lnTo>
                    <a:pt x="18831" y="13381"/>
                  </a:lnTo>
                  <a:lnTo>
                    <a:pt x="17169" y="10896"/>
                  </a:lnTo>
                  <a:lnTo>
                    <a:pt x="14677" y="8602"/>
                  </a:lnTo>
                  <a:lnTo>
                    <a:pt x="11908" y="6499"/>
                  </a:lnTo>
                  <a:lnTo>
                    <a:pt x="8862" y="4396"/>
                  </a:lnTo>
                  <a:lnTo>
                    <a:pt x="5815" y="2485"/>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9" name="Freeform 87"/>
            <p:cNvSpPr/>
            <p:nvPr/>
          </p:nvSpPr>
          <p:spPr>
            <a:xfrm>
              <a:off x="8334000" y="6287760"/>
              <a:ext cx="182520" cy="110880"/>
            </a:xfrm>
            <a:custGeom>
              <a:avLst/>
              <a:gdLst/>
              <a:ahLst/>
              <a:rect l="l" t="t" r="r" b="b"/>
              <a:pathLst>
                <a:path w="21600" h="21600">
                  <a:moveTo>
                    <a:pt x="2585" y="6300"/>
                  </a:moveTo>
                  <a:lnTo>
                    <a:pt x="2585" y="6300"/>
                  </a:lnTo>
                  <a:lnTo>
                    <a:pt x="4615" y="9600"/>
                  </a:lnTo>
                  <a:lnTo>
                    <a:pt x="6646" y="12900"/>
                  </a:lnTo>
                  <a:lnTo>
                    <a:pt x="9231" y="15600"/>
                  </a:lnTo>
                  <a:lnTo>
                    <a:pt x="11631" y="17700"/>
                  </a:lnTo>
                  <a:lnTo>
                    <a:pt x="13846" y="19500"/>
                  </a:lnTo>
                  <a:lnTo>
                    <a:pt x="16246" y="20700"/>
                  </a:lnTo>
                  <a:lnTo>
                    <a:pt x="18462" y="21600"/>
                  </a:lnTo>
                  <a:lnTo>
                    <a:pt x="20492" y="21600"/>
                  </a:lnTo>
                  <a:lnTo>
                    <a:pt x="20492" y="21300"/>
                  </a:lnTo>
                  <a:lnTo>
                    <a:pt x="21046" y="19800"/>
                  </a:lnTo>
                  <a:lnTo>
                    <a:pt x="21600" y="18600"/>
                  </a:lnTo>
                  <a:lnTo>
                    <a:pt x="21600" y="18000"/>
                  </a:lnTo>
                  <a:lnTo>
                    <a:pt x="20492" y="15600"/>
                  </a:lnTo>
                  <a:lnTo>
                    <a:pt x="19015" y="12300"/>
                  </a:lnTo>
                  <a:lnTo>
                    <a:pt x="16985" y="9600"/>
                  </a:lnTo>
                  <a:lnTo>
                    <a:pt x="14954" y="7500"/>
                  </a:lnTo>
                  <a:lnTo>
                    <a:pt x="12738" y="5400"/>
                  </a:lnTo>
                  <a:lnTo>
                    <a:pt x="9969" y="3600"/>
                  </a:lnTo>
                  <a:lnTo>
                    <a:pt x="7200" y="1800"/>
                  </a:lnTo>
                  <a:lnTo>
                    <a:pt x="4615" y="900"/>
                  </a:lnTo>
                  <a:lnTo>
                    <a:pt x="2400" y="600"/>
                  </a:lnTo>
                  <a:lnTo>
                    <a:pt x="554" y="0"/>
                  </a:lnTo>
                  <a:lnTo>
                    <a:pt x="0" y="0"/>
                  </a:lnTo>
                  <a:lnTo>
                    <a:pt x="185" y="900"/>
                  </a:lnTo>
                  <a:lnTo>
                    <a:pt x="1292" y="3600"/>
                  </a:lnTo>
                  <a:lnTo>
                    <a:pt x="2585" y="6300"/>
                  </a:lnTo>
                  <a:close/>
                  <a:moveTo>
                    <a:pt x="2585" y="630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0" name="Freeform 88"/>
            <p:cNvSpPr/>
            <p:nvPr/>
          </p:nvSpPr>
          <p:spPr>
            <a:xfrm>
              <a:off x="8334000" y="6287760"/>
              <a:ext cx="182520" cy="110880"/>
            </a:xfrm>
            <a:custGeom>
              <a:avLst/>
              <a:gdLst/>
              <a:ahLst/>
              <a:rect l="l" t="t" r="r" b="b"/>
              <a:pathLst>
                <a:path w="21600" h="21600">
                  <a:moveTo>
                    <a:pt x="2585" y="6300"/>
                  </a:moveTo>
                  <a:lnTo>
                    <a:pt x="2585" y="6300"/>
                  </a:lnTo>
                  <a:lnTo>
                    <a:pt x="4615" y="9600"/>
                  </a:lnTo>
                  <a:lnTo>
                    <a:pt x="6646" y="12900"/>
                  </a:lnTo>
                  <a:lnTo>
                    <a:pt x="9231" y="15600"/>
                  </a:lnTo>
                  <a:lnTo>
                    <a:pt x="11631" y="17700"/>
                  </a:lnTo>
                  <a:lnTo>
                    <a:pt x="13846" y="19500"/>
                  </a:lnTo>
                  <a:lnTo>
                    <a:pt x="16246" y="20700"/>
                  </a:lnTo>
                  <a:lnTo>
                    <a:pt x="18462" y="21600"/>
                  </a:lnTo>
                  <a:lnTo>
                    <a:pt x="20492" y="21600"/>
                  </a:lnTo>
                  <a:lnTo>
                    <a:pt x="20492" y="21300"/>
                  </a:lnTo>
                  <a:lnTo>
                    <a:pt x="21046" y="19800"/>
                  </a:lnTo>
                  <a:lnTo>
                    <a:pt x="21600" y="18600"/>
                  </a:lnTo>
                  <a:lnTo>
                    <a:pt x="21600" y="18000"/>
                  </a:lnTo>
                  <a:lnTo>
                    <a:pt x="20492" y="15600"/>
                  </a:lnTo>
                  <a:lnTo>
                    <a:pt x="19015" y="12300"/>
                  </a:lnTo>
                  <a:lnTo>
                    <a:pt x="16985" y="9600"/>
                  </a:lnTo>
                  <a:lnTo>
                    <a:pt x="14954" y="7500"/>
                  </a:lnTo>
                  <a:lnTo>
                    <a:pt x="12738" y="5400"/>
                  </a:lnTo>
                  <a:lnTo>
                    <a:pt x="9969" y="3600"/>
                  </a:lnTo>
                  <a:lnTo>
                    <a:pt x="7200" y="1800"/>
                  </a:lnTo>
                  <a:lnTo>
                    <a:pt x="4615" y="900"/>
                  </a:lnTo>
                  <a:lnTo>
                    <a:pt x="2400" y="600"/>
                  </a:lnTo>
                  <a:lnTo>
                    <a:pt x="554" y="0"/>
                  </a:lnTo>
                  <a:lnTo>
                    <a:pt x="0" y="0"/>
                  </a:lnTo>
                  <a:lnTo>
                    <a:pt x="185" y="900"/>
                  </a:lnTo>
                  <a:lnTo>
                    <a:pt x="1292" y="3600"/>
                  </a:lnTo>
                  <a:lnTo>
                    <a:pt x="2585" y="6300"/>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1" name="Freeform 89"/>
            <p:cNvSpPr/>
            <p:nvPr/>
          </p:nvSpPr>
          <p:spPr>
            <a:xfrm>
              <a:off x="8295840" y="6395760"/>
              <a:ext cx="203400" cy="61560"/>
            </a:xfrm>
            <a:custGeom>
              <a:avLst/>
              <a:gdLst/>
              <a:ahLst/>
              <a:rect l="l" t="t" r="r" b="b"/>
              <a:pathLst>
                <a:path w="21600" h="21600">
                  <a:moveTo>
                    <a:pt x="21436" y="16200"/>
                  </a:moveTo>
                  <a:lnTo>
                    <a:pt x="21600" y="16200"/>
                  </a:lnTo>
                  <a:lnTo>
                    <a:pt x="21600" y="15120"/>
                  </a:lnTo>
                  <a:lnTo>
                    <a:pt x="21600" y="12960"/>
                  </a:lnTo>
                  <a:lnTo>
                    <a:pt x="21600" y="9720"/>
                  </a:lnTo>
                  <a:lnTo>
                    <a:pt x="21600" y="8640"/>
                  </a:lnTo>
                  <a:lnTo>
                    <a:pt x="19964" y="5940"/>
                  </a:lnTo>
                  <a:lnTo>
                    <a:pt x="18000" y="3240"/>
                  </a:lnTo>
                  <a:lnTo>
                    <a:pt x="15873" y="1620"/>
                  </a:lnTo>
                  <a:lnTo>
                    <a:pt x="13745" y="0"/>
                  </a:lnTo>
                  <a:lnTo>
                    <a:pt x="11291" y="0"/>
                  </a:lnTo>
                  <a:lnTo>
                    <a:pt x="8836" y="0"/>
                  </a:lnTo>
                  <a:lnTo>
                    <a:pt x="6218" y="1620"/>
                  </a:lnTo>
                  <a:lnTo>
                    <a:pt x="3764" y="3240"/>
                  </a:lnTo>
                  <a:lnTo>
                    <a:pt x="1964" y="4860"/>
                  </a:lnTo>
                  <a:lnTo>
                    <a:pt x="491" y="7020"/>
                  </a:lnTo>
                  <a:lnTo>
                    <a:pt x="0" y="8100"/>
                  </a:lnTo>
                  <a:lnTo>
                    <a:pt x="491" y="8640"/>
                  </a:lnTo>
                  <a:lnTo>
                    <a:pt x="1964" y="11880"/>
                  </a:lnTo>
                  <a:lnTo>
                    <a:pt x="3600" y="14580"/>
                  </a:lnTo>
                  <a:lnTo>
                    <a:pt x="6055" y="17820"/>
                  </a:lnTo>
                  <a:lnTo>
                    <a:pt x="8345" y="18900"/>
                  </a:lnTo>
                  <a:lnTo>
                    <a:pt x="10964" y="20520"/>
                  </a:lnTo>
                  <a:lnTo>
                    <a:pt x="13418" y="21600"/>
                  </a:lnTo>
                  <a:lnTo>
                    <a:pt x="15545" y="21600"/>
                  </a:lnTo>
                  <a:lnTo>
                    <a:pt x="17836" y="19980"/>
                  </a:lnTo>
                  <a:lnTo>
                    <a:pt x="19636" y="18360"/>
                  </a:lnTo>
                  <a:lnTo>
                    <a:pt x="21436" y="16200"/>
                  </a:lnTo>
                  <a:close/>
                  <a:moveTo>
                    <a:pt x="21436" y="16200"/>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2" name="Freeform 90"/>
            <p:cNvSpPr/>
            <p:nvPr/>
          </p:nvSpPr>
          <p:spPr>
            <a:xfrm>
              <a:off x="8295840" y="6395760"/>
              <a:ext cx="203400" cy="61560"/>
            </a:xfrm>
            <a:custGeom>
              <a:avLst/>
              <a:gdLst/>
              <a:ahLst/>
              <a:rect l="l" t="t" r="r" b="b"/>
              <a:pathLst>
                <a:path w="21600" h="21600">
                  <a:moveTo>
                    <a:pt x="21436" y="16200"/>
                  </a:moveTo>
                  <a:lnTo>
                    <a:pt x="21600" y="16200"/>
                  </a:lnTo>
                  <a:lnTo>
                    <a:pt x="21600" y="15120"/>
                  </a:lnTo>
                  <a:lnTo>
                    <a:pt x="21600" y="12960"/>
                  </a:lnTo>
                  <a:lnTo>
                    <a:pt x="21600" y="9720"/>
                  </a:lnTo>
                  <a:lnTo>
                    <a:pt x="21600" y="8640"/>
                  </a:lnTo>
                  <a:lnTo>
                    <a:pt x="19964" y="5940"/>
                  </a:lnTo>
                  <a:lnTo>
                    <a:pt x="18000" y="3240"/>
                  </a:lnTo>
                  <a:lnTo>
                    <a:pt x="15873" y="1620"/>
                  </a:lnTo>
                  <a:lnTo>
                    <a:pt x="13745" y="0"/>
                  </a:lnTo>
                  <a:lnTo>
                    <a:pt x="11291" y="0"/>
                  </a:lnTo>
                  <a:lnTo>
                    <a:pt x="8836" y="0"/>
                  </a:lnTo>
                  <a:lnTo>
                    <a:pt x="6218" y="1620"/>
                  </a:lnTo>
                  <a:lnTo>
                    <a:pt x="3764" y="3240"/>
                  </a:lnTo>
                  <a:lnTo>
                    <a:pt x="1964" y="4860"/>
                  </a:lnTo>
                  <a:lnTo>
                    <a:pt x="491" y="7020"/>
                  </a:lnTo>
                  <a:lnTo>
                    <a:pt x="0" y="8100"/>
                  </a:lnTo>
                  <a:lnTo>
                    <a:pt x="491" y="8640"/>
                  </a:lnTo>
                  <a:lnTo>
                    <a:pt x="1964" y="11880"/>
                  </a:lnTo>
                  <a:lnTo>
                    <a:pt x="3600" y="14580"/>
                  </a:lnTo>
                  <a:lnTo>
                    <a:pt x="6055" y="17820"/>
                  </a:lnTo>
                  <a:lnTo>
                    <a:pt x="8345" y="18900"/>
                  </a:lnTo>
                  <a:lnTo>
                    <a:pt x="10964" y="20520"/>
                  </a:lnTo>
                  <a:lnTo>
                    <a:pt x="13418" y="21600"/>
                  </a:lnTo>
                  <a:lnTo>
                    <a:pt x="15545" y="21600"/>
                  </a:lnTo>
                  <a:lnTo>
                    <a:pt x="17836" y="19980"/>
                  </a:lnTo>
                  <a:lnTo>
                    <a:pt x="19636" y="18360"/>
                  </a:lnTo>
                  <a:lnTo>
                    <a:pt x="21436" y="16200"/>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3" name="Freeform 91"/>
            <p:cNvSpPr/>
            <p:nvPr/>
          </p:nvSpPr>
          <p:spPr>
            <a:xfrm>
              <a:off x="8314920" y="6462360"/>
              <a:ext cx="193680" cy="90360"/>
            </a:xfrm>
            <a:custGeom>
              <a:avLst/>
              <a:gdLst/>
              <a:ahLst/>
              <a:rect l="l" t="t" r="r" b="b"/>
              <a:pathLst>
                <a:path w="21600" h="21600">
                  <a:moveTo>
                    <a:pt x="21600" y="4469"/>
                  </a:moveTo>
                  <a:lnTo>
                    <a:pt x="21600" y="4469"/>
                  </a:lnTo>
                  <a:lnTo>
                    <a:pt x="21600" y="4097"/>
                  </a:lnTo>
                  <a:lnTo>
                    <a:pt x="21082" y="2234"/>
                  </a:lnTo>
                  <a:lnTo>
                    <a:pt x="20736" y="745"/>
                  </a:lnTo>
                  <a:lnTo>
                    <a:pt x="20563" y="0"/>
                  </a:lnTo>
                  <a:lnTo>
                    <a:pt x="18835" y="0"/>
                  </a:lnTo>
                  <a:lnTo>
                    <a:pt x="16589" y="0"/>
                  </a:lnTo>
                  <a:lnTo>
                    <a:pt x="14170" y="1117"/>
                  </a:lnTo>
                  <a:lnTo>
                    <a:pt x="11923" y="2979"/>
                  </a:lnTo>
                  <a:lnTo>
                    <a:pt x="9677" y="5214"/>
                  </a:lnTo>
                  <a:lnTo>
                    <a:pt x="7430" y="7821"/>
                  </a:lnTo>
                  <a:lnTo>
                    <a:pt x="5011" y="11172"/>
                  </a:lnTo>
                  <a:lnTo>
                    <a:pt x="3110" y="14524"/>
                  </a:lnTo>
                  <a:lnTo>
                    <a:pt x="1555" y="17503"/>
                  </a:lnTo>
                  <a:lnTo>
                    <a:pt x="173" y="20483"/>
                  </a:lnTo>
                  <a:lnTo>
                    <a:pt x="0" y="21600"/>
                  </a:lnTo>
                  <a:lnTo>
                    <a:pt x="518" y="21600"/>
                  </a:lnTo>
                  <a:lnTo>
                    <a:pt x="2592" y="21600"/>
                  </a:lnTo>
                  <a:lnTo>
                    <a:pt x="4493" y="21600"/>
                  </a:lnTo>
                  <a:lnTo>
                    <a:pt x="7085" y="20855"/>
                  </a:lnTo>
                  <a:lnTo>
                    <a:pt x="9677" y="19738"/>
                  </a:lnTo>
                  <a:lnTo>
                    <a:pt x="12269" y="18248"/>
                  </a:lnTo>
                  <a:lnTo>
                    <a:pt x="14688" y="16014"/>
                  </a:lnTo>
                  <a:lnTo>
                    <a:pt x="16762" y="13779"/>
                  </a:lnTo>
                  <a:lnTo>
                    <a:pt x="18835" y="11172"/>
                  </a:lnTo>
                  <a:lnTo>
                    <a:pt x="20390" y="7821"/>
                  </a:lnTo>
                  <a:lnTo>
                    <a:pt x="21600" y="4469"/>
                  </a:lnTo>
                  <a:close/>
                  <a:moveTo>
                    <a:pt x="21600" y="4469"/>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4" name="Freeform 92"/>
            <p:cNvSpPr/>
            <p:nvPr/>
          </p:nvSpPr>
          <p:spPr>
            <a:xfrm>
              <a:off x="8314920" y="6462360"/>
              <a:ext cx="193680" cy="90360"/>
            </a:xfrm>
            <a:custGeom>
              <a:avLst/>
              <a:gdLst/>
              <a:ahLst/>
              <a:rect l="l" t="t" r="r" b="b"/>
              <a:pathLst>
                <a:path w="21600" h="21600">
                  <a:moveTo>
                    <a:pt x="21600" y="4469"/>
                  </a:moveTo>
                  <a:lnTo>
                    <a:pt x="21600" y="4469"/>
                  </a:lnTo>
                  <a:lnTo>
                    <a:pt x="21600" y="4097"/>
                  </a:lnTo>
                  <a:lnTo>
                    <a:pt x="21082" y="2234"/>
                  </a:lnTo>
                  <a:lnTo>
                    <a:pt x="20736" y="745"/>
                  </a:lnTo>
                  <a:lnTo>
                    <a:pt x="20563" y="0"/>
                  </a:lnTo>
                  <a:lnTo>
                    <a:pt x="18835" y="0"/>
                  </a:lnTo>
                  <a:lnTo>
                    <a:pt x="16589" y="0"/>
                  </a:lnTo>
                  <a:lnTo>
                    <a:pt x="14170" y="1117"/>
                  </a:lnTo>
                  <a:lnTo>
                    <a:pt x="11923" y="2979"/>
                  </a:lnTo>
                  <a:lnTo>
                    <a:pt x="9677" y="5214"/>
                  </a:lnTo>
                  <a:lnTo>
                    <a:pt x="7430" y="7821"/>
                  </a:lnTo>
                  <a:lnTo>
                    <a:pt x="5011" y="11172"/>
                  </a:lnTo>
                  <a:lnTo>
                    <a:pt x="3110" y="14524"/>
                  </a:lnTo>
                  <a:lnTo>
                    <a:pt x="1555" y="17503"/>
                  </a:lnTo>
                  <a:lnTo>
                    <a:pt x="173" y="20483"/>
                  </a:lnTo>
                  <a:lnTo>
                    <a:pt x="0" y="21600"/>
                  </a:lnTo>
                  <a:lnTo>
                    <a:pt x="518" y="21600"/>
                  </a:lnTo>
                  <a:lnTo>
                    <a:pt x="2592" y="21600"/>
                  </a:lnTo>
                  <a:lnTo>
                    <a:pt x="4493" y="21600"/>
                  </a:lnTo>
                  <a:lnTo>
                    <a:pt x="7085" y="20855"/>
                  </a:lnTo>
                  <a:lnTo>
                    <a:pt x="9677" y="19738"/>
                  </a:lnTo>
                  <a:lnTo>
                    <a:pt x="12269" y="18248"/>
                  </a:lnTo>
                  <a:lnTo>
                    <a:pt x="14688" y="16014"/>
                  </a:lnTo>
                  <a:lnTo>
                    <a:pt x="16762" y="13779"/>
                  </a:lnTo>
                  <a:lnTo>
                    <a:pt x="18835" y="11172"/>
                  </a:lnTo>
                  <a:lnTo>
                    <a:pt x="20390" y="7821"/>
                  </a:lnTo>
                  <a:lnTo>
                    <a:pt x="21600" y="4469"/>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Freeform 93"/>
            <p:cNvSpPr/>
            <p:nvPr/>
          </p:nvSpPr>
          <p:spPr>
            <a:xfrm>
              <a:off x="8394480" y="6502320"/>
              <a:ext cx="141120" cy="159840"/>
            </a:xfrm>
            <a:custGeom>
              <a:avLst/>
              <a:gdLst/>
              <a:ahLst/>
              <a:rect l="l" t="t" r="r" b="b"/>
              <a:pathLst>
                <a:path w="21600" h="21600">
                  <a:moveTo>
                    <a:pt x="20426" y="1049"/>
                  </a:moveTo>
                  <a:lnTo>
                    <a:pt x="20426" y="1049"/>
                  </a:lnTo>
                  <a:lnTo>
                    <a:pt x="19487" y="0"/>
                  </a:lnTo>
                  <a:lnTo>
                    <a:pt x="16670" y="1049"/>
                  </a:lnTo>
                  <a:lnTo>
                    <a:pt x="14322" y="2307"/>
                  </a:lnTo>
                  <a:lnTo>
                    <a:pt x="11739" y="3775"/>
                  </a:lnTo>
                  <a:lnTo>
                    <a:pt x="9391" y="5872"/>
                  </a:lnTo>
                  <a:lnTo>
                    <a:pt x="7043" y="8388"/>
                  </a:lnTo>
                  <a:lnTo>
                    <a:pt x="4930" y="10905"/>
                  </a:lnTo>
                  <a:lnTo>
                    <a:pt x="3287" y="13631"/>
                  </a:lnTo>
                  <a:lnTo>
                    <a:pt x="1878" y="16777"/>
                  </a:lnTo>
                  <a:lnTo>
                    <a:pt x="704" y="18874"/>
                  </a:lnTo>
                  <a:lnTo>
                    <a:pt x="0" y="20971"/>
                  </a:lnTo>
                  <a:lnTo>
                    <a:pt x="0" y="21600"/>
                  </a:lnTo>
                  <a:lnTo>
                    <a:pt x="470" y="21390"/>
                  </a:lnTo>
                  <a:lnTo>
                    <a:pt x="2817" y="20342"/>
                  </a:lnTo>
                  <a:lnTo>
                    <a:pt x="5165" y="19503"/>
                  </a:lnTo>
                  <a:lnTo>
                    <a:pt x="8452" y="17616"/>
                  </a:lnTo>
                  <a:lnTo>
                    <a:pt x="11504" y="15728"/>
                  </a:lnTo>
                  <a:lnTo>
                    <a:pt x="13852" y="13631"/>
                  </a:lnTo>
                  <a:lnTo>
                    <a:pt x="16200" y="11115"/>
                  </a:lnTo>
                  <a:lnTo>
                    <a:pt x="18313" y="8598"/>
                  </a:lnTo>
                  <a:lnTo>
                    <a:pt x="19722" y="6291"/>
                  </a:lnTo>
                  <a:lnTo>
                    <a:pt x="20896" y="3984"/>
                  </a:lnTo>
                  <a:lnTo>
                    <a:pt x="21600" y="1678"/>
                  </a:lnTo>
                  <a:lnTo>
                    <a:pt x="21600" y="1258"/>
                  </a:lnTo>
                  <a:lnTo>
                    <a:pt x="20426" y="1049"/>
                  </a:lnTo>
                  <a:close/>
                  <a:moveTo>
                    <a:pt x="20426" y="1049"/>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6" name="Freeform 94"/>
            <p:cNvSpPr/>
            <p:nvPr/>
          </p:nvSpPr>
          <p:spPr>
            <a:xfrm>
              <a:off x="8394480" y="6502320"/>
              <a:ext cx="141120" cy="159840"/>
            </a:xfrm>
            <a:custGeom>
              <a:avLst/>
              <a:gdLst/>
              <a:ahLst/>
              <a:rect l="l" t="t" r="r" b="b"/>
              <a:pathLst>
                <a:path w="21600" h="21600">
                  <a:moveTo>
                    <a:pt x="20426" y="1049"/>
                  </a:moveTo>
                  <a:lnTo>
                    <a:pt x="20426" y="1049"/>
                  </a:lnTo>
                  <a:lnTo>
                    <a:pt x="19487" y="0"/>
                  </a:lnTo>
                  <a:lnTo>
                    <a:pt x="16670" y="1049"/>
                  </a:lnTo>
                  <a:lnTo>
                    <a:pt x="14322" y="2307"/>
                  </a:lnTo>
                  <a:lnTo>
                    <a:pt x="11739" y="3775"/>
                  </a:lnTo>
                  <a:lnTo>
                    <a:pt x="9391" y="5872"/>
                  </a:lnTo>
                  <a:lnTo>
                    <a:pt x="7043" y="8388"/>
                  </a:lnTo>
                  <a:lnTo>
                    <a:pt x="4930" y="10905"/>
                  </a:lnTo>
                  <a:lnTo>
                    <a:pt x="3287" y="13631"/>
                  </a:lnTo>
                  <a:lnTo>
                    <a:pt x="1878" y="16777"/>
                  </a:lnTo>
                  <a:lnTo>
                    <a:pt x="704" y="18874"/>
                  </a:lnTo>
                  <a:lnTo>
                    <a:pt x="0" y="20971"/>
                  </a:lnTo>
                  <a:lnTo>
                    <a:pt x="0" y="21600"/>
                  </a:lnTo>
                  <a:lnTo>
                    <a:pt x="470" y="21390"/>
                  </a:lnTo>
                  <a:lnTo>
                    <a:pt x="2817" y="20342"/>
                  </a:lnTo>
                  <a:lnTo>
                    <a:pt x="5165" y="19503"/>
                  </a:lnTo>
                  <a:lnTo>
                    <a:pt x="8452" y="17616"/>
                  </a:lnTo>
                  <a:lnTo>
                    <a:pt x="11504" y="15728"/>
                  </a:lnTo>
                  <a:lnTo>
                    <a:pt x="13852" y="13631"/>
                  </a:lnTo>
                  <a:lnTo>
                    <a:pt x="16200" y="11115"/>
                  </a:lnTo>
                  <a:lnTo>
                    <a:pt x="18313" y="8598"/>
                  </a:lnTo>
                  <a:lnTo>
                    <a:pt x="19722" y="6291"/>
                  </a:lnTo>
                  <a:lnTo>
                    <a:pt x="20896" y="3984"/>
                  </a:lnTo>
                  <a:lnTo>
                    <a:pt x="21600" y="1678"/>
                  </a:lnTo>
                  <a:lnTo>
                    <a:pt x="21600" y="1258"/>
                  </a:lnTo>
                  <a:lnTo>
                    <a:pt x="20426" y="1049"/>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7" name="Freeform 95"/>
            <p:cNvSpPr/>
            <p:nvPr/>
          </p:nvSpPr>
          <p:spPr>
            <a:xfrm>
              <a:off x="8464320" y="6202080"/>
              <a:ext cx="407880" cy="517320"/>
            </a:xfrm>
            <a:custGeom>
              <a:avLst/>
              <a:gdLst/>
              <a:ahLst/>
              <a:rect l="l" t="t" r="r" b="b"/>
              <a:pathLst>
                <a:path w="21600" h="21600">
                  <a:moveTo>
                    <a:pt x="20045" y="11447"/>
                  </a:moveTo>
                  <a:lnTo>
                    <a:pt x="20045" y="11447"/>
                  </a:lnTo>
                  <a:lnTo>
                    <a:pt x="21518" y="11059"/>
                  </a:lnTo>
                  <a:lnTo>
                    <a:pt x="21600" y="9442"/>
                  </a:lnTo>
                  <a:lnTo>
                    <a:pt x="20127" y="8925"/>
                  </a:lnTo>
                  <a:lnTo>
                    <a:pt x="19309" y="8860"/>
                  </a:lnTo>
                  <a:lnTo>
                    <a:pt x="18491" y="8795"/>
                  </a:lnTo>
                  <a:lnTo>
                    <a:pt x="16936" y="8601"/>
                  </a:lnTo>
                  <a:lnTo>
                    <a:pt x="16691" y="7696"/>
                  </a:lnTo>
                  <a:lnTo>
                    <a:pt x="18082" y="7049"/>
                  </a:lnTo>
                  <a:lnTo>
                    <a:pt x="18818" y="6661"/>
                  </a:lnTo>
                  <a:lnTo>
                    <a:pt x="19473" y="6273"/>
                  </a:lnTo>
                  <a:lnTo>
                    <a:pt x="20536" y="5432"/>
                  </a:lnTo>
                  <a:lnTo>
                    <a:pt x="20045" y="4656"/>
                  </a:lnTo>
                  <a:lnTo>
                    <a:pt x="19555" y="3945"/>
                  </a:lnTo>
                  <a:lnTo>
                    <a:pt x="18082" y="4074"/>
                  </a:lnTo>
                  <a:lnTo>
                    <a:pt x="17264" y="4204"/>
                  </a:lnTo>
                  <a:lnTo>
                    <a:pt x="16445" y="4398"/>
                  </a:lnTo>
                  <a:lnTo>
                    <a:pt x="14973" y="4980"/>
                  </a:lnTo>
                  <a:lnTo>
                    <a:pt x="14236" y="4204"/>
                  </a:lnTo>
                  <a:lnTo>
                    <a:pt x="15136" y="3169"/>
                  </a:lnTo>
                  <a:lnTo>
                    <a:pt x="15464" y="2587"/>
                  </a:lnTo>
                  <a:lnTo>
                    <a:pt x="15791" y="1940"/>
                  </a:lnTo>
                  <a:lnTo>
                    <a:pt x="16200" y="841"/>
                  </a:lnTo>
                  <a:lnTo>
                    <a:pt x="14891" y="0"/>
                  </a:lnTo>
                  <a:lnTo>
                    <a:pt x="11618" y="4398"/>
                  </a:lnTo>
                  <a:lnTo>
                    <a:pt x="12600" y="5044"/>
                  </a:lnTo>
                  <a:lnTo>
                    <a:pt x="13173" y="5626"/>
                  </a:lnTo>
                  <a:lnTo>
                    <a:pt x="13664" y="6079"/>
                  </a:lnTo>
                  <a:lnTo>
                    <a:pt x="14155" y="6661"/>
                  </a:lnTo>
                  <a:lnTo>
                    <a:pt x="14400" y="7243"/>
                  </a:lnTo>
                  <a:lnTo>
                    <a:pt x="14727" y="7825"/>
                  </a:lnTo>
                  <a:lnTo>
                    <a:pt x="14891" y="8472"/>
                  </a:lnTo>
                  <a:lnTo>
                    <a:pt x="14973" y="9119"/>
                  </a:lnTo>
                  <a:lnTo>
                    <a:pt x="15136" y="9830"/>
                  </a:lnTo>
                  <a:lnTo>
                    <a:pt x="14973" y="10477"/>
                  </a:lnTo>
                  <a:lnTo>
                    <a:pt x="14891" y="11123"/>
                  </a:lnTo>
                  <a:lnTo>
                    <a:pt x="14727" y="11705"/>
                  </a:lnTo>
                  <a:lnTo>
                    <a:pt x="14400" y="12352"/>
                  </a:lnTo>
                  <a:lnTo>
                    <a:pt x="14155" y="12934"/>
                  </a:lnTo>
                  <a:lnTo>
                    <a:pt x="13664" y="13516"/>
                  </a:lnTo>
                  <a:lnTo>
                    <a:pt x="13173" y="13969"/>
                  </a:lnTo>
                  <a:lnTo>
                    <a:pt x="12600" y="14486"/>
                  </a:lnTo>
                  <a:lnTo>
                    <a:pt x="11945" y="14939"/>
                  </a:lnTo>
                  <a:lnTo>
                    <a:pt x="11373" y="15327"/>
                  </a:lnTo>
                  <a:lnTo>
                    <a:pt x="10636" y="15715"/>
                  </a:lnTo>
                  <a:lnTo>
                    <a:pt x="9900" y="15974"/>
                  </a:lnTo>
                  <a:lnTo>
                    <a:pt x="9082" y="16168"/>
                  </a:lnTo>
                  <a:lnTo>
                    <a:pt x="8264" y="16362"/>
                  </a:lnTo>
                  <a:lnTo>
                    <a:pt x="7527" y="16491"/>
                  </a:lnTo>
                  <a:lnTo>
                    <a:pt x="6709" y="16491"/>
                  </a:lnTo>
                  <a:lnTo>
                    <a:pt x="5727" y="16491"/>
                  </a:lnTo>
                  <a:lnTo>
                    <a:pt x="4909" y="16297"/>
                  </a:lnTo>
                  <a:lnTo>
                    <a:pt x="4009" y="16168"/>
                  </a:lnTo>
                  <a:lnTo>
                    <a:pt x="3191" y="15909"/>
                  </a:lnTo>
                  <a:lnTo>
                    <a:pt x="0" y="20371"/>
                  </a:lnTo>
                  <a:lnTo>
                    <a:pt x="1555" y="20824"/>
                  </a:lnTo>
                  <a:lnTo>
                    <a:pt x="2455" y="20048"/>
                  </a:lnTo>
                  <a:lnTo>
                    <a:pt x="2945" y="19531"/>
                  </a:lnTo>
                  <a:lnTo>
                    <a:pt x="3436" y="18949"/>
                  </a:lnTo>
                  <a:lnTo>
                    <a:pt x="4173" y="17784"/>
                  </a:lnTo>
                  <a:lnTo>
                    <a:pt x="5236" y="17978"/>
                  </a:lnTo>
                  <a:lnTo>
                    <a:pt x="5482" y="19207"/>
                  </a:lnTo>
                  <a:lnTo>
                    <a:pt x="5727" y="19919"/>
                  </a:lnTo>
                  <a:lnTo>
                    <a:pt x="5973" y="20565"/>
                  </a:lnTo>
                  <a:lnTo>
                    <a:pt x="6545" y="21600"/>
                  </a:lnTo>
                  <a:lnTo>
                    <a:pt x="7445" y="21600"/>
                  </a:lnTo>
                  <a:lnTo>
                    <a:pt x="8755" y="21535"/>
                  </a:lnTo>
                  <a:lnTo>
                    <a:pt x="9082" y="20371"/>
                  </a:lnTo>
                  <a:lnTo>
                    <a:pt x="9245" y="19789"/>
                  </a:lnTo>
                  <a:lnTo>
                    <a:pt x="9245" y="19013"/>
                  </a:lnTo>
                  <a:lnTo>
                    <a:pt x="9245" y="17784"/>
                  </a:lnTo>
                  <a:lnTo>
                    <a:pt x="10309" y="17526"/>
                  </a:lnTo>
                  <a:lnTo>
                    <a:pt x="11291" y="18560"/>
                  </a:lnTo>
                  <a:lnTo>
                    <a:pt x="11782" y="19013"/>
                  </a:lnTo>
                  <a:lnTo>
                    <a:pt x="12355" y="19531"/>
                  </a:lnTo>
                  <a:lnTo>
                    <a:pt x="13582" y="20242"/>
                  </a:lnTo>
                  <a:lnTo>
                    <a:pt x="14482" y="19789"/>
                  </a:lnTo>
                  <a:lnTo>
                    <a:pt x="15382" y="19401"/>
                  </a:lnTo>
                  <a:lnTo>
                    <a:pt x="14973" y="18302"/>
                  </a:lnTo>
                  <a:lnTo>
                    <a:pt x="14727" y="17590"/>
                  </a:lnTo>
                  <a:lnTo>
                    <a:pt x="14400" y="17008"/>
                  </a:lnTo>
                  <a:lnTo>
                    <a:pt x="13664" y="15909"/>
                  </a:lnTo>
                  <a:lnTo>
                    <a:pt x="14400" y="15198"/>
                  </a:lnTo>
                  <a:lnTo>
                    <a:pt x="15791" y="15780"/>
                  </a:lnTo>
                  <a:lnTo>
                    <a:pt x="16691" y="16103"/>
                  </a:lnTo>
                  <a:lnTo>
                    <a:pt x="17427" y="16297"/>
                  </a:lnTo>
                  <a:lnTo>
                    <a:pt x="18982" y="16491"/>
                  </a:lnTo>
                  <a:lnTo>
                    <a:pt x="19555" y="15780"/>
                  </a:lnTo>
                  <a:lnTo>
                    <a:pt x="20045" y="15068"/>
                  </a:lnTo>
                  <a:lnTo>
                    <a:pt x="19064" y="14098"/>
                  </a:lnTo>
                  <a:lnTo>
                    <a:pt x="18491" y="13710"/>
                  </a:lnTo>
                  <a:lnTo>
                    <a:pt x="17755" y="13257"/>
                  </a:lnTo>
                  <a:lnTo>
                    <a:pt x="16445" y="12546"/>
                  </a:lnTo>
                  <a:lnTo>
                    <a:pt x="16691" y="11705"/>
                  </a:lnTo>
                  <a:lnTo>
                    <a:pt x="18327" y="11641"/>
                  </a:lnTo>
                  <a:lnTo>
                    <a:pt x="19227" y="11641"/>
                  </a:lnTo>
                  <a:lnTo>
                    <a:pt x="20045" y="11447"/>
                  </a:lnTo>
                  <a:close/>
                  <a:moveTo>
                    <a:pt x="20045" y="11447"/>
                  </a:move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8" name="Freeform 96"/>
            <p:cNvSpPr/>
            <p:nvPr/>
          </p:nvSpPr>
          <p:spPr>
            <a:xfrm>
              <a:off x="8464320" y="6202080"/>
              <a:ext cx="407880" cy="517320"/>
            </a:xfrm>
            <a:custGeom>
              <a:avLst/>
              <a:gdLst/>
              <a:ahLst/>
              <a:rect l="l" t="t" r="r" b="b"/>
              <a:pathLst>
                <a:path w="21600" h="21600">
                  <a:moveTo>
                    <a:pt x="20045" y="11447"/>
                  </a:moveTo>
                  <a:lnTo>
                    <a:pt x="20045" y="11447"/>
                  </a:lnTo>
                  <a:lnTo>
                    <a:pt x="21518" y="11059"/>
                  </a:lnTo>
                  <a:lnTo>
                    <a:pt x="21600" y="9442"/>
                  </a:lnTo>
                  <a:lnTo>
                    <a:pt x="20127" y="8925"/>
                  </a:lnTo>
                  <a:lnTo>
                    <a:pt x="19309" y="8860"/>
                  </a:lnTo>
                  <a:lnTo>
                    <a:pt x="18491" y="8795"/>
                  </a:lnTo>
                  <a:lnTo>
                    <a:pt x="16936" y="8601"/>
                  </a:lnTo>
                  <a:lnTo>
                    <a:pt x="16691" y="7696"/>
                  </a:lnTo>
                  <a:lnTo>
                    <a:pt x="18082" y="7049"/>
                  </a:lnTo>
                  <a:lnTo>
                    <a:pt x="18818" y="6661"/>
                  </a:lnTo>
                  <a:lnTo>
                    <a:pt x="19473" y="6273"/>
                  </a:lnTo>
                  <a:lnTo>
                    <a:pt x="20536" y="5432"/>
                  </a:lnTo>
                  <a:lnTo>
                    <a:pt x="20045" y="4656"/>
                  </a:lnTo>
                  <a:lnTo>
                    <a:pt x="19555" y="3945"/>
                  </a:lnTo>
                  <a:lnTo>
                    <a:pt x="18082" y="4074"/>
                  </a:lnTo>
                  <a:lnTo>
                    <a:pt x="17264" y="4204"/>
                  </a:lnTo>
                  <a:lnTo>
                    <a:pt x="16445" y="4398"/>
                  </a:lnTo>
                  <a:lnTo>
                    <a:pt x="14973" y="4980"/>
                  </a:lnTo>
                  <a:lnTo>
                    <a:pt x="14236" y="4204"/>
                  </a:lnTo>
                  <a:lnTo>
                    <a:pt x="15136" y="3169"/>
                  </a:lnTo>
                  <a:lnTo>
                    <a:pt x="15464" y="2587"/>
                  </a:lnTo>
                  <a:lnTo>
                    <a:pt x="15791" y="1940"/>
                  </a:lnTo>
                  <a:lnTo>
                    <a:pt x="16200" y="841"/>
                  </a:lnTo>
                  <a:lnTo>
                    <a:pt x="14891" y="0"/>
                  </a:lnTo>
                  <a:lnTo>
                    <a:pt x="11618" y="4398"/>
                  </a:lnTo>
                  <a:lnTo>
                    <a:pt x="12600" y="5044"/>
                  </a:lnTo>
                  <a:lnTo>
                    <a:pt x="13173" y="5626"/>
                  </a:lnTo>
                  <a:lnTo>
                    <a:pt x="13664" y="6079"/>
                  </a:lnTo>
                  <a:lnTo>
                    <a:pt x="14155" y="6661"/>
                  </a:lnTo>
                  <a:lnTo>
                    <a:pt x="14400" y="7243"/>
                  </a:lnTo>
                  <a:lnTo>
                    <a:pt x="14727" y="7825"/>
                  </a:lnTo>
                  <a:lnTo>
                    <a:pt x="14891" y="8472"/>
                  </a:lnTo>
                  <a:lnTo>
                    <a:pt x="14973" y="9119"/>
                  </a:lnTo>
                  <a:lnTo>
                    <a:pt x="15136" y="9830"/>
                  </a:lnTo>
                  <a:lnTo>
                    <a:pt x="14973" y="10477"/>
                  </a:lnTo>
                  <a:lnTo>
                    <a:pt x="14891" y="11123"/>
                  </a:lnTo>
                  <a:lnTo>
                    <a:pt x="14727" y="11705"/>
                  </a:lnTo>
                  <a:lnTo>
                    <a:pt x="14400" y="12352"/>
                  </a:lnTo>
                  <a:lnTo>
                    <a:pt x="14155" y="12934"/>
                  </a:lnTo>
                  <a:lnTo>
                    <a:pt x="13664" y="13516"/>
                  </a:lnTo>
                  <a:lnTo>
                    <a:pt x="13173" y="13969"/>
                  </a:lnTo>
                  <a:lnTo>
                    <a:pt x="12600" y="14486"/>
                  </a:lnTo>
                  <a:lnTo>
                    <a:pt x="11945" y="14939"/>
                  </a:lnTo>
                  <a:lnTo>
                    <a:pt x="11373" y="15327"/>
                  </a:lnTo>
                  <a:lnTo>
                    <a:pt x="10636" y="15715"/>
                  </a:lnTo>
                  <a:lnTo>
                    <a:pt x="9900" y="15974"/>
                  </a:lnTo>
                  <a:lnTo>
                    <a:pt x="9082" y="16168"/>
                  </a:lnTo>
                  <a:lnTo>
                    <a:pt x="8264" y="16362"/>
                  </a:lnTo>
                  <a:lnTo>
                    <a:pt x="7527" y="16491"/>
                  </a:lnTo>
                  <a:lnTo>
                    <a:pt x="6709" y="16491"/>
                  </a:lnTo>
                  <a:lnTo>
                    <a:pt x="5727" y="16491"/>
                  </a:lnTo>
                  <a:lnTo>
                    <a:pt x="4909" y="16297"/>
                  </a:lnTo>
                  <a:lnTo>
                    <a:pt x="4009" y="16168"/>
                  </a:lnTo>
                  <a:lnTo>
                    <a:pt x="3191" y="15909"/>
                  </a:lnTo>
                  <a:lnTo>
                    <a:pt x="0" y="20371"/>
                  </a:lnTo>
                  <a:lnTo>
                    <a:pt x="1555" y="20824"/>
                  </a:lnTo>
                  <a:lnTo>
                    <a:pt x="2455" y="20048"/>
                  </a:lnTo>
                  <a:lnTo>
                    <a:pt x="2945" y="19531"/>
                  </a:lnTo>
                  <a:lnTo>
                    <a:pt x="3436" y="18949"/>
                  </a:lnTo>
                  <a:lnTo>
                    <a:pt x="4173" y="17784"/>
                  </a:lnTo>
                  <a:lnTo>
                    <a:pt x="5236" y="17978"/>
                  </a:lnTo>
                  <a:lnTo>
                    <a:pt x="5482" y="19207"/>
                  </a:lnTo>
                  <a:lnTo>
                    <a:pt x="5727" y="19919"/>
                  </a:lnTo>
                  <a:lnTo>
                    <a:pt x="5973" y="20565"/>
                  </a:lnTo>
                  <a:lnTo>
                    <a:pt x="6545" y="21600"/>
                  </a:lnTo>
                  <a:lnTo>
                    <a:pt x="7445" y="21600"/>
                  </a:lnTo>
                  <a:lnTo>
                    <a:pt x="8755" y="21535"/>
                  </a:lnTo>
                  <a:lnTo>
                    <a:pt x="9082" y="20371"/>
                  </a:lnTo>
                  <a:lnTo>
                    <a:pt x="9245" y="19789"/>
                  </a:lnTo>
                  <a:lnTo>
                    <a:pt x="9245" y="19013"/>
                  </a:lnTo>
                  <a:lnTo>
                    <a:pt x="9245" y="17784"/>
                  </a:lnTo>
                  <a:lnTo>
                    <a:pt x="10309" y="17526"/>
                  </a:lnTo>
                  <a:lnTo>
                    <a:pt x="11291" y="18560"/>
                  </a:lnTo>
                  <a:lnTo>
                    <a:pt x="11782" y="19013"/>
                  </a:lnTo>
                  <a:lnTo>
                    <a:pt x="12355" y="19531"/>
                  </a:lnTo>
                  <a:lnTo>
                    <a:pt x="13582" y="20242"/>
                  </a:lnTo>
                  <a:lnTo>
                    <a:pt x="14482" y="19789"/>
                  </a:lnTo>
                  <a:lnTo>
                    <a:pt x="15382" y="19401"/>
                  </a:lnTo>
                  <a:lnTo>
                    <a:pt x="14973" y="18302"/>
                  </a:lnTo>
                  <a:lnTo>
                    <a:pt x="14727" y="17590"/>
                  </a:lnTo>
                  <a:lnTo>
                    <a:pt x="14400" y="17008"/>
                  </a:lnTo>
                  <a:lnTo>
                    <a:pt x="13664" y="15909"/>
                  </a:lnTo>
                  <a:lnTo>
                    <a:pt x="14400" y="15198"/>
                  </a:lnTo>
                  <a:lnTo>
                    <a:pt x="15791" y="15780"/>
                  </a:lnTo>
                  <a:lnTo>
                    <a:pt x="16691" y="16103"/>
                  </a:lnTo>
                  <a:lnTo>
                    <a:pt x="17427" y="16297"/>
                  </a:lnTo>
                  <a:lnTo>
                    <a:pt x="18982" y="16491"/>
                  </a:lnTo>
                  <a:lnTo>
                    <a:pt x="19555" y="15780"/>
                  </a:lnTo>
                  <a:lnTo>
                    <a:pt x="20045" y="15068"/>
                  </a:lnTo>
                  <a:lnTo>
                    <a:pt x="19064" y="14098"/>
                  </a:lnTo>
                  <a:lnTo>
                    <a:pt x="18491" y="13710"/>
                  </a:lnTo>
                  <a:lnTo>
                    <a:pt x="17755" y="13257"/>
                  </a:lnTo>
                  <a:lnTo>
                    <a:pt x="16445" y="12546"/>
                  </a:lnTo>
                  <a:lnTo>
                    <a:pt x="16691" y="11705"/>
                  </a:lnTo>
                  <a:lnTo>
                    <a:pt x="18327" y="11641"/>
                  </a:lnTo>
                  <a:lnTo>
                    <a:pt x="19227" y="11641"/>
                  </a:lnTo>
                  <a:lnTo>
                    <a:pt x="20045" y="11447"/>
                  </a:lnTo>
                </a:path>
              </a:pathLst>
            </a:custGeom>
            <a:solidFill>
              <a:srgbClr val="3d616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sp>
        <p:nvSpPr>
          <p:cNvPr id="249" name="Rectangle 98"/>
          <p:cNvSpPr/>
          <p:nvPr/>
        </p:nvSpPr>
        <p:spPr>
          <a:xfrm>
            <a:off x="96840" y="112680"/>
            <a:ext cx="8585280" cy="2919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old Italic"/>
                <a:ea typeface="Arial Bold Italic"/>
              </a:rPr>
              <a:t>UNECE Workshop on Measuring Sustainable Development – 29 October 2012, Geneva</a:t>
            </a:r>
            <a:endParaRPr b="0" lang="en-US" sz="1600" spc="-1" strike="noStrike">
              <a:solidFill>
                <a:srgbClr val="000000"/>
              </a:solidFill>
              <a:latin typeface="Gill Sans"/>
            </a:endParaRPr>
          </a:p>
        </p:txBody>
      </p:sp>
      <p:sp>
        <p:nvSpPr>
          <p:cNvPr id="250" name="Rectangle 99"/>
          <p:cNvSpPr/>
          <p:nvPr/>
        </p:nvSpPr>
        <p:spPr>
          <a:xfrm>
            <a:off x="212760" y="4863960"/>
            <a:ext cx="8231040" cy="58428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rebuchet MS"/>
                <a:ea typeface="Trebuchet MS"/>
              </a:rPr>
              <a:t>Erol Cavus</a:t>
            </a:r>
            <a:endParaRPr b="0" lang="en-US" sz="16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rebuchet MS"/>
                <a:ea typeface="Trebuchet MS"/>
              </a:rPr>
              <a:t>Project Manager </a:t>
            </a:r>
            <a:endParaRPr b="0" lang="en-US" sz="16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rebuchet MS"/>
                <a:ea typeface="Trebuchet MS"/>
              </a:rPr>
              <a:t>ENPI-SEIS Project </a:t>
            </a:r>
            <a:endParaRPr b="0" lang="en-US" sz="1600" spc="-1" strike="noStrike">
              <a:solidFill>
                <a:srgbClr val="000000"/>
              </a:solidFill>
              <a:latin typeface="Gill Sans"/>
            </a:endParaRPr>
          </a:p>
        </p:txBody>
      </p:sp>
      <p:sp>
        <p:nvSpPr>
          <p:cNvPr id="251" name="Rectangle 100"/>
          <p:cNvSpPr/>
          <p:nvPr/>
        </p:nvSpPr>
        <p:spPr>
          <a:xfrm>
            <a:off x="285840" y="3166920"/>
            <a:ext cx="8140680" cy="5335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mplications from Rio+20 for the EEA work</a:t>
            </a:r>
            <a:endParaRPr b="0" lang="en-US" sz="32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95" name="Picture 2" descr=""/>
          <p:cNvPicPr/>
          <p:nvPr/>
        </p:nvPicPr>
        <p:blipFill>
          <a:blip r:embed="rId1"/>
          <a:stretch/>
        </p:blipFill>
        <p:spPr>
          <a:xfrm>
            <a:off x="6140520" y="6143760"/>
            <a:ext cx="2860560" cy="576000"/>
          </a:xfrm>
          <a:prstGeom prst="rect">
            <a:avLst/>
          </a:prstGeom>
          <a:ln w="0">
            <a:noFill/>
          </a:ln>
        </p:spPr>
      </p:pic>
      <p:sp>
        <p:nvSpPr>
          <p:cNvPr id="296"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7" name="Rectangle 4"/>
          <p:cNvSpPr/>
          <p:nvPr/>
        </p:nvSpPr>
        <p:spPr>
          <a:xfrm>
            <a:off x="892080" y="142920"/>
            <a:ext cx="731520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Bold"/>
                <a:ea typeface="Trebuchet MS Bold"/>
              </a:rPr>
              <a:t>Cluster 3. Green economy and the 10YFP on SCP</a:t>
            </a:r>
            <a:endParaRPr b="0" lang="en-US" sz="2400" spc="-1" strike="noStrike">
              <a:solidFill>
                <a:srgbClr val="000000"/>
              </a:solidFill>
              <a:latin typeface="Gill Sans"/>
            </a:endParaRPr>
          </a:p>
        </p:txBody>
      </p:sp>
      <p:sp>
        <p:nvSpPr>
          <p:cNvPr id="298" name="Rectangle 5"/>
          <p:cNvSpPr/>
          <p:nvPr/>
        </p:nvSpPr>
        <p:spPr>
          <a:xfrm>
            <a:off x="92160" y="1197000"/>
            <a:ext cx="9042480" cy="4622760"/>
          </a:xfrm>
          <a:prstGeom prst="rect">
            <a:avLst/>
          </a:prstGeom>
          <a:noFill/>
          <a:ln w="0">
            <a:noFill/>
          </a:ln>
        </p:spPr>
        <p:style>
          <a:lnRef idx="0"/>
          <a:fillRef idx="0"/>
          <a:effectRef idx="0"/>
          <a:fontRef idx="minor"/>
        </p:style>
        <p:txBody>
          <a:bodyPr lIns="38160" rIns="38160" tIns="38160" bIns="38160" anchor="t">
            <a:noAutofit/>
          </a:bodyPr>
          <a:p>
            <a:pPr marL="533520" indent="-533520">
              <a:lnSpc>
                <a:spcPct val="100000"/>
              </a:lnSpc>
              <a:spcBef>
                <a:spcPts val="21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EEA 2012 Indicators report on GE</a:t>
            </a:r>
            <a:endParaRPr b="0" lang="en-US" sz="3600" spc="-1" strike="noStrike">
              <a:solidFill>
                <a:srgbClr val="000000"/>
              </a:solidFill>
              <a:latin typeface="Gill Sans"/>
            </a:endParaRPr>
          </a:p>
          <a:p>
            <a:pPr marL="533520" indent="-533520">
              <a:lnSpc>
                <a:spcPct val="100000"/>
              </a:lnSpc>
              <a:spcBef>
                <a:spcPts val="21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EU 7 th Environmental Action Programme</a:t>
            </a:r>
            <a:endParaRPr b="0" lang="en-US" sz="3600" spc="-1" strike="noStrike">
              <a:solidFill>
                <a:srgbClr val="000000"/>
              </a:solidFill>
              <a:latin typeface="Gill Sans"/>
            </a:endParaRPr>
          </a:p>
          <a:p>
            <a:pPr marL="533520" indent="-533520">
              <a:lnSpc>
                <a:spcPct val="100000"/>
              </a:lnSpc>
              <a:spcBef>
                <a:spcPts val="21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EU Resource Efficiency Roadmap</a:t>
            </a:r>
            <a:endParaRPr b="0" lang="en-US" sz="3600" spc="-1" strike="noStrike">
              <a:solidFill>
                <a:srgbClr val="000000"/>
              </a:solidFill>
              <a:latin typeface="Gill Sans"/>
            </a:endParaRPr>
          </a:p>
          <a:p>
            <a:pPr marL="533520" indent="-533520">
              <a:lnSpc>
                <a:spcPct val="100000"/>
              </a:lnSpc>
              <a:spcBef>
                <a:spcPts val="21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UN 10 year Framework of programmes on Sustainable Consumption and Production</a:t>
            </a:r>
            <a:endParaRPr b="0" lang="en-US" sz="36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00" name="Picture 2" descr=""/>
          <p:cNvPicPr/>
          <p:nvPr/>
        </p:nvPicPr>
        <p:blipFill>
          <a:blip r:embed="rId1"/>
          <a:stretch/>
        </p:blipFill>
        <p:spPr>
          <a:xfrm>
            <a:off x="6140520" y="6143760"/>
            <a:ext cx="2860560" cy="576000"/>
          </a:xfrm>
          <a:prstGeom prst="rect">
            <a:avLst/>
          </a:prstGeom>
          <a:ln w="0">
            <a:noFill/>
          </a:ln>
        </p:spPr>
      </p:pic>
      <p:sp>
        <p:nvSpPr>
          <p:cNvPr id="301"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2" name="Rectangle 4"/>
          <p:cNvSpPr/>
          <p:nvPr/>
        </p:nvSpPr>
        <p:spPr>
          <a:xfrm>
            <a:off x="568440" y="142920"/>
            <a:ext cx="796428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Bold"/>
                <a:ea typeface="Trebuchet MS Bold"/>
              </a:rPr>
              <a:t>Cluster 4. Enhancing the international env. network  </a:t>
            </a:r>
            <a:endParaRPr b="0" lang="en-US" sz="2400" spc="-1" strike="noStrike">
              <a:solidFill>
                <a:srgbClr val="000000"/>
              </a:solidFill>
              <a:latin typeface="Gill Sans"/>
            </a:endParaRPr>
          </a:p>
        </p:txBody>
      </p:sp>
      <p:sp>
        <p:nvSpPr>
          <p:cNvPr id="303" name="Rectangle 5"/>
          <p:cNvSpPr/>
          <p:nvPr/>
        </p:nvSpPr>
        <p:spPr>
          <a:xfrm>
            <a:off x="219240" y="1185840"/>
            <a:ext cx="8750160" cy="585468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old Italic"/>
                <a:ea typeface="Arial Bold Italic"/>
              </a:rPr>
              <a:t>Quotes on enhancing the international env. network from Rio+20 outcome </a:t>
            </a:r>
            <a:endParaRPr b="0" lang="en-US" sz="2200" spc="-1" strike="noStrike">
              <a:solidFill>
                <a:srgbClr val="000000"/>
              </a:solidFill>
              <a:latin typeface="Gill Sans"/>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Grande"/>
                <a:ea typeface="Lucida Grande"/>
              </a:rPr>
              <a:t>Para 84</a:t>
            </a:r>
            <a:r>
              <a:rPr b="0" lang="en-US" sz="2000" spc="-1" strike="noStrike">
                <a:solidFill>
                  <a:srgbClr val="ffffff"/>
                </a:solidFill>
                <a:latin typeface="Lucida Grande"/>
                <a:ea typeface="Lucida Grande"/>
              </a:rPr>
              <a:t>. “We decide to establish a universal intergovernmental high-level political forum, building on the strengths, experiences, resources and inclusive participation modalities of the Commission on Sustainable Development, and subsequently replacing the Commission.”</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Grande"/>
                <a:ea typeface="Lucida Grande"/>
              </a:rPr>
              <a:t>Para 85</a:t>
            </a:r>
            <a:r>
              <a:rPr b="0" lang="en-US" sz="2000" spc="-1" strike="noStrike">
                <a:solidFill>
                  <a:srgbClr val="ffffff"/>
                </a:solidFill>
                <a:latin typeface="Lucida Grande"/>
                <a:ea typeface="Lucida Grande"/>
              </a:rPr>
              <a:t>. “The high-level forum could…(k) strengthen the science-policy interface through review of documentation bringing together dispersed information and assessments, including in the form of a global sustainable development report, building on existing assessments…(i) enhance evidence-based decision-making at all levels and contribute to strengthening ongoing efforts of capacity-building for data collection and analyses in developing countries.”</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Grande"/>
                <a:ea typeface="Lucida Grande"/>
              </a:rPr>
              <a:t> </a:t>
            </a:r>
            <a:r>
              <a:rPr b="1" lang="en-US" sz="2000" spc="-1" strike="noStrike">
                <a:solidFill>
                  <a:srgbClr val="ffffff"/>
                </a:solidFill>
                <a:latin typeface="Lucida Grande"/>
                <a:ea typeface="Lucida Grande"/>
              </a:rPr>
              <a:t>Para 88</a:t>
            </a:r>
            <a:r>
              <a:rPr b="0" lang="en-US" sz="2000" spc="-1" strike="noStrike">
                <a:solidFill>
                  <a:srgbClr val="ffffff"/>
                </a:solidFill>
                <a:latin typeface="Lucida Grande"/>
                <a:ea typeface="Lucida Grande"/>
              </a:rPr>
              <a:t>. “We are committed to strengthening the role of the United Nations Environment Programme (UNEP)…..to adopt a resolution strengthening UNEP in the following manner: (a) Establish universal membership in the Governing Council of UNEP…” </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 </a:t>
            </a:r>
            <a:endParaRPr b="0" lang="en-US" sz="18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05" name="Picture 2" descr=""/>
          <p:cNvPicPr/>
          <p:nvPr/>
        </p:nvPicPr>
        <p:blipFill>
          <a:blip r:embed="rId1"/>
          <a:stretch/>
        </p:blipFill>
        <p:spPr>
          <a:xfrm>
            <a:off x="6140520" y="6143760"/>
            <a:ext cx="2860560" cy="576000"/>
          </a:xfrm>
          <a:prstGeom prst="rect">
            <a:avLst/>
          </a:prstGeom>
          <a:ln w="0">
            <a:noFill/>
          </a:ln>
        </p:spPr>
      </p:pic>
      <p:sp>
        <p:nvSpPr>
          <p:cNvPr id="306"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7" name="Rectangle 4"/>
          <p:cNvSpPr/>
          <p:nvPr/>
        </p:nvSpPr>
        <p:spPr>
          <a:xfrm>
            <a:off x="614520" y="142920"/>
            <a:ext cx="787212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Bold"/>
                <a:ea typeface="Trebuchet MS Bold"/>
              </a:rPr>
              <a:t>Cluster 4. Enhancing the international env. network </a:t>
            </a:r>
            <a:endParaRPr b="0" lang="en-US" sz="2400" spc="-1" strike="noStrike">
              <a:solidFill>
                <a:srgbClr val="000000"/>
              </a:solidFill>
              <a:latin typeface="Gill Sans"/>
            </a:endParaRPr>
          </a:p>
        </p:txBody>
      </p:sp>
      <p:sp>
        <p:nvSpPr>
          <p:cNvPr id="308" name="Rectangle 5"/>
          <p:cNvSpPr/>
          <p:nvPr/>
        </p:nvSpPr>
        <p:spPr>
          <a:xfrm>
            <a:off x="92160" y="907920"/>
            <a:ext cx="9042480" cy="4089600"/>
          </a:xfrm>
          <a:prstGeom prst="rect">
            <a:avLst/>
          </a:prstGeom>
          <a:noFill/>
          <a:ln w="0">
            <a:noFill/>
          </a:ln>
        </p:spPr>
        <p:style>
          <a:lnRef idx="0"/>
          <a:fillRef idx="0"/>
          <a:effectRef idx="0"/>
          <a:fontRef idx="minor"/>
        </p:style>
        <p:txBody>
          <a:bodyPr lIns="38160" rIns="38160" tIns="38160" bIns="38160" anchor="t">
            <a:noAutofit/>
          </a:bodyPr>
          <a:p>
            <a:pPr marL="533520" indent="-533520">
              <a:lnSpc>
                <a:spcPct val="100000"/>
              </a:lnSpc>
              <a:spcBef>
                <a:spcPts val="21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marL="533520" indent="-533520">
              <a:lnSpc>
                <a:spcPct val="100000"/>
              </a:lnSpc>
              <a:spcBef>
                <a:spcPts val="21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EEA and the cooperation with UNEP</a:t>
            </a:r>
            <a:endParaRPr b="0" lang="en-US" sz="3600" spc="-1" strike="noStrike">
              <a:solidFill>
                <a:srgbClr val="000000"/>
              </a:solidFill>
              <a:latin typeface="Gill Sans"/>
            </a:endParaRPr>
          </a:p>
          <a:p>
            <a:pPr marL="533520" indent="-533520">
              <a:lnSpc>
                <a:spcPct val="100000"/>
              </a:lnSpc>
              <a:spcBef>
                <a:spcPts val="21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Lucida Grande"/>
              </a:rPr>
              <a:t>Interregional cooperation (US; Africa; South America; ASEAN)</a:t>
            </a:r>
            <a:endParaRPr b="0" lang="en-US" sz="3600" spc="-1" strike="noStrike">
              <a:solidFill>
                <a:srgbClr val="000000"/>
              </a:solidFill>
              <a:latin typeface="Gill Sans"/>
            </a:endParaRPr>
          </a:p>
          <a:p>
            <a:pPr marL="533520" indent="-533520">
              <a:lnSpc>
                <a:spcPct val="100000"/>
              </a:lnSpc>
              <a:spcBef>
                <a:spcPts val="21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Science policy interface</a:t>
            </a:r>
            <a:endParaRPr b="0" lang="en-US" sz="36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10" name="Picture 2" descr=""/>
          <p:cNvPicPr/>
          <p:nvPr/>
        </p:nvPicPr>
        <p:blipFill>
          <a:blip r:embed="rId1"/>
          <a:stretch/>
        </p:blipFill>
        <p:spPr>
          <a:xfrm>
            <a:off x="6140520" y="6143760"/>
            <a:ext cx="2860560" cy="576000"/>
          </a:xfrm>
          <a:prstGeom prst="rect">
            <a:avLst/>
          </a:prstGeom>
          <a:ln w="0">
            <a:noFill/>
          </a:ln>
        </p:spPr>
      </p:pic>
      <p:sp>
        <p:nvSpPr>
          <p:cNvPr id="311"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2" name="Rectangle 4"/>
          <p:cNvSpPr/>
          <p:nvPr/>
        </p:nvSpPr>
        <p:spPr>
          <a:xfrm>
            <a:off x="1411200" y="142920"/>
            <a:ext cx="627876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Bold"/>
                <a:ea typeface="Trebuchet MS Bold"/>
              </a:rPr>
              <a:t>Cluster 5.Engagement with major groups </a:t>
            </a:r>
            <a:endParaRPr b="0" lang="en-US" sz="2400" spc="-1" strike="noStrike">
              <a:solidFill>
                <a:srgbClr val="000000"/>
              </a:solidFill>
              <a:latin typeface="Gill Sans"/>
            </a:endParaRPr>
          </a:p>
        </p:txBody>
      </p:sp>
      <p:sp>
        <p:nvSpPr>
          <p:cNvPr id="313" name="Rectangle 5"/>
          <p:cNvSpPr/>
          <p:nvPr/>
        </p:nvSpPr>
        <p:spPr>
          <a:xfrm>
            <a:off x="219240" y="1185840"/>
            <a:ext cx="8305560" cy="55371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old Italic"/>
                <a:ea typeface="Arial Bold Italic"/>
              </a:rPr>
              <a:t>Quotes on engagement with major groups from Rio+20 outcome </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 </a:t>
            </a:r>
            <a:r>
              <a:rPr b="0" lang="en-US" sz="1800" spc="-1" strike="noStrike">
                <a:solidFill>
                  <a:srgbClr val="ffffff"/>
                </a:solidFill>
                <a:latin typeface="Lucida Grande"/>
                <a:ea typeface="Lucida Grande"/>
              </a:rPr>
              <a:t>Para 43. “…Sustainable development requires the meaningful involvement and active participation of regional, national and subnational legislatures and judiciaries, and all </a:t>
            </a:r>
            <a:r>
              <a:rPr b="1" lang="en-US" sz="1800" spc="-1" strike="noStrike">
                <a:solidFill>
                  <a:srgbClr val="ffffff"/>
                </a:solidFill>
                <a:latin typeface="Lucida Grande"/>
                <a:ea typeface="Lucida Grande"/>
              </a:rPr>
              <a:t>major groups</a:t>
            </a:r>
            <a:r>
              <a:rPr b="0" lang="en-US" sz="1800" spc="-1" strike="noStrike">
                <a:solidFill>
                  <a:srgbClr val="ffffff"/>
                </a:solidFill>
                <a:latin typeface="Lucida Grande"/>
                <a:ea typeface="Lucida Grande"/>
              </a:rPr>
              <a:t>: </a:t>
            </a:r>
            <a:r>
              <a:rPr b="1" lang="en-US" sz="1800" spc="-1" strike="noStrike">
                <a:solidFill>
                  <a:srgbClr val="ffffff"/>
                </a:solidFill>
                <a:latin typeface="Lucida Grande"/>
                <a:ea typeface="Lucida Grande"/>
              </a:rPr>
              <a:t>women, children and youth, indigenous peoples, non-governmental organisations, local authorities, workers and trade unions, business and industry,</a:t>
            </a:r>
            <a:r>
              <a:rPr b="0" lang="en-US" sz="1800" spc="-1" strike="noStrike">
                <a:solidFill>
                  <a:srgbClr val="ffffff"/>
                </a:solidFill>
                <a:latin typeface="Lucida Grande"/>
                <a:ea typeface="Lucida Grande"/>
              </a:rPr>
              <a:t> </a:t>
            </a:r>
            <a:r>
              <a:rPr b="1" lang="en-US" sz="1800" spc="-1" strike="noStrike">
                <a:solidFill>
                  <a:srgbClr val="ffffff"/>
                </a:solidFill>
                <a:latin typeface="Lucida Grande"/>
                <a:ea typeface="Lucida Grande"/>
              </a:rPr>
              <a:t>the scientific and technological community</a:t>
            </a:r>
            <a:r>
              <a:rPr b="0" lang="en-US" sz="1800" spc="-1" strike="noStrike">
                <a:solidFill>
                  <a:srgbClr val="ffffff"/>
                </a:solidFill>
                <a:latin typeface="Lucida Grande"/>
                <a:ea typeface="Lucida Grande"/>
              </a:rPr>
              <a:t>, and farmers as well ad other stakeholder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Para 44. “ We recognize that improved participation of civil society depends upon, inter alia, strengthening access to information and building civil society capacity and an enabling environmen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Para 46. “…We support national regulatory and policy frameworks that enable </a:t>
            </a:r>
            <a:r>
              <a:rPr b="1" lang="en-US" sz="1800" spc="-1" strike="noStrike">
                <a:solidFill>
                  <a:srgbClr val="ffffff"/>
                </a:solidFill>
                <a:latin typeface="Lucida Grande"/>
                <a:ea typeface="Lucida Grande"/>
              </a:rPr>
              <a:t>business and industry to advance sustainable development initiatives</a:t>
            </a:r>
            <a:r>
              <a:rPr b="0" lang="en-US" sz="1800" spc="-1" strike="noStrike">
                <a:solidFill>
                  <a:srgbClr val="ffffff"/>
                </a:solidFill>
                <a:latin typeface="Lucida Grande"/>
                <a:ea typeface="Lucida Grande"/>
              </a:rPr>
              <a:t>, taking into account the importance of corporate social responsibility. We call on the private sector to engage in responsible business practices, such as those promoted by the United Nations Global Compact...” </a:t>
            </a:r>
            <a:endParaRPr b="0" lang="en-US" sz="18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15" name="Picture 2" descr=""/>
          <p:cNvPicPr/>
          <p:nvPr/>
        </p:nvPicPr>
        <p:blipFill>
          <a:blip r:embed="rId1"/>
          <a:stretch/>
        </p:blipFill>
        <p:spPr>
          <a:xfrm>
            <a:off x="6140520" y="6143760"/>
            <a:ext cx="2860560" cy="576000"/>
          </a:xfrm>
          <a:prstGeom prst="rect">
            <a:avLst/>
          </a:prstGeom>
          <a:ln w="0">
            <a:noFill/>
          </a:ln>
        </p:spPr>
      </p:pic>
      <p:sp>
        <p:nvSpPr>
          <p:cNvPr id="316"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7" name="Rectangle 4"/>
          <p:cNvSpPr/>
          <p:nvPr/>
        </p:nvSpPr>
        <p:spPr>
          <a:xfrm>
            <a:off x="1403280" y="142920"/>
            <a:ext cx="629460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Bold"/>
                <a:ea typeface="Trebuchet MS Bold"/>
              </a:rPr>
              <a:t>Cluster 5. Engagement with Major Groups</a:t>
            </a:r>
            <a:endParaRPr b="0" lang="en-US" sz="2400" spc="-1" strike="noStrike">
              <a:solidFill>
                <a:srgbClr val="000000"/>
              </a:solidFill>
              <a:latin typeface="Gill Sans"/>
            </a:endParaRPr>
          </a:p>
        </p:txBody>
      </p:sp>
      <p:sp>
        <p:nvSpPr>
          <p:cNvPr id="318" name="Rectangle 5"/>
          <p:cNvSpPr/>
          <p:nvPr/>
        </p:nvSpPr>
        <p:spPr>
          <a:xfrm>
            <a:off x="92160" y="907920"/>
            <a:ext cx="9042480" cy="4102200"/>
          </a:xfrm>
          <a:prstGeom prst="rect">
            <a:avLst/>
          </a:prstGeom>
          <a:noFill/>
          <a:ln w="0">
            <a:noFill/>
          </a:ln>
        </p:spPr>
        <p:style>
          <a:lnRef idx="0"/>
          <a:fillRef idx="0"/>
          <a:effectRef idx="0"/>
          <a:fontRef idx="minor"/>
        </p:style>
        <p:txBody>
          <a:bodyPr lIns="38160" rIns="38160" tIns="38160" bIns="38160" anchor="t">
            <a:noAutofit/>
          </a:bodyPr>
          <a:p>
            <a:pPr marL="533520" indent="-533520">
              <a:lnSpc>
                <a:spcPct val="100000"/>
              </a:lnSpc>
              <a:spcBef>
                <a:spcPts val="21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marL="533520" indent="-533520">
              <a:lnSpc>
                <a:spcPct val="10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old"/>
                <a:ea typeface="Arial Bold"/>
              </a:rPr>
              <a:t>Corporate sustainability reporting</a:t>
            </a:r>
            <a:endParaRPr b="0" lang="en-US" sz="4000" spc="-1" strike="noStrike">
              <a:solidFill>
                <a:srgbClr val="000000"/>
              </a:solidFill>
              <a:latin typeface="Gill Sans"/>
            </a:endParaRPr>
          </a:p>
          <a:p>
            <a:pPr marL="533520" indent="-53352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a:p>
            <a:pPr marL="533520" indent="-53352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a:p>
            <a:pPr marL="533520" indent="-533520">
              <a:lnSpc>
                <a:spcPct val="10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old"/>
                <a:ea typeface="Arial Bold"/>
              </a:rPr>
              <a:t>The European Citizens Science Partnership</a:t>
            </a:r>
            <a:endParaRPr b="0" lang="en-US" sz="40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20" name="Picture 2" descr=""/>
          <p:cNvPicPr/>
          <p:nvPr/>
        </p:nvPicPr>
        <p:blipFill>
          <a:blip r:embed="rId1"/>
          <a:stretch/>
        </p:blipFill>
        <p:spPr>
          <a:xfrm>
            <a:off x="6140520" y="6143760"/>
            <a:ext cx="2860560" cy="576000"/>
          </a:xfrm>
          <a:prstGeom prst="rect">
            <a:avLst/>
          </a:prstGeom>
          <a:ln w="0">
            <a:noFill/>
          </a:ln>
        </p:spPr>
      </p:pic>
      <p:sp>
        <p:nvSpPr>
          <p:cNvPr id="321"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2" name="Rectangle 4"/>
          <p:cNvSpPr/>
          <p:nvPr/>
        </p:nvSpPr>
        <p:spPr>
          <a:xfrm>
            <a:off x="2163600" y="142920"/>
            <a:ext cx="477216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Bold"/>
                <a:ea typeface="Trebuchet MS Bold"/>
              </a:rPr>
              <a:t>Overall</a:t>
            </a:r>
            <a:endParaRPr b="0" lang="en-US" sz="4000" spc="-1" strike="noStrike">
              <a:solidFill>
                <a:srgbClr val="000000"/>
              </a:solidFill>
              <a:latin typeface="Gill Sans"/>
            </a:endParaRPr>
          </a:p>
        </p:txBody>
      </p:sp>
      <p:sp>
        <p:nvSpPr>
          <p:cNvPr id="323" name="Rectangle 5"/>
          <p:cNvSpPr/>
          <p:nvPr/>
        </p:nvSpPr>
        <p:spPr>
          <a:xfrm>
            <a:off x="114480" y="1006560"/>
            <a:ext cx="8915400" cy="52322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Rio+20 outcome calls </a:t>
            </a:r>
            <a:r>
              <a:rPr b="1" lang="en-US" sz="3200" spc="-1" strike="noStrike">
                <a:solidFill>
                  <a:srgbClr val="ffffff"/>
                </a:solidFill>
                <a:latin typeface="Arial"/>
                <a:ea typeface="Arial"/>
              </a:rPr>
              <a:t>for increased global, regional and national efforts in a number of areas for which the EEA has a specific mandate </a:t>
            </a:r>
            <a:r>
              <a:rPr b="0" lang="en-US" sz="3200" spc="-1" strike="noStrike">
                <a:solidFill>
                  <a:srgbClr val="ffffff"/>
                </a:solidFill>
                <a:latin typeface="Arial"/>
                <a:ea typeface="Arial"/>
              </a:rPr>
              <a:t>in Europe and for which the EEA has considerable knowledge and expertise.</a:t>
            </a: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us, it provides opportunities for the </a:t>
            </a:r>
            <a:r>
              <a:rPr b="1" lang="en-US" sz="3200" spc="-1" strike="noStrike">
                <a:solidFill>
                  <a:srgbClr val="ffffff"/>
                </a:solidFill>
                <a:latin typeface="Arial"/>
                <a:ea typeface="Arial"/>
              </a:rPr>
              <a:t>EEA to further strengthen its role</a:t>
            </a:r>
            <a:r>
              <a:rPr b="0" lang="en-US" sz="3200" spc="-1" strike="noStrike">
                <a:solidFill>
                  <a:srgbClr val="ffffff"/>
                </a:solidFill>
                <a:latin typeface="Arial"/>
                <a:ea typeface="Arial"/>
              </a:rPr>
              <a:t> as an institution that develops and provides data, indicators, assessments and knowledge to policy makers, business and civil society</a:t>
            </a:r>
            <a:endParaRPr b="0" lang="en-US" sz="32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25" name="Picture 2" descr=""/>
          <p:cNvPicPr/>
          <p:nvPr/>
        </p:nvPicPr>
        <p:blipFill>
          <a:blip r:embed="rId1"/>
          <a:stretch/>
        </p:blipFill>
        <p:spPr>
          <a:xfrm>
            <a:off x="6140520" y="6143760"/>
            <a:ext cx="2860560" cy="576000"/>
          </a:xfrm>
          <a:prstGeom prst="rect">
            <a:avLst/>
          </a:prstGeom>
          <a:ln w="0">
            <a:noFill/>
          </a:ln>
        </p:spPr>
      </p:pic>
      <p:sp>
        <p:nvSpPr>
          <p:cNvPr id="326"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7" name="Rectangle 4"/>
          <p:cNvSpPr/>
          <p:nvPr/>
        </p:nvSpPr>
        <p:spPr>
          <a:xfrm>
            <a:off x="2163600" y="142920"/>
            <a:ext cx="477216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Bold"/>
                <a:ea typeface="Trebuchet MS Bold"/>
              </a:rPr>
              <a:t>Signals 2012</a:t>
            </a:r>
            <a:endParaRPr b="0" lang="en-US" sz="4000" spc="-1" strike="noStrike">
              <a:solidFill>
                <a:srgbClr val="000000"/>
              </a:solidFill>
              <a:latin typeface="Gill Sans"/>
            </a:endParaRPr>
          </a:p>
        </p:txBody>
      </p:sp>
      <p:sp>
        <p:nvSpPr>
          <p:cNvPr id="328" name="Rectangle 5"/>
          <p:cNvSpPr/>
          <p:nvPr/>
        </p:nvSpPr>
        <p:spPr>
          <a:xfrm>
            <a:off x="114480" y="1006560"/>
            <a:ext cx="8915400" cy="52322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TextBox 1"/>
          <p:cNvSpPr/>
          <p:nvPr/>
        </p:nvSpPr>
        <p:spPr>
          <a:xfrm>
            <a:off x="1467000" y="1344600"/>
            <a:ext cx="67831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Signals 2012: Building the Future we want  </a:t>
            </a:r>
            <a:r>
              <a:rPr b="0" lang="en-GB" sz="2800" spc="-1" strike="noStrike">
                <a:solidFill>
                  <a:srgbClr val="ffffff"/>
                </a:solidFill>
                <a:latin typeface="Arial"/>
                <a:ea typeface="Arial"/>
              </a:rPr>
              <a:t>brings</a:t>
            </a:r>
            <a:r>
              <a:rPr b="0" lang="en-GB" sz="3200" spc="-1" strike="noStrike">
                <a:solidFill>
                  <a:srgbClr val="ffffff"/>
                </a:solidFill>
                <a:latin typeface="Arial"/>
                <a:ea typeface="Arial"/>
              </a:rPr>
              <a:t> together environmental issues such as sustainability, green economy, water, waste, food, governance and knowledge sharing. It is prepared in the context of the United Nations Conference on Sustainable Development — Rio 2012.</a:t>
            </a:r>
            <a:endParaRPr b="0" lang="en-US" sz="3200" spc="-1" strike="noStrike">
              <a:solidFill>
                <a:srgbClr val="000000"/>
              </a:solidFill>
              <a:latin typeface="Gill Sans"/>
            </a:endParaRPr>
          </a:p>
        </p:txBody>
      </p:sp>
      <p:pic>
        <p:nvPicPr>
          <p:cNvPr id="330" name="Picture 2" descr="C:\Users\eeauser\Desktop\untitled.png"/>
          <p:cNvPicPr/>
          <p:nvPr/>
        </p:nvPicPr>
        <p:blipFill>
          <a:blip r:embed="rId2"/>
          <a:stretch/>
        </p:blipFill>
        <p:spPr>
          <a:xfrm>
            <a:off x="114480" y="1347840"/>
            <a:ext cx="1352520" cy="1905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32" name="Picture 2" descr=""/>
          <p:cNvPicPr/>
          <p:nvPr/>
        </p:nvPicPr>
        <p:blipFill>
          <a:blip r:embed="rId1"/>
          <a:stretch/>
        </p:blipFill>
        <p:spPr>
          <a:xfrm>
            <a:off x="6140520" y="6143760"/>
            <a:ext cx="2860560" cy="576000"/>
          </a:xfrm>
          <a:prstGeom prst="rect">
            <a:avLst/>
          </a:prstGeom>
          <a:ln w="0">
            <a:noFill/>
          </a:ln>
        </p:spPr>
      </p:pic>
      <p:sp>
        <p:nvSpPr>
          <p:cNvPr id="333"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Rectangle 4"/>
          <p:cNvSpPr/>
          <p:nvPr/>
        </p:nvSpPr>
        <p:spPr>
          <a:xfrm>
            <a:off x="1476360" y="2205000"/>
            <a:ext cx="7128000" cy="27367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Bold"/>
                <a:ea typeface="Trebuchet MS Bold"/>
              </a:rPr>
              <a:t>Thank you for your attention</a:t>
            </a:r>
            <a:endParaRPr b="0" lang="en-US" sz="4000" spc="-1" strike="noStrike">
              <a:solidFill>
                <a:srgbClr val="000000"/>
              </a:solidFill>
              <a:latin typeface="Gill Sans"/>
            </a:endParaRPr>
          </a:p>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Bold"/>
                <a:ea typeface="Trebuchet MS Bold"/>
              </a:rPr>
              <a:t>erol.cavus@eea.europa.eu  </a:t>
            </a:r>
            <a:endParaRPr b="0" lang="en-US" sz="4000" spc="-1" strike="noStrike">
              <a:solidFill>
                <a:srgbClr val="000000"/>
              </a:solidFill>
              <a:latin typeface="Gill Sans"/>
            </a:endParaRPr>
          </a:p>
        </p:txBody>
      </p:sp>
      <p:sp>
        <p:nvSpPr>
          <p:cNvPr id="335" name="Rectangle 5"/>
          <p:cNvSpPr/>
          <p:nvPr/>
        </p:nvSpPr>
        <p:spPr>
          <a:xfrm>
            <a:off x="114480" y="1006560"/>
            <a:ext cx="8915400" cy="52322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53" name="Picture 2" descr=""/>
          <p:cNvPicPr/>
          <p:nvPr/>
        </p:nvPicPr>
        <p:blipFill>
          <a:blip r:embed="rId1"/>
          <a:stretch/>
        </p:blipFill>
        <p:spPr>
          <a:xfrm>
            <a:off x="6140520" y="6143760"/>
            <a:ext cx="2860560" cy="576000"/>
          </a:xfrm>
          <a:prstGeom prst="rect">
            <a:avLst/>
          </a:prstGeom>
          <a:ln w="0">
            <a:noFill/>
          </a:ln>
        </p:spPr>
      </p:pic>
      <p:sp>
        <p:nvSpPr>
          <p:cNvPr id="254"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5" name="Rectangle 4"/>
          <p:cNvSpPr/>
          <p:nvPr/>
        </p:nvSpPr>
        <p:spPr>
          <a:xfrm>
            <a:off x="611280" y="144360"/>
            <a:ext cx="7561080" cy="64764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590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Bold"/>
                <a:ea typeface="Trebuchet MS Bold"/>
              </a:rPr>
              <a:t>Rio +20 main outcomes</a:t>
            </a:r>
            <a:endParaRPr b="0" lang="en-US" sz="2400" spc="-1" strike="noStrike">
              <a:solidFill>
                <a:srgbClr val="000000"/>
              </a:solidFill>
              <a:latin typeface="Gill Sans"/>
            </a:endParaRPr>
          </a:p>
        </p:txBody>
      </p:sp>
      <p:sp>
        <p:nvSpPr>
          <p:cNvPr id="256" name="Rectangle 5"/>
          <p:cNvSpPr/>
          <p:nvPr/>
        </p:nvSpPr>
        <p:spPr>
          <a:xfrm>
            <a:off x="264960" y="1204920"/>
            <a:ext cx="8305920" cy="4938840"/>
          </a:xfrm>
          <a:prstGeom prst="rect">
            <a:avLst/>
          </a:prstGeom>
          <a:noFill/>
          <a:ln w="0">
            <a:noFill/>
          </a:ln>
        </p:spPr>
        <p:style>
          <a:lnRef idx="0"/>
          <a:fillRef idx="0"/>
          <a:effectRef idx="0"/>
          <a:fontRef idx="minor"/>
        </p:style>
        <p:txBody>
          <a:bodyPr lIns="38160" rIns="38160" tIns="38160" bIns="38160" anchor="t">
            <a:noAutofit/>
          </a:bodyPr>
          <a:p>
            <a:pPr marL="343080" indent="-343080" algn="just">
              <a:lnSpc>
                <a:spcPct val="100000"/>
              </a:lnSpc>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reen economy</a:t>
            </a:r>
            <a:endParaRPr b="0" lang="en-US" sz="2400" spc="-1" strike="noStrike">
              <a:solidFill>
                <a:srgbClr val="000000"/>
              </a:solidFill>
              <a:latin typeface="Gill Sans"/>
            </a:endParaRPr>
          </a:p>
          <a:p>
            <a:pPr marL="343080" indent="-343080" algn="just">
              <a:lnSpc>
                <a:spcPct val="100000"/>
              </a:lnSpc>
              <a:buClr>
                <a:srgbClr val="ffffff"/>
              </a:buClr>
              <a:buSzPct val="50000"/>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343080" indent="-343080" algn="just">
              <a:lnSpc>
                <a:spcPct val="100000"/>
              </a:lnSpc>
              <a:buClr>
                <a:srgbClr val="ffffff"/>
              </a:buClr>
              <a:buSzPct val="50000"/>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stitutional reform</a:t>
            </a:r>
            <a:endParaRPr b="0" lang="en-US" sz="2400" spc="-1" strike="noStrike">
              <a:solidFill>
                <a:srgbClr val="000000"/>
              </a:solidFill>
              <a:latin typeface="Gill Sans"/>
            </a:endParaRPr>
          </a:p>
          <a:p>
            <a:pPr marL="343080" indent="-343080" algn="just">
              <a:lnSpc>
                <a:spcPct val="100000"/>
              </a:lnSpc>
              <a:buClr>
                <a:srgbClr val="ffffff"/>
              </a:buClr>
              <a:buSzPct val="50000"/>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343080" indent="-343080" algn="just">
              <a:lnSpc>
                <a:spcPct val="100000"/>
              </a:lnSpc>
              <a:buClr>
                <a:srgbClr val="ffffff"/>
              </a:buClr>
              <a:buSzPct val="50000"/>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tion in a number of areas (such as water, oceans, land, agriculture, food security and nutrition, sustainable production and consumption)</a:t>
            </a:r>
            <a:endParaRPr b="0" lang="en-US" sz="2400" spc="-1" strike="noStrike">
              <a:solidFill>
                <a:srgbClr val="000000"/>
              </a:solidFill>
              <a:latin typeface="Gill Sans"/>
            </a:endParaRPr>
          </a:p>
          <a:p>
            <a:pPr marL="343080" indent="-343080" algn="just">
              <a:lnSpc>
                <a:spcPct val="100000"/>
              </a:lnSpc>
              <a:buClr>
                <a:srgbClr val="ffffff"/>
              </a:buClr>
              <a:buSzPct val="50000"/>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343080" indent="-343080" algn="just">
              <a:lnSpc>
                <a:spcPct val="100000"/>
              </a:lnSpc>
              <a:buClr>
                <a:srgbClr val="ffffff"/>
              </a:buClr>
              <a:buSzPct val="50000"/>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ustainable development goals</a:t>
            </a:r>
            <a:endParaRPr b="0" lang="en-US" sz="2400" spc="-1" strike="noStrike">
              <a:solidFill>
                <a:srgbClr val="000000"/>
              </a:solidFill>
              <a:latin typeface="Gill Sans"/>
            </a:endParaRPr>
          </a:p>
          <a:p>
            <a:pPr marL="343080" indent="-343080" algn="just">
              <a:lnSpc>
                <a:spcPct val="100000"/>
              </a:lnSpc>
              <a:buClr>
                <a:srgbClr val="ffffff"/>
              </a:buClr>
              <a:buSzPct val="50000"/>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343080" indent="-343080" algn="just">
              <a:lnSpc>
                <a:spcPct val="100000"/>
              </a:lnSpc>
              <a:buClr>
                <a:srgbClr val="ffffff"/>
              </a:buClr>
              <a:buSzPct val="50000"/>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eans of implementation</a:t>
            </a:r>
            <a:endParaRPr b="0" lang="en-US" sz="2400" spc="-1" strike="noStrike">
              <a:solidFill>
                <a:srgbClr val="000000"/>
              </a:solidFill>
              <a:latin typeface="Gill Sans"/>
            </a:endParaRPr>
          </a:p>
          <a:p>
            <a:pPr marL="343080" indent="-343080" algn="just">
              <a:lnSpc>
                <a:spcPct val="100000"/>
              </a:lnSpc>
              <a:buClr>
                <a:srgbClr val="ffffff"/>
              </a:buClr>
              <a:buSzPct val="50000"/>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343080" indent="-343080" algn="just">
              <a:lnSpc>
                <a:spcPct val="100000"/>
              </a:lnSpc>
              <a:buClr>
                <a:srgbClr val="ffffff"/>
              </a:buClr>
              <a:buSzPct val="50000"/>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ther areas such as the corporate sustainability reporting, and beyond GDP</a:t>
            </a:r>
            <a:endParaRPr b="0" lang="en-US" sz="24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58" name="Picture 2" descr=""/>
          <p:cNvPicPr/>
          <p:nvPr/>
        </p:nvPicPr>
        <p:blipFill>
          <a:blip r:embed="rId1"/>
          <a:stretch/>
        </p:blipFill>
        <p:spPr>
          <a:xfrm>
            <a:off x="6140520" y="6143760"/>
            <a:ext cx="2860560" cy="576000"/>
          </a:xfrm>
          <a:prstGeom prst="rect">
            <a:avLst/>
          </a:prstGeom>
          <a:ln w="0">
            <a:noFill/>
          </a:ln>
        </p:spPr>
      </p:pic>
      <p:sp>
        <p:nvSpPr>
          <p:cNvPr id="259"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0" name="Rectangle 4"/>
          <p:cNvSpPr/>
          <p:nvPr/>
        </p:nvSpPr>
        <p:spPr>
          <a:xfrm>
            <a:off x="1103400" y="144360"/>
            <a:ext cx="694836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590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Bold"/>
                <a:ea typeface="Trebuchet MS Bold"/>
              </a:rPr>
              <a:t>Rio +20 outcomes and relevance to the EEA</a:t>
            </a:r>
            <a:endParaRPr b="0" lang="en-US" sz="2400" spc="-1" strike="noStrike">
              <a:solidFill>
                <a:srgbClr val="000000"/>
              </a:solidFill>
              <a:latin typeface="Gill Sans"/>
            </a:endParaRPr>
          </a:p>
        </p:txBody>
      </p:sp>
      <p:sp>
        <p:nvSpPr>
          <p:cNvPr id="261" name="Rectangle 5"/>
          <p:cNvSpPr/>
          <p:nvPr/>
        </p:nvSpPr>
        <p:spPr>
          <a:xfrm>
            <a:off x="379440" y="1058760"/>
            <a:ext cx="8440560" cy="5085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Rio+20 outcomes clustered in five main groups:</a:t>
            </a:r>
            <a:endParaRPr b="0" lang="en-US" sz="3000" spc="-1" strike="noStrike">
              <a:solidFill>
                <a:srgbClr val="000000"/>
              </a:solidFill>
              <a:latin typeface="Gill Sans"/>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Data, indicators &amp; accounting for SDGs</a:t>
            </a:r>
            <a:endParaRPr b="0" lang="en-US" sz="3000" spc="-1" strike="noStrike">
              <a:solidFill>
                <a:srgbClr val="000000"/>
              </a:solidFill>
              <a:latin typeface="Gill Sans"/>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Green Economy &amp; the 10-year framework of      programmes on SCP</a:t>
            </a:r>
            <a:endParaRPr b="0" lang="en-US" sz="3000" spc="-1" strike="noStrike">
              <a:solidFill>
                <a:srgbClr val="000000"/>
              </a:solidFill>
              <a:latin typeface="Gill Sans"/>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Access to environmental information </a:t>
            </a:r>
            <a:endParaRPr b="0" lang="en-US" sz="3000" spc="-1" strike="noStrike">
              <a:solidFill>
                <a:srgbClr val="000000"/>
              </a:solidFill>
              <a:latin typeface="Gill Sans"/>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Regional cooperation, networking and partnerships</a:t>
            </a:r>
            <a:endParaRPr b="0" lang="en-US" sz="3000" spc="-1" strike="noStrike">
              <a:solidFill>
                <a:srgbClr val="000000"/>
              </a:solidFill>
              <a:latin typeface="Gill Sans"/>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Engagement with major groups, including business and civil society</a:t>
            </a:r>
            <a:endParaRPr b="0" lang="en-US" sz="30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63" name="Picture 2" descr=""/>
          <p:cNvPicPr/>
          <p:nvPr/>
        </p:nvPicPr>
        <p:blipFill>
          <a:blip r:embed="rId1"/>
          <a:stretch/>
        </p:blipFill>
        <p:spPr>
          <a:xfrm>
            <a:off x="6140520" y="6143760"/>
            <a:ext cx="2860560" cy="576000"/>
          </a:xfrm>
          <a:prstGeom prst="rect">
            <a:avLst/>
          </a:prstGeom>
          <a:ln w="0">
            <a:noFill/>
          </a:ln>
        </p:spPr>
      </p:pic>
      <p:sp>
        <p:nvSpPr>
          <p:cNvPr id="264" name="Rectangle 3"/>
          <p:cNvSpPr/>
          <p:nvPr/>
        </p:nvSpPr>
        <p:spPr>
          <a:xfrm>
            <a:off x="0" y="0"/>
            <a:ext cx="9156600" cy="112536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5" name="Rectangle 4"/>
          <p:cNvSpPr/>
          <p:nvPr/>
        </p:nvSpPr>
        <p:spPr>
          <a:xfrm>
            <a:off x="157320" y="115920"/>
            <a:ext cx="8589960" cy="86364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How the EEA can contribute within the 5 clusters:</a:t>
            </a:r>
            <a:endParaRPr b="0" lang="en-US" sz="2800" spc="-1" strike="noStrike">
              <a:solidFill>
                <a:srgbClr val="000000"/>
              </a:solidFill>
              <a:latin typeface="Gill Sans"/>
            </a:endParaRPr>
          </a:p>
        </p:txBody>
      </p:sp>
      <p:sp>
        <p:nvSpPr>
          <p:cNvPr id="266" name="Rectangle 5"/>
          <p:cNvSpPr/>
          <p:nvPr/>
        </p:nvSpPr>
        <p:spPr>
          <a:xfrm>
            <a:off x="127080" y="1225440"/>
            <a:ext cx="8242200" cy="5321520"/>
          </a:xfrm>
          <a:prstGeom prst="rect">
            <a:avLst/>
          </a:prstGeom>
          <a:noFill/>
          <a:ln w="0">
            <a:noFill/>
          </a:ln>
        </p:spPr>
        <p:style>
          <a:lnRef idx="0"/>
          <a:fillRef idx="0"/>
          <a:effectRef idx="0"/>
          <a:fontRef idx="minor"/>
        </p:style>
        <p:txBody>
          <a:bodyPr lIns="38160" rIns="38160" tIns="38160" bIns="38160" anchor="t">
            <a:noAutofit/>
          </a:bodyPr>
          <a:p>
            <a:pPr marL="476280" indent="-476280">
              <a:lnSpc>
                <a:spcPct val="100000"/>
              </a:lnSpc>
              <a:buClr>
                <a:srgbClr val="ffffff"/>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476280" indent="-476280">
              <a:lnSpc>
                <a:spcPct val="100000"/>
              </a:lnSpc>
              <a:buClr>
                <a:srgbClr val="ffffff"/>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476280" indent="-476280">
              <a:lnSpc>
                <a:spcPct val="100000"/>
              </a:lnSpc>
              <a:buClr>
                <a:srgbClr val="ffffff"/>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Providing data, indicators and accounting that supports SDGs</a:t>
            </a:r>
            <a:endParaRPr b="0" lang="en-US" sz="2800" spc="-1" strike="noStrike">
              <a:solidFill>
                <a:srgbClr val="000000"/>
              </a:solidFill>
              <a:latin typeface="Gill Sans"/>
            </a:endParaRPr>
          </a:p>
          <a:p>
            <a:pPr marL="476280" indent="-476280">
              <a:lnSpc>
                <a:spcPct val="100000"/>
              </a:lnSpc>
              <a:buClr>
                <a:srgbClr val="ffffff"/>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Share EIONET experience can be used to enhance access &amp; sharing of information for use in European policy process.</a:t>
            </a:r>
            <a:endParaRPr b="0" lang="en-US" sz="2800" spc="-1" strike="noStrike">
              <a:solidFill>
                <a:srgbClr val="000000"/>
              </a:solidFill>
              <a:latin typeface="Gill Sans"/>
            </a:endParaRPr>
          </a:p>
          <a:p>
            <a:pPr marL="476280" indent="-476280">
              <a:lnSpc>
                <a:spcPct val="100000"/>
              </a:lnSpc>
              <a:buClr>
                <a:srgbClr val="ffffff"/>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476280" indent="-476280">
              <a:lnSpc>
                <a:spcPct val="100000"/>
              </a:lnSpc>
              <a:buClr>
                <a:srgbClr val="ffffff"/>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Sharing knowledge and experience on GE and SCP</a:t>
            </a:r>
            <a:endParaRPr b="0" lang="en-US" sz="2800" spc="-1" strike="noStrike">
              <a:solidFill>
                <a:srgbClr val="000000"/>
              </a:solidFill>
              <a:latin typeface="Gill Sans"/>
            </a:endParaRPr>
          </a:p>
          <a:p>
            <a:pPr marL="476280" indent="-476280">
              <a:lnSpc>
                <a:spcPct val="100000"/>
              </a:lnSpc>
              <a:buClr>
                <a:srgbClr val="ffffff"/>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476280" indent="-476280">
              <a:lnSpc>
                <a:spcPct val="100000"/>
              </a:lnSpc>
              <a:buClr>
                <a:srgbClr val="ffffff"/>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Long lasting cooperation with UNEP</a:t>
            </a:r>
            <a:endParaRPr b="0" lang="en-US" sz="2800" spc="-1" strike="noStrike">
              <a:solidFill>
                <a:srgbClr val="000000"/>
              </a:solidFill>
              <a:latin typeface="Gill Sans"/>
            </a:endParaRPr>
          </a:p>
          <a:p>
            <a:pPr marL="476280" indent="-476280">
              <a:lnSpc>
                <a:spcPct val="100000"/>
              </a:lnSpc>
              <a:buClr>
                <a:srgbClr val="ffffff"/>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476280" indent="-476280">
              <a:lnSpc>
                <a:spcPct val="100000"/>
              </a:lnSpc>
              <a:buClr>
                <a:srgbClr val="ffffff"/>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Experienced methods (tools and infrastructures) of information sharing btw EEA and key stakeholders</a:t>
            </a:r>
            <a:endParaRPr b="0" lang="en-US" sz="28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68" name="Picture 2" descr=""/>
          <p:cNvPicPr/>
          <p:nvPr/>
        </p:nvPicPr>
        <p:blipFill>
          <a:blip r:embed="rId1"/>
          <a:stretch/>
        </p:blipFill>
        <p:spPr>
          <a:xfrm>
            <a:off x="6140520" y="6143760"/>
            <a:ext cx="2860560" cy="576000"/>
          </a:xfrm>
          <a:prstGeom prst="rect">
            <a:avLst/>
          </a:prstGeom>
          <a:ln w="0">
            <a:noFill/>
          </a:ln>
        </p:spPr>
      </p:pic>
      <p:sp>
        <p:nvSpPr>
          <p:cNvPr id="269"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0" name="Rectangle 4"/>
          <p:cNvSpPr/>
          <p:nvPr/>
        </p:nvSpPr>
        <p:spPr>
          <a:xfrm>
            <a:off x="457200" y="142920"/>
            <a:ext cx="818532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Bold"/>
                <a:ea typeface="Trebuchet MS Bold"/>
              </a:rPr>
              <a:t>Cluster 1. Better access to environmental information </a:t>
            </a:r>
            <a:endParaRPr b="0" lang="en-US" sz="2400" spc="-1" strike="noStrike">
              <a:solidFill>
                <a:srgbClr val="000000"/>
              </a:solidFill>
              <a:latin typeface="Gill Sans"/>
            </a:endParaRPr>
          </a:p>
        </p:txBody>
      </p:sp>
      <p:sp>
        <p:nvSpPr>
          <p:cNvPr id="271" name="Rectangle 5"/>
          <p:cNvSpPr/>
          <p:nvPr/>
        </p:nvSpPr>
        <p:spPr>
          <a:xfrm>
            <a:off x="219240" y="1185840"/>
            <a:ext cx="8305560" cy="44067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old Italic"/>
                <a:ea typeface="Arial Bold Italic"/>
              </a:rPr>
              <a:t>Quotes on access to information from Rio+20 outcome </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Para 43</a:t>
            </a:r>
            <a:r>
              <a:rPr b="0" lang="en-US" sz="1800" spc="-1" strike="noStrike">
                <a:solidFill>
                  <a:srgbClr val="ffffff"/>
                </a:solidFill>
                <a:latin typeface="Lucida Grande"/>
                <a:ea typeface="Lucida Grande"/>
              </a:rPr>
              <a:t>. “We underscore that broad </a:t>
            </a:r>
            <a:r>
              <a:rPr b="1" lang="en-US" sz="1800" spc="-1" strike="noStrike">
                <a:solidFill>
                  <a:srgbClr val="ffffff"/>
                </a:solidFill>
                <a:latin typeface="Lucida Grande"/>
                <a:ea typeface="Lucida Grande"/>
              </a:rPr>
              <a:t>public participation </a:t>
            </a:r>
            <a:r>
              <a:rPr b="0" lang="en-US" sz="1800" spc="-1" strike="noStrike">
                <a:solidFill>
                  <a:srgbClr val="ffffff"/>
                </a:solidFill>
                <a:latin typeface="Lucida Grande"/>
                <a:ea typeface="Lucida Grande"/>
              </a:rPr>
              <a:t>and access to information and … are essential to sustainable developmen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Para 44</a:t>
            </a:r>
            <a:r>
              <a:rPr b="0" lang="en-US" sz="1800" spc="-1" strike="noStrike">
                <a:solidFill>
                  <a:srgbClr val="ffffff"/>
                </a:solidFill>
                <a:latin typeface="Lucida Grande"/>
                <a:ea typeface="Lucida Grande"/>
              </a:rPr>
              <a:t>. “We recognise that improved participation of civil society depends upon, inter alia, </a:t>
            </a:r>
            <a:r>
              <a:rPr b="1" lang="en-US" sz="1800" spc="-1" strike="noStrike">
                <a:solidFill>
                  <a:srgbClr val="ffffff"/>
                </a:solidFill>
                <a:latin typeface="Lucida Grande"/>
                <a:ea typeface="Lucida Grande"/>
              </a:rPr>
              <a:t>strengthening access to information</a:t>
            </a:r>
            <a:r>
              <a:rPr b="0" lang="en-US" sz="1800" spc="-1" strike="noStrike">
                <a:solidFill>
                  <a:srgbClr val="ffffff"/>
                </a:solidFill>
                <a:latin typeface="Lucida Grande"/>
                <a:ea typeface="Lucida Grande"/>
              </a:rPr>
              <a: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Para 76(g). </a:t>
            </a:r>
            <a:r>
              <a:rPr b="0" lang="en-US" sz="1800" spc="-1" strike="noStrike">
                <a:solidFill>
                  <a:srgbClr val="ffffff"/>
                </a:solidFill>
                <a:latin typeface="Lucida Grande"/>
                <a:ea typeface="Lucida Grande"/>
              </a:rPr>
              <a:t>“promote the science-policy interface through inclusive, evidence-based and transparent scientific assessments, as well as </a:t>
            </a:r>
            <a:r>
              <a:rPr b="1" lang="en-US" sz="1800" spc="-1" strike="noStrike">
                <a:solidFill>
                  <a:srgbClr val="ffffff"/>
                </a:solidFill>
                <a:latin typeface="Lucida Grande"/>
                <a:ea typeface="Lucida Grande"/>
              </a:rPr>
              <a:t>access to reliable, relevant and time data…”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Para 99. </a:t>
            </a:r>
            <a:r>
              <a:rPr b="0" lang="en-US" sz="1800" spc="-1" strike="noStrike">
                <a:solidFill>
                  <a:srgbClr val="ffffff"/>
                </a:solidFill>
                <a:latin typeface="Lucida Grande"/>
                <a:ea typeface="Lucida Grande"/>
              </a:rPr>
              <a:t>“We encourage action at regional, national, sub-national, and local levels to promote </a:t>
            </a:r>
            <a:r>
              <a:rPr b="1" lang="en-US" sz="1800" spc="-1" strike="noStrike">
                <a:solidFill>
                  <a:srgbClr val="ffffff"/>
                </a:solidFill>
                <a:latin typeface="Lucida Grande"/>
                <a:ea typeface="Lucida Grande"/>
              </a:rPr>
              <a:t>access to information, public participation, and access to justice in environmental matters</a:t>
            </a:r>
            <a:r>
              <a:rPr b="0" lang="en-US" sz="1800" spc="-1" strike="noStrike">
                <a:solidFill>
                  <a:srgbClr val="ffffff"/>
                </a:solidFill>
                <a:latin typeface="Lucida Grande"/>
                <a:ea typeface="Lucida Grande"/>
              </a:rPr>
              <a:t>, a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appropriate.”</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Para 274</a:t>
            </a:r>
            <a:r>
              <a:rPr b="0" lang="en-US" sz="1800" spc="-1" strike="noStrike">
                <a:solidFill>
                  <a:srgbClr val="ffffff"/>
                </a:solidFill>
                <a:latin typeface="Lucida Grande"/>
                <a:ea typeface="Lucida Grande"/>
              </a:rPr>
              <a:t>. “…we note the relevance of global mapping and recognize the efforts in developing global environmental information systems, including the </a:t>
            </a:r>
            <a:r>
              <a:rPr b="1" lang="en-US" sz="1800" spc="-1" strike="noStrike">
                <a:solidFill>
                  <a:srgbClr val="ffffff"/>
                </a:solidFill>
                <a:latin typeface="Lucida Grande"/>
                <a:ea typeface="Lucida Grande"/>
              </a:rPr>
              <a:t>Eye on Earth Network…” </a:t>
            </a:r>
            <a:endParaRPr b="0" lang="en-US" sz="1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73" name="Picture 2" descr=""/>
          <p:cNvPicPr/>
          <p:nvPr/>
        </p:nvPicPr>
        <p:blipFill>
          <a:blip r:embed="rId1"/>
          <a:stretch/>
        </p:blipFill>
        <p:spPr>
          <a:xfrm>
            <a:off x="6140520" y="6143760"/>
            <a:ext cx="2860560" cy="576000"/>
          </a:xfrm>
          <a:prstGeom prst="rect">
            <a:avLst/>
          </a:prstGeom>
          <a:ln w="0">
            <a:noFill/>
          </a:ln>
        </p:spPr>
      </p:pic>
      <p:sp>
        <p:nvSpPr>
          <p:cNvPr id="274"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5" name="Rectangle 4"/>
          <p:cNvSpPr/>
          <p:nvPr/>
        </p:nvSpPr>
        <p:spPr>
          <a:xfrm>
            <a:off x="457200" y="142920"/>
            <a:ext cx="818532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Bold"/>
                <a:ea typeface="Trebuchet MS Bold"/>
              </a:rPr>
              <a:t>Cluster 1. Better access to environmental information </a:t>
            </a:r>
            <a:endParaRPr b="0" lang="en-US" sz="2400" spc="-1" strike="noStrike">
              <a:solidFill>
                <a:srgbClr val="000000"/>
              </a:solidFill>
              <a:latin typeface="Gill Sans"/>
            </a:endParaRPr>
          </a:p>
        </p:txBody>
      </p:sp>
      <p:sp>
        <p:nvSpPr>
          <p:cNvPr id="276" name="Rectangle 5"/>
          <p:cNvSpPr/>
          <p:nvPr/>
        </p:nvSpPr>
        <p:spPr>
          <a:xfrm>
            <a:off x="92160" y="907920"/>
            <a:ext cx="8908920" cy="4969080"/>
          </a:xfrm>
          <a:prstGeom prst="rect">
            <a:avLst/>
          </a:prstGeom>
          <a:noFill/>
          <a:ln w="0">
            <a:noFill/>
          </a:ln>
        </p:spPr>
        <p:style>
          <a:lnRef idx="0"/>
          <a:fillRef idx="0"/>
          <a:effectRef idx="0"/>
          <a:fontRef idx="minor"/>
        </p:style>
        <p:txBody>
          <a:bodyPr lIns="38160" rIns="38160" tIns="38160" bIns="38160" anchor="t">
            <a:noAutofit/>
          </a:bodyPr>
          <a:p>
            <a:pPr marL="533520" indent="-533520">
              <a:lnSpc>
                <a:spcPct val="10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a:p>
            <a:pPr marL="533520" indent="-533520">
              <a:lnSpc>
                <a:spcPct val="10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old"/>
                <a:ea typeface="Arial Bold"/>
              </a:rPr>
              <a:t>The Shared Environmental Information System - SEIS</a:t>
            </a:r>
            <a:endParaRPr b="0" lang="en-US" sz="4000" spc="-1" strike="noStrike">
              <a:solidFill>
                <a:srgbClr val="000000"/>
              </a:solidFill>
              <a:latin typeface="Gill Sans"/>
            </a:endParaRPr>
          </a:p>
          <a:p>
            <a:pPr marL="533520" indent="-53352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a:p>
            <a:pPr marL="533520" indent="-53352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a:p>
            <a:pPr marL="533520" indent="-533520">
              <a:lnSpc>
                <a:spcPct val="10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old"/>
                <a:ea typeface="Arial Bold"/>
              </a:rPr>
              <a:t>The Eye on Earth network </a:t>
            </a:r>
            <a:endParaRPr b="0" lang="en-US" sz="4000" spc="-1" strike="noStrike">
              <a:solidFill>
                <a:srgbClr val="000000"/>
              </a:solidFill>
              <a:latin typeface="Gill Sans"/>
            </a:endParaRPr>
          </a:p>
        </p:txBody>
      </p:sp>
      <p:pic>
        <p:nvPicPr>
          <p:cNvPr id="277" name="Picture 7" descr=""/>
          <p:cNvPicPr/>
          <p:nvPr/>
        </p:nvPicPr>
        <p:blipFill>
          <a:blip r:embed="rId2"/>
          <a:stretch/>
        </p:blipFill>
        <p:spPr>
          <a:xfrm>
            <a:off x="7329600" y="1052640"/>
            <a:ext cx="1736640" cy="1062000"/>
          </a:xfrm>
          <a:prstGeom prst="rect">
            <a:avLst/>
          </a:prstGeom>
          <a:ln w="0">
            <a:noFill/>
          </a:ln>
        </p:spPr>
      </p:pic>
      <p:pic>
        <p:nvPicPr>
          <p:cNvPr id="278" name="Picture 8" descr="http://www.eyeonearth.org/PublishingImages/homeblog_videoblank.png"/>
          <p:cNvPicPr/>
          <p:nvPr/>
        </p:nvPicPr>
        <p:blipFill>
          <a:blip r:embed="rId3"/>
          <a:stretch/>
        </p:blipFill>
        <p:spPr>
          <a:xfrm>
            <a:off x="7056360" y="4545000"/>
            <a:ext cx="1944720" cy="647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80" name="Picture 2" descr=""/>
          <p:cNvPicPr/>
          <p:nvPr/>
        </p:nvPicPr>
        <p:blipFill>
          <a:blip r:embed="rId1"/>
          <a:stretch/>
        </p:blipFill>
        <p:spPr>
          <a:xfrm>
            <a:off x="6140520" y="6143760"/>
            <a:ext cx="2860560" cy="576000"/>
          </a:xfrm>
          <a:prstGeom prst="rect">
            <a:avLst/>
          </a:prstGeom>
          <a:ln w="0">
            <a:noFill/>
          </a:ln>
        </p:spPr>
      </p:pic>
      <p:sp>
        <p:nvSpPr>
          <p:cNvPr id="281"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2" name="Rectangle 4"/>
          <p:cNvSpPr/>
          <p:nvPr/>
        </p:nvSpPr>
        <p:spPr>
          <a:xfrm>
            <a:off x="1227240" y="142920"/>
            <a:ext cx="664668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Bold"/>
                <a:ea typeface="Trebuchet MS Bold"/>
              </a:rPr>
              <a:t>Cluster 2. </a:t>
            </a:r>
            <a:r>
              <a:rPr b="0" lang="en-US" sz="2400" spc="-1" strike="noStrike">
                <a:solidFill>
                  <a:srgbClr val="ffffff"/>
                </a:solidFill>
                <a:latin typeface="Arial Bold Italic"/>
                <a:ea typeface="Arial Bold Italic"/>
              </a:rPr>
              <a:t>SDGs, indicators and accounting</a:t>
            </a:r>
            <a:endParaRPr b="0" lang="en-US" sz="2400" spc="-1" strike="noStrike">
              <a:solidFill>
                <a:srgbClr val="000000"/>
              </a:solidFill>
              <a:latin typeface="Gill Sans"/>
            </a:endParaRPr>
          </a:p>
        </p:txBody>
      </p:sp>
      <p:sp>
        <p:nvSpPr>
          <p:cNvPr id="283" name="Rectangle 5"/>
          <p:cNvSpPr/>
          <p:nvPr/>
        </p:nvSpPr>
        <p:spPr>
          <a:xfrm>
            <a:off x="219240" y="1023840"/>
            <a:ext cx="8737560" cy="588024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old Italic"/>
                <a:ea typeface="Arial Bold Italic"/>
              </a:rPr>
              <a:t>Quotes on from Rio+20 outcome </a:t>
            </a:r>
            <a:endParaRPr b="0" lang="en-US" sz="2000" spc="-1" strike="noStrike">
              <a:solidFill>
                <a:srgbClr val="000000"/>
              </a:solidFill>
              <a:latin typeface="Gill San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 </a:t>
            </a:r>
            <a:r>
              <a:rPr b="1" lang="en-US" sz="1800" spc="-1" strike="noStrike">
                <a:solidFill>
                  <a:srgbClr val="ffffff"/>
                </a:solidFill>
                <a:latin typeface="Lucida Grande"/>
                <a:ea typeface="Lucida Grande"/>
              </a:rPr>
              <a:t>Para 38. </a:t>
            </a:r>
            <a:r>
              <a:rPr b="0" lang="en-US" sz="1800" spc="-1" strike="noStrike">
                <a:solidFill>
                  <a:srgbClr val="ffffff"/>
                </a:solidFill>
                <a:latin typeface="Lucida Grande"/>
                <a:ea typeface="Lucida Grande"/>
              </a:rPr>
              <a:t>“We recognize the need for broader measures of progress to complement gross domestic product in order to better inform policy decisions, and in this regard we request the United Nations Statistical Commission, in consultation with relevant United Nations systems entities and other relevant organization, to launch a programme of work in this area building on existing initiative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 </a:t>
            </a:r>
            <a:r>
              <a:rPr b="1" lang="en-US" sz="1800" spc="-1" strike="noStrike">
                <a:solidFill>
                  <a:srgbClr val="ffffff"/>
                </a:solidFill>
                <a:latin typeface="Lucida Grande"/>
                <a:ea typeface="Lucida Grande"/>
              </a:rPr>
              <a:t>Para 247</a:t>
            </a:r>
            <a:r>
              <a:rPr b="0" lang="en-US" sz="1800" spc="-1" strike="noStrike">
                <a:solidFill>
                  <a:srgbClr val="ffffff"/>
                </a:solidFill>
                <a:latin typeface="Lucida Grande"/>
                <a:ea typeface="Lucida Grande"/>
              </a:rPr>
              <a:t>. “We also underscore that SDGs should be action-oriented, concise and easy to communicate, limited in number, aspirational, global in nature and universally applicable to all countries while taking into account different national realities, capacities and levels of development and respecting national policies and priorities.”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Para 248. </a:t>
            </a:r>
            <a:r>
              <a:rPr b="0" lang="en-US" sz="1800" spc="-1" strike="noStrike">
                <a:solidFill>
                  <a:srgbClr val="ffffff"/>
                </a:solidFill>
                <a:latin typeface="Lucida Grande"/>
                <a:ea typeface="Lucida Grande"/>
              </a:rPr>
              <a:t>“We resolve to establish an inclusive and transparent intergovernmental process on sustainable development goals that is open to all stakeholders, with a view to developing sustainable development goals to be agreed by the General Assembl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Para 250. “We recognize that progress towards the achievement of the goals needs to be assessed and accompanied by targets and indicators…” </a:t>
            </a:r>
            <a:endParaRPr b="0" lang="en-US" sz="18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85" name="Picture 2" descr=""/>
          <p:cNvPicPr/>
          <p:nvPr/>
        </p:nvPicPr>
        <p:blipFill>
          <a:blip r:embed="rId1"/>
          <a:stretch/>
        </p:blipFill>
        <p:spPr>
          <a:xfrm>
            <a:off x="6140520" y="6143760"/>
            <a:ext cx="2860560" cy="576000"/>
          </a:xfrm>
          <a:prstGeom prst="rect">
            <a:avLst/>
          </a:prstGeom>
          <a:ln w="0">
            <a:noFill/>
          </a:ln>
        </p:spPr>
      </p:pic>
      <p:sp>
        <p:nvSpPr>
          <p:cNvPr id="286"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7" name="Rectangle 4"/>
          <p:cNvSpPr/>
          <p:nvPr/>
        </p:nvSpPr>
        <p:spPr>
          <a:xfrm>
            <a:off x="1322280" y="142920"/>
            <a:ext cx="645660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Bold"/>
                <a:ea typeface="Trebuchet MS Bold"/>
              </a:rPr>
              <a:t>Cluster 2. Data, indicators and accounting </a:t>
            </a:r>
            <a:endParaRPr b="0" lang="en-US" sz="2400" spc="-1" strike="noStrike">
              <a:solidFill>
                <a:srgbClr val="000000"/>
              </a:solidFill>
              <a:latin typeface="Gill Sans"/>
            </a:endParaRPr>
          </a:p>
        </p:txBody>
      </p:sp>
      <p:sp>
        <p:nvSpPr>
          <p:cNvPr id="288" name="Rectangle 5"/>
          <p:cNvSpPr/>
          <p:nvPr/>
        </p:nvSpPr>
        <p:spPr>
          <a:xfrm>
            <a:off x="92160" y="907920"/>
            <a:ext cx="9042480" cy="4280040"/>
          </a:xfrm>
          <a:prstGeom prst="rect">
            <a:avLst/>
          </a:prstGeom>
          <a:noFill/>
          <a:ln w="0">
            <a:noFill/>
          </a:ln>
        </p:spPr>
        <p:style>
          <a:lnRef idx="0"/>
          <a:fillRef idx="0"/>
          <a:effectRef idx="0"/>
          <a:fontRef idx="minor"/>
        </p:style>
        <p:txBody>
          <a:bodyPr lIns="38160" rIns="38160" tIns="38160" bIns="38160" anchor="t">
            <a:noAutofit/>
          </a:bodyPr>
          <a:p>
            <a:pPr marL="533520" indent="-533520">
              <a:lnSpc>
                <a:spcPct val="100000"/>
              </a:lnSpc>
              <a:spcBef>
                <a:spcPts val="2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old"/>
                <a:ea typeface="Arial Bold"/>
              </a:rPr>
              <a:t>EEA core set of indicators</a:t>
            </a:r>
            <a:endParaRPr b="0" lang="en-US" sz="4800" spc="-1" strike="noStrike">
              <a:solidFill>
                <a:srgbClr val="000000"/>
              </a:solidFill>
              <a:latin typeface="Gill Sans"/>
            </a:endParaRPr>
          </a:p>
          <a:p>
            <a:pPr marL="533520" indent="-533520">
              <a:lnSpc>
                <a:spcPct val="100000"/>
              </a:lnSpc>
              <a:spcBef>
                <a:spcPts val="2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old"/>
                <a:ea typeface="Arial Bold"/>
              </a:rPr>
              <a:t>Sustainable Development Indicators</a:t>
            </a:r>
            <a:endParaRPr b="0" lang="en-US" sz="4800" spc="-1" strike="noStrike">
              <a:solidFill>
                <a:srgbClr val="000000"/>
              </a:solidFill>
              <a:latin typeface="Gill Sans"/>
            </a:endParaRPr>
          </a:p>
          <a:p>
            <a:pPr marL="533520" indent="-533520">
              <a:lnSpc>
                <a:spcPct val="100000"/>
              </a:lnSpc>
              <a:spcBef>
                <a:spcPts val="2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old"/>
                <a:ea typeface="Arial Bold"/>
              </a:rPr>
              <a:t>Buthanese </a:t>
            </a:r>
            <a:r>
              <a:rPr b="0" lang="en-GB" sz="4800" spc="-1" strike="noStrike">
                <a:solidFill>
                  <a:srgbClr val="ffffff"/>
                </a:solidFill>
                <a:latin typeface="Arial Bold"/>
                <a:ea typeface="Arial Bold"/>
              </a:rPr>
              <a:t>new development paradigm</a:t>
            </a:r>
            <a:r>
              <a:rPr b="0" lang="en-GB" sz="4800" spc="-1" strike="noStrike">
                <a:solidFill>
                  <a:srgbClr val="ffffff"/>
                </a:solidFill>
                <a:latin typeface="Calibri"/>
                <a:ea typeface="Calibri"/>
              </a:rPr>
              <a:t> </a:t>
            </a:r>
            <a:r>
              <a:rPr b="0" lang="en-US" sz="4800" spc="-1" strike="noStrike">
                <a:solidFill>
                  <a:srgbClr val="ffffff"/>
                </a:solidFill>
                <a:latin typeface="Arial Bold"/>
                <a:ea typeface="Arial Bold"/>
              </a:rPr>
              <a:t> initiative</a:t>
            </a:r>
            <a:endParaRPr b="0" lang="en-US" sz="48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
          <p:cNvSpPr/>
          <p:nvPr/>
        </p:nvSpPr>
        <p:spPr>
          <a:xfrm>
            <a:off x="0" y="0"/>
            <a:ext cx="9156600" cy="6858000"/>
          </a:xfrm>
          <a:prstGeom prst="rect">
            <a:avLst/>
          </a:prstGeom>
          <a:gradFill rotWithShape="0">
            <a:gsLst>
              <a:gs pos="0">
                <a:srgbClr val="204162"/>
              </a:gs>
              <a:gs pos="100000">
                <a:srgbClr val="68a1b8"/>
              </a:gs>
            </a:gsLst>
            <a:lin ang="5400000"/>
          </a:gra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90" name="Picture 2" descr=""/>
          <p:cNvPicPr/>
          <p:nvPr/>
        </p:nvPicPr>
        <p:blipFill>
          <a:blip r:embed="rId1"/>
          <a:stretch/>
        </p:blipFill>
        <p:spPr>
          <a:xfrm>
            <a:off x="6140520" y="6143760"/>
            <a:ext cx="2860560" cy="576000"/>
          </a:xfrm>
          <a:prstGeom prst="rect">
            <a:avLst/>
          </a:prstGeom>
          <a:ln w="0">
            <a:noFill/>
          </a:ln>
        </p:spPr>
      </p:pic>
      <p:sp>
        <p:nvSpPr>
          <p:cNvPr id="291" name="Rectangle 3"/>
          <p:cNvSpPr/>
          <p:nvPr/>
        </p:nvSpPr>
        <p:spPr>
          <a:xfrm>
            <a:off x="0" y="0"/>
            <a:ext cx="9156600" cy="792000"/>
          </a:xfrm>
          <a:prstGeom prst="rect">
            <a:avLst/>
          </a:prstGeom>
          <a:gradFill rotWithShape="0">
            <a:gsLst>
              <a:gs pos="0">
                <a:srgbClr val="d3d3d3"/>
              </a:gs>
              <a:gs pos="100000">
                <a:srgbClr val="ffffff">
                  <a:alpha val="32156"/>
                </a:srgbClr>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92" name="Rectangle 4"/>
          <p:cNvSpPr/>
          <p:nvPr/>
        </p:nvSpPr>
        <p:spPr>
          <a:xfrm>
            <a:off x="493560" y="142920"/>
            <a:ext cx="8114040" cy="762120"/>
          </a:xfrm>
          <a:prstGeom prst="rect">
            <a:avLst/>
          </a:prstGeom>
          <a:solidFill>
            <a:srgbClr val="999999"/>
          </a:solidFill>
          <a:ln w="0">
            <a:noFill/>
          </a:ln>
        </p:spPr>
        <p:style>
          <a:lnRef idx="0"/>
          <a:fillRef idx="0"/>
          <a:effectRef idx="0"/>
          <a:fontRef idx="minor"/>
        </p:style>
        <p:txBody>
          <a:bodyPr wrap="none" lIns="38160" rIns="38160" tIns="38160" bIns="38160" anchor="ctr">
            <a:noAutofit/>
          </a:bodyPr>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37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Bold"/>
                <a:ea typeface="Trebuchet MS Bold"/>
              </a:rPr>
              <a:t>Cluster 3. The Green Economy and the 10 YFP on SCP </a:t>
            </a:r>
            <a:endParaRPr b="0" lang="en-US" sz="2400" spc="-1" strike="noStrike">
              <a:solidFill>
                <a:srgbClr val="000000"/>
              </a:solidFill>
              <a:latin typeface="Gill Sans"/>
            </a:endParaRPr>
          </a:p>
        </p:txBody>
      </p:sp>
      <p:sp>
        <p:nvSpPr>
          <p:cNvPr id="293" name="Rectangle 5"/>
          <p:cNvSpPr/>
          <p:nvPr/>
        </p:nvSpPr>
        <p:spPr>
          <a:xfrm>
            <a:off x="219240" y="1185840"/>
            <a:ext cx="8699400" cy="527040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old Italic"/>
                <a:ea typeface="Arial Bold Italic"/>
              </a:rPr>
              <a:t>Quotes on the Green Economy and the 10 YFP on SCP from Rio+20 outcome </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ea typeface="Lucida Grande"/>
              </a:rPr>
              <a:t> </a:t>
            </a:r>
            <a:r>
              <a:rPr b="0" lang="en-US" sz="1800" spc="-1" strike="noStrike">
                <a:solidFill>
                  <a:srgbClr val="000000"/>
                </a:solidFill>
                <a:latin typeface="Lucida Grande"/>
                <a:ea typeface="Lucida Grande"/>
              </a:rPr>
              <a:t> </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Para 56</a:t>
            </a:r>
            <a:r>
              <a:rPr b="0" lang="en-US" sz="1800" spc="-1" strike="noStrike">
                <a:solidFill>
                  <a:srgbClr val="ffffff"/>
                </a:solidFill>
                <a:latin typeface="Lucida Grande"/>
                <a:ea typeface="Lucida Grande"/>
              </a:rPr>
              <a:t>. “We consider green </a:t>
            </a:r>
            <a:r>
              <a:rPr b="1" lang="en-US" sz="1800" spc="-1" strike="noStrike">
                <a:solidFill>
                  <a:srgbClr val="ffffff"/>
                </a:solidFill>
                <a:latin typeface="Lucida Grande"/>
                <a:ea typeface="Lucida Grande"/>
              </a:rPr>
              <a:t>economy in the context of sustainable development and poverty eradication </a:t>
            </a:r>
            <a:r>
              <a:rPr b="0" lang="en-US" sz="1800" spc="-1" strike="noStrike">
                <a:solidFill>
                  <a:srgbClr val="ffffff"/>
                </a:solidFill>
                <a:latin typeface="Lucida Grande"/>
                <a:ea typeface="Lucida Grande"/>
              </a:rPr>
              <a:t>as one of the important tools available for achieving sustainable developmen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Para 62</a:t>
            </a:r>
            <a:r>
              <a:rPr b="0" lang="en-US" sz="1800" spc="-1" strike="noStrike">
                <a:solidFill>
                  <a:srgbClr val="ffffff"/>
                </a:solidFill>
                <a:latin typeface="Lucida Grande"/>
                <a:ea typeface="Lucida Grande"/>
              </a:rPr>
              <a:t>. “We encourage each country to consider the </a:t>
            </a:r>
            <a:r>
              <a:rPr b="1" lang="en-US" sz="1800" spc="-1" strike="noStrike">
                <a:solidFill>
                  <a:srgbClr val="ffffff"/>
                </a:solidFill>
                <a:latin typeface="Lucida Grande"/>
                <a:ea typeface="Lucida Grande"/>
              </a:rPr>
              <a:t>implementation of green economy policies </a:t>
            </a:r>
            <a:r>
              <a:rPr b="0" lang="en-US" sz="1800" spc="-1" strike="noStrike">
                <a:solidFill>
                  <a:srgbClr val="ffffff"/>
                </a:solidFill>
                <a:latin typeface="Lucida Grande"/>
                <a:ea typeface="Lucida Grande"/>
              </a:rPr>
              <a:t>in the context of sustainable development and poverty eradication…”</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Para 4</a:t>
            </a:r>
            <a:r>
              <a:rPr b="0" lang="en-US" sz="1800" spc="-1" strike="noStrike">
                <a:solidFill>
                  <a:srgbClr val="ffffff"/>
                </a:solidFill>
                <a:latin typeface="Lucida Grande"/>
                <a:ea typeface="Lucida Grande"/>
              </a:rPr>
              <a:t>. “We recognize that poverty eradication, changing unsustainable and </a:t>
            </a:r>
            <a:r>
              <a:rPr b="1" lang="en-US" sz="1800" spc="-1" strike="noStrike" u="sng">
                <a:solidFill>
                  <a:srgbClr val="ffffff"/>
                </a:solidFill>
                <a:uFillTx/>
                <a:latin typeface="Lucida Grande"/>
                <a:ea typeface="Lucida Grande"/>
              </a:rPr>
              <a:t>promoting sustainable patterns of consumption and production and protecting and managing the natural resource </a:t>
            </a:r>
            <a:r>
              <a:rPr b="0" lang="en-US" sz="1800" spc="-1" strike="noStrike">
                <a:solidFill>
                  <a:srgbClr val="ffffff"/>
                </a:solidFill>
                <a:latin typeface="Lucida Grande"/>
                <a:ea typeface="Lucida Grande"/>
              </a:rPr>
              <a:t>base of economic and social development are the overarching objectives of and essential requirements for sustainable development”. (first time unsustainable is recognized)</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Para 61</a:t>
            </a:r>
            <a:r>
              <a:rPr b="0" lang="en-US" sz="1800" spc="-1" strike="noStrike">
                <a:solidFill>
                  <a:srgbClr val="ffffff"/>
                </a:solidFill>
                <a:latin typeface="Lucida Grande"/>
                <a:ea typeface="Lucida Grande"/>
              </a:rPr>
              <a:t>. We recognize that urgent action on unsustainable patterns of production and consumption where they occur remains fundamental in addressing sustainabilit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Lucida Grande"/>
              </a:rPr>
              <a:t>Para 226. </a:t>
            </a:r>
            <a:r>
              <a:rPr b="0" lang="en-US" sz="1800" spc="-1" strike="noStrike">
                <a:solidFill>
                  <a:srgbClr val="ffffff"/>
                </a:solidFill>
                <a:latin typeface="Lucida Grande"/>
                <a:ea typeface="Lucida Grande"/>
              </a:rPr>
              <a:t>“We adopt the 10-year framework of programmes on sustainable consumption and production patterns….”</a:t>
            </a:r>
            <a:endParaRPr b="0" lang="en-US" sz="1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nnie</dc:creator>
  <dc:description/>
  <dc:language>en-US</dc:language>
  <cp:lastModifiedBy>eeauser</cp:lastModifiedBy>
  <dcterms:modified xsi:type="dcterms:W3CDTF">2012-10-29T13:26:48Z</dcterms:modified>
  <cp:revision>51</cp:revision>
  <dc:subject/>
  <dc:title>PowerPoint Presentation</dc:title>
</cp:coreProperties>
</file>