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9D1F-42B7-4645-AA68-7354F52CCA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ECD3-506B-4E2D-89CC-4A5FE276E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987-DE80-4789-84F3-24D75BC4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D83-BA18-485C-AB00-892F803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647-A664-45A8-B431-666995DC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115-E0D2-4451-87FC-E2FB8BC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10B7-94B9-4456-B21C-B6B35732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C2C6-1D72-4F12-98E1-7469E151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8EB-0CDE-44C4-9FCF-5AC209B5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4643-FFB5-4BC8-94CF-9B9812CF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1635-75A0-4035-A64C-DD1F3C30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9487-FED4-48BB-8AD0-01B10295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BBA-6923-4074-A170-95DB887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A47-A902-42E4-BC1B-F7D09B3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67E-1302-4473-8A88-FDE439B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DE47-4827-4FF6-A8B9-90351E2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7D89-86A3-49D4-B703-CD4327B8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5F93-82E8-4DBA-AB71-A81C058A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9EF-F649-4B0D-8E30-9DF4C1CF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83B-532C-4D63-958B-CCB28307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7A2-E5E7-4BCC-A854-99081255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02D-0A05-46C1-A441-A2A2EDA3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752-1AF2-4CE6-8934-8C764425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853-E114-4A5C-AB5E-BEBBCB1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311-D045-48F8-81C7-25604AA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DAE-C8D8-453F-829C-A15FFB5E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5FEF-95CD-4B9F-86D9-20576AFC48C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19EF-4E3E-4DF3-AB78-337BAE53D5E1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the Stiglitz Commission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a short presentation </a:t>
            </a:r>
            <a:br>
              <a:rPr sz="18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350496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Louis de Gimel, Ins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UNECE-EUROSTAT-OCDE task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for measuring sustainab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Geneva 23-24 september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B21-4924-4D78-98FE-32CD2241BAB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3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ore ins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oretically compatibility with strong sustainability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f prices of critical natural assets are correctly predi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acky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nterest for works abou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uman capital evalu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(appendix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ow much does the C02 emission evaluation count for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Distinction between sustainability and policy advic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(append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(with cost-benefit analysis see Stern repor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NB: In that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discount rate value doesn’t change sustain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ut only how much in advance it is anticipated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971-D020-4F6D-A96B-6324A789169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of the whole Commission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Better measures of economic performance in a complex ec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apturing quality change: a challen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Services provided by governments (collective and                individual ones) and their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To shift emphasis of the measurement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from production to people’s well-be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30F-BC4D-46A8-A6D4-1C547285713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1 classic GDP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For well be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me and consumption rather than G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Emphasise the household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n kind services provided by 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n effort for reconciliation between 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me and consumption jointly with w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vailability of balance sheets for cou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Give more prominence to distribu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(income, wealth..):</a:t>
            </a:r>
            <a:r>
              <a:rPr b="0" lang="en-GB" sz="24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edian, Bottom and top of distributions,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lude measures of non marke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ime spent surveys, Accounts of household activities, amount of lei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DD6-8632-4729-86EE-3D08F116BC7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2: Quality of life, Well being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2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very large program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bjective and subjective dimensions of well be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mprove meas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of objective conditions and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aterial living standards, health, education, personal activities including work, factors shaping personal and economic security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nvironnemental conditions,social connections, political vo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equalities in comprehensive 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cross people, social groups, genders, gen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Links between various quality of life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t the individual le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ith dedicated surveys used when designing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ttention to cumulative effects and disadvantaged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1B68-5C1D-4ED0-BF78-FDFFC2092195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ther main messages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GT2: Quality of life, Well being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2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Other recommendations for statistical offi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Provide data needed for aggregated ind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Incorporate in surv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ubjective evaluation ques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....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with objective ones and activities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apture people life’s evaluation, hedonic experience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1686-3DCD-42C0-8C8B-FDCDF250436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vous remercie de votre at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uis de Gimel, Ins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876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C78A-FCCB-4C0D-8D9E-B52FF568771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ahoma"/>
              </a:rPr>
              <a:t>The Stiglitz Commission:  </a:t>
            </a: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imes New Roman"/>
              </a:rPr>
              <a:t>Measurement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ahoma"/>
                <a:ea typeface="Times New Roman"/>
              </a:rPr>
              <a:t>economic performance and social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1.Measurement of sustainable dev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.1 two main results/recommand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.2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Quantifying sustainability : the main stumbl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erature, appropriate prices, from theory to practi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Others fields: main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I.1 GT1 classic GDP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I.2 GT2 quality of life, well-bein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bjective and subjective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12DA-9DD8-443D-9D46-30A5528CEF5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1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SD : Two main results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            /recommend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A clear distinction betwe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current well-being and sustain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stainability has to deal with the futu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See problems with a composite indic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mbining the two asp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cessity of a sub-dashboard about sustain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ide large dashboards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1AD9-BDBC-4F67-BF10-46246705AC6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1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SD : Two main results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                   /recommend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A quite good converg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                 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with the TF SD 2008 re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Theoretical roots for the wealth approac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Indicators interpretable as variations of “stock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onsistent with the Brundtland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A monetary index  but 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Tahoma"/>
                <a:ea typeface="Tahoma"/>
              </a:rPr>
              <a:t>only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 for economic aspe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of sustainability  (see rec 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Need for a separate set of well chosen (and limited) environmental physical indicators (see rec 12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ing the proximity to dangerous level of damage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90A5-5959-4DB7-B30A-B726E17CCA51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ahoma"/>
              </a:rPr>
              <a:t>Quantifying Sustainability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ahoma"/>
              </a:rPr>
              <a:t>Across the report,  a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nalysis of the main produ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Tahoma"/>
              </a:rPr>
              <a:t>in the SD measurement literature (with pros and c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Dashboard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ful but ...heterogene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Composite indice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Confusion, arbitrary we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Adjusted GDP’s (green GDP)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for what purpos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nly current consumption without env. impoversish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Footprints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n env. indicator and not a SD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ather a carbon footprint than “the ecological footprin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-ANS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 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what is counted and with what kind of price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at about  global goods and global nature of sustainabilit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82F-6479-4ACF-8C00-495208E9E3C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ahoma"/>
              </a:rPr>
              <a:t>Quantifying Sustainability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A purpose: clarifying the deb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to avoid the existing conf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hat do we want to measure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How should we do it under ideal conditions 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Why is it so difficult in practic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-Sustainability = transmitting a « sufficient » stock of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o next periods or next cohor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- How much is « sufficient » ? dw &gt;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Summarising SD in one number: is it realistic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888-3E0C-4D04-BB92-6A98F190E96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 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 looking for appropriate pri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fr-FR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ory, 3 steps in the « extended wealth »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1 : Identifying the types of relevant asse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NS list and..... social capital, a larger set of environmental asset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2 : measure net changes in stocks for each as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Step 3 :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weight them with appropriate p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urrent asset prices do not reveal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all futures preferences/ scar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alculate “accounting prices” based on modell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Eco-environmental develop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How thy affect well-be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C2C-FE7B-4CB1-8C93-BC47569BB39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t works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in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see simulations in the technical re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But</a:t>
            </a:r>
            <a:r>
              <a:rPr b="1" lang="en-GB" sz="28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t needs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prefect prediction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nd the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future is fundamentally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uncertain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See debates about long term env. chang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related to beliefs about future eco-env scen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ossibility to use scenari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nd to compile stress tests</a:t>
            </a:r>
            <a:r>
              <a:rPr b="1" lang="en-GB" sz="2400" spc="-1" strike="noStrike">
                <a:solidFill>
                  <a:srgbClr val="993366"/>
                </a:solidFill>
                <a:latin typeface="Arial Black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quantify extreme valuations of env. assets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e la date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16 janvi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9523-05E1-40C2-8F62-04F86CA5B16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rumbling blocks: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 theory and .... in practice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Uncertainty is also norma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What is to be sustained?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ill the future gener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be more sensitive than us to env. goods scarcity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at kind of aggregation for the individual preferences?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  <a:ea typeface="Tahoma"/>
              </a:rPr>
              <a:t>The global dimen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Difference between national and global sustain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when damages are unequal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  <a:ea typeface="Tahoma"/>
              </a:rPr>
              <a:t>A need for an index about global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0:44:29Z</dcterms:created>
  <dc:creator>CHAPRON Jean-Etienne</dc:creator>
  <dc:description/>
  <dc:language>en-US</dc:language>
  <cp:lastModifiedBy>DeGimel</cp:lastModifiedBy>
  <dcterms:modified xsi:type="dcterms:W3CDTF">2009-09-24T06:06:38Z</dcterms:modified>
  <cp:revision>58</cp:revision>
  <dc:subject/>
  <dc:title>Cnis Moyen Terme  Développement durable</dc:title>
</cp:coreProperties>
</file>