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A7D5-348C-4EEE-B81B-1B6A4BCE817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1786-DF20-4E46-9089-203EB07281B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6543-00D2-402F-B7DC-46E4589E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8588-640C-4ED3-B747-9178FD84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7C52-B806-4743-A9F3-50DF95542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8551-331D-4B3E-891F-CD32E6AB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4FE8-D7AF-4396-A947-6628C3902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2215-75B8-44AA-BF08-E10B0205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1AC1-2E02-4A34-9C44-A95FADE9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72B0-E54E-41D6-975F-C41AE68C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713A-6D11-4324-93D5-092AD313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1E08-0AE1-4318-92D8-66B53C0B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83C6-D795-4C2D-A3ED-934721E4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3B1D-D16B-4E65-A9FC-0B6A9E08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966B-4F68-418C-A761-3BDA0F36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DA36-DC8B-4DD8-B04B-3D2D2412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8F9A-01F6-4C87-A26D-6B6D3A08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9A41-1DE8-4445-BAFF-EFAF87F2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D975-158A-4A63-AFE1-A69D55AA7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E237-768A-4598-8A9A-C0EDF980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E693-F2DF-4522-AB36-D8893281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4F16-FFA9-44CD-B342-D332D922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AC7A-8618-4400-95BD-17F25C1B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D374-F5C6-40D7-BE53-E126C4CB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9FBC-C1D8-4BC6-B413-B464247B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C292-2EDA-47C1-A050-905E4885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16 janvier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2A71-E6DB-4DEE-9C4B-CCAABFC9694B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16 janvier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5337-84CC-403B-9479-BEBCEE28F94E}" type="slidenum">
              <a:rPr b="0" lang="fr-F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fr-FR" sz="3600" spc="-1" strike="noStrike">
                <a:solidFill>
                  <a:srgbClr val="333399"/>
                </a:solidFill>
                <a:latin typeface="Tahoma"/>
              </a:rPr>
              <a:t>the Stiglitz Commission</a:t>
            </a:r>
            <a:br>
              <a:rPr sz="3600"/>
            </a:br>
            <a:r>
              <a:rPr b="1" lang="fr-FR" sz="3600" spc="-1" strike="noStrike">
                <a:solidFill>
                  <a:srgbClr val="333399"/>
                </a:solidFill>
                <a:latin typeface="Tahoma"/>
              </a:rPr>
              <a:t>a short presentation </a:t>
            </a:r>
            <a:br>
              <a:rPr sz="18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523520" y="3504960"/>
            <a:ext cx="63248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ahoma"/>
              </a:rPr>
              <a:t>Louis de Gimel, Ins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ahoma"/>
              </a:rPr>
              <a:t>UNECE-EUROSTAT-OCDE task fo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ahoma"/>
              </a:rPr>
              <a:t>for measuring sustainable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Geneva 23-24 september 200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e la date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16 janvi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832B-A1E1-4250-9AF5-DD693650FBFF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Tahoma"/>
              </a:rPr>
              <a:t>1.2</a:t>
            </a: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 the crumbling blocks: </a:t>
            </a:r>
            <a:br>
              <a:rPr sz="3600"/>
            </a:b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In theory and .... in practice (3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More insigh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Theoretically compatibility with strong sustainability vi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If prices of critical natural assets are correctly predi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Backy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Interest for works about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human capital evaluation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 (appendix 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How much does the C02 emission evaluation count for 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Distinction between sustainability and policy advic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 (append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(with cost-benefit analysis see Stern repor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NB: In that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the discount rate value doesn’t change sustain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ut only how much in advance it is anticipated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.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e la date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16 janvi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8E34-CA48-42FA-93DF-DB87AF5979F8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Tahoma"/>
              </a:rPr>
              <a:t>2 </a:t>
            </a: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Other main messages of the whole Commission</a:t>
            </a:r>
            <a:r>
              <a:rPr b="1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726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Better measures of economic performance in a complex econom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apturing quality change: a challen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Services provided by governments (collective and                individual ones) and their produ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ahoma"/>
              </a:rPr>
              <a:t>To shift emphasis of the measurement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1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from production to people’s well-be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e la date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16 janvi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0AC3-32C6-40F2-A1EB-F79A6009A497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Tahoma"/>
              </a:rPr>
              <a:t>2 </a:t>
            </a: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Other main messages </a:t>
            </a:r>
            <a:br>
              <a:rPr sz="3600"/>
            </a:b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GT1 classic GDP iss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726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For well being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    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income and consumption rather than G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Emphasise the household perspec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In kind services provided by governme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An effort for reconciliation between 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Income and consumption jointly with weal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Availability of balance sheets for count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Give more prominence to distribution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(income, wealth..):</a:t>
            </a:r>
            <a:r>
              <a:rPr b="0" lang="en-GB" sz="24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Median, Bottom and top of distributions, lin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Include measures of non market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Time spent surveys, Accounts of household activities, amount of leis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e la date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16 janvi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1D71-3950-431F-AE54-84C512952F93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617040"/>
            <a:ext cx="8105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Tahoma"/>
              </a:rPr>
              <a:t>2 </a:t>
            </a: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Other main messages </a:t>
            </a:r>
            <a:br>
              <a:rPr sz="3600"/>
            </a:b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GT2: Quality of life, Well being (1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421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A very large program 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Objective and subjective dimensions of well being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Improve measur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   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of objective conditions and cap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Material living standards, health, education, personal activities including work, factors shaping personal and economic security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environnemental conditions,social connections, political vo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Inequalities in comprehensive 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Across people, social groups, genders, gener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Links between various quality of life dom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At the individual leve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With dedicated surveys used when designing polic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Attention to cumulative effects and disadvantaged peo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e la date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16 janvi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numéro de diapositive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E8A7-389E-42E9-B41C-138D1B0E6847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617040"/>
            <a:ext cx="8105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Tahoma"/>
              </a:rPr>
              <a:t>2 </a:t>
            </a: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Other main messages </a:t>
            </a:r>
            <a:br>
              <a:rPr sz="3600"/>
            </a:b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GT2: Quality of life, Well being (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421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Other recommendations for statistical offic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Provide data needed for aggregated ind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Incorporate in surv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   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subjective evaluation ques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....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with objective ones and activities</a:t>
            </a:r>
            <a:r>
              <a:rPr b="1" lang="en-GB" sz="28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Capture people life’s evaluation, hedonic experiences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prior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e la date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16 janvi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4FBE-80B8-4160-A530-046131656359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60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 vous remercie de votre at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Louis de Gimel, Ins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700360" y="907920"/>
            <a:ext cx="38764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Espace réservé de la date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16 janvi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ce réservé du numéro de diapositive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FC77-9647-48CF-B465-D2CAF02230D1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Tahoma"/>
              </a:rPr>
              <a:t>Pla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66"/>
                </a:solidFill>
                <a:latin typeface="Tahoma"/>
                <a:ea typeface="Tahoma"/>
              </a:rPr>
              <a:t>The Stiglitz Commission:  </a:t>
            </a:r>
            <a:r>
              <a:rPr b="1" lang="en-GB" sz="2400" spc="-1" strike="noStrike">
                <a:solidFill>
                  <a:srgbClr val="993366"/>
                </a:solidFill>
                <a:latin typeface="Tahoma"/>
                <a:ea typeface="Times New Roman"/>
              </a:rPr>
              <a:t>Measurement 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66"/>
                </a:solidFill>
                <a:latin typeface="Tahoma"/>
                <a:ea typeface="Times New Roman"/>
              </a:rPr>
              <a:t>economic performance and social prog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ahoma"/>
              </a:rPr>
              <a:t>1.Measurement of sustainable dev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1.1 two main results/recommanda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1.2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Quantifying sustainability : the main stumbling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iterature, appropriate prices, from theory to practic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ahoma"/>
              </a:rPr>
              <a:t>2.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Others fields: main recommend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II.1 GT1 classic GDP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II.2 GT2 quality of life, well-being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Objective and subjective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e la date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16 janvi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CF33-5EF1-492A-A720-CBE702F27756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Tahoma"/>
              </a:rPr>
              <a:t>1.1</a:t>
            </a: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 SD : Two main results</a:t>
            </a:r>
            <a:br>
              <a:rPr sz="3600"/>
            </a:b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                     /recommend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A clear distinction betwee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   </a:t>
            </a:r>
            <a:r>
              <a:rPr b="1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current well-being and sustain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stainability has to deal with the futur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See problems with a composite indica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ombining the two asp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cessity of a sub-dashboard about sustainabilit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ide large dashboards.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e la date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16 janvi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A42C-56A5-4864-B6BE-B25CAADB09BD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Tahoma"/>
              </a:rPr>
              <a:t>1.1</a:t>
            </a: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 SD : Two main results</a:t>
            </a:r>
            <a:br>
              <a:rPr sz="3600"/>
            </a:b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                     /recommend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72640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  <a:ea typeface="Tahoma"/>
              </a:rPr>
              <a:t>A quite good converg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  <a:ea typeface="Tahoma"/>
              </a:rPr>
              <a:t>                  </a:t>
            </a:r>
            <a:r>
              <a:rPr b="1" lang="en-GB" sz="2800" spc="-1" strike="noStrike">
                <a:solidFill>
                  <a:srgbClr val="3333cc"/>
                </a:solidFill>
                <a:latin typeface="Tahoma"/>
                <a:ea typeface="Tahoma"/>
              </a:rPr>
              <a:t>with the TF SD 2008 re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Tahoma"/>
              </a:rPr>
              <a:t>Theoretical roots for the wealth approach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Indicators interpretable as variations of “stock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Consistent with the Brundtland defi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Tahoma"/>
              </a:rPr>
              <a:t>A monetary index  but </a:t>
            </a:r>
            <a:r>
              <a:rPr b="1" lang="en-GB" sz="2400" spc="-1" strike="noStrike" u="sng">
                <a:solidFill>
                  <a:srgbClr val="990000"/>
                </a:solidFill>
                <a:uFillTx/>
                <a:latin typeface="Tahoma"/>
                <a:ea typeface="Tahoma"/>
              </a:rPr>
              <a:t>only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Tahoma"/>
              </a:rPr>
              <a:t> for economic aspec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Tahoma"/>
              </a:rPr>
              <a:t>    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Tahoma"/>
              </a:rPr>
              <a:t>of sustainability  (see rec 1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Tahoma"/>
              </a:rPr>
              <a:t>Need for a separate set of well chosen (and limited) environmental physical indicators (see rec 12)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ing the proximity to dangerous level of damage</a:t>
            </a:r>
            <a:r>
              <a:rPr b="0" lang="en-GB" sz="2800" spc="-1" strike="noStrike">
                <a:solidFill>
                  <a:srgbClr val="99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e la date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16 janvi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DC0A-8216-4675-9665-09ABD4919786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Tahoma"/>
              </a:rPr>
              <a:t>1.2 </a:t>
            </a: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ahoma"/>
              </a:rPr>
              <a:t>Quantifying Sustainability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ahoma"/>
              </a:rPr>
              <a:t>Across the report,  a</a:t>
            </a: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Tahoma"/>
              </a:rPr>
              <a:t>nalysis of the main produc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Tahoma"/>
              </a:rPr>
              <a:t>in the SD measurement literature (with pros and c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-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Dashboards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 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ful but ...heterogenei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-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Composite indices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 :</a:t>
            </a:r>
            <a:r>
              <a:rPr b="0" lang="en-GB" sz="2400" spc="-1" strike="noStrike">
                <a:solidFill>
                  <a:srgbClr val="3333cc"/>
                </a:solidFill>
                <a:latin typeface="Arial Blac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Confusion, arbitrary weigh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-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Adjusted GDP’s (green GDP)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for what purpose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Only current consumption without env. impoversish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-Footprints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an env. indicator and not a SD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Rather a carbon footprint than “the ecological footprin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-ANS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 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what is counted and with what kind of prices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what about  global goods and global nature of sustainabilit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Espace réservé de la date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16 janvi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numéro de diapositive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BDE1-3A28-423F-9D11-096BDFE709AA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Tahoma"/>
              </a:rPr>
              <a:t>1.2 </a:t>
            </a: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ahoma"/>
              </a:rPr>
              <a:t>Quantifying Sustainability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</a:t>
            </a: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the crumbling blocks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ahoma"/>
              </a:rPr>
              <a:t>A purpose: clarifying the deb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ahoma"/>
              </a:rPr>
              <a:t>                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to avoid the existing confu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What do we want to measure 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How should we do it under ideal conditions 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Why is it so difficult in practice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-Sustainability = transmitting a « sufficient » stock of resourc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to next periods or next cohor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- How much is « sufficient » ? dw &gt;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-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Summarising SD in one number: is it realistic 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Espace réservé de la date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16 janvi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numéro de diapositive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511E-1027-4EA7-BDB9-D7C0574E81CE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Tahoma"/>
              </a:rPr>
              <a:t>1.2 </a:t>
            </a: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the crumbling blocks:   </a:t>
            </a: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  looking for appropriate pric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0" lang="fr-FR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ory, 3 steps in the « extended wealth »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Step 1 : Identifying the types of relevant asset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ANS list and..... social capital, a larger set of environmental assets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Step 2 : measure net changes in stocks for each as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Step 3 :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weight them with appropriate pr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If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current asset prices do not reveal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 all futures preferences/ scar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calculate “accounting prices” based on modelling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  <a:ea typeface="Tahoma"/>
              </a:rPr>
              <a:t>Eco-environmental developmen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  <a:ea typeface="Tahoma"/>
              </a:rPr>
              <a:t>How thy affect well-be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e la date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16 janvi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BC6D-AC54-467B-A5E7-75C184E92703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Tahoma"/>
              </a:rPr>
              <a:t>1.2 </a:t>
            </a: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the crumbling blocks: </a:t>
            </a:r>
            <a:br>
              <a:rPr sz="3600"/>
            </a:b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In theory and .... in practice (1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It works </a:t>
            </a:r>
            <a:r>
              <a:rPr b="1" lang="en-GB" sz="2800" spc="-1" strike="noStrike">
                <a:solidFill>
                  <a:srgbClr val="3333cc"/>
                </a:solidFill>
                <a:latin typeface="Tahoma"/>
                <a:ea typeface="Tahoma"/>
              </a:rPr>
              <a:t>in the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see simulations in the technical re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But</a:t>
            </a:r>
            <a:r>
              <a:rPr b="1" lang="en-GB" sz="28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it needs </a:t>
            </a:r>
            <a:r>
              <a:rPr b="1" lang="en-GB" sz="2800" spc="-1" strike="noStrike">
                <a:solidFill>
                  <a:srgbClr val="3333cc"/>
                </a:solidFill>
                <a:latin typeface="Tahoma"/>
                <a:ea typeface="Tahoma"/>
              </a:rPr>
              <a:t>prefect predictions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nd the </a:t>
            </a:r>
            <a:r>
              <a:rPr b="1" lang="en-GB" sz="2800" spc="-1" strike="noStrike">
                <a:solidFill>
                  <a:srgbClr val="3333cc"/>
                </a:solidFill>
                <a:latin typeface="Tahoma"/>
                <a:ea typeface="Tahoma"/>
              </a:rPr>
              <a:t>future is fundamentally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GB" sz="2800" spc="-1" strike="noStrike">
                <a:solidFill>
                  <a:srgbClr val="3333cc"/>
                </a:solidFill>
                <a:latin typeface="Tahoma"/>
                <a:ea typeface="Tahoma"/>
              </a:rPr>
              <a:t>uncertain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See debates about long term env. change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related to beliefs about future eco-env scenar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Possibility to use scenari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and to compile stress tests</a:t>
            </a:r>
            <a:r>
              <a:rPr b="1" lang="en-GB" sz="24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bu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how to quantify extreme valuations of env. assets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e la date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16 janvi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DD8B-684E-4FC0-A237-6B31126B6F28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Tahoma"/>
              </a:rPr>
              <a:t>1.2 </a:t>
            </a: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the crumbling blocks: </a:t>
            </a:r>
            <a:br>
              <a:rPr sz="3600"/>
            </a:b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In theory and .... in practice (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  <a:ea typeface="Tahoma"/>
              </a:rPr>
              <a:t>Uncertainty is also normativ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Tahoma"/>
                <a:ea typeface="Tahoma"/>
              </a:rPr>
              <a:t>What is to be sustained?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Will the future genera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be more sensitive than us to env. goods scarcity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What kind of aggregation for the individual preferences?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  <a:ea typeface="Tahoma"/>
              </a:rPr>
              <a:t>The global dimensio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Difference between national and global sustainabili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when damages are unequal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A need for an index about global respons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0:44:29Z</dcterms:created>
  <dc:creator>CHAPRON Jean-Etienne</dc:creator>
  <dc:description/>
  <dc:language>en-US</dc:language>
  <cp:lastModifiedBy>DeGimel</cp:lastModifiedBy>
  <dcterms:modified xsi:type="dcterms:W3CDTF">2009-09-24T06:06:38Z</dcterms:modified>
  <cp:revision>58</cp:revision>
  <dc:subject/>
  <dc:title>Cnis Moyen Terme  Développement durable</dc:title>
</cp:coreProperties>
</file>