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065-359C-4FBB-8D8D-20C5F084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60C2-EEBD-4609-B961-B1B0CEC0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1109-BC6C-45B3-B7BE-8816B695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98F-F3CC-4FC1-A4DC-95BB56AE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F4D4-C348-4981-8141-6E7B1ACD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B527-571A-4037-BB46-B9456BE4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5A51-EF3F-401B-8DFD-3A7CA44E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C51E-2014-4810-9BC9-E3A17BA8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441D-8597-476D-A2A2-7AD56A1C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B280-703A-4B35-BC76-0B180439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CA23-0584-4420-8F61-3406C5D8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AF5-915E-43E4-8E75-D47BF539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6402-E4AF-45F8-A83E-881A39B7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C9B0-524B-425D-911A-926C7295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ED8C-EA7C-4218-9BBE-64B68D4B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93D5-BDA5-4C26-9E31-5D6A632A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1C39-90A3-48C7-B780-6DDF32B5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350-8189-44EE-982B-48C6B353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D22-4FA2-4FE4-8613-4542EC3B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93E-E3AB-4ED7-A314-396A12C7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99036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981-1970-4129-8AE2-D04DAB70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C0D-FF92-4732-9477-4F050667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982-5315-42F5-AB16-CCC4E1B6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97452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A213-DD31-42DD-863C-B3B54F1B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051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0C6FAA-E70D-49BD-8E64-58B7942EA5A2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821E08-E49D-448B-8390-2726991F2344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60020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26880" y="5715000"/>
            <a:ext cx="517680" cy="868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90440" indent="0"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6996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4624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62252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6225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Arial"/>
              </a:rPr>
              <a:t>Task Force for Measuring </a:t>
            </a:r>
            <a:br>
              <a:rPr sz="2400"/>
            </a:br>
            <a:r>
              <a:rPr b="1" lang="nl-NL" sz="2400" spc="-1" strike="noStrike">
                <a:solidFill>
                  <a:srgbClr val="00ffff"/>
                </a:solidFill>
                <a:latin typeface="Arial"/>
              </a:rPr>
              <a:t>Sustainable Development (TFSD)- Project pla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tger Hoekstra and Jan Pieter Sm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Time Lin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92360" y="3500280"/>
            <a:ext cx="69832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692360" y="3357720"/>
            <a:ext cx="0" cy="1425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203640" y="3357720"/>
            <a:ext cx="0" cy="1425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716360" y="3357720"/>
            <a:ext cx="0" cy="1425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227640" y="3357720"/>
            <a:ext cx="0" cy="1425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740720" y="3357720"/>
            <a:ext cx="0" cy="1425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89080" y="2781360"/>
            <a:ext cx="1079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00"/>
                </a:solidFill>
                <a:latin typeface="Arial"/>
              </a:rPr>
              <a:t>Sep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00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06760" y="2781360"/>
            <a:ext cx="122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00"/>
                </a:solidFill>
                <a:latin typeface="Arial"/>
              </a:rPr>
              <a:t>March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78160" y="2805120"/>
            <a:ext cx="1079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00"/>
                </a:solidFill>
                <a:latin typeface="Arial"/>
              </a:rPr>
              <a:t>Se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4360" y="2486160"/>
            <a:ext cx="10796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00"/>
                </a:solidFill>
                <a:latin typeface="Arial"/>
              </a:rPr>
              <a:t>Se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92280"/>
            <a:ext cx="1224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00"/>
                </a:solidFill>
                <a:latin typeface="Arial"/>
              </a:rPr>
              <a:t>M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16360" y="3500280"/>
            <a:ext cx="0" cy="648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5159520"/>
            <a:ext cx="115272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Fin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port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reliminary ver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203640" y="3500280"/>
            <a:ext cx="0" cy="648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4149720"/>
            <a:ext cx="71892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ssu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p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71640" y="2276640"/>
            <a:ext cx="1008360" cy="457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irtual confer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11640" y="2421000"/>
            <a:ext cx="1152360" cy="2750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fer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211640" y="3499920"/>
            <a:ext cx="0" cy="15843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40360" y="4149720"/>
            <a:ext cx="115236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Fin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port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1st d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16360" y="3500280"/>
            <a:ext cx="0" cy="648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11640" y="2421000"/>
            <a:ext cx="1152360" cy="2750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fer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40360" y="4149720"/>
            <a:ext cx="115236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Fin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port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1st d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716360" y="3500280"/>
            <a:ext cx="0" cy="648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2421000"/>
            <a:ext cx="1152360" cy="2750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fer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Arial"/>
              </a:rPr>
              <a:t>Towards a first draft of the final report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Sept 2009: This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300" spc="-1" strike="noStrike">
                <a:solidFill>
                  <a:srgbClr val="ffffff"/>
                </a:solidFill>
                <a:latin typeface="Arial"/>
              </a:rPr>
              <a:t>Identification of issues/author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Session Wednesday (11:20-12:3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Session Thursday (15:50-17:3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300" spc="-1" strike="noStrike">
                <a:solidFill>
                  <a:srgbClr val="ffffff"/>
                </a:solidFill>
                <a:latin typeface="Arial"/>
              </a:rPr>
              <a:t>Examples of issues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A framework for social capi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uman capital according to the J-F frame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A broader set of human capital indica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A set of SDI’s based on the capital approa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he importance of time u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lobal capital stock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Natural capi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he limits of monetiz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82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Etc. etc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March 2010: Virtual conference about issue pap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300" spc="-1" strike="noStrike">
                <a:solidFill>
                  <a:srgbClr val="ffffff"/>
                </a:solidFill>
                <a:latin typeface="Arial"/>
              </a:rPr>
              <a:t>Deadline: March 22n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300" spc="-1" strike="noStrike">
                <a:solidFill>
                  <a:srgbClr val="ffffff"/>
                </a:solidFill>
                <a:latin typeface="Arial"/>
              </a:rPr>
              <a:t>Open for comments for 2 week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June 2010: Preliminary verison of final repor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Sept 2010: Conferen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300" spc="-1" strike="noStrike">
                <a:solidFill>
                  <a:srgbClr val="ffffff"/>
                </a:solidFill>
                <a:latin typeface="Arial"/>
              </a:rPr>
              <a:t>Discussion on first draft of the final report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2:50:50Z</dcterms:created>
  <dc:creator>sdnm</dc:creator>
  <dc:description/>
  <dc:language>en-US</dc:language>
  <cp:lastModifiedBy>hoekbouw</cp:lastModifiedBy>
  <cp:lastPrinted>1997-01-15T14:42:22Z</cp:lastPrinted>
  <dcterms:modified xsi:type="dcterms:W3CDTF">2009-09-22T20:45:38Z</dcterms:modified>
  <cp:revision>61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83845245</vt:r8>
  </property>
  <property fmtid="{D5CDD505-2E9C-101B-9397-08002B2CF9AE}" pid="3" name="_AuthorEmail">
    <vt:lpwstr>r.hoekstra@cbs.nl</vt:lpwstr>
  </property>
  <property fmtid="{D5CDD505-2E9C-101B-9397-08002B2CF9AE}" pid="4" name="_AuthorEmailDisplayName">
    <vt:lpwstr>Hoekstra, dr ir R.</vt:lpwstr>
  </property>
  <property fmtid="{D5CDD505-2E9C-101B-9397-08002B2CF9AE}" pid="5" name="_EmailSubject">
    <vt:lpwstr/>
  </property>
  <property fmtid="{D5CDD505-2E9C-101B-9397-08002B2CF9AE}" pid="6" name="_PreviousAdHocReviewCycleID">
    <vt:r8>-2003669411</vt:r8>
  </property>
  <property fmtid="{D5CDD505-2E9C-101B-9397-08002B2CF9AE}" pid="7" name="_ReviewingToolsShownOnce">
    <vt:lpwstr/>
  </property>
</Properties>
</file>