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0F3-BDEC-45C6-AEA9-7C289D65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7BE-4DA4-4707-A442-E5E8350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B05-6403-469D-B27D-FAB69A9C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CAB-CE2D-41AC-A5FD-EC2A74B3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0957-70CF-4CB3-AE99-BEBD2366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5D76-8253-4CD7-BB55-CA63E20B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09B3-033B-4A51-B79F-BC893769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89B-00E0-46AA-8F36-BD9C965E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476C-918E-4AEA-99F9-2DC083B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782C-FB20-470C-8663-BA926F09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AACE-12CE-4843-9B2B-F7EBF90D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832-4DF8-43F9-9279-A5D9870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BE48-5139-4ED7-AFE1-97A04A3D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F461-4E3A-47BE-BC13-1DB74CF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A28-6D97-42DB-BB8D-F5DA9B4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F478-A774-4AD5-B099-B4CBD3B1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1961-6FF3-44DF-A3D5-63153F95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4E3-D575-4ACF-841F-0E6BC8C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636-34C0-432E-9FC8-A21B45BA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B56-EB4E-40AB-9F91-EB15955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D65-84F9-411E-B7DB-1661BB4D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C20-53E0-47BA-8BD0-9A4C0174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EDC-0F58-4413-86EC-EFB2995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0AC-8AC5-4044-B89D-53A1A35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E985E0-43AF-4C14-B6B1-7DEB8A1EC4FD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D201AA-0A54-4D4E-9309-7F4C66498CC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Arial"/>
              </a:rPr>
              <a:t>Task Force for Measuring </a:t>
            </a:r>
            <a:br>
              <a:rPr sz="2400"/>
            </a:br>
            <a:r>
              <a:rPr b="1" lang="nl-NL" sz="2400" spc="-1" strike="noStrike">
                <a:solidFill>
                  <a:srgbClr val="00ffff"/>
                </a:solidFill>
                <a:latin typeface="Arial"/>
              </a:rPr>
              <a:t>Sustainable Development (TFSD)- Project pla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tger Hoekstra and Jan Pieter Sm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ime Lin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3500280"/>
            <a:ext cx="69832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69236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0364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1636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22764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74072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9080" y="2781360"/>
            <a:ext cx="107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Sep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2781360"/>
            <a:ext cx="122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Marc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8160" y="2805120"/>
            <a:ext cx="1079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Se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486160"/>
            <a:ext cx="1079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Se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92280"/>
            <a:ext cx="122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M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1636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159520"/>
            <a:ext cx="1152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port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reliminary ver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0364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149720"/>
            <a:ext cx="7189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ssu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2276640"/>
            <a:ext cx="1008360" cy="457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irtual 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421000"/>
            <a:ext cx="1152360" cy="275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3499920"/>
            <a:ext cx="0" cy="1584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4149720"/>
            <a:ext cx="115236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port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1st d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1636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2421000"/>
            <a:ext cx="1152360" cy="275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4149720"/>
            <a:ext cx="115236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port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1st d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1636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421000"/>
            <a:ext cx="1152360" cy="275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Arial"/>
              </a:rPr>
              <a:t>Towards a first draft of the final report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ept 2009: This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Identification of issues/autho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Session Wednesday (11:20-12:3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Session Thursday (15:50-17:3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Examples of issues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A framework for social ca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uman capital according to the J-F fra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A broader set of human capital indica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A set of SDI’s based on the capital appro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he importance of time u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lobal capital stock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atural ca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he limits of monet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tc. etc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h 2010: Virtual conference about issue pap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Deadline: March 22n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Open for comments for 2 week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June 2010: Preliminary verison of final re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ept 2010: Confere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Discussion on first draft of the final report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2:50:50Z</dcterms:created>
  <dc:creator>sdnm</dc:creator>
  <dc:description/>
  <dc:language>en-US</dc:language>
  <cp:lastModifiedBy>hoekbouw</cp:lastModifiedBy>
  <cp:lastPrinted>1997-01-15T14:42:22Z</cp:lastPrinted>
  <dcterms:modified xsi:type="dcterms:W3CDTF">2009-09-22T20:45:38Z</dcterms:modified>
  <cp:revision>6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83845245</vt:r8>
  </property>
  <property fmtid="{D5CDD505-2E9C-101B-9397-08002B2CF9AE}" pid="3" name="_AuthorEmail">
    <vt:lpwstr>r.hoekstra@cbs.nl</vt:lpwstr>
  </property>
  <property fmtid="{D5CDD505-2E9C-101B-9397-08002B2CF9AE}" pid="4" name="_AuthorEmailDisplayName">
    <vt:lpwstr>Hoekstra, dr ir R.</vt:lpwstr>
  </property>
  <property fmtid="{D5CDD505-2E9C-101B-9397-08002B2CF9AE}" pid="5" name="_EmailSubject">
    <vt:lpwstr/>
  </property>
  <property fmtid="{D5CDD505-2E9C-101B-9397-08002B2CF9AE}" pid="6" name="_PreviousAdHocReviewCycleID">
    <vt:r8>-2003669411</vt:r8>
  </property>
  <property fmtid="{D5CDD505-2E9C-101B-9397-08002B2CF9AE}" pid="7" name="_ReviewingToolsShownOnce">
    <vt:lpwstr/>
  </property>
</Properties>
</file>