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DE9-16C5-4234-9AD1-D29896A9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025-A553-4B4C-9C29-0CA35847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A96-FD98-4CF8-83EB-E3581703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45F-07DA-4A64-969B-3A76E64B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48E-3B5C-48DD-B381-246EB430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D2F-5CEB-4042-8C31-ADE0275C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B96-4740-4242-89AA-9368D92A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F47-38FC-477B-AB3D-DEC3CF9A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60912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663-24D7-4F0D-92F0-A26F3B35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FFE-85B3-43BB-A63F-A4BDD278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070-80A3-43F5-973A-1F56B70E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9C7-7512-45C9-93DA-931FE036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800" spc="-1" strike="noStrike">
                <a:solidFill>
                  <a:srgbClr val="feffb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761D05-451C-4888-B03F-C0CF2E89F0CB}" type="slidenum">
              <a:rPr b="0" lang="en-GB" sz="1800" spc="-1" strike="noStrike">
                <a:solidFill>
                  <a:srgbClr val="feffbe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fafd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47680" y="5334120"/>
            <a:ext cx="696960" cy="1170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1371600" cy="6856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1988640"/>
            <a:ext cx="76676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afd00"/>
                </a:solidFill>
                <a:latin typeface="Arial"/>
                <a:ea typeface="Times New Roman"/>
              </a:rPr>
              <a:t>Social Capital</a:t>
            </a:r>
            <a:br>
              <a:rPr sz="3200"/>
            </a:br>
            <a:r>
              <a:rPr b="1" lang="en-GB" sz="3200" spc="-1" strike="noStrike">
                <a:solidFill>
                  <a:srgbClr val="fafd00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fafd00"/>
                </a:solidFill>
                <a:latin typeface="Arial"/>
                <a:ea typeface="Times New Roman"/>
              </a:rPr>
              <a:t>Jan Pieter Smits</a:t>
            </a:r>
            <a:br>
              <a:rPr sz="20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  <a:ea typeface="Times New Roman"/>
              </a:rPr>
              <a:t>Statistics Netherlands/University of Groningen (Groningen Growth and Development Centre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4556160"/>
            <a:ext cx="8028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afd00"/>
                </a:solidFill>
                <a:latin typeface="Arial"/>
              </a:rPr>
              <a:t>Structure of Presentatio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03280" y="1267920"/>
            <a:ext cx="774072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-What is social capital? 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"/>
              </a:rPr>
              <a:t>-Welfare effects of social capita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"/>
              </a:rPr>
              <a:t>-Is it capital?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"/>
              </a:rPr>
              <a:t>-How to operationalise social capital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afd00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hat is social capital?</a:t>
            </a:r>
            <a:r>
              <a:rPr b="1" lang="nl-NL" sz="36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810108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Granovetter’s complaint: ‘the undersocialised conception of man’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0" lang="en-GB" sz="2000" spc="-1" strike="noStrike" u="sng">
                <a:solidFill>
                  <a:srgbClr val="fafd00"/>
                </a:solidFill>
                <a:uFillTx/>
                <a:latin typeface="Arial"/>
              </a:rPr>
              <a:t>Social capital as a micro or macro phenomenon</a:t>
            </a: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: Bourdieu defines social capital as an individual asset. Stresses the reason why people invest in networking. Putnam, however, points at the more collective characteristics of network creation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0" lang="en-GB" sz="2000" spc="-1" strike="noStrike" u="sng">
                <a:solidFill>
                  <a:srgbClr val="fafd00"/>
                </a:solidFill>
                <a:uFillTx/>
                <a:latin typeface="Arial"/>
              </a:rPr>
              <a:t>Networks versus trust</a:t>
            </a: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: Sociologists emphasise network creation. Political sciences (Putnam) and economics (Fukuyama) point at trust that is accumulated within these networks. Woolcock (2001) sees trust as a result of investments in social capital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0" lang="en-GB" sz="2000" spc="-1" strike="noStrike" u="sng">
                <a:solidFill>
                  <a:srgbClr val="fafd00"/>
                </a:solidFill>
                <a:uFillTx/>
                <a:latin typeface="Arial"/>
              </a:rPr>
              <a:t>Social capital as an indicator of networks between individuals or is a more general approach needed</a:t>
            </a: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: Social capital to be seen in terms of social networks? Or broader approach, including ties between citizens and the state. Evans (developmental vs predatory states); Acemoglu et al: functioning of political markets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afd00"/>
                </a:solidFill>
                <a:latin typeface="Arial"/>
              </a:rPr>
              <a:t>2. </a:t>
            </a: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Welfare effects of social capital</a:t>
            </a:r>
            <a:r>
              <a:rPr b="1" lang="nl-NL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1267920"/>
            <a:ext cx="774072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ocial Capital is important (see World Bank; Knack and Keefer), but </a:t>
            </a:r>
            <a:r>
              <a:rPr b="0" i="1" lang="en-US" sz="3200" spc="-1" strike="noStrike">
                <a:solidFill>
                  <a:srgbClr val="fafd00"/>
                </a:solidFill>
                <a:latin typeface="Arial"/>
              </a:rPr>
              <a:t>how and why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does it matter? (see Durlauf and Fafchamps)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ree channels: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Arial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irect welfare effec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Arial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apital complementaritie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Arial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eclining transaction costs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600" spc="-1" strike="noStrike">
                <a:solidFill>
                  <a:srgbClr val="fafd00"/>
                </a:solidFill>
                <a:latin typeface="Arial"/>
              </a:rPr>
              <a:t>3. Is it capital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"/>
              </a:rPr>
              <a:t>-Ownership;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"/>
              </a:rPr>
              <a:t>-Spill-over effects and capital complementarities;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"/>
              </a:rPr>
              <a:t>-Stocks and flows;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fafd00"/>
                </a:solidFill>
                <a:latin typeface="Arial"/>
              </a:rPr>
              <a:t>-Investments and rewards;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fafd00"/>
                </a:solidFill>
                <a:latin typeface="Arial"/>
              </a:rPr>
              <a:t>4.How to measure social capital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 u="sng">
                <a:solidFill>
                  <a:srgbClr val="fafd00"/>
                </a:solidFill>
                <a:uFillTx/>
                <a:latin typeface="Arial"/>
              </a:rPr>
              <a:t>-Networks between (groups of) citizens</a:t>
            </a:r>
            <a:r>
              <a:rPr b="1" lang="en-GB" sz="1800" spc="-1" strike="noStrike">
                <a:solidFill>
                  <a:srgbClr val="fafd00"/>
                </a:solidFill>
                <a:latin typeface="Arial"/>
              </a:rPr>
              <a:t>:</a:t>
            </a:r>
            <a:r>
              <a:rPr b="0" lang="nl-NL" sz="1800" spc="-1" strike="noStrike">
                <a:solidFill>
                  <a:srgbClr val="fafd00"/>
                </a:solidFill>
                <a:latin typeface="Arial"/>
              </a:rPr>
              <a:t> time-use, which groups to we want to distinguish (see ABS)? Importance of ‘family capital’(Australia, New Zealand), ‘bridging social capital’ -&gt; ethnic groups, age groups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 u="sng">
                <a:solidFill>
                  <a:srgbClr val="fafd00"/>
                </a:solidFill>
                <a:uFillTx/>
                <a:latin typeface="Arial"/>
              </a:rPr>
              <a:t>-The level of trust between citizens</a:t>
            </a: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: generalised trust between (groups of) citizens. Trust in government. But also…… shared norms….. 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he importance of including measures of inequality: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rger Schmitt: Social Capital + Inequality = Social Cohesion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GB" sz="1800" spc="-1" strike="noStrike" u="sng">
                <a:solidFill>
                  <a:srgbClr val="fafd00"/>
                </a:solidFill>
                <a:uFillTx/>
                <a:latin typeface="Arial"/>
              </a:rPr>
              <a:t>The development of knowledge infrastructure</a:t>
            </a:r>
            <a:r>
              <a:rPr b="0" lang="nl-NL" sz="1800" spc="-1" strike="noStrike">
                <a:solidFill>
                  <a:srgbClr val="fafd00"/>
                </a:solidFill>
                <a:latin typeface="Arial"/>
              </a:rPr>
              <a:t>: attempt to quantify elements from ‘National Systems of Innovation’-literature; Community Innovation Surveys.</a:t>
            </a: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8T13:40:12Z</dcterms:created>
  <dc:creator>PCPJHYN</dc:creator>
  <dc:description/>
  <cp:keywords/>
  <dc:language>en-US</dc:language>
  <cp:lastModifiedBy>JP</cp:lastModifiedBy>
  <cp:lastPrinted>2002-10-07T19:24:09Z</cp:lastPrinted>
  <dcterms:modified xsi:type="dcterms:W3CDTF">2009-09-24T00:24:59Z</dcterms:modified>
  <cp:revision>604</cp:revision>
  <dc:subject>Namea's</dc:subject>
  <dc:title>Geen dia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098563</vt:r8>
  </property>
  <property fmtid="{D5CDD505-2E9C-101B-9397-08002B2CF9AE}" pid="3" name="_AuthorEmail">
    <vt:lpwstr>r.hoekstra@cbs.nl</vt:lpwstr>
  </property>
  <property fmtid="{D5CDD505-2E9C-101B-9397-08002B2CF9AE}" pid="4" name="_AuthorEmailDisplayName">
    <vt:lpwstr>Hoekstra, dr ir R.</vt:lpwstr>
  </property>
  <property fmtid="{D5CDD505-2E9C-101B-9397-08002B2CF9AE}" pid="5" name="_EmailSubject">
    <vt:lpwstr>presentatie vrijdag</vt:lpwstr>
  </property>
  <property fmtid="{D5CDD505-2E9C-101B-9397-08002B2CF9AE}" pid="6" name="_PreviousAdHocReviewCycleID">
    <vt:r8>-457723686</vt:r8>
  </property>
  <property fmtid="{D5CDD505-2E9C-101B-9397-08002B2CF9AE}" pid="7" name="_ReviewingToolsShownOnce">
    <vt:lpwstr/>
  </property>
</Properties>
</file>