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10691813" cy="7524750"/>
  <p:notesSz cx="752475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524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543200" y="-360"/>
            <a:ext cx="3468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335240" y="750600"/>
            <a:ext cx="5340240" cy="375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1068480" y="4763880"/>
            <a:ext cx="587376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-29700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-360" y="-29700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63C50-6EDE-49D1-BA63-155085269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1068480" y="4764240"/>
            <a:ext cx="58752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7872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118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460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77872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118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DB0-406D-40D4-B053-C0C1A06F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BB9-DAF4-4F47-A91F-1EE757B3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D0E-6010-43D8-AD7F-5E61D79E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2DF-3A11-441A-86D9-A2C1F56B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995-8FDE-43F6-9D77-D68B34C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546000" y="138240"/>
            <a:ext cx="660420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8C5-EB94-4DC1-B59E-5E12E819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FBE-E005-4333-B3EC-7E701920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B82-3270-48E3-A09B-F0B7675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693-9D83-4ECF-8C61-73A3846E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2E1-84AA-46B7-9061-8DCF8496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C2C-33A2-4ED9-A9E1-0EE9B0D4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7872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118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460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77872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118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D82-2828-4EA5-855F-D7CD315E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5F7F-20E5-4BDE-804F-1FB504BB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D4BB-BCC8-4A05-9F42-AE7187A3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711D-1B02-4DE2-B4BB-F3421B5E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7AAD-B016-4CB8-B464-E85B91D4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E660-506A-4DFA-9B8C-7180BD53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546000" y="138240"/>
            <a:ext cx="660420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E7C3-3719-4B00-95F3-9ABACC10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3FC5-7DDC-429F-9601-44C81CC0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AF41-CC98-40EE-9859-B1C29F95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3D96-B368-4918-83AB-3E957CDF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1726-5488-4FCF-A123-C2A08F7D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6DCD-1ABE-491D-BE45-8736C8A3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7872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011800" y="175572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460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77872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011800" y="4641480"/>
            <a:ext cx="21261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C0D8-D1B5-4774-BC61-F4572266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46000" y="138240"/>
            <a:ext cx="660420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30360" y="464148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4600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930360" y="1755720"/>
            <a:ext cx="32227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46000" y="4641480"/>
            <a:ext cx="660420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299520"/>
            <a:ext cx="96156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0400"/>
            <a:ext cx="961560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46000" y="138240"/>
            <a:ext cx="660420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46000" y="1755720"/>
            <a:ext cx="660420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 fontScale="97000"/>
          </a:bodyPr>
          <a:p>
            <a:pPr marL="33264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1641600" y="6851520"/>
            <a:ext cx="235080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4148280" y="6851520"/>
            <a:ext cx="337968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662960" y="6851520"/>
            <a:ext cx="248760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62329-6734-49DA-AA2A-470F23EDAB5F}" type="slidenum">
              <a:rPr b="0" lang="en-A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05280" y="585720"/>
            <a:ext cx="640224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755360" y="6851520"/>
            <a:ext cx="248940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4400640" y="6851520"/>
            <a:ext cx="337968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904160" y="6851520"/>
            <a:ext cx="2487600" cy="516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EE621-E3CA-4EA8-A1E5-049157EAD36A}" type="slidenum">
              <a:rPr b="0" lang="en-A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3640" y="2320920"/>
            <a:ext cx="9491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velopments in the estimation of the value of human capital for 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4920" y="3904920"/>
            <a:ext cx="9621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d by Jason Ru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stralian Bureau of Statistic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49640" y="1889280"/>
            <a:ext cx="7332480" cy="36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1268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Confinement to working ag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1268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Excluding non-marke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1268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Educational credentials as measures of educational at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1268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Cohort-based estimation of future e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1268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Separate estimation of investment in work experi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94000" y="664560"/>
            <a:ext cx="7067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Modifications and Extensions to JF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43000" y="2895480"/>
            <a:ext cx="1646280" cy="1413000"/>
          </a:xfrm>
          <a:prstGeom prst="rightArrow">
            <a:avLst>
              <a:gd name="adj1" fmla="val 50000"/>
              <a:gd name="adj2" fmla="val 29127"/>
            </a:avLst>
          </a:prstGeom>
          <a:solidFill>
            <a:srgbClr val="0098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60640" y="3400560"/>
            <a:ext cx="236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5640" y="2970360"/>
            <a:ext cx="1299960" cy="581040"/>
          </a:xfrm>
          <a:prstGeom prst="rect">
            <a:avLst/>
          </a:prstGeom>
          <a:solidFill>
            <a:srgbClr val="bcffb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ff"/>
                </a:solidFill>
                <a:latin typeface="Arial"/>
              </a:rPr>
              <a:t>current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89400" y="3678120"/>
            <a:ext cx="1276200" cy="569880"/>
          </a:xfrm>
          <a:prstGeom prst="rect">
            <a:avLst/>
          </a:prstGeom>
          <a:solidFill>
            <a:srgbClr val="a9ffff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3a63"/>
                </a:solidFill>
                <a:latin typeface="Arial"/>
              </a:rPr>
              <a:t>employmen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3424320"/>
            <a:ext cx="236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84960" y="3243240"/>
            <a:ext cx="1492200" cy="839880"/>
          </a:xfrm>
          <a:prstGeom prst="rect">
            <a:avLst/>
          </a:prstGeom>
          <a:solidFill>
            <a:srgbClr val="0000d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46640" y="5256360"/>
            <a:ext cx="70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88880" y="4408200"/>
            <a:ext cx="260280" cy="85068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083120" y="4443120"/>
            <a:ext cx="287280" cy="72396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9240" y="4992840"/>
            <a:ext cx="108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45600" y="3254400"/>
            <a:ext cx="1481040" cy="839880"/>
          </a:xfrm>
          <a:prstGeom prst="rect">
            <a:avLst/>
          </a:prstGeom>
          <a:solidFill>
            <a:srgbClr val="64dffb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400097"/>
                </a:solidFill>
                <a:latin typeface="Arial"/>
              </a:rPr>
              <a:t>Growth and discount fa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61480" y="3505320"/>
            <a:ext cx="19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201080" y="4362480"/>
            <a:ext cx="1440" cy="54144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47640" y="1925640"/>
            <a:ext cx="1081080" cy="936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0ff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Backward recursion at 6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38960" y="2451240"/>
            <a:ext cx="138240" cy="631800"/>
          </a:xfrm>
          <a:custGeom>
            <a:avLst/>
            <a:gdLst/>
            <a:ahLst/>
            <a:rect l="l" t="t" r="r" b="b"/>
            <a:pathLst>
              <a:path w="87" h="398">
                <a:moveTo>
                  <a:pt x="0" y="0"/>
                </a:moveTo>
                <a:lnTo>
                  <a:pt x="87" y="0"/>
                </a:lnTo>
                <a:lnTo>
                  <a:pt x="87" y="398"/>
                </a:lnTo>
              </a:path>
            </a:pathLst>
          </a:custGeom>
          <a:noFill/>
          <a:ln w="50760">
            <a:solidFill>
              <a:srgbClr val="40009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04920" y="82440"/>
            <a:ext cx="79218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Lifetime Labour Income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33720" y="2036880"/>
            <a:ext cx="1646280" cy="1411200"/>
          </a:xfrm>
          <a:prstGeom prst="rightArrow">
            <a:avLst>
              <a:gd name="adj1" fmla="val 50000"/>
              <a:gd name="adj2" fmla="val 29165"/>
            </a:avLst>
          </a:prstGeom>
          <a:solidFill>
            <a:srgbClr val="0098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05280" y="2610000"/>
            <a:ext cx="236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65720" y="2108160"/>
            <a:ext cx="1299960" cy="581040"/>
          </a:xfrm>
          <a:prstGeom prst="rect">
            <a:avLst/>
          </a:prstGeom>
          <a:solidFill>
            <a:srgbClr val="bcffb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ff"/>
                </a:solidFill>
                <a:latin typeface="Arial"/>
              </a:rPr>
              <a:t>current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79760" y="2863800"/>
            <a:ext cx="1278000" cy="574560"/>
          </a:xfrm>
          <a:prstGeom prst="rect">
            <a:avLst/>
          </a:prstGeom>
          <a:solidFill>
            <a:srgbClr val="a9ffff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3a63"/>
                </a:solidFill>
                <a:latin typeface="Arial"/>
              </a:rPr>
              <a:t>employmen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50000" y="2587680"/>
            <a:ext cx="237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80200" y="2336760"/>
            <a:ext cx="1492200" cy="839880"/>
          </a:xfrm>
          <a:prstGeom prst="rect">
            <a:avLst/>
          </a:prstGeom>
          <a:solidFill>
            <a:srgbClr val="0000d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25680" y="3805200"/>
            <a:ext cx="1032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d 6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77280" y="2349360"/>
            <a:ext cx="1482840" cy="839880"/>
          </a:xfrm>
          <a:prstGeom prst="rect">
            <a:avLst/>
          </a:prstGeom>
          <a:solidFill>
            <a:srgbClr val="64dffb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400097"/>
                </a:solidFill>
                <a:latin typeface="Arial"/>
              </a:rPr>
              <a:t>Growth and discount fa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2440" y="2690640"/>
            <a:ext cx="19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36920" y="877680"/>
            <a:ext cx="670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Backward Recur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88120" y="3279600"/>
            <a:ext cx="403200" cy="447840"/>
          </a:xfrm>
          <a:prstGeom prst="line">
            <a:avLst/>
          </a:prstGeom>
          <a:ln w="255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21640" y="3571920"/>
            <a:ext cx="334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957400" y="3423960"/>
            <a:ext cx="371520" cy="38268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41920" y="3433320"/>
            <a:ext cx="554040" cy="37332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88200" y="3776760"/>
            <a:ext cx="1017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d 6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4265640"/>
            <a:ext cx="1646280" cy="172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8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0520" y="4815000"/>
            <a:ext cx="237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92720" y="4394160"/>
            <a:ext cx="1299960" cy="581040"/>
          </a:xfrm>
          <a:prstGeom prst="rect">
            <a:avLst/>
          </a:prstGeom>
          <a:solidFill>
            <a:srgbClr val="bcffb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ff"/>
                </a:solidFill>
                <a:latin typeface="Arial"/>
              </a:rPr>
              <a:t>current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03880" y="5124600"/>
            <a:ext cx="1277640" cy="572760"/>
          </a:xfrm>
          <a:prstGeom prst="rect">
            <a:avLst/>
          </a:prstGeom>
          <a:solidFill>
            <a:srgbClr val="a9ffff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3a63"/>
                </a:solidFill>
                <a:latin typeface="Arial"/>
              </a:rPr>
              <a:t>employmen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4597560"/>
            <a:ext cx="1492200" cy="839520"/>
          </a:xfrm>
          <a:prstGeom prst="rect">
            <a:avLst/>
          </a:prstGeom>
          <a:solidFill>
            <a:srgbClr val="0000d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66120" y="4575240"/>
            <a:ext cx="1481040" cy="839880"/>
          </a:xfrm>
          <a:prstGeom prst="rect">
            <a:avLst/>
          </a:prstGeom>
          <a:solidFill>
            <a:srgbClr val="64dffb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400097"/>
                </a:solidFill>
                <a:latin typeface="Arial"/>
              </a:rPr>
              <a:t>Growth and discount fa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83440" y="4832280"/>
            <a:ext cx="195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28920" y="5921280"/>
            <a:ext cx="10400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d 6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83160" y="5853240"/>
            <a:ext cx="101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ged 6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94160" y="3257640"/>
            <a:ext cx="2865240" cy="12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866960" y="2041560"/>
            <a:ext cx="1403280" cy="1409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8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5760" y="2570040"/>
            <a:ext cx="16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67040" y="2163600"/>
            <a:ext cx="1150920" cy="570240"/>
          </a:xfrm>
          <a:prstGeom prst="rect">
            <a:avLst/>
          </a:prstGeom>
          <a:solidFill>
            <a:srgbClr val="bcffb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ff"/>
                </a:solidFill>
                <a:latin typeface="Arial"/>
              </a:rPr>
              <a:t>current Inc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28880" y="2890800"/>
            <a:ext cx="1227240" cy="569880"/>
          </a:xfrm>
          <a:prstGeom prst="rect">
            <a:avLst/>
          </a:prstGeom>
          <a:solidFill>
            <a:srgbClr val="a9ffff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3a63"/>
                </a:solidFill>
                <a:latin typeface="Arial"/>
              </a:rPr>
              <a:t>employmen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6360" y="2533680"/>
            <a:ext cx="236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11840" y="2205000"/>
            <a:ext cx="1492200" cy="1149480"/>
          </a:xfrm>
          <a:prstGeom prst="rect">
            <a:avLst/>
          </a:prstGeom>
          <a:solidFill>
            <a:srgbClr val="0000d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Lifetime Labour Incom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ffffff"/>
                </a:solidFill>
                <a:latin typeface="Arial"/>
              </a:rPr>
              <a:t>at age x+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10360" y="2320920"/>
            <a:ext cx="1482840" cy="839880"/>
          </a:xfrm>
          <a:prstGeom prst="rect">
            <a:avLst/>
          </a:prstGeom>
          <a:solidFill>
            <a:srgbClr val="64dffb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400097"/>
                </a:solidFill>
                <a:latin typeface="Arial"/>
              </a:rPr>
              <a:t>Growth and discount facto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91320" y="2662200"/>
            <a:ext cx="193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2000" y="449280"/>
            <a:ext cx="81806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Lifetime Labour Income With </a:t>
            </a:r>
            <a:r>
              <a:rPr b="1" i="1" lang="en-AU" sz="3800" spc="-1" strike="noStrike">
                <a:solidFill>
                  <a:srgbClr val="400097"/>
                </a:solidFill>
                <a:latin typeface="Gill Sans"/>
              </a:rPr>
              <a:t>Changing</a:t>
            </a: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 Educational Attain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66960" y="2041560"/>
            <a:ext cx="1403280" cy="1409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8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ffffff"/>
                </a:solidFill>
                <a:latin typeface="Arial"/>
              </a:rPr>
              <a:t>Lifetime Labour Income at age 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98880" y="4186080"/>
            <a:ext cx="1403280" cy="1411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cffbc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Lifetime Labour Inc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05840" y="4197240"/>
            <a:ext cx="1404720" cy="1411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b4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ffffff"/>
                </a:solidFill>
                <a:latin typeface="Arial"/>
              </a:rPr>
              <a:t>Lifetime Labour Inc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4186080"/>
            <a:ext cx="1403280" cy="1411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25560">
            <a:solidFill>
              <a:srgbClr val="4000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100" spc="-1" strike="noStrike">
                <a:solidFill>
                  <a:srgbClr val="0000aa"/>
                </a:solidFill>
                <a:latin typeface="Arial"/>
              </a:rPr>
              <a:t>Lifetime Labour Inc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70120" y="3376440"/>
            <a:ext cx="1406520" cy="919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26080" y="3365640"/>
            <a:ext cx="1800" cy="585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97560" y="3411360"/>
            <a:ext cx="123048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6480" y="6165720"/>
            <a:ext cx="1347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Vocational  Edu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6122880"/>
            <a:ext cx="1141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Bache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29520" y="6008760"/>
            <a:ext cx="180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Higher Deg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713040" y="5576400"/>
            <a:ext cx="66960" cy="55260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291360" y="5576400"/>
            <a:ext cx="66600" cy="55260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666280" y="5516280"/>
            <a:ext cx="1440" cy="438120"/>
          </a:xfrm>
          <a:prstGeom prst="line">
            <a:avLst/>
          </a:prstGeom>
          <a:ln w="50760">
            <a:solidFill>
              <a:srgbClr val="4000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49640" y="1817640"/>
            <a:ext cx="740232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Construct a database on demographic accounts and market labou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Model the time-paths of income streams for wage-salary earn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pply per capita measures of lifetime labour income to all working age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ggregating across all sex/education/age groups to derive the value of human capital sto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49640" y="540720"/>
            <a:ext cx="8181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Estimation Procedures for Human Capital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94000" y="936720"/>
            <a:ext cx="77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000" spc="-1" strike="noStrike">
                <a:solidFill>
                  <a:srgbClr val="400097"/>
                </a:solidFill>
                <a:latin typeface="Gill Sans"/>
              </a:rPr>
              <a:t>Human Capital Accumulation Accou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10000" y="2320920"/>
            <a:ext cx="712296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65280" y="1962000"/>
            <a:ext cx="6702480" cy="377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66440" y="2318400"/>
            <a:ext cx="309276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Opening bala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Investment in edu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Experience fact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Demographic chang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Revalu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Omissions &amp; erro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Total stock change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Closing bala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49640" y="825120"/>
            <a:ext cx="7062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Construction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04920" y="1528920"/>
            <a:ext cx="698832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Full Australian Censuses for the years 1981, 1986, 1991,1996 and 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Population is classified by sex, educational attainment and single year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Key variables for each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annual gross incom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school enrolment ra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unemployment ra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hours work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lifetime labour incom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number of persons who obtained additional qualific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1285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number of migrants and emigrants</a:t>
            </a:r>
            <a:r>
              <a:rPr b="0" lang="en-AU" sz="2900" spc="-1" strike="noStrike" baseline="-1000">
                <a:solidFill>
                  <a:srgbClr val="000000"/>
                </a:solidFill>
                <a:latin typeface="Gill Sans"/>
                <a:ea typeface="Lucida Sans Unicode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33640" y="383400"/>
            <a:ext cx="8182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400097"/>
                </a:solidFill>
                <a:latin typeface="Gill Sans"/>
              </a:rPr>
              <a:t>Per Capita Human Capital for working-age population (thousands of 2001 Australian doll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033640" y="1817640"/>
            <a:ext cx="8064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49640" y="408960"/>
            <a:ext cx="7427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Key Findings from Measures of Per Capita Human Capi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49640" y="1601640"/>
            <a:ext cx="754992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-79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verage human capital for men grew at 0.6% ann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verage human capital for women grew at about 2.8% ann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Overall average human capital grows at 1.3 % ann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Narrowing gaps may be mainly 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6560" indent="-12348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  <a:ea typeface="Lucida Sans Unicode"/>
              </a:rPr>
              <a:t>Converging gender participation r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6560" indent="-12348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9200"/>
                <a:tab algn="l" pos="52704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  <a:ea typeface="Lucida Sans Unicode"/>
              </a:rPr>
              <a:t>Narrowing gaps between male and female earn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817640" y="737280"/>
            <a:ext cx="8353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400097"/>
                </a:solidFill>
                <a:latin typeface="Gill Sans"/>
              </a:rPr>
              <a:t>Human Capital Stock in Australia (billions of 2001 Australian doll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889280" y="1817640"/>
            <a:ext cx="82087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04920" y="1744560"/>
            <a:ext cx="7123320" cy="34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The Australian contex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Human capital and its measurement sco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Methodolog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Some findings so fa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Possible future wor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Overview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33640" y="936000"/>
            <a:ext cx="8182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Key Findings from Measures of Human Capital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8000" y="2249640"/>
            <a:ext cx="713736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Significantly increased proportions of more-educated workers, in particular fo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nnual growth rate of human capital stock for men is 2.0% between 1981-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Annual growth rate of human capital stock for women is a massive 4.2% between 1981-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Overall growth rate is 2.8% between 1981-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033640" y="594360"/>
            <a:ext cx="8209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400097"/>
                </a:solidFill>
                <a:latin typeface="Gill Sans"/>
              </a:rPr>
              <a:t>Human Capital Accumulation Accounts, Males (millions of 2001 Australian doll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962000" y="1744560"/>
          <a:ext cx="806472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2000" y="1744560"/>
                    <a:ext cx="80647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962000" y="521280"/>
            <a:ext cx="8496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400097"/>
                </a:solidFill>
                <a:latin typeface="Gill Sans"/>
              </a:rPr>
              <a:t>Human Capital Accumulation Accounts, Females (millions of 2001 Australian doll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962000" y="1601640"/>
            <a:ext cx="813600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033640" y="902880"/>
            <a:ext cx="8182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Key Messages from Flow Accounting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000" y="2249640"/>
            <a:ext cx="713736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"/>
              </a:rPr>
              <a:t>Investment in education grew at a rapid pace, in particular for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"/>
              </a:rPr>
              <a:t>Magnitudes of depreciation on education capital trended up strong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"/>
              </a:rPr>
              <a:t>Net investment in work experience saw significant negative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"/>
              </a:rPr>
              <a:t>Revaluation is a major driver of stock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49640" y="593280"/>
            <a:ext cx="8181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Future Work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89280" y="1457280"/>
            <a:ext cx="813564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OECD Consortium of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Construction of a Human Capital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Refining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Measuring the contribution of human capital to economic growth /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Richer assessment of longer-term impacts of population ag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8892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Industry level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36920" y="996840"/>
            <a:ext cx="670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Questions / Discus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04920" y="1744560"/>
            <a:ext cx="7435800" cy="33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Intergenerational reports (2002, 2007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Human capital is a 'headline' policy aren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Policy reforms across governments (COAG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Yet to fully exploit measures of human capital (distinct from policy indicator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Australian cont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04920" y="1744560"/>
            <a:ext cx="74358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Intergenerational reports (2002, 2007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The Australian cont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00400" y="2519280"/>
            <a:ext cx="66992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04920" y="1744560"/>
            <a:ext cx="74358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Intergenerational reports (2002, 2007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The Australian cont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340000" y="2678040"/>
            <a:ext cx="684036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04920" y="1744560"/>
            <a:ext cx="74358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Intergenerational reports (2002, 2007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The Australian cont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979640" y="2519280"/>
            <a:ext cx="702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49640" y="136800"/>
            <a:ext cx="8181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000" spc="-1" strike="noStrike">
                <a:solidFill>
                  <a:srgbClr val="400097"/>
                </a:solidFill>
                <a:latin typeface="Gill Sans"/>
              </a:rPr>
              <a:t>What Is Human Capital and Key Defini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8000" y="1241280"/>
            <a:ext cx="7554960" cy="44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ill Sans"/>
              </a:rPr>
              <a:t>Human capital can be broadly defined as productive capacity embodied in individua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ill Sans"/>
              </a:rPr>
              <a:t>Input view of human capital: innate ability, education, training, experience, health care, e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ill Sans"/>
              </a:rPr>
              <a:t>Output view of human capital: enhanced earnings, better health, informed political participation, better parenting, etc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Aft>
                <a:spcPts val="462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Gill Sans"/>
              </a:rPr>
              <a:t>Economic definition of human capital: knowledge and skills embodied in individuals that is related to economic activit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78000" y="1457280"/>
            <a:ext cx="772164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Measuring capital is challengi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Objective: develop human capital estimates from a </a:t>
            </a:r>
            <a:r>
              <a:rPr b="1" lang="en-AU" sz="2900" spc="-1" strike="noStrike">
                <a:solidFill>
                  <a:srgbClr val="000000"/>
                </a:solidFill>
                <a:latin typeface="Gill Sans"/>
              </a:rPr>
              <a:t>national economic accounting</a:t>
            </a: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 perspecti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Quantity and valuation dimensions of asse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Quantity dimension: educational attainment, work experience, skill level, et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Valuation – cost and yiel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78000" y="682200"/>
            <a:ext cx="691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How to Measure Human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49640" y="1673280"/>
            <a:ext cx="7122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</a:rPr>
              <a:t>Directly designed for national accounting system and applied to U.S.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</a:rPr>
              <a:t>Comprehensive measures of human capital: human capital stock, investment in human capital and human capital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</a:rPr>
              <a:t>Human capital is measured as discounted present value of labour income flows over life cyc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</a:rPr>
              <a:t>Accounting for the effect of educational attainm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620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9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"/>
              </a:rPr>
              <a:t>Stock and flows are integrated through accumulation accou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20920" y="396360"/>
            <a:ext cx="7850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400097"/>
                </a:solidFill>
                <a:latin typeface="Gill Sans"/>
              </a:rPr>
              <a:t>Jorgenson and Fraumeni Lifetime Labour Incom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hui</cp:lastModifiedBy>
  <dcterms:modified xsi:type="dcterms:W3CDTF">2009-09-09T05:38:58Z</dcterms:modified>
  <cp:revision>33</cp:revision>
  <dc:subject/>
  <dc:title>Slide 1</dc:title>
</cp:coreProperties>
</file>