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DF1-9465-4ECB-B870-6B38142F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F48-B532-4CF8-9CB3-5EF04926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038-9C4B-49A2-AA2A-F2A7274E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2D0-605E-4A00-81AC-6893B473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085-039A-481C-80C2-DC7A5FCA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1E2-0D4B-453E-A5A5-E49427E1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F99-1F03-4275-BA34-2C849A4D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2AF-961D-4DF5-A57D-5BDDB43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748-BEDC-4CE0-93AC-A2245EB0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51C-222C-4331-81D6-2367F29E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2E6-A66E-4CD9-BC7A-9768020E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EAE-F533-4369-9BE4-80507C65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C960-9573-4C5C-8DE7-C7AE3976D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657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3200"/>
            <a:ext cx="8218440" cy="2970360"/>
          </a:xfrm>
          <a:prstGeom prst="rect">
            <a:avLst/>
          </a:prstGeom>
          <a:solidFill>
            <a:srgbClr val="003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M. Frau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kie School of Public Service, USM, Portland, 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the National Bureau of Economic Research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rence of European Statisticians, UNECE/OECD/Eur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k Force on Measuring Sustainabl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va, Switzerland September 24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5791320"/>
            <a:ext cx="77292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7621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struction of Human Capital Ac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asurement of Sustainabl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ve St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1:  No school or work, ages 0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2: School, but no work, ages 5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3: School and work, ages 16-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4: Work only, ages 35-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5: Retirement, zero income, ages 75 or 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8B8-BCE8-463B-8002-625870B094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tion No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i: lifetime market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mi: lifetime nonmark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Ymi: yearly (current) mark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Ynmi: yearly (current) nonmark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G: real rate of growth in labor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: discount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: survival rate to one year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: 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: age, by single year of age, e.g., age 0, 1, 2, ...74, 75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: highest level of education attained, by individual level of education from grade 1, 2, ..., through at least one year of graduate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lder: age + 1, e.g., being one year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2A7-A92A-4998-9451-8E27580062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tions for Ages 35-7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i(s,a,E) = ymi(s,a,e) + sr(s,older) * mi(s,older,e) * (1+g)/(1+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mi(s,a,e) = ynmi(s,a,e) + sr(s,older) * nmi(s,older,e) * (1+g)/(1+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4BC-A55E-4B60-A2A5-B9035B9992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tions for Ages 0-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i(s,a,e) = sr(s,older) * mi(s,older,e) * (1+g)/(1+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mi(s,a,e) = sr(s,older) * nmi(s,older,e) * (1+g)/(1+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5BB-700B-41E8-8D69-A9988C5371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Equation No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enr: school enrollmen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r: grade level enrolled, by individual level of education, grade 1, 2, through at least one year of graduate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+1: the next higher level of education completed, from grade 1, 2, ..., through at most one year of graduate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E88-479E-4DFE-9D0C-0324ED0CBE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Equations for Ages 5-3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i(s,a,e) = ymi(s,a,e) + sr (s,old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* [senr(s,a,enr) * mi(s,older,e+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+ (1 - senr(s,a,enr)) * mi(s,older,e)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* (1+g)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mi(s,a,e) = ynmi(s,a,e) + sr (s,old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* [senr(s,a,enr) * nmi(s,older,e+1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+ (1 - senr(s,a,enr)) * nmi(s,older,e)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* (1+g)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2B0-03AA-446D-896C-88F6CFE33F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cus on implementation of the Fraumeni simplified metho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36A-6526-4C00-A26B-5710B92BC9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45720" y="15228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7732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66680" y="1447920"/>
            <a:ext cx="7010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capital accounting is simultaneously one of the easiest and most difficult exercises in empirical econom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easy in the sense that the statistical techniques necessary are relatively si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the other hand, getting the data right can be massive challe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ian (200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541-E474-4786-A149-72BC04B3D0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egorical Approach Challe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usting”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reasonab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009-2B90-4691-A46C-10EF0426E7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egorical Approach Major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ool (and work?)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between enrollment and age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ion, including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 of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th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66B-CBC0-4B25-99EF-02FDEEE9CE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200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stainable development as development that meet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…the needs of the present without compromising the ability of future generations to meet their own needs”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ld Commis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Environment &amp; Development, 19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054-220C-4625-8A8E-2FCD4EB100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Categorical Approa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most cases individuals of a certain age are assumed to be enrolled in a specific grade determined by their current educational attainment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viduals who are older individuals for a particular enrollment level are spread across gr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455-FAC5-4CD2-B779-F3D36B6130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Categorical Approa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U.S., students in a particular pre-college grade are typically of two different 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4C8-2247-4876-9DAF-988841653A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Categorical Approa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r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d years left to complete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574-5681-4D68-978A-78A7A42986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Categorical Approa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data on initial enrol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average probability of advancement to the next educatio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bor income determined with Mincer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346-E5E7-43C6-9016-DE98B47147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riving population by individual year of age is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(s,yr) is the number of persons born (of age 0) in this and earlier birth years for those in the categ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op(s,1,1) is categorical population for age category 1 (ages 0-5) and education category 1 (grade 8 or less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opulation(s,a,1) is population by single year of age for education category 1 (grade 8 or less comple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r(s,1) is the average one-year rate of survival of individuals in age category 1 (ages 0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(s,yr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ge 0 = population(s,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)*B(s, yr-1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1 = population(s,1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Times New Roman"/>
              </a:rPr>
              <a:t>2*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(s, yr-2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2 = population(s,2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,1</a:t>
            </a:r>
            <a:r>
              <a:rPr b="1" lang="pt-BR" sz="2000" spc="-1" strike="noStrike" baseline="30000">
                <a:solidFill>
                  <a:srgbClr val="000000"/>
                </a:solidFill>
                <a:latin typeface="Times New Roman"/>
              </a:rPr>
              <a:t>)3*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(s, yr-3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3 = population(s,3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,1</a:t>
            </a:r>
            <a:r>
              <a:rPr b="1" lang="pt-BR" sz="2000" spc="-1" strike="noStrike" baseline="30000">
                <a:solidFill>
                  <a:srgbClr val="000000"/>
                </a:solidFill>
                <a:latin typeface="Times New Roman"/>
              </a:rPr>
              <a:t>)4*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(s, yr-4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4 = population(s,4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r(s,1</a:t>
            </a:r>
            <a:r>
              <a:rPr b="1" lang="pt-BR" sz="2000" spc="-1" strike="noStrike" baseline="30000">
                <a:solidFill>
                  <a:srgbClr val="000000"/>
                </a:solidFill>
                <a:latin typeface="Times New Roman"/>
              </a:rPr>
              <a:t>)5*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(s, yr-5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e 5 = population(s,5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0DD-AAEC-48E5-8E73-FB0CF8C54F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sues With This Birth Imp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vival rates are taken from the current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urvival rate from age 0 to age 1 is typically significantly different from later ages survival r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620-6D7F-4ADB-B79A-16632F5340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ose-colored glasses effect in the U.S.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lsewhere?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45720" y="15228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6B8-8577-4FD5-87AF-5FC0034979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ntry Success with J-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urrent efforts indicate that J-F can be done with categori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problems are being over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s good mov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3B6-E1E6-4074-B523-8A730A7B3A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ortance of Human Cap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 in satisfying the present and future needs of humank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just the impact of humans on natural resources and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D82-41FE-412F-B7D5-07368D2A81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ext for Constructing Human Capital 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ECD 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rgenson-Fraumeni human capital accounts have been constructed for Australia, Canada, China, New Zealand, Norway, Sweden and the 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” countries using J-F methodology will facilitate cross-country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AFE-117C-4B7A-AAB9-4C465EFABC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ommend that countries initially estimate only market lifetime in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30F-F161-4349-8799-21262ED3A0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-F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man capital is measured as lifetime income, e.g., present and future inco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62B-2696-4DD9-9328-9CFAB4850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-F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data listed below is needed for even a market onl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individual years of age &amp; level of education (highest level attained or enroll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r comp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rates (by sex and ag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280"/>
            <a:ext cx="3809880" cy="36540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280"/>
            <a:ext cx="2687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784-ECB7-4716-B32F-A09B145974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Labo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contemporary information and data sets, assess the probabilities that persons will go to school, perform market work, and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wage rates (labor incomes) are assumed to increase at a specified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labor incomes are discou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9D5-8B5E-4F4E-80A2-0F13443AB5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3b78"/>
            </a:gs>
            <a:gs pos="100000">
              <a:srgbClr val="8494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-F (1992)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The Output of the Education Sector”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wards recur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tes dependent upon those older in the calendar year, e.g., relative future wage rates (labor incomes) come from contemporar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s dictated by data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3809880" cy="365040"/>
          </a:xfrm>
          <a:prstGeom prst="rect">
            <a:avLst/>
          </a:prstGeom>
          <a:solidFill>
            <a:srgbClr val="1e3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skie School of Public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56240" y="0"/>
            <a:ext cx="2687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D. Program in Publ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659-7ADC-4569-9E77-80E80534B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2:43:38Z</dcterms:created>
  <dc:creator>David Puelle</dc:creator>
  <dc:description/>
  <dc:language>en-US</dc:language>
  <cp:lastModifiedBy>Etropolska</cp:lastModifiedBy>
  <dcterms:modified xsi:type="dcterms:W3CDTF">2009-09-22T07:46:05Z</dcterms:modified>
  <cp:revision>268</cp:revision>
  <dc:subject/>
  <dc:title>PowerPoint Presentation</dc:title>
</cp:coreProperties>
</file>