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DD7-A4EF-47B3-B765-43594B26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E1C-4B0A-4204-9954-75669E5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C59-2BE5-472E-923C-356C8D6F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130-1249-43F9-BE16-81775708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155-2AFC-4328-B9B9-392103F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266-3916-4B3F-B8F1-80B2061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0D4-8542-4F65-B85D-4AA61428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90C-51EB-4B50-83B3-40A1BE8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455-05AD-490F-AF71-27E394B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426-73C5-4471-9072-1B3CC27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163-FD45-40C8-A17B-CD39E1A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630-958D-4836-81C5-B4FEC9C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3F50-F3CF-473A-9D96-EFE16A06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57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218440" cy="2970360"/>
          </a:xfrm>
          <a:prstGeom prst="rect">
            <a:avLst/>
          </a:prstGeom>
          <a:solidFill>
            <a:srgbClr val="00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M. Frau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ie School of Public Service, USM, Portland, 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the National Bureau of Economic Research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f European Statisticians, UNECE/OECD/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 Force on Measuring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va, Switzerland September 24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5791320"/>
            <a:ext cx="77292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762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ruction of Human Capital Ac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urement of 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ve S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1:  No school or work, ages 0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2: School, but no work, ages 5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3: School and work, ages 16-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4: Work only, ages 35-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5: Retirement, zero income, ages 75 or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58D-A088-4926-A448-6CABD13A08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 No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i: lifetime market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mi: lifetime non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Ymi: yearly (current) 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Ynmi: yearly (current) non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G: real rate of growth in labor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: discoun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: survival rate to one yea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: 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: age, by single year of age, e.g., age 0, 1, 2, ...74, 75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: highest level of education attained, by individual level of education from grade 1, 2, ..., through at least one year of graduat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lder: age + 1, e.g., being one yea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0B4-AEBF-4074-A896-DCA4C9E7F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s for Ages 35-7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i(s,a,E) = ymi(s,a,e) + sr(s,older) * 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mi(s,a,e) = ynmi(s,a,e) + sr(s,older) * n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BF2-E087-43C6-88DC-531D9E82AB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s for Ages 0-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i(s,a,e) = sr(s,older) * 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mi(s,a,e) = sr(s,older) * n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45B-C6BB-425F-9B88-7605C7232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Equation No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nr: school enrollme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r: grade level enrolled, by individual level of education, grade 1, 2, through at least one year of graduat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+1: the next higher level of education completed, from grade 1, 2, ..., through at most one year of graduate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7DE-16AE-4E0D-8F45-47AF10480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Equations for Ages 5-3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i(s,a,e) = ymi(s,a,e) + sr (s,old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[senr(s,a,enr) * mi(s,older,e+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 (1 - senr(s,a,enr)) * mi(s,older,e)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(1+g)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mi(s,a,e) = ynmi(s,a,e) + sr (s,old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[senr(s,a,enr) * nmi(s,older,e+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 (1 - senr(s,a,enr)) * nmi(s,older,e)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(1+g)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B3C-5A57-4878-AE54-D68436B81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cus on implementation of the Fraumeni simplified metho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EE4-2843-452E-A589-221FD9B472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7732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66680" y="1447920"/>
            <a:ext cx="7010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capital accounting is simultaneously one of the easiest and most difficult exercises in empirical econom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easy in the sense that the statistical techniques necessary are relatively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the other hand, getting the data right can be massive challe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ian (200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9FE-A08D-4FFE-8632-DAAB26606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egorical Approach Challe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ing”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4D1-90D6-4217-8E5F-B2C5EE8019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egorical Approach Majo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(and work?)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between enrollment and age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ion, including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 of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969-8843-423E-8925-2CE350F5A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200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stainable development as development that meet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…the needs of the present without compromising the ability of future generations to meet their own needs”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ld Commis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Environment &amp; Development, 19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492-E386-4B7D-89A5-D235C27A7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st cases individuals of a certain age are assumed to be enrolled in a specific grade determined by their current educational attainmen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s who are older individuals for a particular enrollment level are spread across g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CC2-B73E-4384-9C4A-CA2F7868D8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U.S., students in a particular pre-college grade are typically of two different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A35-8FE2-4F7C-AAC1-0E97438357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d years left to complete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DDA-6A58-4925-B188-5C2E204D1D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data on initial 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verage probability of advancement to the next educ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or income determined with Mincer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02E-C632-4B10-8BA1-44D7EE1D77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ing population by individual year of age is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(s,yr) is the number of persons born (of age 0) in this and earlier birth years for those in the 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op(s,1,1) is categorical population for age category 1 (ages 0-5) and education category 1 (grade 8 or less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opulation(s,a,1) is population by single year of age for education category 1 (grade 8 or less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r(s,1) is the average one-year rate of survival of individuals in age category 1 (ages 0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s,yr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ge 0 = population(s,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)*B(s, yr-1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1 = population(s,1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2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2 = population(s,2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3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3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3 = population(s,3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4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4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4 = population(s,4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5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5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5 = population(s,5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32A-1852-4C1F-A40C-F884D5A97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sues With This Birth I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vival rates are taken from the curren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rvival rate from age 0 to age 1 is typically significantly different from later ages survival 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1E7-C149-4F5C-9A70-AB91858E25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ose-colored glasses effect in the U.S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lsewhere?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850-B3DF-4774-ACA2-0737D4C463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ntry Success with J-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urrent efforts indicate that J-F can be done with categor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problems are being over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s good mov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318-FDC2-4F39-945C-1319681A2D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Human 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in satisfying the present and future needs of humank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just the impact of humans on natural resources and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7A5-99CB-441E-B895-3A74F3F89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xt for Constructing Human Capital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ECD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nson-Fraumeni human capital accounts have been constructed for Australia, Canada, China, New Zealand, Norway, Sweden and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” countries using J-F methodology will facilitate cross-country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F63-5165-4B89-A32A-4FBDFFF607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mend that countries initially estimate only market lifetime 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08C-DA16-419D-B80D-75A54CBAD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-F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 capital is measured as lifetime income, e.g., present and future inc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4D3-010B-41F7-BEF6-BAA312437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-F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data listed below is needed for even a market onl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individual years of age &amp; level of education (highest level attained or enroll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rates (by sex and ag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53-68AB-49F7-A64C-8CB0D8CA85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Labo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contemporary information and data sets, assess the probabilities that persons will go to school, perform market work, and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wage rates (labor incomes) are assumed to increase at a specified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labor incomes are discou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1A9-3D54-47F3-947C-B97702B0D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wards recu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tes dependent upon those older in the calendar year, e.g., relative future wage rates (labor incomes) come from contemporar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s dictated by data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F5E-B4E7-45BA-B715-681EE74FF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43:38Z</dcterms:created>
  <dc:creator>David Puelle</dc:creator>
  <dc:description/>
  <dc:language>en-US</dc:language>
  <cp:lastModifiedBy>Etropolska</cp:lastModifiedBy>
  <dcterms:modified xsi:type="dcterms:W3CDTF">2009-09-22T07:46:05Z</dcterms:modified>
  <cp:revision>268</cp:revision>
  <dc:subject/>
  <dc:title>PowerPoint Presentation</dc:title>
</cp:coreProperties>
</file>