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3CB-AB77-4607-BAC2-A254CF2C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CA5-EE1D-4B86-B1E4-B982F2ED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E52-9583-42BD-B3CB-AFDE0819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F7E-0F65-4DF9-A698-3817DA62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906-3CA1-4706-B62D-C71A9DF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CCC-FBE7-4721-93B7-8ED4342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F4D-BA95-4679-B739-7A2F3BD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244-38F6-4575-93CA-ABC57BDC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151-342B-4572-8C66-E296310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72D-D9FE-4E8F-8FDC-33C0888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54D-6981-4EE5-AA57-08D5B3E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B62-8250-432C-A92D-03951D0A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ABC-DD7D-41E9-B9D8-ADA801E6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SD Indic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D Indictors: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D stands for: Commission on Sustainable Development, an ECOSOC functional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D gave mandate for development o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 organized in a policy-oriented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 collected or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for countries to develop their indicators by adopting or adapting as they see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atic Fra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 Themes, 44 Sub-themes, 96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447920"/>
          <a:ext cx="8229600" cy="5070240"/>
        </p:xfrm>
        <a:graphic>
          <a:graphicData uri="http://schemas.openxmlformats.org/drawingml/2006/table">
            <a:tbl>
              <a:tblPr/>
              <a:tblGrid>
                <a:gridCol w="2286000"/>
                <a:gridCol w="2590920"/>
                <a:gridCol w="3352680"/>
              </a:tblGrid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ov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tural haz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conomic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over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lobal economic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L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onsumption and production patter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ceans, seas and coa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Biodiver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emograph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Freshwa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cator adoption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8" name=""/>
          <p:cNvSpPr/>
          <p:nvPr/>
        </p:nvSpPr>
        <p:spPr>
          <a:xfrm>
            <a:off x="0" y="582480"/>
            <a:ext cx="10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2480"/>
            <a:ext cx="111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82480"/>
            <a:ext cx="287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"/>
          <p:cNvSpPr/>
          <p:nvPr/>
        </p:nvSpPr>
        <p:spPr>
          <a:xfrm>
            <a:off x="1593720" y="720720"/>
            <a:ext cx="10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3720" y="720720"/>
            <a:ext cx="111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93720" y="720720"/>
            <a:ext cx="287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6108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ko Milice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 for Sustainab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, 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: 212 963 3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cevicb@u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4:04:24Z</dcterms:created>
  <dc:creator>United Nations</dc:creator>
  <dc:description/>
  <dc:language>en-US</dc:language>
  <cp:lastModifiedBy>dsd</cp:lastModifiedBy>
  <dcterms:modified xsi:type="dcterms:W3CDTF">2009-09-23T09:23:55Z</dcterms:modified>
  <cp:revision>15</cp:revision>
  <dc:subject/>
  <dc:title>CSD Indicators</dc:title>
</cp:coreProperties>
</file>