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27C1-62F2-41A3-BA21-FAF984E0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1BBE-8663-4E44-A82D-A4031456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64D2-3182-491E-BE07-4DF93B361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698B-13F6-4783-B883-A534BEF3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C283-EA86-4C2D-820B-274ABB0E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2744-FDD5-4E5E-9B57-857509A9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D12C-F452-4C31-9C14-24046089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39F1-6C88-4DD6-93A1-BD3201FE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8C28-FD16-4232-A294-8F12A410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580A-4F36-447E-92C6-0F72F634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09E3-07DF-42D4-9415-DE3A9F71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AB09-096E-48E9-8D26-4211D0C6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BD66-719C-4472-8003-CF40B26D5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4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SD Indicato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SD Indictors: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D stands for: Commission on Sustainable Development, an ECOSOC functional com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D gave mandate for development of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dition organized in a policy-oriented frame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ata collected or comp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for countries to develop their indicators by adopting or adapting as they see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matic Framework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 Themes, 44 Sub-themes, 96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447920"/>
          <a:ext cx="8229600" cy="5070240"/>
        </p:xfrm>
        <a:graphic>
          <a:graphicData uri="http://schemas.openxmlformats.org/drawingml/2006/table">
            <a:tbl>
              <a:tblPr/>
              <a:tblGrid>
                <a:gridCol w="2286000"/>
                <a:gridCol w="2590920"/>
                <a:gridCol w="3352680"/>
              </a:tblGrid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Pover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Natural haza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Economic develop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Govern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Atmosph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Global economic partner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Heal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Lan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Consumption and production patter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Edu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Oceans, seas and coa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Biodivers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Demograph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Freshwat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icator adoption mat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48" name=""/>
          <p:cNvSpPr/>
          <p:nvPr/>
        </p:nvSpPr>
        <p:spPr>
          <a:xfrm>
            <a:off x="0" y="582480"/>
            <a:ext cx="1006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82480"/>
            <a:ext cx="1119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82480"/>
            <a:ext cx="287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27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53" name=""/>
          <p:cNvSpPr/>
          <p:nvPr/>
        </p:nvSpPr>
        <p:spPr>
          <a:xfrm>
            <a:off x="1593720" y="720720"/>
            <a:ext cx="1006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93720" y="720720"/>
            <a:ext cx="1119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93720" y="720720"/>
            <a:ext cx="287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610840" cy="49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ko Milicev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sion for Sustainab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, United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: 212 963 39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cevicb@un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4:04:24Z</dcterms:created>
  <dc:creator>United Nations</dc:creator>
  <dc:description/>
  <dc:language>en-US</dc:language>
  <cp:lastModifiedBy>dsd</cp:lastModifiedBy>
  <dcterms:modified xsi:type="dcterms:W3CDTF">2009-09-23T09:23:55Z</dcterms:modified>
  <cp:revision>15</cp:revision>
  <dc:subject/>
  <dc:title>CSD Indicators</dc:title>
</cp:coreProperties>
</file>