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05E5-05CD-47C2-B1A7-9BB80E604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53EA-F182-4AC5-9150-169E93FF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F1CE-164C-4DE5-8AAF-AA954A06B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CF8E-E91A-4C52-9555-6C9A37A5B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9FA2-257D-4973-BC03-79DCCAE47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4B24-4692-4BDD-B572-ACA5B153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4E77-992C-40D3-A470-CC899D26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E8BA-E255-4777-8E0A-5B141A4B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1B94-4CB3-4373-951D-5627A37F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CBFA-C55C-4A0C-84E2-AB5B8B98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C23A-0C59-4A62-A05D-B95440A3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36CE-D207-41FF-9F7C-4A6DDA6B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5E32-ACA6-4862-9FC4-E343ADF5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2DFC-46F1-448D-AD7E-13733CA7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C85E-44E5-4AF4-9EF2-1FDCA6E1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95D0-472F-4C8F-A174-0F60571E3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0FB6-6910-40BB-8998-2AAE2806D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47C9-668A-45DD-9C89-7FFE661C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766F-9380-4270-BB8B-6ABD9A1A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9E4E-C16A-447E-8463-CF9E18ED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9432-82CB-4E76-B064-AE5A6A14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B86D-3D25-4872-A010-912C1D56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3BE2-0272-4B38-A14F-261C01B8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07DF-8B7B-4F97-910B-D3E056DC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7775F4-BBFB-4C4A-8037-DA1D9B492A6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7731A1-7E0E-4FC7-B499-91ED1AABBE0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Num" idx="7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B0AF10-332A-4E2F-998D-DA7B770FCF0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04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1000"/>
          </a:bodyPr>
          <a:p>
            <a:pPr indent="0">
              <a:lnSpc>
                <a:spcPct val="100000"/>
              </a:lnSpc>
              <a:buNone/>
            </a:pPr>
            <a:r>
              <a:rPr b="1" lang="en-US" sz="5400" spc="-1" strike="noStrike">
                <a:solidFill>
                  <a:srgbClr val="1f497d"/>
                </a:solidFill>
                <a:latin typeface="Garamond"/>
              </a:rPr>
              <a:t>Measuring Sustainable Development:  Wealth and Adjusted Net Savings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lenn-Marie L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vironment Depar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1f497d"/>
                </a:solidFill>
                <a:latin typeface="Garamond"/>
              </a:rPr>
              <a:t>Wealth &amp; Sav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stantial theoretical literature has shown t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onomic well-being depends on weal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tainable development depends on maintaining per capita weal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, we want to monitor wealth and changes in wealth, adjusted net savings (Genuine Saving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1f497d"/>
                </a:solidFill>
                <a:latin typeface="Garamond"/>
              </a:rPr>
              <a:t>Estimating wealth, four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Content Placeholder 4"/>
          <p:cNvGraphicFramePr/>
          <p:nvPr/>
        </p:nvGraphicFramePr>
        <p:xfrm>
          <a:off x="533520" y="1600200"/>
          <a:ext cx="8076960" cy="4956840"/>
        </p:xfrm>
        <a:graphic>
          <a:graphicData uri="http://schemas.openxmlformats.org/drawingml/2006/table">
            <a:tbl>
              <a:tblPr/>
              <a:tblGrid>
                <a:gridCol w="1614960"/>
                <a:gridCol w="1614960"/>
                <a:gridCol w="1614960"/>
                <a:gridCol w="1614960"/>
                <a:gridCol w="1616040"/>
              </a:tblGrid>
              <a:tr h="943560">
                <a:tc>
                  <a:txBody>
                    <a:bodyPr lIns="100080" rIns="100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endParaRPr>
                    </a:p>
                  </a:txBody>
                  <a:tcPr anchor="t" marL="100080" marR="100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080" marR="100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ed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080" marR="100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ural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080" marR="100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4) = (1)-(2)-(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angible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080" marR="100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720">
                <a:tc>
                  <a:txBody>
                    <a:bodyPr lIns="100080" rIns="100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od 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080" marR="100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t Value of consum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080" marR="100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petual Inventory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080" marR="100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t Value of r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080" marR="100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080" marR="100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2920">
                <a:tc>
                  <a:txBody>
                    <a:bodyPr lIns="100080" rIns="100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ets inclu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080" marR="100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y definition, all assets that contribute to national consum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080" marR="100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chinery, equipment and infrastru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ban 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080" marR="100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-soil 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ources (timber and non-timb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op and pasture 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ected ar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080" marR="100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uman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vern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titutional effective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 other assets not measured in column (2) and (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080" marR="100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1f497d"/>
                </a:solidFill>
                <a:latin typeface="Garamond"/>
              </a:rPr>
              <a:t>Testing genuine sav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240" cy="49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0920" indent="-34092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ory suggests that positive genuine saving today should lead to growth in consumption in the fu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rreira and Vincent (2005) and Ferreira, Hamilton and Vincent (2008) test this using the World Bank’s 30 year time series of saving estim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developing countries the relationship holds, but not for rich countries (where innovation and technology are arguably the engine of growt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rther testing would benefit from improved accou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9F1D-B6FA-4465-AC5B-21103695F4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24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1f497d"/>
                </a:solidFill>
                <a:latin typeface="Garamond"/>
              </a:rPr>
              <a:t>Issues and research priorities for 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240" cy="39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ceptual 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ata improv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moting use of wealth &amp; savings accou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BE29A2-5D7F-4E79-8DCC-8CCC44BB48C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1f497d"/>
                </a:solidFill>
                <a:latin typeface="Garamond"/>
              </a:rPr>
              <a:t>Issues addressed in the forthcoming report, </a:t>
            </a:r>
            <a:r>
              <a:rPr b="0" i="1" lang="en-US" sz="4400" spc="-1" strike="noStrike">
                <a:solidFill>
                  <a:srgbClr val="1f497d"/>
                </a:solidFill>
                <a:latin typeface="Garamond"/>
              </a:rPr>
              <a:t>The</a:t>
            </a:r>
            <a:r>
              <a:rPr b="0" lang="en-US" sz="4400" spc="-1" strike="noStrike">
                <a:solidFill>
                  <a:srgbClr val="1f497d"/>
                </a:solidFill>
                <a:latin typeface="Garamond"/>
              </a:rPr>
              <a:t> </a:t>
            </a:r>
            <a:r>
              <a:rPr b="0" i="1" lang="en-US" sz="4400" spc="-1" strike="noStrike">
                <a:solidFill>
                  <a:srgbClr val="1f497d"/>
                </a:solidFill>
                <a:latin typeface="Garamond"/>
              </a:rPr>
              <a:t>Changing Wealth of N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0384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Garamond"/>
              </a:rPr>
              <a:t>Conceptual 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58440" indent="-25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angible capital and understanding the resid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8440" indent="-25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s to market exchange rates for international comparisons (PP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8440" indent="-25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 gains and depletion of exhaustible re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38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384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Garamond"/>
              </a:rPr>
              <a:t>Improving data for the wealth &amp; saving accou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58440" indent="-25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orporating wealth accounts compiled by national statistical off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8440" indent="-25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wing on national research 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45D8-0A0C-42E7-BD42-A993140B43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3520" y="808200"/>
            <a:ext cx="8229240" cy="60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Garamond"/>
              </a:rPr>
              <a:t>Issues for future work includ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ing ‘missing’ natural capital—certain minerals, fisheries, w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ing thresholds and non-linearities in the natural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ing biodivers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ntorying and valuing environmental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ing elasticities of substitution for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E691-7868-4EA0-BEFE-7275171128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1f497d"/>
                </a:solidFill>
                <a:latin typeface="Garamond"/>
              </a:rPr>
              <a:t>Promoting use of wealth accoun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0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hanging Wealth of Nation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 promote partnerships with World Bank units, especially operational un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720" indent="-2840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econom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8720" indent="-2840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 of rents from minerals, EITI++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8720" indent="-2840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by country and regional un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0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are looking for partnerships outside—possibly UNEP, the World Wealth Report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eting in January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  <Words>404</Words>
  <Paragraphs>76</Paragraphs>
  <Company>The World Bank Group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4:46:18Z</dcterms:created>
  <dc:creator>wb351319</dc:creator>
  <dc:description/>
  <dc:language>en-US</dc:language>
  <cp:lastModifiedBy>wb351319</cp:lastModifiedBy>
  <dcterms:modified xsi:type="dcterms:W3CDTF">2009-09-22T15:50:54Z</dcterms:modified>
  <cp:revision>1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8</vt:r8>
  </property>
</Properties>
</file>