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B3F-672A-4D45-A6DD-51AD4109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B13-AA06-4535-83C8-E48C515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D07-AF10-4D6A-BA0C-7BDC1F05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E37-954B-45E4-8F6F-1B44E64C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E794-6171-470E-AB34-2056E73B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438-2A6A-41EF-90EE-585DFAD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E2E-6B19-42A1-99B7-21D390B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85DB-DF88-4F4C-92FD-28DA4D3C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0124-ED33-4FD8-ADE9-B2A7538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D55-396B-4783-88C9-FAAFF254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D87-234D-4A95-ACB0-33D22CC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EE8-86A7-4B9A-A26F-580B7C26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CD0-CC40-43D2-9EC2-4D3BB1A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288B-5C70-421C-AA5F-6941CF7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233E-5B2B-4ED2-87D0-D4AE7259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1B0A-B2FC-465D-AD19-2ECE6379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74F7-6858-4D80-89B3-FC821FCF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665-515C-457D-A12C-0145AB86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827-0B4F-416D-BF0E-9267540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D32-BD35-407D-B452-520F837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D47-0AF8-4433-A8BE-4DD0AB6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AC3-66EF-4EBB-A14D-D34C8ED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B1D-49FB-45C7-9012-69C330D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DBA-B5A7-4319-85E9-F22F0B7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0783E5-23EA-4F53-9A3E-36A00D0ABC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715D57-9D4C-44FC-8A43-8F3628D411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Num" idx="7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309C32-174D-4296-BDF4-D8BFDB2B38C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04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1f497d"/>
                </a:solidFill>
                <a:latin typeface="Garamond"/>
              </a:rPr>
              <a:t>Measuring Sustainable Development:  Wealth and Adjusted Net Saving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enn-Marie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Wealth &amp; Sav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tial theoretical literature has shown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well-being depends on 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development depends on maintaining per capita 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we want to monitor wealth and changes in wealth, adjusted net savings (Genuine Sav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Estimating wealth, four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Content Placeholder 4"/>
          <p:cNvGraphicFramePr/>
          <p:nvPr/>
        </p:nvGraphicFramePr>
        <p:xfrm>
          <a:off x="533520" y="1600200"/>
          <a:ext cx="8076960" cy="4956840"/>
        </p:xfrm>
        <a:graphic>
          <a:graphicData uri="http://schemas.openxmlformats.org/drawingml/2006/table">
            <a:tbl>
              <a:tblPr/>
              <a:tblGrid>
                <a:gridCol w="1614960"/>
                <a:gridCol w="1614960"/>
                <a:gridCol w="1614960"/>
                <a:gridCol w="1614960"/>
                <a:gridCol w="1616040"/>
              </a:tblGrid>
              <a:tr h="94356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 = (1)-(2)-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angible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 of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petual Inventory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 of 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292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ts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 definition, all assets that contribute to national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hinery, equipment and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oil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s (timber and non-timb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 and pasture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man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onal 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other assets not measured in column (2) and 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Testing genuine sa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suggests that positive genuine saving today should lead to growth in consumption in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reira and Vincent (2005) and Ferreira, Hamilton and Vincent (2008) test this using the World Bank’s 30 year time series of saving est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developing countries the relationship holds, but not for rich countries (where innovation and technology are arguably the engine of grow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testing would benefit from improved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423D-C401-4F26-B884-8204EFC85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2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Issues and research priorities for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39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u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impr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moting use of wealth &amp; savings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DAB277-8D91-4308-96E4-60B868D7D3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Issues addressed in the forthcoming report, </a:t>
            </a:r>
            <a:r>
              <a:rPr b="0" i="1" lang="en-US" sz="4400" spc="-1" strike="noStrike">
                <a:solidFill>
                  <a:srgbClr val="1f497d"/>
                </a:solidFill>
                <a:latin typeface="Garamond"/>
              </a:rPr>
              <a:t>The</a:t>
            </a: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1f497d"/>
                </a:solidFill>
                <a:latin typeface="Garamond"/>
              </a:rPr>
              <a:t>Changing Wealth of 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aramond"/>
              </a:rPr>
              <a:t>Conceptu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angible capital and understanding the res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to market exchange rates for international comparisons (P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gains and depletion of exhaustibl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aramond"/>
              </a:rPr>
              <a:t>Improving data for the wealth &amp; saving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ing wealth accounts compiled by national statistical off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n national research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673E-F5AD-485E-8E30-1880CB7C58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808200"/>
            <a:ext cx="8229240" cy="60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aramond"/>
              </a:rPr>
              <a:t>Issues for future work includ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‘missing’ natural capital—certain minerals, fisheries,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resholds and non-linearities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ing bio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ing and valuing environment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elasticities of substitution for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791-68BD-4697-B346-8E96A6178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Promoting use of wealth accou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ing Wealth of N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promote partnerships with World Bank units, especially operational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econ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rents from minerals, EITI+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by country and regio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looking for partnerships outside—possibly UNEP, the World Wealth Repor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eting in Januar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404</Words>
  <Paragraphs>76</Paragraphs>
  <Company>The World Bank Grou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46:18Z</dcterms:created>
  <dc:creator>wb351319</dc:creator>
  <dc:description/>
  <dc:language>en-US</dc:language>
  <cp:lastModifiedBy>wb351319</cp:lastModifiedBy>
  <dcterms:modified xsi:type="dcterms:W3CDTF">2009-09-22T15:50:54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