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088188" cy="9410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8502-62A1-4990-B64C-628284EDB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9341-DE5E-4EF7-A35B-5AAD4CA18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A23B-6C07-4D2D-8AD7-9211D55C6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DFAE-99A5-46BA-B37A-BBA4DC90E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656B-00B7-47EB-8C54-FCA941890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0842-F8F1-420B-B4E5-38D3402CA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F615-3CF9-4FC6-867B-E107EA789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D893-EF5F-4C66-85CF-F01DC670E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5E97-CE8E-4646-A95D-B58E2D503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F8E7-98BE-49ED-BE81-CE823FA6F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AFCB-816F-43F7-A533-D43408F00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9BD7-9C70-442B-8690-C666E4582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587640" y="6379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13754-B5EF-4B1B-A171-52CB7FB07DA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842920" y="63878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stics Canada • Statistique Can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394920" y="6408360"/>
            <a:ext cx="1522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B2860-54CC-457D-A602-879A10313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692360" y="1844640"/>
            <a:ext cx="597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611280" y="1916280"/>
            <a:ext cx="79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Measuring Sustainable Development: Canadian Experi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611280" y="3718080"/>
            <a:ext cx="8064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owena Or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Environment Accounts and Statistics Di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611280" y="4653000"/>
            <a:ext cx="806436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First Meeting of the Joint UNECE/OECD/Eurostat Task For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for Measuring Sustainable Develo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September 23,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Date Placeholder 3"/>
          <p:cNvSpPr/>
          <p:nvPr/>
        </p:nvSpPr>
        <p:spPr>
          <a:xfrm>
            <a:off x="6588000" y="638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35A39-B881-42F7-BA66-7161C4EC94B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ooter Placeholder 4"/>
          <p:cNvSpPr/>
          <p:nvPr/>
        </p:nvSpPr>
        <p:spPr>
          <a:xfrm>
            <a:off x="2843280" y="63882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stics Canada • Statistique Can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5"/>
          <p:cNvSpPr/>
          <p:nvPr/>
        </p:nvSpPr>
        <p:spPr>
          <a:xfrm>
            <a:off x="395280" y="6408720"/>
            <a:ext cx="1522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4CDAA-2A1F-4837-A75E-6A83EE617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Strengths of the Current System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 conceptual foundation to guide the measurement and statistical framewor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nstrates the role of the central statistical agency in ensuring rigour in the development and implementation of the statistical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al capital approach has been used to elaborate the six SD indicators resulting from an extensive round of national consultations held by the federal government in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Date Placeholder 3"/>
          <p:cNvSpPr/>
          <p:nvPr/>
        </p:nvSpPr>
        <p:spPr>
          <a:xfrm>
            <a:off x="6588000" y="638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3F880-1DC5-4EC4-A11F-CDC797DDE83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ooter Placeholder 4"/>
          <p:cNvSpPr/>
          <p:nvPr/>
        </p:nvSpPr>
        <p:spPr>
          <a:xfrm>
            <a:off x="2843280" y="63882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stics Canada • Statistique Can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5"/>
          <p:cNvSpPr/>
          <p:nvPr/>
        </p:nvSpPr>
        <p:spPr>
          <a:xfrm>
            <a:off x="395280" y="6408720"/>
            <a:ext cx="1522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3DAA3-DDEA-4FDD-A849-BDE95F69E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Weaknesses of the Current System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of the capital approach has been fragmented: fairly significant work on produced capital and some forms of natural capital; some work on human capital; none on social cap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ess is somewhat dependent on the uptake by policy departments: work on SD indicators in Canada is highly decentralized and largely policy dri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jor challenge: data gaps and limi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Date Placeholder 3"/>
          <p:cNvSpPr/>
          <p:nvPr/>
        </p:nvSpPr>
        <p:spPr>
          <a:xfrm>
            <a:off x="6588000" y="638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B44F0-A6C3-45A0-B4A5-70E8E1678AD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ooter Placeholder 4"/>
          <p:cNvSpPr/>
          <p:nvPr/>
        </p:nvSpPr>
        <p:spPr>
          <a:xfrm>
            <a:off x="2843280" y="63882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stics Canada • Statistique Can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395280" y="6408720"/>
            <a:ext cx="1522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91786-E89A-4508-B052-87AA66B447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Future Direction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56840"/>
            <a:ext cx="8472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drivers to progr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mework for Developing Environmental Statistic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ada’s new Federal Sustainable Act and Federal Sustainable Development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focus on accountability and performance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ther efforts on the measurement of human ca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 capital: conceptual ambiguities and measurement difficult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3"/>
          <p:cNvSpPr/>
          <p:nvPr/>
        </p:nvSpPr>
        <p:spPr>
          <a:xfrm>
            <a:off x="6588000" y="638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57279-8DB7-4AB7-9269-759CFE89B3D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ooter Placeholder 4"/>
          <p:cNvSpPr/>
          <p:nvPr/>
        </p:nvSpPr>
        <p:spPr>
          <a:xfrm>
            <a:off x="2843280" y="63882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stics Canada • Statistique Can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5"/>
          <p:cNvSpPr/>
          <p:nvPr/>
        </p:nvSpPr>
        <p:spPr>
          <a:xfrm>
            <a:off x="395280" y="6408720"/>
            <a:ext cx="1522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37CEF-8A49-4E31-8DFA-8E53B8384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Thank You!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333399"/>
                </a:solidFill>
                <a:latin typeface="Arial"/>
              </a:rPr>
              <a:t>Rowena Or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99"/>
                </a:solidFill>
                <a:latin typeface="Arial"/>
              </a:rPr>
              <a:t>Acting Dir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99"/>
                </a:solidFill>
                <a:latin typeface="Arial"/>
              </a:rPr>
              <a:t>Environment Accounts and Statistics Di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99"/>
                </a:solidFill>
                <a:latin typeface="Arial"/>
              </a:rPr>
              <a:t>7-E RH Coats Bui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99"/>
                </a:solidFill>
                <a:latin typeface="Arial"/>
              </a:rPr>
              <a:t>Tunney’s Pasture, Ottawa, ON K1A 0T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99"/>
                </a:solidFill>
                <a:latin typeface="Arial"/>
              </a:rPr>
              <a:t>613-951-43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99"/>
                </a:solidFill>
                <a:latin typeface="Arial"/>
              </a:rPr>
              <a:t>rowena.orok@statcan.gc.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Date Placeholder 3"/>
          <p:cNvSpPr/>
          <p:nvPr/>
        </p:nvSpPr>
        <p:spPr>
          <a:xfrm>
            <a:off x="6588000" y="638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C28C2-497B-44B3-96B5-F758D4D24F0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ooter Placeholder 4"/>
          <p:cNvSpPr/>
          <p:nvPr/>
        </p:nvSpPr>
        <p:spPr>
          <a:xfrm>
            <a:off x="2843280" y="63882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stics Canada • Statistique Can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lide Number Placeholder 5"/>
          <p:cNvSpPr/>
          <p:nvPr/>
        </p:nvSpPr>
        <p:spPr>
          <a:xfrm>
            <a:off x="395280" y="6408720"/>
            <a:ext cx="1522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EE899-D206-4230-97B4-C5C906489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 Black"/>
              </a:rPr>
              <a:t>Introduction 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85600"/>
            <a:ext cx="822960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6a9b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view of the Canadian Con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6a9b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ital-Based Accounting in Can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6a9b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National Indic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6a9b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ngths and Weaknesses of the Curr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6a9b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Date Placeholder 3"/>
          <p:cNvSpPr/>
          <p:nvPr/>
        </p:nvSpPr>
        <p:spPr>
          <a:xfrm>
            <a:off x="6588000" y="638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B3A10-A625-4FA2-82A8-1E899BC36E7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ooter Placeholder 4"/>
          <p:cNvSpPr/>
          <p:nvPr/>
        </p:nvSpPr>
        <p:spPr>
          <a:xfrm>
            <a:off x="2843280" y="63882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stics Canada • Statistique Can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5"/>
          <p:cNvSpPr/>
          <p:nvPr/>
        </p:nvSpPr>
        <p:spPr>
          <a:xfrm>
            <a:off x="395280" y="6408720"/>
            <a:ext cx="1522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92EE7-2BA5-4090-99B9-828FE5A22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 Black"/>
              </a:rPr>
              <a:t>Canadian Context 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a9b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of a capital-based conceptual framework began in the 1990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a9b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ator sets based on the natural capital framework were articulated in 2001 (Smith, Simard and Shar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a9b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tainable development indicators in Canada: highly fragmented, largely policy-dri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a9b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: a period of transition for Canada with respect to measuring sustainabl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Date Placeholder 3"/>
          <p:cNvSpPr/>
          <p:nvPr/>
        </p:nvSpPr>
        <p:spPr>
          <a:xfrm>
            <a:off x="6588000" y="638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E96D5-9D0A-4AF4-8C2D-7F18C7F2729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2843280" y="63882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stics Canada • Statistique Can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395280" y="6408720"/>
            <a:ext cx="1522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4D62A-FCED-454A-BF84-A80F9BAEB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 Black"/>
              </a:rPr>
              <a:t>Capital-Based Accounting (1)  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a9b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vironmental Accounting Program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a9b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ural Resource Stock Ac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a9b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-soil Assets, Timber, Land, Wa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a9b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rial and Energy Flow Ac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a9b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 flow ac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a9b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enhouse gas emission ac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a9b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Environmental Protection Ac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a9b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Environmental protection expendi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a9b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upply of environmental goods an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755640" y="5950080"/>
            <a:ext cx="59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*Canadian System of Environmental and Resource Accou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Date Placeholder 3"/>
          <p:cNvSpPr/>
          <p:nvPr/>
        </p:nvSpPr>
        <p:spPr>
          <a:xfrm>
            <a:off x="6588000" y="638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D9F29-6DEF-4745-BC4E-AAEC7CF09C7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ooter Placeholder 4"/>
          <p:cNvSpPr/>
          <p:nvPr/>
        </p:nvSpPr>
        <p:spPr>
          <a:xfrm>
            <a:off x="2843280" y="63882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stics Canada • Statistique Can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5"/>
          <p:cNvSpPr/>
          <p:nvPr/>
        </p:nvSpPr>
        <p:spPr>
          <a:xfrm>
            <a:off x="395280" y="6408720"/>
            <a:ext cx="1522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2E062-F9D3-4744-8B77-962FE897B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 Black"/>
              </a:rPr>
              <a:t>Capital-Based Accounting (2)  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a9b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efforts to construct a measure of human capital for Ca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a9b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gregate human capital rose at an annual rate of 1.7% between 1970 and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a9b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s of aging Canadian population and higher educational levels on the growth of human 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a9b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ing the value of human capital vs produced capital and natural 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Broader Measure of National Wealth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7" name="Date Placeholder 3"/>
          <p:cNvSpPr/>
          <p:nvPr/>
        </p:nvSpPr>
        <p:spPr>
          <a:xfrm>
            <a:off x="6588000" y="638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24A5B-6D66-42D8-9485-297216E2997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ooter Placeholder 4"/>
          <p:cNvSpPr/>
          <p:nvPr/>
        </p:nvSpPr>
        <p:spPr>
          <a:xfrm>
            <a:off x="2843280" y="63882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stics Canada • Statistique Can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5"/>
          <p:cNvSpPr/>
          <p:nvPr/>
        </p:nvSpPr>
        <p:spPr>
          <a:xfrm>
            <a:off x="395280" y="6408720"/>
            <a:ext cx="1522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E6C16-A947-44E0-A385-B0A1C42585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Picture1.png"/>
          <p:cNvPicPr/>
          <p:nvPr/>
        </p:nvPicPr>
        <p:blipFill>
          <a:blip r:embed="rId1"/>
          <a:stretch/>
        </p:blipFill>
        <p:spPr>
          <a:xfrm>
            <a:off x="824040" y="1519200"/>
            <a:ext cx="7495920" cy="4552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Greenhouse Gas Emissions Indicator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2" name="Date Placeholder 2"/>
          <p:cNvSpPr/>
          <p:nvPr/>
        </p:nvSpPr>
        <p:spPr>
          <a:xfrm>
            <a:off x="6588000" y="638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03EC4-F397-4F71-A55D-DA05EB803EE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ooter Placeholder 3"/>
          <p:cNvSpPr/>
          <p:nvPr/>
        </p:nvSpPr>
        <p:spPr>
          <a:xfrm>
            <a:off x="2843280" y="63882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stics Canada • Statistique Can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ide Number Placeholder 4"/>
          <p:cNvSpPr/>
          <p:nvPr/>
        </p:nvSpPr>
        <p:spPr>
          <a:xfrm>
            <a:off x="395280" y="6408720"/>
            <a:ext cx="1522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CC681-ACD3-45B3-8AE3-B9F22FAD8C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GHG1_enLG.gif"/>
          <p:cNvPicPr/>
          <p:nvPr/>
        </p:nvPicPr>
        <p:blipFill>
          <a:blip r:embed="rId1"/>
          <a:stretch/>
        </p:blipFill>
        <p:spPr>
          <a:xfrm>
            <a:off x="304920" y="1638360"/>
            <a:ext cx="4267080" cy="4076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GHG3_enLG.gif"/>
          <p:cNvPicPr/>
          <p:nvPr/>
        </p:nvPicPr>
        <p:blipFill>
          <a:blip r:embed="rId2"/>
          <a:stretch/>
        </p:blipFill>
        <p:spPr>
          <a:xfrm>
            <a:off x="4643280" y="1614600"/>
            <a:ext cx="4357800" cy="4029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Air Quality Indicator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8" name="Date Placeholder 2"/>
          <p:cNvSpPr/>
          <p:nvPr/>
        </p:nvSpPr>
        <p:spPr>
          <a:xfrm>
            <a:off x="6588000" y="638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98908-8D67-4B52-B96F-2E1D6432074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ooter Placeholder 3"/>
          <p:cNvSpPr/>
          <p:nvPr/>
        </p:nvSpPr>
        <p:spPr>
          <a:xfrm>
            <a:off x="2843280" y="63882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stics Canada • Statistique Can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4"/>
          <p:cNvSpPr/>
          <p:nvPr/>
        </p:nvSpPr>
        <p:spPr>
          <a:xfrm>
            <a:off x="395280" y="6408720"/>
            <a:ext cx="1522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E440E-8BD9-4D11-8161-C328D8FFC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0"/>
          <p:cNvSpPr/>
          <p:nvPr/>
        </p:nvSpPr>
        <p:spPr>
          <a:xfrm>
            <a:off x="4468680" y="2285280"/>
            <a:ext cx="20664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0" descr="Air1_enLG.gif"/>
          <p:cNvPicPr/>
          <p:nvPr/>
        </p:nvPicPr>
        <p:blipFill>
          <a:blip r:embed="rId1"/>
          <a:stretch/>
        </p:blipFill>
        <p:spPr>
          <a:xfrm>
            <a:off x="857160" y="1571760"/>
            <a:ext cx="7500960" cy="4643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Date Placeholder 2"/>
          <p:cNvSpPr/>
          <p:nvPr/>
        </p:nvSpPr>
        <p:spPr>
          <a:xfrm>
            <a:off x="6588000" y="638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3698D-A26E-4E41-820D-C38B6406732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2843280" y="63882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stics Canada • Statistique Can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4"/>
          <p:cNvSpPr/>
          <p:nvPr/>
        </p:nvSpPr>
        <p:spPr>
          <a:xfrm>
            <a:off x="395280" y="6408720"/>
            <a:ext cx="1522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67B06-52C6-45BD-9986-65DB1D8EA4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WaterMap1_enLG.gif"/>
          <p:cNvPicPr/>
          <p:nvPr/>
        </p:nvPicPr>
        <p:blipFill>
          <a:blip r:embed="rId1"/>
          <a:stretch/>
        </p:blipFill>
        <p:spPr>
          <a:xfrm>
            <a:off x="285840" y="142920"/>
            <a:ext cx="8429400" cy="6286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7T14:58:13Z</dcterms:created>
  <dc:creator>Administrator</dc:creator>
  <dc:description/>
  <dc:language>en-US</dc:language>
  <cp:lastModifiedBy>orokrow</cp:lastModifiedBy>
  <dcterms:modified xsi:type="dcterms:W3CDTF">2009-09-23T05:49:24Z</dcterms:modified>
  <cp:revision>237</cp:revision>
  <dc:subject/>
  <dc:title>Slide 1</dc:title>
</cp:coreProperties>
</file>