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F66-5461-4327-B994-B457C0CF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027-6A88-4270-8A6D-331B3543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EE7-7F27-462C-AC28-05392489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2C9-A5ED-43E7-8988-E92662F6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2DC-82C5-43A3-8D33-CFE0EE57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2D5-8063-405B-9003-E0C8ED56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D07-6C3E-499F-9711-708669AD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229-1E4F-4793-B555-6652377D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09EB-F964-4BBC-A446-7C2D5046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829-F0B8-4E97-B0F5-35694400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848-F65C-40FE-8C0D-8EA489F4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20B-2412-4925-9703-2F9F231D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587640" y="637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116E-FC8D-4C82-81AD-727806B6320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842920" y="6387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94920" y="6408360"/>
            <a:ext cx="152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38F5-1921-46FD-B5F0-0F247AE6A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692360" y="1844640"/>
            <a:ext cx="59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11280" y="19162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Measuring Sustainable Development: Canadian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611280" y="37180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owena Or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vironment Accounts and Statistics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11280" y="4653000"/>
            <a:ext cx="8064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First Meeting of the Joint UNECE/OECD/Eurostat Task For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for Measuring Sustainable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eptember 23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290C-FB81-4F39-ABDF-9153CD814E3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2D55-623E-4144-B31B-E31531D52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trengths of the Current System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 conceptual foundation to guide the measurement and statistical frame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role of the central statistical agency in ensuring rigour in the development and implementation of the statistic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capital approach has been used to elaborate the six SD indicators resulting from an extensive round of national consultations held by the federal government in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AFFA-4215-43E8-BF10-2EEECB8CD4D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3B86-28C4-4FC9-B6F1-EA29282E3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Weaknesses of the Current System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the capital approach has been fragmented: fairly significant work on produced capital and some forms of natural capital; some work on human capital; none on social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s somewhat dependent on the uptake by policy departments: work on SD indicators in Canada is highly decentralized and largely policy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challenge: data gaps and 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3C00-9A91-4692-8D7A-8DC234E8887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7DBF-922B-4866-A7A8-D19A6441E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ture Directio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8472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drivers to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for Developing Environmental Stat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’s new Federal Sustainable Act and Federal Sustainable Developm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focus on accountability and performanc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efforts on the measurement of human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capital: conceptual ambiguities and measurement difficul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54C0-94AC-47A3-B939-0005FD58BE8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8F84-9B80-4A26-B2A6-26A7A7C1B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hank You!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</a:rPr>
              <a:t>Rowena O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Acting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Environment Accounts and Statistics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7-E RH Coats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Tunney’s Pasture, Ottawa, ON K1A 0T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613-951-43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rowena.orok@statcan.gc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8D91-102E-421B-8940-B1071289932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DC6F-CA30-4294-8023-11708BC79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Introduction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6a9b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the Canadian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6a9b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-Based Accounting in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6a9b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ational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6a9b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 and Weaknesses of the Curr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6a9b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4C27-83A9-457A-A752-6A9113FAEC5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4059-CE9B-4A13-B5E2-60020790A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Canadian Context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a9b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a capital-based conceptual framework began in the 1990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a9b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sets based on the natural capital framework were articulated in 2001 (Smith, Simard and Shar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a9b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development indicators in Canada: highly fragmented, largely policy-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a9b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: a period of transition for Canada with respect to measuring sustainabl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F5F2-1A53-4A1C-A5D6-40A5587B46C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6786-18B7-4A55-8376-A5A34BF9D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Capital-Based Accounting (1) 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a9b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Accounting Program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9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Resource Stock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a9b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soil Assets, Timber, Land,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9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and Energy Flow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a9b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flow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a9b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house gas emission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9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nvironmental Protection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a9b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nvironmental protection expendi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a9b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upply of environmental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55640" y="5950080"/>
            <a:ext cx="59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Canadian System of Environmental and Resource Accou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F0DA-2858-4530-9580-31C97D004D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1F00-37EB-4EBC-96A1-26A9CD448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Capital-Based Accounting (2) 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a9b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efforts to construct a measure of human capital for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9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human capital rose at an annual rate of 1.7% between 1970 and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9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of aging Canadian population and higher educational levels on the growth of huma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9b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the value of human capital vs produced capital and natural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Broader Measure of National Wealth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044E-C2B1-41FD-8008-D56DF46F27B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8FD6-0660-401C-9D54-BB3AD19EC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icture1.png"/>
          <p:cNvPicPr/>
          <p:nvPr/>
        </p:nvPicPr>
        <p:blipFill>
          <a:blip r:embed="rId1"/>
          <a:stretch/>
        </p:blipFill>
        <p:spPr>
          <a:xfrm>
            <a:off x="824040" y="1519200"/>
            <a:ext cx="7495920" cy="455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Greenhouse Gas Emissions Indicator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" name="Date Placeholder 2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21FD-74D7-4E59-9C3B-692358A2D3B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8333-88A2-4226-8D11-11F883362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GHG1_enLG.gif"/>
          <p:cNvPicPr/>
          <p:nvPr/>
        </p:nvPicPr>
        <p:blipFill>
          <a:blip r:embed="rId1"/>
          <a:stretch/>
        </p:blipFill>
        <p:spPr>
          <a:xfrm>
            <a:off x="304920" y="1638360"/>
            <a:ext cx="4267080" cy="4076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GHG3_enLG.gif"/>
          <p:cNvPicPr/>
          <p:nvPr/>
        </p:nvPicPr>
        <p:blipFill>
          <a:blip r:embed="rId2"/>
          <a:stretch/>
        </p:blipFill>
        <p:spPr>
          <a:xfrm>
            <a:off x="4643280" y="1614600"/>
            <a:ext cx="4357800" cy="40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ir Quality Indicator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8" name="Date Placeholder 2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AFE0-96AB-404E-BD41-E53D8484A93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F0A8-2D96-4BEC-9AEA-13FB4F546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4468680" y="2285280"/>
            <a:ext cx="206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Air1_enLG.gif"/>
          <p:cNvPicPr/>
          <p:nvPr/>
        </p:nvPicPr>
        <p:blipFill>
          <a:blip r:embed="rId1"/>
          <a:stretch/>
        </p:blipFill>
        <p:spPr>
          <a:xfrm>
            <a:off x="857160" y="1571760"/>
            <a:ext cx="750096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6588000" y="638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8837-B946-4DD1-94E6-F7F8180F08A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843280" y="6388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Canada • Statistiqu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395280" y="6408720"/>
            <a:ext cx="152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2CFC-A59C-48DD-815B-2CDB2310F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WaterMap1_enLG.gif"/>
          <p:cNvPicPr/>
          <p:nvPr/>
        </p:nvPicPr>
        <p:blipFill>
          <a:blip r:embed="rId1"/>
          <a:stretch/>
        </p:blipFill>
        <p:spPr>
          <a:xfrm>
            <a:off x="285840" y="142920"/>
            <a:ext cx="8429400" cy="628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14:58:13Z</dcterms:created>
  <dc:creator>Administrator</dc:creator>
  <dc:description/>
  <dc:language>en-US</dc:language>
  <cp:lastModifiedBy>orokrow</cp:lastModifiedBy>
  <dcterms:modified xsi:type="dcterms:W3CDTF">2009-09-23T05:49:24Z</dcterms:modified>
  <cp:revision>237</cp:revision>
  <dc:subject/>
  <dc:title>Slide 1</dc:title>
</cp:coreProperties>
</file>