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AC527-7833-4DC9-814C-11F0F6425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6E6DC-D964-43A0-A29F-1463FC99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42B7D-9FA5-4F11-B5D0-996C36A68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58A8A-7F7D-4BE4-851F-8DD2E93AF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388ED-82F3-4AAB-9F3F-52DA25889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8D3BD-9CD6-458D-BF6D-4D66B6EED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F9FD-5646-4016-8D37-D7AB4253B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F3715-7C20-4FE6-BF72-7C041A480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85854-4540-4BA8-B250-914C2B4D1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0E42-D861-4C26-A3BE-AB4AAB5C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E3AF-0520-41D7-B6A3-AF4F7EB4C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E2F6-36CF-4BC5-8180-667932B84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1506-898F-431C-A15F-D55D4A6CBA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23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ustainability Indicators – The Norwegian example</a:t>
            </a:r>
            <a:br>
              <a:rPr sz="4000"/>
            </a:br>
            <a:r>
              <a:rPr b="1" lang="en-GB" sz="2000" spc="-1" strike="noStrike">
                <a:solidFill>
                  <a:srgbClr val="000000"/>
                </a:solidFill>
                <a:latin typeface="Arial"/>
              </a:rPr>
              <a:t>by</a:t>
            </a:r>
            <a:br>
              <a:rPr sz="2000"/>
            </a:br>
            <a:r>
              <a:rPr b="1" lang="en-GB" sz="2000" spc="-1" strike="noStrike">
                <a:solidFill>
                  <a:srgbClr val="000000"/>
                </a:solidFill>
                <a:latin typeface="Arial"/>
              </a:rPr>
              <a:t>Torstein Bye</a:t>
            </a:r>
            <a:br>
              <a:rPr sz="2000"/>
            </a:br>
            <a:r>
              <a:rPr b="1" lang="en-GB" sz="2000" spc="-1" strike="noStrike">
                <a:solidFill>
                  <a:srgbClr val="000000"/>
                </a:solidFill>
                <a:latin typeface="Arial"/>
              </a:rPr>
              <a:t>Director, Economics, Energy and Environmental Department</a:t>
            </a:r>
            <a:br>
              <a:rPr sz="2000"/>
            </a:br>
            <a:r>
              <a:rPr b="1" lang="en-GB" sz="2000" spc="-1" strike="noStrike">
                <a:solidFill>
                  <a:srgbClr val="000000"/>
                </a:solidFill>
                <a:latin typeface="Arial"/>
              </a:rPr>
              <a:t>Statistics Norway</a:t>
            </a:r>
            <a:endParaRPr b="0" lang="en-US" sz="2000" spc="-1" strike="noStrike">
              <a:solidFill>
                <a:srgbClr val="000000"/>
              </a:solidFill>
              <a:latin typeface="Arial"/>
            </a:endParaRPr>
          </a:p>
        </p:txBody>
      </p:sp>
      <p:sp>
        <p:nvSpPr>
          <p:cNvPr id="42" name="PlaceHolder 2"/>
          <p:cNvSpPr>
            <a:spLocks noGrp="1"/>
          </p:cNvSpPr>
          <p:nvPr>
            <p:ph type="subTitle"/>
          </p:nvPr>
        </p:nvSpPr>
        <p:spPr>
          <a:xfrm>
            <a:off x="1403280" y="3933360"/>
            <a:ext cx="6400800" cy="175284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licy and the capital approach</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ional Economic wealth</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orwegian indicator commission</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orwegian indicator se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apital approach</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terogeneity</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mm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licy and the capital approach</a:t>
            </a:r>
            <a:br>
              <a:rPr sz="4000"/>
            </a:br>
            <a:r>
              <a:rPr b="0" lang="en-GB" sz="2400" spc="-1" strike="noStrike">
                <a:solidFill>
                  <a:srgbClr val="000000"/>
                </a:solidFill>
                <a:latin typeface="Arial"/>
              </a:rPr>
              <a:t>Agenda 21</a:t>
            </a:r>
            <a:endParaRPr b="0" lang="en-US" sz="2400" spc="-1" strike="noStrike">
              <a:solidFill>
                <a:srgbClr val="000000"/>
              </a:solidFill>
              <a:latin typeface="Arial"/>
            </a:endParaRPr>
          </a:p>
        </p:txBody>
      </p:sp>
      <p:sp>
        <p:nvSpPr>
          <p:cNvPr id="4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x policy areas – matching the capital approa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operation for sustainable development and combating povert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requisite for sustainabilit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mate, ozone and long range air polluti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ow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indicators to capture stock – global warmi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diversity and cultural herita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x of stocks and flows</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atural resources</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ock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zardous chemical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itical value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economic and social develop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ows</a:t>
            </a:r>
            <a:r>
              <a:rPr b="0" lang="en-GB" sz="1800" spc="-1" strike="noStrike">
                <a:solidFill>
                  <a:srgbClr val="333399"/>
                </a:solidFill>
                <a:latin typeface="Arial"/>
              </a:rPr>
              <a:t> (supplementary weal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Economic wealth since 1993</a:t>
            </a:r>
            <a:br>
              <a:rPr sz="3200"/>
            </a:br>
            <a:r>
              <a:rPr b="0" lang="en-GB" sz="2400" spc="-1" strike="noStrike">
                <a:solidFill>
                  <a:srgbClr val="000000"/>
                </a:solidFill>
                <a:latin typeface="Arial"/>
              </a:rPr>
              <a:t>– 70 % increase</a:t>
            </a:r>
            <a:endParaRPr b="0" lang="en-US" sz="2400" spc="-1" strike="noStrike">
              <a:solidFill>
                <a:srgbClr val="000000"/>
              </a:solidFill>
              <a:latin typeface="Arial"/>
            </a:endParaRPr>
          </a:p>
        </p:txBody>
      </p:sp>
      <p:graphicFrame>
        <p:nvGraphicFramePr>
          <p:cNvPr id="46" name=""/>
          <p:cNvGraphicFramePr/>
          <p:nvPr/>
        </p:nvGraphicFramePr>
        <p:xfrm>
          <a:off x="179280" y="1628640"/>
          <a:ext cx="5832720" cy="4380120"/>
        </p:xfrm>
        <a:graphic>
          <a:graphicData uri="http://schemas.openxmlformats.org/presentationml/2006/ole">
            <p:oleObj progId="Excel.Sheet.12" r:id="rId1" spid="">
              <p:embed/>
              <p:pic>
                <p:nvPicPr>
                  <p:cNvPr id="47" name="" descr=""/>
                  <p:cNvPicPr/>
                  <p:nvPr/>
                </p:nvPicPr>
                <p:blipFill>
                  <a:blip r:embed="rId2"/>
                  <a:stretch/>
                </p:blipFill>
                <p:spPr>
                  <a:xfrm>
                    <a:off x="179280" y="1628640"/>
                    <a:ext cx="5832720" cy="4380120"/>
                  </a:xfrm>
                  <a:prstGeom prst="rect">
                    <a:avLst/>
                  </a:prstGeom>
                  <a:ln w="0">
                    <a:noFill/>
                  </a:ln>
                </p:spPr>
              </p:pic>
            </p:oleObj>
          </a:graphicData>
        </a:graphic>
      </p:graphicFrame>
      <p:sp>
        <p:nvSpPr>
          <p:cNvPr id="48" name=""/>
          <p:cNvSpPr/>
          <p:nvPr/>
        </p:nvSpPr>
        <p:spPr>
          <a:xfrm>
            <a:off x="6012000" y="1341360"/>
            <a:ext cx="295272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tural resourc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 present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il and 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ydro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her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est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ed capital – </a:t>
            </a:r>
            <a:r>
              <a:rPr b="0" lang="en-GB" sz="1800" spc="-1" strike="noStrike">
                <a:solidFill>
                  <a:srgbClr val="000000"/>
                </a:solidFill>
                <a:latin typeface="Arial"/>
              </a:rPr>
              <a:t>**national accou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ancial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 foreign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uman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idual –npv - infi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15920"/>
            <a:ext cx="82915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wegian indicator commission -16 indicators</a:t>
            </a:r>
            <a:endParaRPr b="0" lang="en-US" sz="2400" spc="-1" strike="noStrike">
              <a:solidFill>
                <a:srgbClr val="000000"/>
              </a:solidFill>
              <a:latin typeface="Arial"/>
            </a:endParaRPr>
          </a:p>
        </p:txBody>
      </p:sp>
      <p:sp>
        <p:nvSpPr>
          <p:cNvPr id="50" name=""/>
          <p:cNvSpPr/>
          <p:nvPr/>
        </p:nvSpPr>
        <p:spPr>
          <a:xfrm>
            <a:off x="5724360" y="1989000"/>
            <a:ext cx="3419640" cy="4319640"/>
          </a:xfrm>
          <a:prstGeom prst="rect">
            <a:avLst/>
          </a:prstGeom>
          <a:solidFill>
            <a:srgbClr val="bbe0e3">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547640" y="1989000"/>
            <a:ext cx="4176720" cy="4248360"/>
          </a:xfrm>
          <a:prstGeom prst="rect">
            <a:avLst/>
          </a:prstGeom>
          <a:solidFill>
            <a:srgbClr val="ff00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059280" y="4762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olicy oriented capital approach</a:t>
            </a:r>
            <a:endParaRPr b="0" lang="en-US" sz="1800" spc="-1" strike="noStrike">
              <a:solidFill>
                <a:srgbClr val="000000"/>
              </a:solidFill>
              <a:latin typeface="Arial"/>
            </a:endParaRPr>
          </a:p>
        </p:txBody>
      </p:sp>
      <p:pic>
        <p:nvPicPr>
          <p:cNvPr id="53" name="" descr=""/>
          <p:cNvPicPr/>
          <p:nvPr/>
        </p:nvPicPr>
        <p:blipFill>
          <a:blip r:embed="rId1"/>
          <a:stretch/>
        </p:blipFill>
        <p:spPr>
          <a:xfrm>
            <a:off x="0" y="1481040"/>
            <a:ext cx="9144000" cy="482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rwegian sustainable indicators -18 indicators </a:t>
            </a:r>
            <a:endParaRPr b="0" lang="en-US" sz="2400" spc="-1" strike="noStrike">
              <a:solidFill>
                <a:srgbClr val="000000"/>
              </a:solidFill>
              <a:latin typeface="Arial"/>
            </a:endParaRPr>
          </a:p>
        </p:txBody>
      </p:sp>
      <p:pic>
        <p:nvPicPr>
          <p:cNvPr id="55" name="" descr=""/>
          <p:cNvPicPr/>
          <p:nvPr/>
        </p:nvPicPr>
        <p:blipFill>
          <a:blip r:embed="rId1"/>
          <a:stretch/>
        </p:blipFill>
        <p:spPr>
          <a:xfrm>
            <a:off x="108000" y="922320"/>
            <a:ext cx="8928000" cy="56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692280"/>
            <a:ext cx="6623280" cy="5905440"/>
          </a:xfrm>
          <a:prstGeom prst="rect">
            <a:avLst/>
          </a:prstGeom>
          <a:ln w="0">
            <a:noFill/>
          </a:ln>
        </p:spPr>
      </p:pic>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orwegian sustainable indicators -18</a:t>
            </a:r>
            <a:endParaRPr b="0" lang="en-US" sz="3200" spc="-1" strike="noStrike">
              <a:solidFill>
                <a:srgbClr val="000000"/>
              </a:solidFill>
              <a:latin typeface="Arial"/>
            </a:endParaRPr>
          </a:p>
        </p:txBody>
      </p:sp>
      <p:sp>
        <p:nvSpPr>
          <p:cNvPr id="58" name=""/>
          <p:cNvSpPr/>
          <p:nvPr/>
        </p:nvSpPr>
        <p:spPr>
          <a:xfrm rot="18627600">
            <a:off x="7458480" y="270072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9" name=""/>
          <p:cNvSpPr/>
          <p:nvPr/>
        </p:nvSpPr>
        <p:spPr>
          <a:xfrm rot="18627600">
            <a:off x="7387200" y="3277080"/>
            <a:ext cx="576360" cy="158400"/>
          </a:xfrm>
          <a:prstGeom prst="rightArrow">
            <a:avLst>
              <a:gd name="adj1" fmla="val 50000"/>
              <a:gd name="adj2" fmla="val 90966"/>
            </a:avLst>
          </a:prstGeom>
          <a:solidFill>
            <a:srgbClr val="bbe0e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0" name=""/>
          <p:cNvSpPr/>
          <p:nvPr/>
        </p:nvSpPr>
        <p:spPr>
          <a:xfrm rot="4419000">
            <a:off x="5802840" y="320580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1" name=""/>
          <p:cNvSpPr/>
          <p:nvPr/>
        </p:nvSpPr>
        <p:spPr>
          <a:xfrm rot="3745800">
            <a:off x="5802840" y="378216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2" name=""/>
          <p:cNvSpPr/>
          <p:nvPr/>
        </p:nvSpPr>
        <p:spPr>
          <a:xfrm>
            <a:off x="4500720" y="3645000"/>
            <a:ext cx="576000" cy="158760"/>
          </a:xfrm>
          <a:prstGeom prst="rightArrow">
            <a:avLst>
              <a:gd name="adj1" fmla="val 50000"/>
              <a:gd name="adj2" fmla="val 90703"/>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3" name=""/>
          <p:cNvSpPr/>
          <p:nvPr/>
        </p:nvSpPr>
        <p:spPr>
          <a:xfrm>
            <a:off x="4932360" y="2637000"/>
            <a:ext cx="431640" cy="360360"/>
          </a:xfrm>
          <a:custGeom>
            <a:avLst/>
            <a:gdLst>
              <a:gd name="textAreaLeft" fmla="*/ 108000 w 431640"/>
              <a:gd name="textAreaRight" fmla="*/ 324000 w 43164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716360" y="2997360"/>
            <a:ext cx="432000" cy="360360"/>
          </a:xfrm>
          <a:custGeom>
            <a:avLst/>
            <a:gdLst>
              <a:gd name="textAreaLeft" fmla="*/ 108000 w 432000"/>
              <a:gd name="textAreaRight" fmla="*/ 324000 w 43200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4419000">
            <a:off x="4867560" y="421380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6" name=""/>
          <p:cNvSpPr/>
          <p:nvPr/>
        </p:nvSpPr>
        <p:spPr>
          <a:xfrm rot="3397200">
            <a:off x="4867560" y="500616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7" name=""/>
          <p:cNvSpPr/>
          <p:nvPr/>
        </p:nvSpPr>
        <p:spPr>
          <a:xfrm rot="18627600">
            <a:off x="5083560" y="536616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8" name=""/>
          <p:cNvSpPr/>
          <p:nvPr/>
        </p:nvSpPr>
        <p:spPr>
          <a:xfrm>
            <a:off x="5003640" y="5805360"/>
            <a:ext cx="432000" cy="360360"/>
          </a:xfrm>
          <a:custGeom>
            <a:avLst/>
            <a:gdLst>
              <a:gd name="textAreaLeft" fmla="*/ 108000 w 432000"/>
              <a:gd name="textAreaRight" fmla="*/ 324000 w 43200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067280" y="6165720"/>
            <a:ext cx="431640" cy="360360"/>
          </a:xfrm>
          <a:custGeom>
            <a:avLst/>
            <a:gdLst>
              <a:gd name="textAreaLeft" fmla="*/ 108000 w 431640"/>
              <a:gd name="textAreaRight" fmla="*/ 324000 w 431640"/>
              <a:gd name="textAreaTop" fmla="*/ 90000 h 360360"/>
              <a:gd name="textAreaBottom" fmla="*/ 270360 h 360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18627600">
            <a:off x="3138840" y="270072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1" name=""/>
          <p:cNvSpPr/>
          <p:nvPr/>
        </p:nvSpPr>
        <p:spPr>
          <a:xfrm rot="4419000">
            <a:off x="3067560" y="320580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2" name=""/>
          <p:cNvSpPr/>
          <p:nvPr/>
        </p:nvSpPr>
        <p:spPr>
          <a:xfrm rot="18627600">
            <a:off x="3067560" y="378180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3" name=""/>
          <p:cNvSpPr/>
          <p:nvPr/>
        </p:nvSpPr>
        <p:spPr>
          <a:xfrm rot="18627600">
            <a:off x="2275200" y="226908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4" name=""/>
          <p:cNvSpPr/>
          <p:nvPr/>
        </p:nvSpPr>
        <p:spPr>
          <a:xfrm rot="18627600">
            <a:off x="3138840" y="226908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5" name=""/>
          <p:cNvSpPr/>
          <p:nvPr/>
        </p:nvSpPr>
        <p:spPr>
          <a:xfrm rot="18627600">
            <a:off x="3931200" y="226908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6" name=""/>
          <p:cNvSpPr/>
          <p:nvPr/>
        </p:nvSpPr>
        <p:spPr>
          <a:xfrm rot="18627600">
            <a:off x="4939200" y="2197440"/>
            <a:ext cx="576360" cy="158760"/>
          </a:xfrm>
          <a:prstGeom prst="rightArrow">
            <a:avLst>
              <a:gd name="adj1" fmla="val 50000"/>
              <a:gd name="adj2" fmla="val 90760"/>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7" name=""/>
          <p:cNvSpPr/>
          <p:nvPr/>
        </p:nvSpPr>
        <p:spPr>
          <a:xfrm>
            <a:off x="6804000" y="5373720"/>
            <a:ext cx="360360" cy="142920"/>
          </a:xfrm>
          <a:custGeom>
            <a:avLst/>
            <a:gdLst>
              <a:gd name="textAreaLeft" fmla="*/ 63000 w 360360"/>
              <a:gd name="textAreaRight" fmla="*/ 261360 w 360360"/>
              <a:gd name="textAreaTop" fmla="*/ 19080 h 142920"/>
              <a:gd name="textAreaBottom" fmla="*/ 123840 h 14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8082800">
            <a:off x="6668280" y="4574160"/>
            <a:ext cx="576000" cy="158760"/>
          </a:xfrm>
          <a:prstGeom prst="rightArrow">
            <a:avLst>
              <a:gd name="adj1" fmla="val 50000"/>
              <a:gd name="adj2" fmla="val 90703"/>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79" name=""/>
          <p:cNvSpPr/>
          <p:nvPr/>
        </p:nvSpPr>
        <p:spPr>
          <a:xfrm>
            <a:off x="3600" y="3789360"/>
            <a:ext cx="153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neg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terogeneity - 64 – indicators and statistics</a:t>
            </a:r>
            <a:endParaRPr b="0" lang="en-US" sz="3200" spc="-1" strike="noStrike">
              <a:solidFill>
                <a:srgbClr val="000000"/>
              </a:solidFill>
              <a:latin typeface="Arial"/>
            </a:endParaRPr>
          </a:p>
        </p:txBody>
      </p:sp>
      <p:sp>
        <p:nvSpPr>
          <p:cNvPr id="81" name="PlaceHolder 2"/>
          <p:cNvSpPr>
            <a:spLocks noGrp="1"/>
          </p:cNvSpPr>
          <p:nvPr>
            <p:ph/>
          </p:nvPr>
        </p:nvSpPr>
        <p:spPr>
          <a:xfrm>
            <a:off x="323640" y="764640"/>
            <a:ext cx="8507160" cy="6093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 International cooperation for sustainable development and combating poverty</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Norwegian official development assistance, in NOK and as percentage of gross national income. 1991-2009</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2. Imports from least developed countries (LDCs) and from other developing countries. 1992-2008. NOK billion</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 Climate, ozone and long-range air pollution</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1. Norwegian emissions of greenhouse gases compared with the Kyoto Protocol target. 1987-2008. Million tonnes CO2 equivalents</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2. Atmospheric CO2 concentration at Mauna Loa observatory, Hawaii. March 1958-February 2009. ppm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3. Global mean temperature. 1850-2008</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4. Emission of greenhouse gases in Norway, by source. 1990-2008. Million tonnes CO2-equivalents</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5. Global CO2 emissions. 1751-2006. Million tonnes carbon</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6. Emissions of CO2 from combustion of fossil fuels. Selected countries and regions. 2006. Tonnes per capit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 Norwegian emissions of NOx, NH3, SO2 and NMVOCs compared with the Gothenburg Protocol commitment. 1 000 tonnes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8. Emissions of acidifying substances in Norway. 1 000 tonnes acid equivalents. 1980-2008</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9. Emissions of SOx. EMEP region. 1980-2006 and projections to 2010 and 2020. 1 000 tonnes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10. Percentage of Norway’s land area where critical loads for acidification are exceeded.</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3.11. TOFP-values 1990-2008. Index, 1990=1</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 Biodiversity and cultural heritage</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1. Bird population index – population trends for breeding bird species in terrestrial ecosystems (forest, mountain, farmland)</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2. Important impact factors for Norwegian Red List species.</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3. Wilderness-like areas in Norway. 1900, 1940 and 2003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4. Principle drawing for calculation of the Nature Index</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5. Nature Index for middle parts of Norway.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6. Proportion of the area of inland and coastal water bodies and proportion of river length classified as “not at risk”. Per cent</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7. Water regions in Norway</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4.7. Percentage of Norwegian water bodies classified as “not at risk” of failing to meet the objectives of the Water Framework Directive in 2015. Inland water bodies and coastal waters, by river basin distri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9. Standards of maintenance of protected buildings as per May 2009. Number of buildin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terogeneity - 64 – indicators and statistics</a:t>
            </a:r>
            <a:endParaRPr b="0" lang="en-US" sz="3200" spc="-1" strike="noStrike">
              <a:solidFill>
                <a:srgbClr val="000000"/>
              </a:solidFill>
              <a:latin typeface="Arial"/>
            </a:endParaRPr>
          </a:p>
        </p:txBody>
      </p:sp>
      <p:sp>
        <p:nvSpPr>
          <p:cNvPr id="83" name="PlaceHolder 2"/>
          <p:cNvSpPr>
            <a:spLocks noGrp="1"/>
          </p:cNvSpPr>
          <p:nvPr>
            <p:ph/>
          </p:nvPr>
        </p:nvSpPr>
        <p:spPr>
          <a:xfrm>
            <a:off x="457200" y="620640"/>
            <a:ext cx="8229600" cy="6121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Natural resources</a:t>
            </a:r>
            <a:endParaRPr b="0" lang="en-US" sz="1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1. Energy use per unit GDP and total energy use (PJ) for renewable and non-renewable energy sources. 1976-2007</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2. Energy use in selected countries and regions. 2006. Kg oil equivalents (kgoe) per capita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3. Production of oil and gas, energy use in production and energy use per unit produced on the Norwegian continental shelf. 1990-2008. Index, 1990=1</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4. Use of energy per unit value added in industry and commerce outside oil and gas production, and household energy use per capita. Indices, 1990=1</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5. World energy use 1965-2007. Million tonnes oil equivalents</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6. Extraction and use of energy goods in Norway. 1970-2008. PJ </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7. Size of spawning stock of Northeast Arctic cod and Norwegian spring-spawning herring, compared with the precautionary reference points (Bpa). Million tonnes</a:t>
            </a:r>
            <a:r>
              <a:rPr b="0" lang="en-GB" sz="900" spc="-1" strike="noStrike">
                <a:solidFill>
                  <a:srgbClr val="333399"/>
                </a:solidFill>
                <a:latin typeface="Arial"/>
              </a:rPr>
              <a:t>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8. Quotas and landings. Northeast Arctic cod. 1978-2009. 1 000 tonnes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9. Quotas and landings. Norwegian spring-spawning herring. 1978-2009. 1 000 tonnes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10. Size of spawning stock of North Sea herring (autumn spawners) and North Sea cod compared with the precautionary reference points (Bpa). 1963-2008</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5.11. Size of spawning stock of Barents Sea capelin compared with the critical reference point. 1973-2008. 1 000 tonnes</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12. Loss of cultivated and cultivable land in accordance with the Planning and Building</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ct and the Land Act. 1976-2008. Decares</a:t>
            </a: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 Hazardous chemicals</a:t>
            </a:r>
            <a:endParaRPr b="0" lang="en-US" sz="16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1. Releases of hazardous substances 2002-2007 relative to the 2002 level, split by hazard categories (index 2002=1), and releases by hazard categories in 2002 and 2007. Tonnes</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6.2. Releases from dominant product categories, by hazard categories, 2007. Percentages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6.3. Releases from manufacturing industry and other industries, by hazard categories, 2007. Percentages</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6.4. Concentration of short and medium chained polychlorinated paraffins in cod liver from five localities along the Norwegian coast. Ng (nanogrammes)/g lipi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7. Sustainable economic and social develop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1. Net national income in NOK per capita, by sources of income. 1986-2008. Constant 2008 prices</a:t>
            </a:r>
            <a:endParaRPr b="0" lang="en-US" sz="900" spc="-1" strike="noStrike">
              <a:solidFill>
                <a:srgbClr val="000000"/>
              </a:solidFill>
              <a:latin typeface="Arial"/>
            </a:endParaRPr>
          </a:p>
          <a:p>
            <a:pPr marL="343080" indent="-343080">
              <a:lnSpc>
                <a:spcPct val="8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7.2. National wealth, by type of capital. 1986-2008. NOK 1 000 per capita. Fixed 2008- prices</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3 Trends in income distribution. 1986-2007</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4. Real income after taxes per for persons in different categories of the income distribution. Per cent </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5. Generational accounts: Need to tighten public sector finances as a share of GDP</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6. Growth in employment in public services. 2007-2060. Index, 2007=1</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7. Population (aged 16 years and over) by highest level of educational attainment</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8. Persons in the age group 25-64 years with tertiary education. OECD countries. 2006. Per c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9. Disability pensioners and long-term unemployed persons as a percentage of the population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0. Seasonally adjusted unemployment in selected countries. 2004-2009. Per cent of the work force</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11. Life expectancy at birth. 1825-2008</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2. Percentage of population with health problems that influence every day life to a great degree, by age groups and sex. </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3. Percentage of population with different diseases, by age groups. 2008</a:t>
            </a:r>
            <a:endParaRPr b="0" lang="en-US" sz="900" spc="-1" strike="noStrike">
              <a:solidFill>
                <a:srgbClr val="000000"/>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99"/>
                </a:solidFill>
                <a:latin typeface="Arial"/>
              </a:rPr>
              <a:t>7.14. Percentage of Norwegian population with overweight (BMI&lt;=27). Men and wome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5490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ummary</a:t>
            </a:r>
            <a:endParaRPr b="0" lang="en-US" sz="4000" spc="-1" strike="noStrike">
              <a:solidFill>
                <a:srgbClr val="000000"/>
              </a:solidFill>
              <a:latin typeface="Arial"/>
            </a:endParaRPr>
          </a:p>
        </p:txBody>
      </p:sp>
      <p:sp>
        <p:nvSpPr>
          <p:cNvPr id="85" name="PlaceHolder 2"/>
          <p:cNvSpPr>
            <a:spLocks noGrp="1"/>
          </p:cNvSpPr>
          <p:nvPr>
            <p:ph/>
          </p:nvPr>
        </p:nvSpPr>
        <p:spPr>
          <a:xfrm>
            <a:off x="468360" y="2205000"/>
            <a:ext cx="8229600" cy="32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apital approach “is the ba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flow indicators than stock indic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 in progr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terogeneity and aggregation – valu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cap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hing on social capital so f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7:51:07Z</dcterms:created>
  <dc:creator>Torstein Arne Bye</dc:creator>
  <dc:description/>
  <dc:language>en-US</dc:language>
  <cp:lastModifiedBy>Torstein Arne Bye</cp:lastModifiedBy>
  <dcterms:modified xsi:type="dcterms:W3CDTF">2009-09-22T22:16:00Z</dcterms:modified>
  <cp:revision>10</cp:revision>
  <dc:subject/>
  <dc:title>Lysbilde 1</dc:title>
</cp:coreProperties>
</file>