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0691813" cy="7524750"/>
  <p:notesSz cx="752475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524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524720" cy="10691640"/>
          </a:xfrm>
          <a:custGeom>
            <a:avLst/>
            <a:gdLst>
              <a:gd name="textAreaLeft" fmla="*/ 360 w 7524720"/>
              <a:gd name="textAreaRight" fmla="*/ 7524360 w 752472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690">
                <a:moveTo>
                  <a:pt x="4" y="0"/>
                </a:moveTo>
                <a:arcTo wR="4" hR="4" stAng="16200000" swAng="-5400000"/>
                <a:lnTo>
                  <a:pt x="0" y="30686"/>
                </a:lnTo>
                <a:arcTo wR="4" hR="4" stAng="10800000" swAng="-5400000"/>
                <a:lnTo>
                  <a:pt x="21596" y="3069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524720" cy="10691640"/>
          </a:xfrm>
          <a:custGeom>
            <a:avLst/>
            <a:gdLst>
              <a:gd name="textAreaLeft" fmla="*/ 360 w 7524720"/>
              <a:gd name="textAreaRight" fmla="*/ 7524360 w 752472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690">
                <a:moveTo>
                  <a:pt x="4" y="0"/>
                </a:moveTo>
                <a:arcTo wR="4" hR="4" stAng="16200000" swAng="-5400000"/>
                <a:lnTo>
                  <a:pt x="0" y="30686"/>
                </a:lnTo>
                <a:arcTo wR="4" hR="4" stAng="10800000" swAng="-5400000"/>
                <a:lnTo>
                  <a:pt x="21596" y="3069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7524720" cy="10691640"/>
          </a:xfrm>
          <a:custGeom>
            <a:avLst/>
            <a:gdLst>
              <a:gd name="textAreaLeft" fmla="*/ 360 w 7524720"/>
              <a:gd name="textAreaRight" fmla="*/ 7524360 w 752472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690">
                <a:moveTo>
                  <a:pt x="4" y="0"/>
                </a:moveTo>
                <a:arcTo wR="4" hR="4" stAng="16200000" swAng="-5400000"/>
                <a:lnTo>
                  <a:pt x="0" y="30686"/>
                </a:lnTo>
                <a:arcTo wR="4" hR="4" stAng="10800000" swAng="-5400000"/>
                <a:lnTo>
                  <a:pt x="21596" y="3069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7524720" cy="10691640"/>
          </a:xfrm>
          <a:custGeom>
            <a:avLst/>
            <a:gdLst>
              <a:gd name="textAreaLeft" fmla="*/ 360 w 7524720"/>
              <a:gd name="textAreaRight" fmla="*/ 7524360 w 752472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690">
                <a:moveTo>
                  <a:pt x="4" y="0"/>
                </a:moveTo>
                <a:arcTo wR="4" hR="4" stAng="16200000" swAng="-5400000"/>
                <a:lnTo>
                  <a:pt x="0" y="30686"/>
                </a:lnTo>
                <a:arcTo wR="4" hR="4" stAng="10800000" swAng="-5400000"/>
                <a:lnTo>
                  <a:pt x="21596" y="3069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524720" cy="10691640"/>
          </a:xfrm>
          <a:custGeom>
            <a:avLst/>
            <a:gdLst>
              <a:gd name="textAreaLeft" fmla="*/ 360 w 7524720"/>
              <a:gd name="textAreaRight" fmla="*/ 7524360 w 752472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690">
                <a:moveTo>
                  <a:pt x="4" y="0"/>
                </a:moveTo>
                <a:arcTo wR="4" hR="4" stAng="16200000" swAng="-5400000"/>
                <a:lnTo>
                  <a:pt x="0" y="30686"/>
                </a:lnTo>
                <a:arcTo wR="4" hR="4" stAng="10800000" swAng="-5400000"/>
                <a:lnTo>
                  <a:pt x="21596" y="3069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7524720" cy="10691640"/>
          </a:xfrm>
          <a:custGeom>
            <a:avLst/>
            <a:gdLst>
              <a:gd name="textAreaLeft" fmla="*/ 360 w 7524720"/>
              <a:gd name="textAreaRight" fmla="*/ 7524360 w 752472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690">
                <a:moveTo>
                  <a:pt x="4" y="0"/>
                </a:moveTo>
                <a:arcTo wR="4" hR="4" stAng="16200000" swAng="-5400000"/>
                <a:lnTo>
                  <a:pt x="0" y="30686"/>
                </a:lnTo>
                <a:arcTo wR="4" hR="4" stAng="10800000" swAng="-5400000"/>
                <a:lnTo>
                  <a:pt x="21596" y="3069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6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43560" y="-360"/>
            <a:ext cx="3465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334880" y="750960"/>
            <a:ext cx="5337000" cy="37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1068120" y="4764240"/>
            <a:ext cx="587052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8"/>
          </p:nvPr>
        </p:nvSpPr>
        <p:spPr>
          <a:xfrm>
            <a:off x="-360" y="-299880"/>
            <a:ext cx="36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9"/>
          </p:nvPr>
        </p:nvSpPr>
        <p:spPr>
          <a:xfrm>
            <a:off x="-360" y="-299880"/>
            <a:ext cx="36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B9205-8F03-44B7-A276-254001641A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35240" y="750960"/>
            <a:ext cx="534672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068120" y="4763880"/>
            <a:ext cx="58719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66009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46360" y="4641480"/>
            <a:ext cx="66009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463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9285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78360" y="175572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10720" y="175572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46360" y="464148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778360" y="464148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10720" y="464148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5B89-D778-48CC-AE03-391A1996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46360" y="1755720"/>
            <a:ext cx="6600960" cy="55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53E-C008-4FB7-B774-54DCBA29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660096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24E-78FA-4B78-9D30-56ECA400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C05-7850-4C0A-90E8-8A0DFB16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EBD2-3F80-42BC-80C9-44BDF7A4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546360" y="138240"/>
            <a:ext cx="6600960" cy="75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3B7-D8EF-4F06-A205-B9C45825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5463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7C1-F4C1-4DE7-82B2-9D5751BB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546360" y="1755720"/>
            <a:ext cx="6600960" cy="55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9285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137-6656-4655-943D-1E17FE36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46360" y="4641480"/>
            <a:ext cx="66009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971-0B31-49FF-86F5-2DE700FF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66009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46360" y="4641480"/>
            <a:ext cx="66009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92C7-4487-4F88-AB05-A62A7C38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463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9285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675F-2675-4987-89D7-EA1EB58F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78360" y="175572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10720" y="175572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46360" y="464148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778360" y="464148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10720" y="464148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84D-3A25-448A-A7BB-3C5A0B42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ABD4-389B-461C-89CB-14495226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46360" y="1755720"/>
            <a:ext cx="6600960" cy="55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F787-1479-4F1E-AA1B-2DE42007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660096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56E4-4233-443C-B327-0170B602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AFFF-F57A-4749-97E4-05B5D17D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9464-9F5B-44B6-B864-8953AAD7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660096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546360" y="138240"/>
            <a:ext cx="6600960" cy="75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9716-339C-41E9-9E7E-1F6C4C18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5463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8F41-BFF3-4C53-9A89-246FE982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9285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2BA1-B1FC-486A-8592-4E582BB1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546360" y="4641480"/>
            <a:ext cx="66009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D1CD-A46C-4663-AB81-08536C7B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66009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46360" y="4641480"/>
            <a:ext cx="66009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7B6F-FCC7-4641-B7B7-9464F971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463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9285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AA9D-D785-41ED-826D-4838445F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778360" y="175572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010720" y="175572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546360" y="464148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5778360" y="464148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010720" y="4641480"/>
            <a:ext cx="212544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A8F1-BD78-4642-9ED6-DC8EB761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546360" y="138240"/>
            <a:ext cx="6600960" cy="75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5463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28560" y="464148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463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928560" y="1755720"/>
            <a:ext cx="322092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46360" y="4641480"/>
            <a:ext cx="6600960" cy="2635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299880"/>
            <a:ext cx="9612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1760400"/>
            <a:ext cx="961236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46360" y="138240"/>
            <a:ext cx="66009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546360" y="1755720"/>
            <a:ext cx="6600960" cy="55245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rmAutofit fontScale="97000"/>
          </a:bodyPr>
          <a:p>
            <a:pPr marL="332640" indent="0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1641600" y="6851160"/>
            <a:ext cx="2347920" cy="5130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4147920" y="6851160"/>
            <a:ext cx="3376440" cy="5130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662600" y="6851160"/>
            <a:ext cx="2484360" cy="5130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64884-1918-4845-BFA3-AD250E80DD2C}" type="slidenum">
              <a:rPr b="0" lang="en-A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05280" y="585720"/>
            <a:ext cx="6399360" cy="16272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1755720" y="6851160"/>
            <a:ext cx="2486160" cy="5130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4400280" y="6851160"/>
            <a:ext cx="3376440" cy="5130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7903800" y="6851160"/>
            <a:ext cx="2484360" cy="5130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8A614-84C4-4BD0-937D-8BF07D03AC48}" type="slidenum">
              <a:rPr b="0" lang="en-A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3640" y="2320920"/>
            <a:ext cx="949176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velopments in social capital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4920" y="3904920"/>
            <a:ext cx="9621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ed by Jason Ru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stralian Bureau of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49640" y="593280"/>
            <a:ext cx="81817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500" spc="-1" strike="noStrike">
                <a:solidFill>
                  <a:srgbClr val="400097"/>
                </a:solidFill>
                <a:latin typeface="Gill Sans"/>
              </a:rPr>
              <a:t>Future ABS work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89280" y="1457280"/>
            <a:ext cx="813564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5680" indent="-8568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Further research of these and other measures of low socia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Test the validity of measures for research and policy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ill Sans"/>
              </a:rPr>
              <a:t>Test association between low social capital and aspects of well 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62000" y="1107360"/>
            <a:ext cx="8182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700" spc="-1" strike="noStrike">
                <a:solidFill>
                  <a:srgbClr val="400097"/>
                </a:solidFill>
                <a:latin typeface="Gill Sans"/>
              </a:rPr>
              <a:t>Areas of interest for the Task Forc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3640" y="1744560"/>
            <a:ext cx="712296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Demonstrates the need for experiment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Testing priors and previous assump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Policy / social contexts as a cataly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Aggregate indicators supplemented by country specific indicat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The 'discovery' of composite indicat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A set of related concepts that need tightening / refining in the sustainability contex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1 Concept + 2 method + 3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36920" y="996840"/>
            <a:ext cx="670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800" spc="-1" strike="noStrike">
                <a:solidFill>
                  <a:srgbClr val="400097"/>
                </a:solidFill>
                <a:latin typeface="Gill Sans"/>
              </a:rPr>
              <a:t>Questions/Comme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04920" y="1744560"/>
            <a:ext cx="7123320" cy="24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3320" indent="-10332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10476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476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The Australian contex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476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Areas of interest from exploring measures of low social capita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476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Possible future direc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04920" y="1024920"/>
            <a:ext cx="6704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500" spc="-1" strike="noStrike">
                <a:solidFill>
                  <a:srgbClr val="400097"/>
                </a:solidFill>
                <a:latin typeface="Gill Sans"/>
              </a:rPr>
              <a:t>Contex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104920" y="1744560"/>
            <a:ext cx="7123320" cy="51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The research paper asks: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1. What is the incidence of and associations 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between the social capital i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2. Are there unobserved factors that explain the 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variance across the social capital data i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3. Is it feasible to produce meaningful composite 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items from the dimensions of social capi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4. How do the social capital measures vary across 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ill Sans"/>
              </a:rPr>
              <a:t>demographic grou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04920" y="1024920"/>
            <a:ext cx="6704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500" spc="-1" strike="noStrike">
                <a:solidFill>
                  <a:srgbClr val="400097"/>
                </a:solidFill>
                <a:latin typeface="Gill Sans"/>
              </a:rPr>
              <a:t>Exploring low social capit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104920" y="1744560"/>
            <a:ext cx="7123320" cy="38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3320" indent="-10332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10476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476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Social surve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476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Descriptive statistics (eg, incidence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476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Association between social capital variabl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476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Factor analysi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53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10476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Gill Sans"/>
              </a:rPr>
              <a:t>Interpretation / dimensions of social capita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04920" y="1024920"/>
            <a:ext cx="6704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500" spc="-1" strike="noStrike">
                <a:solidFill>
                  <a:srgbClr val="400097"/>
                </a:solidFill>
                <a:latin typeface="Gill Sans"/>
              </a:rPr>
              <a:t>Steps in analysi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394000" y="1528920"/>
            <a:ext cx="7122960" cy="16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900" spc="-1" strike="noStrike" baseline="-33000">
                <a:solidFill>
                  <a:srgbClr val="fffeff"/>
                </a:solidFill>
                <a:latin typeface="Gill Sans"/>
                <a:ea typeface="Lucida Sans Unicode"/>
              </a:rPr>
              <a:t>The results showed that five factors emerged from the analysis..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65280" y="736200"/>
            <a:ext cx="605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400097"/>
                </a:solidFill>
                <a:latin typeface="Gill Sans"/>
              </a:rPr>
              <a:t>Dimensions of social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979640" y="2160720"/>
            <a:ext cx="823428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62000" y="1107360"/>
            <a:ext cx="8182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700" spc="-1" strike="noStrike">
                <a:solidFill>
                  <a:srgbClr val="400097"/>
                </a:solidFill>
                <a:latin typeface="Gill Sans"/>
              </a:rPr>
              <a:t>Composite measures of low social capit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33640" y="1744560"/>
            <a:ext cx="7122960" cy="46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 indent="-921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The composite items for the five dimensions of low social capital items ar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Suppo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Community involv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Tru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Feelings of safe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Network 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979640" y="1260360"/>
            <a:ext cx="753732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248760"/>
            <a:ext cx="65404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400097"/>
                </a:solidFill>
                <a:latin typeface="Gill Sans"/>
              </a:rPr>
              <a:t>Results from composite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025720" y="1800360"/>
            <a:ext cx="823428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79640" y="1260360"/>
            <a:ext cx="75373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248760"/>
            <a:ext cx="65404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400097"/>
                </a:solidFill>
                <a:latin typeface="Gill Sans"/>
              </a:rPr>
              <a:t>Results from composite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800360" y="1800360"/>
            <a:ext cx="8280360" cy="48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62000" y="1107360"/>
            <a:ext cx="8182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700" spc="-1" strike="noStrike">
                <a:solidFill>
                  <a:srgbClr val="400097"/>
                </a:solidFill>
                <a:latin typeface="Gill Sans"/>
              </a:rPr>
              <a:t>Summary from exploring low social capit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33640" y="1744560"/>
            <a:ext cx="712296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 indent="-921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3600"/>
                <a:tab algn="l" pos="54144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93600"/>
                <a:tab algn="l" pos="54144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First attempt analysing such an expansive collection of inform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93600"/>
                <a:tab algn="l" pos="54144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First research of this detailed na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93600"/>
                <a:tab algn="l" pos="54144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Great variation in incidence of low social capit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93600"/>
                <a:tab algn="l" pos="54144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Various dimensions of low social capit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93600"/>
                <a:tab algn="l" pos="54144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ill Sans"/>
              </a:rPr>
              <a:t>Dimensions of low social capital varied across demographic groupi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3600"/>
                <a:tab algn="l" pos="54144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3600"/>
                <a:tab algn="l" pos="54144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3600"/>
                <a:tab algn="l" pos="54144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ihui</cp:lastModifiedBy>
  <dcterms:modified xsi:type="dcterms:W3CDTF">2009-09-09T05:38:58Z</dcterms:modified>
  <cp:revision>33</cp:revision>
  <dc:subject/>
  <dc:title>Slide 1</dc:title>
</cp:coreProperties>
</file>