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24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43560" y="-360"/>
            <a:ext cx="3465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34880" y="750960"/>
            <a:ext cx="5337000" cy="37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1068120" y="4764240"/>
            <a:ext cx="587052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-29988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-360" y="-29988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6E25A-D63F-406D-BBE9-36C97C1B2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78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1072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46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78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1072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5DA-B903-46B5-AAD5-69E3EFAF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199-7B81-4A42-A34A-BE9B9B9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321-EC43-4A0C-B044-0800FF2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828-C19A-422B-92CD-C08B11C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79E-C3FF-4B7F-9313-BC580FE9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46360" y="138240"/>
            <a:ext cx="6600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D24-4FE6-42FB-B652-9DCF6A65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365-72AB-4A2C-B28E-2473CF4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F57-ED61-4CBC-82DB-81730C4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205-48FC-45AF-8DC1-3FE7173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105-425A-43FD-A077-53D68664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B6B-2836-41BB-A21F-CB320BF6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78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1072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46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778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1072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BB1-6C39-43AE-9339-77594FBE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2AD-D526-4739-B564-D142D8BC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1A4-5668-40E3-82ED-0B49348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4505-080F-4D74-A113-325E52B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357-70F7-4D5E-BF25-83E8052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2703-EAB4-4811-9290-469B584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546360" y="138240"/>
            <a:ext cx="6600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849F-9332-4F6E-ADB9-F18E5112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58D3-4C71-4643-90BF-A6CB669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A218-73F0-4248-9492-D915499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2093-2A94-4512-8B23-3335F66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E54D-9F91-40D2-AD01-CF028EA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3DAC-5B59-46EA-A44A-8854FD76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78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1072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6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778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1072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892F-3807-4C98-9C2E-BE2AA546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46360" y="138240"/>
            <a:ext cx="6600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299880"/>
            <a:ext cx="9612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0400"/>
            <a:ext cx="961236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 fontScale="97000"/>
          </a:bodyPr>
          <a:p>
            <a:pPr marL="33264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1641600" y="6851160"/>
            <a:ext cx="234792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47920" y="6851160"/>
            <a:ext cx="337644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662600" y="6851160"/>
            <a:ext cx="248436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DFDE1-D2AB-45F1-8D8F-3E0B2283EE4F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5280" y="585720"/>
            <a:ext cx="63993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755720" y="6851160"/>
            <a:ext cx="248616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4400280" y="6851160"/>
            <a:ext cx="337644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903800" y="6851160"/>
            <a:ext cx="248436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321A-E64F-4C43-9256-193CB32AA0ED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3640" y="2320920"/>
            <a:ext cx="9491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velopments in social capital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4920" y="3904920"/>
            <a:ext cx="9621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 Jason R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stralian Bureau of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49640" y="593280"/>
            <a:ext cx="8181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Future ABS wor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89280" y="1457280"/>
            <a:ext cx="813564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Further research of these and other measures of low socia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Test the validity of measures for research and policy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Test association between low social capital and aspects of well 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62000" y="1107360"/>
            <a:ext cx="818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700" spc="-1" strike="noStrike">
                <a:solidFill>
                  <a:srgbClr val="400097"/>
                </a:solidFill>
                <a:latin typeface="Gill Sans"/>
              </a:rPr>
              <a:t>Areas of interest for the Task For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3640" y="1744560"/>
            <a:ext cx="712296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Demonstrates the need for experimen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esting priors and previous assump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Policy / social contexts as a cataly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Aggregate indicators supplemented by country specific indica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he 'discovery' of composite indica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A set of related concepts that need tightening / refining in the sustainability contex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1 Concept + 2 method + 3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36920" y="996840"/>
            <a:ext cx="670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Questions/Com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04920" y="1744560"/>
            <a:ext cx="7123320" cy="24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The Australian contex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Areas of interest from exploring measures of low social capit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Possible future dir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04920" y="1744560"/>
            <a:ext cx="712332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The research paper asks: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1. What is the incidence of and associations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between the social capital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2. Are there unobserved factors that explain the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variance across the social capital data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3. Is it feasible to produce meaningful composite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items from the dimensions of social capi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4. How do the social capital measures vary across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demographic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Exploring low social capi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04920" y="1744560"/>
            <a:ext cx="712332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Social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Descriptive statistics (eg, incidenc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Association between social capital variab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Factor analy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pretation / dimensions of social capit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Steps in analys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94000" y="1528920"/>
            <a:ext cx="712296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 baseline="-33000">
                <a:solidFill>
                  <a:srgbClr val="fffeff"/>
                </a:solidFill>
                <a:latin typeface="Gill Sans"/>
                <a:ea typeface="Lucida Sans Unicode"/>
              </a:rPr>
              <a:t>The results showed that five factors emerged from the analysis..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5280" y="736200"/>
            <a:ext cx="605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Dimensions of socia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82342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62000" y="1107360"/>
            <a:ext cx="818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700" spc="-1" strike="noStrike">
                <a:solidFill>
                  <a:srgbClr val="400097"/>
                </a:solidFill>
                <a:latin typeface="Gill Sans"/>
              </a:rPr>
              <a:t>Composite measures of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3640" y="1744560"/>
            <a:ext cx="712296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he composite items for the five dimensions of low social capital items ar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Community involv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ru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Feelings of safe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Network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79640" y="1260360"/>
            <a:ext cx="753732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248760"/>
            <a:ext cx="654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Results from composit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025720" y="1800360"/>
            <a:ext cx="82342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79640" y="1260360"/>
            <a:ext cx="7537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248760"/>
            <a:ext cx="654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Results from composit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00360" y="1800360"/>
            <a:ext cx="828036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62000" y="1107360"/>
            <a:ext cx="818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700" spc="-1" strike="noStrike">
                <a:solidFill>
                  <a:srgbClr val="400097"/>
                </a:solidFill>
                <a:latin typeface="Gill Sans"/>
              </a:rPr>
              <a:t>Summary from exploring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33640" y="1744560"/>
            <a:ext cx="71229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First attempt analysing such an expansive collection of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First research of this detailed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Great variation in incidence of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Various dimensions of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Dimensions of low social capital varied across demographic group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hui</cp:lastModifiedBy>
  <dcterms:modified xsi:type="dcterms:W3CDTF">2009-09-09T05:38:58Z</dcterms:modified>
  <cp:revision>33</cp:revision>
  <dc:subject/>
  <dc:title>Slide 1</dc:title>
</cp:coreProperties>
</file>