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EE5-249E-4FD4-A4DB-C97151BE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A45-D836-4035-A5C2-9A9CF8DF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B4D-F5F0-44AE-B4E5-EF625A21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5B8-DB5A-41D9-A069-770807E1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310-9EED-4EFD-A3D9-AE54084F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461B-92E8-41D8-92A5-7E87827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A76-F020-4678-8645-86C7F74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847-DDCB-412A-ABB4-DC77021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A10F-A9C0-4C53-8A6E-A359A7BD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30F-EAAA-4223-9246-D5661F7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E160-405D-4CE9-AA64-0FA656A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195-C15D-4B10-A27E-A76182F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0D3E-C135-40D1-A95C-59A855D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F26F-21F2-48CA-9911-13F484D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BB19-A7B7-4582-8107-C0457ECD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810-CF5A-4A02-8E6F-6EB5D68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0AD7-91BE-491D-8C82-E7C29EC5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249-DA9F-44E3-A527-5028C5F5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051-476A-46AA-A404-E2974BD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871-9C75-4B09-AB9A-AD39F48A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45C-D924-4F2B-A825-70F6A84B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8FC-B622-4838-836E-13B4D98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D62-FFA4-4084-99DB-98615BE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E56-86C7-401D-A586-D99F55F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age bkg green-01.jpg                                          000ED868 Totem7 HD                      BBCFE5DD: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51A5-5F15-46F0-8BEE-7A4237FAC748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title bkg green-01.jpg                                         000ED868 Totem7 HD                      BBCFE5DD: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stainable Development Taskforce, Geneva, Switzer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831-6FF5-4692-95FD-E026A8E93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apital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stainable Developmen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achael Milicich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r National Accoun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Measuring NZ’s Progres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6143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What are we leaving behind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45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ocial and Cultural Capita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1" name="Diagram 3" descr=""/>
          <p:cNvPicPr/>
          <p:nvPr/>
        </p:nvPicPr>
        <p:blipFill>
          <a:blip r:embed="rId1"/>
          <a:stretch/>
        </p:blipFill>
        <p:spPr>
          <a:xfrm>
            <a:off x="347760" y="1206360"/>
            <a:ext cx="8796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urrent thinking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840" y="121428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More research into the concep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sider the Stiglitz report recommendations and Measuring the Progress of Societ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Review the General Social Survey resul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Participate in the taskforce and understand what work others are contributing to the topic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ocial connection and governanc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ulture and identity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4297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Etropolska</cp:lastModifiedBy>
  <dcterms:modified xsi:type="dcterms:W3CDTF">2009-09-24T07:11:24Z</dcterms:modified>
  <cp:revision>38</cp:revision>
  <dc:subject/>
  <dc:title>PowerPoint Presentation</dc:title>
</cp:coreProperties>
</file>