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png" ContentType="image/png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28F1-9496-483B-87C7-F6C9B695F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6C21-533A-4874-8916-5EDEC7028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09AA-6CF7-45EF-8BE7-007CDCCB9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289F-2E13-4EB7-B2C3-826A2A37C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A7214-3808-490E-8EE3-7224CCC35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271C2-F1E9-43BD-95A9-509581E02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A341C-4E82-475F-A861-D52E57ABA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FCB38-69ED-444D-A99F-155450FCE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5A267-87A1-4AB8-84FF-357CD33A1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8A697-010B-472E-8DA8-AE0D0B710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96660-C41F-494E-87E0-737D7EC9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AB4A-D2E3-49E8-A8E3-0E3B0C0DA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1F7D3-6E7F-45F5-A727-882E584D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1DB80-0ECF-43D9-8C48-CDA20CD0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25975-6CF4-42FA-BD8F-14FADC30B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D1358-2B66-40C8-8C79-B610D2E22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8BF59-51A9-4C0B-AE26-E3203DB55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22F6-E2E9-411B-9271-E0F8B906A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5E69-E016-45C8-B63B-1E257F6D1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4399-1E45-4B75-B210-63B992AB2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4494-F887-4E9D-A6E0-85EEFBE62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8B9A-7D34-458D-B85C-8581C73F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44E0-82E9-4D2B-8F20-EAA9E460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39E7-8DBF-4117-8BDB-828FF838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page bkg green-01.jpg                                          000ED868 Totem7 HD                      BBCFE5DD:"/>
          <p:cNvPicPr/>
          <p:nvPr/>
        </p:nvPicPr>
        <p:blipFill>
          <a:blip r:embed="rId2"/>
          <a:stretch/>
        </p:blipFill>
        <p:spPr>
          <a:xfrm>
            <a:off x="-6480" y="-6480"/>
            <a:ext cx="9158400" cy="6872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E1B04-64E2-497A-B85A-F7CC516A1879}" type="slidenum">
              <a:rPr b="0" lang="en-US" sz="1200" spc="-1" strike="noStrike">
                <a:solidFill>
                  <a:srgbClr val="00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title bkg green-01.jpg                                         000ED868 Totem7 HD                      BBCFE5DD:"/>
          <p:cNvPicPr/>
          <p:nvPr/>
        </p:nvPicPr>
        <p:blipFill>
          <a:blip r:embed="rId2"/>
          <a:stretch/>
        </p:blipFill>
        <p:spPr>
          <a:xfrm>
            <a:off x="-6480" y="-6480"/>
            <a:ext cx="9158400" cy="68724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stainable Development Taskforce, Geneva, Switzerl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75F26-2CA1-431D-A229-1B41C6D5A5E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cial Capital and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stainable Development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Rachael Milicich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anager National Accounts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999933"/>
                </a:solidFill>
                <a:latin typeface="Arial"/>
              </a:rPr>
              <a:t>Measuring NZ’s Progress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614376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5840" y="35676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999933"/>
                </a:solidFill>
                <a:latin typeface="Arial"/>
              </a:rPr>
              <a:t>What are we leaving behind?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428760" y="1143000"/>
            <a:ext cx="845820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999933"/>
                </a:solidFill>
                <a:latin typeface="Arial"/>
              </a:rPr>
              <a:t>Social and Cultural Capital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pic>
        <p:nvPicPr>
          <p:cNvPr id="91" name="Diagram 3" descr=""/>
          <p:cNvPicPr/>
          <p:nvPr/>
        </p:nvPicPr>
        <p:blipFill>
          <a:blip r:embed="rId1"/>
          <a:stretch/>
        </p:blipFill>
        <p:spPr>
          <a:xfrm>
            <a:off x="347760" y="1206360"/>
            <a:ext cx="8796240" cy="529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4200" y="2858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999933"/>
                </a:solidFill>
                <a:latin typeface="Arial"/>
              </a:rPr>
              <a:t>Current thinking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85840" y="1214280"/>
            <a:ext cx="77724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3333"/>
                </a:solidFill>
                <a:latin typeface="Arial"/>
              </a:rPr>
              <a:t>More research into the concepts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3333"/>
                </a:solidFill>
                <a:latin typeface="Arial"/>
              </a:rPr>
              <a:t>Consider the Stiglitz report recommendations and Measuring the Progress of Societies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3333"/>
                </a:solidFill>
                <a:latin typeface="Arial"/>
              </a:rPr>
              <a:t>Review the General Social Survey results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3333"/>
                </a:solidFill>
                <a:latin typeface="Arial"/>
              </a:rPr>
              <a:t>Participate in the taskforce and understand what work others are contributing to the topic</a:t>
            </a: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5840" y="35676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999933"/>
                </a:solidFill>
                <a:latin typeface="Arial"/>
              </a:rPr>
              <a:t>Social connection and governance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357120" y="1143000"/>
            <a:ext cx="8358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85840" y="35676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999933"/>
                </a:solidFill>
                <a:latin typeface="Arial"/>
              </a:rPr>
              <a:t>Culture and identity</a:t>
            </a:r>
            <a:endParaRPr b="0" lang="en-US" sz="3600" spc="-1" strike="noStrike">
              <a:solidFill>
                <a:srgbClr val="999933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357120" y="1143000"/>
            <a:ext cx="8429760" cy="54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8T21:15:15Z</dcterms:created>
  <dc:creator>   </dc:creator>
  <dc:description/>
  <dc:language>en-US</dc:language>
  <cp:lastModifiedBy>Etropolska</cp:lastModifiedBy>
  <dcterms:modified xsi:type="dcterms:W3CDTF">2009-09-24T07:11:24Z</dcterms:modified>
  <cp:revision>38</cp:revision>
  <dc:subject/>
  <dc:title>PowerPoint Presentation</dc:title>
</cp:coreProperties>
</file>