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41A9-7C3B-463F-8A5E-E51B824FE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13F8-318D-455D-A3ED-CD8D16315E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A0A3-FF2A-41E1-B99A-BE5AFBC24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9378-1CF6-497B-B0FA-2C225672EF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2909-584C-4C6D-B9C5-0CB060265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AD46-6D43-41D0-ACB3-635229216C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CDCB-8C82-41BA-8173-009B1E14AD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DDF-2CB5-4404-9BDB-4E711D967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4BAC-59B4-43FC-B65C-381A1E4CB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EB28-EBA7-41B7-B356-A431C05C8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C127-9A2E-4922-A9D5-FED8135B30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4D8E-65B5-4B97-82D8-DFF6D352E2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E5BC-1455-4033-A752-E54B0142D1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7050-0041-4197-A1CF-62239A7FE2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D984-DB35-47B7-846E-72C8283B6F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C9B3-A49B-4B0E-8A7D-4F7FC761C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36E0-C4E0-44FE-99A1-C8CA5597B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D24A-F3B8-4EF8-94EF-CC8A2F36E8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30CF-4A99-4087-87E6-A5EFA81C05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61D4-BB39-482B-A220-B88A18B66F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096A-1D32-489E-B59E-E7D9657BB9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37D6-FA79-422E-BFE8-239F08337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ED45-F7D7-4549-AE1C-02261F1981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C516-6AEB-407A-BBE8-F642A8984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010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4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5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6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C6A-B17A-4396-9984-747C0F0D563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21D-0A14-4F6E-B7E9-EC68433BF7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BEA’s Measures of Capit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8006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obert Kornf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UNECE/Eurostat/OECD Task Force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easuring  Sustainable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ptember 23-24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Knowledge Economy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Importance of Updating Economic Measurements</a:t>
            </a:r>
            <a:endParaRPr b="1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028880"/>
            <a:ext cx="914400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9A0E-FAE4-4B83-AFD9-304385713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BEA’s R&amp;D Satellite Account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rovides a means of exploring the impact of capitalizing R&amp;D spending on GDP growth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rovides a framework through which various methodological and conceptual issues can be worked ou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art of broader BEA program to improve measures of intangibles in national accoun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Why R&amp;D?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ood data on R&amp;D expenditures collected by the National Science Foundation for over 50 year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umerous studies of rates of return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reater professional agreement on its capitalization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2008 SNA recommends treating R&amp;D expenditures as investmen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BEA plans to incorporate R&amp;D as a capital asset into the core accounts by 2013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AD61-EB0B-45CA-82DE-AFBF3CD88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R&amp;D Satellite Account: Conceptual Challenges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257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tion of the unit of R&amp;D outpu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R&amp;D output price index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and obsolescenc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ublic goods qualities of R&amp;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270D-F835-4B77-BA19-791D32A8B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oblems with Traditional Output Price Index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ost R&amp;D is produced on own account and not sold on market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Even when sold, the traditional price index method breaks down because R&amp;D products are unique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(Note – Traditional price indexes are based on repeated sales of an identical product.)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Unit of output volume is also not defined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ust turn to indirect approache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9935-8FA6-4C49-81C7-82980077A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Options for Outpu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pu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oductivity Adjusted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ownstream product price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Applied in 2007 BEA R&amp;D satellite account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Other option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6C28-264E-4027-AC7B-E52AFF9123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Price Index Options - Sample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762120"/>
          <a:ext cx="86104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6104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7AD4-9042-4826-8FA0-853659647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es of Depreci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ifficult to measure because depreciation is often related to obsolescence, which can vary immensely across intangible asset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rates for these intangibles are necessarily based on assumptions guided by limited evidenc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FCD1-D37D-4E3C-9AC0-44A613C86B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uman Capital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 initiative would provide estimates of the stock of human capital, the rate at which the stock depreciates, and the returns to human capital investments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ome limitations, largely because of limitations in source data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Limited to individuals’ investments in their human capital -- and not on-the-job training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 will measure market-based investments in education, not individuals’ investments in time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641C-E1C2-4C9A-97DB-EBFA0B18BB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Expanding the capital asset boundary requires addressing numerous measurement challeng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ng the asset and its scor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ng and measuring investmen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ices/valu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Rates of return/capital serv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835E-1774-45D3-8C2C-A8EE38CB46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BEA’s core fixed asset accounts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Experimental or satellite measures of capital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tegrated BEA-BLS productivity account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’s R&amp;D satellite accoun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Human capital and home produc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9A9C-B5D0-4C5A-A416-B7043ECB20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ixed assets are produced assets, which includ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onresidential fixed asse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quipment and Software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Structure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Residential fixed assets (primarily housing)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overnment fixed asse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quipment and Software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Structure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Valued at current cost, real cost, historical cos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6714-EBAC-456D-A7B8-0D2FB1AB8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erpetual Inventory Metho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Net stock:  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(1-d)*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-1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+ (1-d/2)* 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where 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net stock at time ‘t’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 = depreciation rat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= investment at time ‘t’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  M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– (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–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-1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Geometric rates are used for most asset type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66F6-62D6-4430-BC07-EB2633173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and Sustainability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is the decline in the value of the stock of assets due to wear and tear, obsolescence, accidental damage, and aging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is deducted from the appropriate gross investment to obtain net investment in fixed assets. Net investment is an indicator of whether the corresponding capital stocks have been maintained intact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CEEC-DBB2-43C0-9972-E312E7732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ing Fixed Asse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Asset definition and asset boundary are clear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ource data on investment is available and reliabl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ices are marke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used geometric rates based on research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erpetual inventory model can be implemente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BAFE-87FE-432C-A9C6-56F5567972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US BLS estimates multifactor productivity (MFP) for private busines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MFP currently does not include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eneral governmen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on-profit institutions serving household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Owner-occupied housing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Harper, Moulton, Rosenthal, and Wasshausen, 2009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Detailed reconciliation of BEA and BLS statistics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Integrated production account for private business sector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xpands core MFP estimates to include non-market government and non-profit sectors, using BEA’s capital stock data for these sectors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977B-7F4E-4C96-9EE0-B0BA16495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Why Is Integration Needed?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centralized statistical system in the United States – BEA, BLS, Census, FRB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alls for integration: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7f"/>
                </a:solidFill>
                <a:latin typeface="Calibri"/>
              </a:rPr>
              <a:t>System of National Accounts 1993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Jorgenson, Landefeld and Nordhaus, </a:t>
            </a:r>
            <a:r>
              <a:rPr b="0" i="1" lang="en-US" sz="2400" spc="-1" strike="noStrike">
                <a:solidFill>
                  <a:srgbClr val="00267f"/>
                </a:solidFill>
                <a:latin typeface="Calibri"/>
              </a:rPr>
              <a:t>A New Architecture for the U.S. National Accoun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U.S. Dept. of Commerce – Measuring Innovation in the 21st Century Economy Advisory Committee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mportant potential applications of integrated GDP-production accoun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BCF2-2327-438C-983D-64C12A4FE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Non-market (government, nonprofit) produc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Two major challenges: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irectly measuring changes in real outpu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ternational efforts to measure volume of certain services, such as health and education, for non-market producer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ement of capital services requires a measure of net retur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ossible approaches - Market interest rates, “real” interest rates, internal rates for other sector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DE44-B5C7-417A-ABFB-4BBA9B050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56:02Z</dcterms:created>
  <dc:creator>Kenneth Pond</dc:creator>
  <dc:description/>
  <dc:language>en-US</dc:language>
  <cp:lastModifiedBy>Etropolska</cp:lastModifiedBy>
  <dcterms:modified xsi:type="dcterms:W3CDTF">2009-09-22T07:54:30Z</dcterms:modified>
  <cp:revision>4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7199376</vt:r8>
  </property>
  <property fmtid="{D5CDD505-2E9C-101B-9397-08002B2CF9AE}" pid="3" name="_AuthorEmail">
    <vt:lpwstr>Robert.Kornfeld@bea.gov</vt:lpwstr>
  </property>
  <property fmtid="{D5CDD505-2E9C-101B-9397-08002B2CF9AE}" pid="4" name="_AuthorEmailDisplayName">
    <vt:lpwstr>Kornfeld, Robert</vt:lpwstr>
  </property>
  <property fmtid="{D5CDD505-2E9C-101B-9397-08002B2CF9AE}" pid="5" name="_EmailSubject">
    <vt:lpwstr>TF on Sustainable Development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