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88DD-F32B-4C01-9786-68E93F6634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6C83-D132-451F-AE37-3768367A4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B9DE-BF2B-4353-B5C8-7DC6966BA2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C786-339E-4376-99EC-98A7EEB642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30CE-C9B6-4D5C-9045-81AA7D2395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8AC1-A729-4BD7-B01A-AC154D44DE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B3A9-C196-4759-B21A-1F137AF270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BAC4-68D7-4C88-B77A-0110EC34FB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E9A9-4F3C-4A08-B880-AA23963894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98D3-1E01-44C4-8B0C-717F96D6CC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9CA2-64D4-4CCE-8603-FB886E2377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3965-0A15-4956-AAFB-353A96C12A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61F8-0DE4-4B56-859A-56C2B11676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95B2-15B8-473D-90B7-EA749893C4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ED04-1E59-4A32-851E-D2429E6E62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32FB-F19C-4063-B187-8FA82D1B94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8753-44AF-44B9-B961-01B80349C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EB72-2472-4398-9B96-8A46DAC146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3728-84ED-4DAD-8ADF-EB73C84A45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8F50-8DC3-4B91-A5E9-E77EE1D931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AB09-7F46-4F8F-8F11-1AD02FF084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229B-1153-46DC-99F2-3BB9237A48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13FA-23CF-49D9-BCA5-5F44B39FB0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C4E1-AE3C-466B-9ED3-008B1BC95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5010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3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4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5" marL="157680" indent="-157680" algn="ctr">
              <a:spcBef>
                <a:spcPts val="45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6" marL="157680" indent="-157680" algn="ctr">
              <a:spcBef>
                <a:spcPts val="45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-123480" y="6416640"/>
            <a:ext cx="18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86"/>
                </a:solidFill>
                <a:latin typeface="Constantia"/>
              </a:rPr>
              <a:t>bea.g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16E8-EE56-4549-9AAE-B693F791492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-123480" y="6416640"/>
            <a:ext cx="18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86"/>
                </a:solidFill>
                <a:latin typeface="Constantia"/>
              </a:rPr>
              <a:t>bea.g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956E-47AE-479F-A551-7B4F1A8A3AA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BEA’s Measures of Capit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8006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obert Kornf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UNECE/Eurostat/OECD Task Force 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Measuring  Sustainable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ptember 23-24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The Knowledge Economy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The Importance of Updating Economic Measurements</a:t>
            </a:r>
            <a:endParaRPr b="1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028880"/>
            <a:ext cx="914400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7C2F-E651-4250-94AB-5D52079652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BEA’s R&amp;D Satellite Account</a:t>
            </a:r>
            <a:endParaRPr b="1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Provides a means of exploring the impact of capitalizing R&amp;D spending on GDP growth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Provides a framework through which various methodological and conceptual issues can be worked out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Part of broader BEA program to improve measures of intangibles in national account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Why R&amp;D? 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Good data on R&amp;D expenditures collected by the National Science Foundation for over 50 year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Numerous studies of rates of return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Greater professional agreement on its capitalization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2008 SNA recommends treating R&amp;D expenditures as investment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BEA plans to incorporate R&amp;D as a capital asset into the core accounts by 2013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BBB6-6216-44A9-BA9D-9F5C01E7C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R&amp;D Satellite Account: Conceptual Challenges</a:t>
            </a:r>
            <a:endParaRPr b="1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257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finition of the unit of R&amp;D outpu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R&amp;D output price index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 and obsolescenc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ublic goods qualities of R&amp;D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742D-FE22-401B-8309-DBA072B07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&amp;D Satellite Account 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roblems with Traditional Output Price Index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ost R&amp;D is produced on own account and not sold on markets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Even when sold, the traditional price index method breaks down because R&amp;D products are unique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(Note – Traditional price indexes are based on repeated sales of an identical product.)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Unit of output volume is also not defined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ust turn to indirect approaches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A932-6D1D-4D91-ABA8-8F0E667371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&amp;D Satellite Accoun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Options for Output Pr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nput Pr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roductivity Adjusted Pr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ownstream product prices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Applied in 2007 BEA R&amp;D satellite account.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Other option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C2EE-0FF6-46E0-85FF-9B653A2281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&amp;D Price Index Options - Sample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762120"/>
          <a:ext cx="861048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6104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83A3-A9C8-4706-99D9-5A106F1370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&amp;D Satellite Accoun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easures of Deprecia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ifficult to measure because depreciation is often related to obsolescence, which can vary immensely across intangible assets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 rates for these intangibles are necessarily based on assumptions guided by limited evidenc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E3C0-11FE-41FC-A32D-7ECE8DA1A4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Human Capital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BEA initiative would provide estimates of the stock of human capital, the rate at which the stock depreciates, and the returns to human capital investments.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ome limitations, largely because of limitations in source data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Limited to individuals’ investments in their human capital -- and not on-the-job training.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BEA will measure market-based investments in education, not individuals’ investments in time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9BCD-F541-4F14-B36C-93FA33FA47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Expanding the capital asset boundary requires addressing numerous measurement challeng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fining the asset and its scor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fining and measuring investmen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rices/valua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Rates of return/capital serv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172F-3D63-4FA8-B17B-577A6818AC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5ca6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alibri"/>
              </a:rPr>
              <a:t>BEA’s core fixed asset accounts</a:t>
            </a:r>
            <a:endParaRPr b="0" lang="en-US" sz="2800" spc="-1" strike="noStrike">
              <a:solidFill>
                <a:srgbClr val="00267f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f5ca6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alibri"/>
              </a:rPr>
              <a:t>Experimental or satellite measures of capital</a:t>
            </a:r>
            <a:endParaRPr b="0" lang="en-US" sz="2800" spc="-1" strike="noStrike">
              <a:solidFill>
                <a:srgbClr val="00267f"/>
              </a:solidFill>
              <a:latin typeface="Calibri"/>
            </a:endParaRPr>
          </a:p>
          <a:p>
            <a:pPr lvl="1" marL="990720" indent="-53352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ntegrated BEA-BLS productivity accounts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990720" indent="-53352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BEA’s R&amp;D satellite accoun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990720" indent="-53352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Human capital and home produc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9907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f5ca6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5B86-5742-440C-8A28-844EE7442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’s Fixed Asset Accou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Fixed assets are produced assets, which includ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-30492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Nonresidential fixed asset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2" marL="1181160" indent="-26676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Equipment and Software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2" marL="1181160" indent="-26676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Structure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-30492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Residential fixed assets (primarily housing)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-30492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Government fixed asset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2" marL="1181160" indent="-26676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Equipment and Software 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2" marL="1181160" indent="-266760">
              <a:lnSpc>
                <a:spcPct val="125000"/>
              </a:lnSpc>
              <a:spcBef>
                <a:spcPts val="499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Structure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Valued at current cost, real cost, historical cos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621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DD96-80E3-4B9F-84D5-4C97B6DEB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’s Fixed Asset Accou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erpetual Inventory Method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Net stock:  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= (1-d)*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-1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+ (1-d/2)* I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where 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= net stock at time ‘t’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 = depreciation rat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125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 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= investment at time ‘t’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   M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= I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 – (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–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</a:t>
            </a:r>
            <a:r>
              <a:rPr b="0" lang="en-US" sz="2400" spc="-1" strike="noStrike" baseline="-25000">
                <a:solidFill>
                  <a:srgbClr val="00267f"/>
                </a:solidFill>
                <a:latin typeface="Calibri"/>
              </a:rPr>
              <a:t>t-1</a:t>
            </a: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Geometric rates are used for most asset types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30DF-BE7B-43AD-8D82-697EA9E0AA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’s Fixed Asset Accou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FC and Sustainability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FC is the decline in the value of the stock of assets due to wear and tear, obsolescence, accidental damage, and aging.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FC is deducted from the appropriate gross investment to obtain net investment in fixed assets. Net investment is an indicator of whether the corresponding capital stocks have been maintained intact.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539E-0245-4899-94FC-56F5D96649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’s Fixed Asset Accounts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easuring Fixed Asset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Asset definition and asset boundary are clear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Source data on investment is available and reliable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rices are market price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preciation used geometric rates based on research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erpetual inventory model can be implemented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A4E3-7E90-4C30-B7EF-1CEEFCF6C4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-BLS Integrated Production Accoun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US BLS estimates multifactor productivity (MFP) for private busines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MFP currently does not include 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General government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Non-profit institutions serving households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Owner-occupied housing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5ca6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Harper, Moulton, Rosenthal, and Wasshausen, 2009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Detailed reconciliation of BEA and BLS statistics.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Integrated production account for private business sector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26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alibri"/>
              </a:rPr>
              <a:t>Expands core MFP estimates to include non-market government and non-profit sectors, using BEA’s capital stock data for these sectors.</a:t>
            </a:r>
            <a:endParaRPr b="0" lang="en-US" sz="20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A5BB-BBCE-48A2-A3FE-6743808109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-BLS Integrated Production Account 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Why Is Integration Needed?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ecentralized statistical system in the United States – BEA, BLS, Census, FRB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Calls for integration: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7f"/>
                </a:solidFill>
                <a:latin typeface="Calibri"/>
              </a:rPr>
              <a:t>System of National Accounts 1993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Jorgenson, Landefeld and Nordhaus, </a:t>
            </a:r>
            <a:r>
              <a:rPr b="0" i="1" lang="en-US" sz="2400" spc="-1" strike="noStrike">
                <a:solidFill>
                  <a:srgbClr val="00267f"/>
                </a:solidFill>
                <a:latin typeface="Calibri"/>
              </a:rPr>
              <a:t>A New Architecture for the U.S. National Account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U.S. Dept. of Commerce – Measuring Innovation in the 21st Century Economy Advisory Committee 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mportant potential applications of integrated GDP-production account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8EF3-360C-481C-A23A-0257E074E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BEA-BLS Integrated Production Accoun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Non-market (government, nonprofit) productio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Two major challenges: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Directly measuring changes in real output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International efforts to measure volume of certain services, such as health and education, for non-market producers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Measurement of capital services requires a measure of net return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alibri"/>
              </a:rPr>
              <a:t>Possible approaches - Market interest rates, “real” interest rates, internal rates for other sectors.</a:t>
            </a:r>
            <a:endParaRPr b="0" lang="en-US" sz="2400" spc="-1" strike="noStrike">
              <a:solidFill>
                <a:srgbClr val="0026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29AA-747F-449A-9202-0C5E5BC17F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56:02Z</dcterms:created>
  <dc:creator>Kenneth Pond</dc:creator>
  <dc:description/>
  <dc:language>en-US</dc:language>
  <cp:lastModifiedBy>Etropolska</cp:lastModifiedBy>
  <dcterms:modified xsi:type="dcterms:W3CDTF">2009-09-22T07:54:30Z</dcterms:modified>
  <cp:revision>4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7199376</vt:r8>
  </property>
  <property fmtid="{D5CDD505-2E9C-101B-9397-08002B2CF9AE}" pid="3" name="_AuthorEmail">
    <vt:lpwstr>Robert.Kornfeld@bea.gov</vt:lpwstr>
  </property>
  <property fmtid="{D5CDD505-2E9C-101B-9397-08002B2CF9AE}" pid="4" name="_AuthorEmailDisplayName">
    <vt:lpwstr>Kornfeld, Robert</vt:lpwstr>
  </property>
  <property fmtid="{D5CDD505-2E9C-101B-9397-08002B2CF9AE}" pid="5" name="_EmailSubject">
    <vt:lpwstr>TF on Sustainable Development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