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tabanell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4-19T08:27:31.035000000" idx="1">
    <p:pos x="852" y="228"/>
    <p:text>dimensioni altezza 0,7 larghezza 2,41
posizione 0,93 - 1,16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ACF1CEE-BB18-4E07-BDDD-15307C9D77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A8D7867-4371-4489-8108-836E3A550F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A53822B-B165-43FD-926F-00DE640618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9D9BC45-6811-4473-8EDC-3403D858C4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47F3DCE-7F01-4ED4-AED3-8841EC3C91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2527FBD-02EA-4961-8E89-C98F19974E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93353B0-1389-46B2-8846-053974BF49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F67698B-84E9-4CAF-8C25-55BD090E9B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05A3A46-ADD9-49FF-A85A-09292346DA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2CF4EFD-E640-4FE4-A678-0E05F81FF3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34C07DC-B1C1-461F-808D-31A8F71FB6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C60311D-BEBE-4640-8FF0-03EE964F77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910CF48-3E5A-47A9-85CA-39CABCAB1F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8AD1E45-82DD-458D-BFDB-857DCD7A38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DD712CC-BBB3-45BF-8AD9-7D8839FF45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7D8D967-12F7-4C00-9F69-24AA7D860F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73BF787-BEF5-4DAC-9FB5-CAE2A3B535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3885B2E-5DD6-40BC-A855-42014F6410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ima indagine condotta sullo sport fornisce un quadro molto chiaro sul fenomeno: solo il 2,6% della popolazione pratica sport: il 90,8% di questi sono uomini e solo l’1% ha meno di 14 anni. Siamo nella fase dello sport di pochi , praticato da “soli” uomini e prevalentemente all’aperto. Siamo ancora nella fase di esclusione dal mondo dello sport dei bambini, degli giovani, delle donne, che come si vedrà sono i settori che maggiormente contribuiranno negli anni allo sviluppo e alla diffusione della pratica spor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1E8-A815-4DCD-A399-1C7F94B2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998-12BF-4A40-B48B-4FF31269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FB5-EE52-4C96-91C8-3C7D168E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D08-33B7-40E2-8574-6A51B43A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BEA-FF75-42EF-BF52-CA81DA2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49E-F77B-4E64-A244-8C79F10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9DC-4500-4434-A7E0-6FCB013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5EA-D505-4606-9CD9-7DBF2CE4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35F-5FCB-48CC-B4D9-7DFFB9C3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7D-66E1-495B-8664-9AB7AE4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6A0-42C9-463A-ABBE-E8D2CFE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A40-77DC-4F44-802A-2D27DF2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E2C-B7EB-4F7F-B486-041B5DFB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7668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-792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4456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dddddd"/>
                </a:solidFill>
                <a:latin typeface="Arial"/>
              </a:rPr>
              <a:t>Maria Giuseppina Mu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dddddd"/>
                </a:solidFill>
                <a:latin typeface="Arial"/>
              </a:rPr>
              <a:t>I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333360"/>
            <a:ext cx="694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xpert group meeting on indicators to measure violence against wom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eneva 8-10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6240" y="2536920"/>
            <a:ext cx="71042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asuring violence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cators from the Italian violence against women surv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20F-0769-4F24-96A9-88E90D10A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Author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0320" y="1254240"/>
            <a:ext cx="19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70480" y="1233360"/>
            <a:ext cx="33526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s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hab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ncé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70480" y="2160720"/>
            <a:ext cx="336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9600" y="1481040"/>
            <a:ext cx="11178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9600" y="1481040"/>
            <a:ext cx="1148040" cy="14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41760" y="4159080"/>
            <a:ext cx="36892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known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quain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mily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6280" y="4832280"/>
            <a:ext cx="77004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5EC-A8A5-4BE7-A3E8-7A6DFA5CC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ccurrence perio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7960" y="1961640"/>
            <a:ext cx="71661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partne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eriod is identified  by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non partner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ce 16teen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16teen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ed sexual activities by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violence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F97-3560-40BC-9DAF-186AE69477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Reference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65160" y="1513800"/>
            <a:ext cx="70264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if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12 last months (before the inter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many other periods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20 years 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-2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-1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st five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45D-8197-4B2E-BA5D-BC6510F20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0040" y="434880"/>
            <a:ext cx="81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Prevalence indicators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7680" y="1332360"/>
            <a:ext cx="78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omen aged 16 to 70 who have suffered physical or sexual violence by m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y period of happening, type of authors and type of violence - Year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per100 women with the same characteristic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0280" y="2556000"/>
          <a:ext cx="8304120" cy="38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2556000"/>
                    <a:ext cx="830412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75D-A0D0-4587-AD09-2BCFCE1FD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84040" y="1827360"/>
          <a:ext cx="8439120" cy="46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827360"/>
                    <a:ext cx="8439120" cy="46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Partner violenc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men between 16 and 70 years of age victims of physical or sexual violence by a partner, by perpetrator, moment in which the crime was perpetrated and typology of violence – Year 200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per 100 women with the same characteristic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D94-7653-4E19-826C-56CC28A470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89000" y="1711440"/>
          <a:ext cx="895500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711440"/>
                    <a:ext cx="895500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1280" y="3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n partner violenc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men between 16 and 70 years of age victims of physical or sexual violence by a non partner, by kind of violence suffered, period and kind of perpetrator  - Year 200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per 100 women and per 100 victims with the same 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EE6-7F50-4D5D-88D2-BB16C3F162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9880" y="1822680"/>
            <a:ext cx="68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ore complex 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to ask number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 women remember wel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ubjective dimension in quantifying</a:t>
            </a: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serie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How to count series of incid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94E-B59D-4FB4-8C4D-DABF80B44C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1542960"/>
            <a:ext cx="6529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incident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ow many times did it happen? /_/_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know/don’t 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often did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day/almost every da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weeks (1-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month (1-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times a yea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in particular periods of the year but in repetitively wa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85800"/>
                <a:tab algn="l" pos="91440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know/don’t remember; don’t answer/refu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6120" y="2408400"/>
            <a:ext cx="826920" cy="1306440"/>
          </a:xfrm>
          <a:custGeom>
            <a:avLst/>
            <a:gdLst>
              <a:gd name="textAreaLeft" fmla="*/ 110520 w 826920"/>
              <a:gd name="textAreaRight" fmla="*/ 716400 w 826920"/>
              <a:gd name="textAreaTop" fmla="*/ 228600 h 1306440"/>
              <a:gd name="textAreaBottom" fmla="*/ 94716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19C-D73B-47DE-AB5D-9961D7D3F5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Intensity of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39880" y="1352880"/>
            <a:ext cx="74041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til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e of violence occurred more than once, by type of violence and type of offender, in the life course and in the 12 month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ork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frequency calculating the percentage of violence suffered “1, 2, 3, more than 3 ti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ere the last category includes also the answers related to “how often it happen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translating the number value, sometimes very high, for example 30, 45, 97 in the qualitative items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1C-26F2-4526-97A4-3E6AEAC175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-792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Violence Ser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56160" y="1108440"/>
            <a:ext cx="693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ive and objective measures of ser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y in interpreting singl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construction of synthetic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anked items, factorial analy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82720" y="3754440"/>
            <a:ext cx="6929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serious was this incident for you at th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re you physically inj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re you injured so badly that you needed medical c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d you feel that your life was in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98000" y="649116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us type of injuries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B94-76FC-45CB-AA46-AAF11E1A73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7320" y="333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5f5f5f"/>
                </a:solidFill>
                <a:latin typeface="Arial"/>
              </a:rPr>
              <a:t>The Italian survey methodolog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27280" y="1699920"/>
            <a:ext cx="5975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4800" y="1585800"/>
            <a:ext cx="82580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ince 2001 Istat and the Department for Rights and Equal Opportunities began to addres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Large sample size - 25.000 women aged between 16 and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Computer Assisted Telephone 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Respondents 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Accurate selection and training of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Continuous daily monitoring (8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c0000"/>
                </a:solidFill>
                <a:latin typeface="Arial"/>
              </a:rPr>
              <a:t>Supervision and support during the interviews      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c0000"/>
                </a:solidFill>
                <a:latin typeface="Arial"/>
              </a:rPr>
              <a:t>Psychological support  during training and  field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c0000"/>
                </a:solidFill>
                <a:latin typeface="Arial"/>
              </a:rPr>
              <a:t>Shelters address if women asked fo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845-4783-4F2A-8789-FF6B694118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01480" y="0"/>
          <a:ext cx="8229600" cy="6756480"/>
        </p:xfrm>
        <a:graphic>
          <a:graphicData uri="http://schemas.openxmlformats.org/drawingml/2006/table">
            <a:tbl>
              <a:tblPr/>
              <a:tblGrid>
                <a:gridCol w="1295280"/>
                <a:gridCol w="1116000"/>
                <a:gridCol w="1494000"/>
                <a:gridCol w="698400"/>
                <a:gridCol w="816120"/>
                <a:gridCol w="638280"/>
                <a:gridCol w="1036440"/>
                <a:gridCol w="11350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or sexual  part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ju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eling of life in dan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ption of serious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onsider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ough seri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r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thing wrong but not a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something that happe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mo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 d'Aos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mbard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ino Alto Adi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zano - Bo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uli Venezia Giu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u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ia Romag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Tosca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4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b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h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z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uzz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l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g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ic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b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ci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deg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B71-1D3E-4208-911D-FFD1B0DFD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Violence Seri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1189080"/>
            <a:ext cx="67039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s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nformation on the last 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mbivalence of seriousness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porting behavi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in touch with shelters or other specialised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of alcohol or me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of professional counselling to cope with violen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arding to the incident as a cr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si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nking the screen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violence length (du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B00-1FD7-47EE-849B-6ACA96E105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4400" y="0"/>
            <a:ext cx="73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General versus                             Specific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901880" y="3440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4160" y="1189440"/>
            <a:ext cx="6597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ecific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levels of geographical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tims’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, civil status, level of education, professional status, etc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fenders’ characteristic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3680" y="567540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ing on denominators choic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ABF-03F2-4414-8371-CEFE70F1D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98440" y="0"/>
          <a:ext cx="8845560" cy="6918480"/>
        </p:xfrm>
        <a:graphic>
          <a:graphicData uri="http://schemas.openxmlformats.org/drawingml/2006/table">
            <a:tbl>
              <a:tblPr/>
              <a:tblGrid>
                <a:gridCol w="1770120"/>
                <a:gridCol w="1612800"/>
                <a:gridCol w="1420920"/>
                <a:gridCol w="1262160"/>
                <a:gridCol w="1265040"/>
                <a:gridCol w="15145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or sexual violence during life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or sexual violence in the last 12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 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ual 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 or attempted r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mo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 d'Aos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mbard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ino Alto Adi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zano - Boz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uli Venezia Giu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u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ia Romag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Tosc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80019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b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z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u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li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a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g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ica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b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ci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deg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B59-B111-4671-9CFC-A058766A3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80"/>
                </a:solidFill>
                <a:latin typeface="Arial"/>
              </a:rPr>
              <a:t>Conclusions … 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</a:rPr>
              <a:t>studying indicator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31840" y="1103400"/>
            <a:ext cx="80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4A0-C7ED-4729-AC68-F6B6C25F82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69696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79320"/>
            <a:ext cx="1666800" cy="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6160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5840" y="0"/>
            <a:ext cx="62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f5f5f"/>
                </a:solidFill>
                <a:latin typeface="Arial"/>
              </a:rPr>
              <a:t>Thinking to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3960" y="727200"/>
            <a:ext cx="75200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rvey aims and indicators are strictly link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s according specific characteristics of violence occurr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nature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authors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occurrenc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reference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the intensity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erious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costs of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viole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strategies to end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risk factors of violence (women, partner, micro and macro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19"/>
                </a:solidFill>
                <a:latin typeface="Arial"/>
              </a:rPr>
              <a:t> 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66C-73E1-4B7D-92C2-80F0712C3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14480" y="461880"/>
            <a:ext cx="69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f5f5f"/>
                </a:solidFill>
                <a:latin typeface="Arial"/>
              </a:rPr>
              <a:t>Thinking to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46280" y="1600200"/>
            <a:ext cx="7497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urposes:</a:t>
            </a:r>
            <a:r>
              <a:rPr b="1" lang="en-AU" sz="3200" spc="-1" strike="noStrike">
                <a:solidFill>
                  <a:srgbClr val="a80019"/>
                </a:solidFill>
                <a:latin typeface="Arial"/>
              </a:rPr>
              <a:t> phenomenon comprehension, quantification, legislative, policy evaluatio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eneral versus specific</a:t>
            </a:r>
            <a:r>
              <a:rPr b="1" lang="en-AU" sz="3200" spc="-1" strike="noStrike">
                <a:solidFill>
                  <a:srgbClr val="a8001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ational versus trans-national dimen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885-FB62-449B-B4C1-AA2F6DDCB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28920" y="461880"/>
            <a:ext cx="62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f5f5f"/>
                </a:solidFill>
                <a:latin typeface="Arial"/>
              </a:rPr>
              <a:t>Some Italian 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93960" y="1600200"/>
            <a:ext cx="70182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a80019"/>
                </a:solidFill>
                <a:latin typeface="Arial"/>
              </a:rPr>
              <a:t>The nature of violenc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log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nomic violence (partial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alking from part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4645080" y="275580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5527800" y="333540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6064200" y="393048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7281720" y="4973760"/>
            <a:ext cx="987480" cy="290520"/>
          </a:xfrm>
          <a:custGeom>
            <a:avLst/>
            <a:gdLst>
              <a:gd name="textAreaLeft" fmla="*/ 18720 w 987480"/>
              <a:gd name="textAreaRight" fmla="*/ 968760 w 9874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73354" h="21600">
                <a:moveTo>
                  <a:pt x="0" y="0"/>
                </a:moveTo>
                <a:lnTo>
                  <a:pt x="73354" y="0"/>
                </a:lnTo>
                <a:lnTo>
                  <a:pt x="73354" y="21600"/>
                </a:lnTo>
                <a:lnTo>
                  <a:pt x="0" y="21600"/>
                </a:lnTo>
                <a:close/>
              </a:path>
              <a:path fill="lightenLess" w="73354" h="21600">
                <a:moveTo>
                  <a:pt x="0" y="0"/>
                </a:moveTo>
                <a:lnTo>
                  <a:pt x="73354" y="0"/>
                </a:lnTo>
                <a:lnTo>
                  <a:pt x="71954" y="1400"/>
                </a:lnTo>
                <a:lnTo>
                  <a:pt x="1400" y="1400"/>
                </a:lnTo>
                <a:close/>
              </a:path>
              <a:path fill="darken" w="73354" h="21600">
                <a:moveTo>
                  <a:pt x="73354" y="0"/>
                </a:moveTo>
                <a:lnTo>
                  <a:pt x="73354" y="21600"/>
                </a:lnTo>
                <a:lnTo>
                  <a:pt x="71954" y="20200"/>
                </a:lnTo>
                <a:lnTo>
                  <a:pt x="71954" y="1400"/>
                </a:lnTo>
                <a:close/>
              </a:path>
              <a:path fill="darkenLess" w="73354" h="21600">
                <a:moveTo>
                  <a:pt x="73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4" y="20200"/>
                </a:lnTo>
                <a:close/>
              </a:path>
              <a:path fill="lighten" w="73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4" h="21600">
                <a:moveTo>
                  <a:pt x="29671" y="3794"/>
                </a:moveTo>
                <a:lnTo>
                  <a:pt x="43684" y="10800"/>
                </a:lnTo>
                <a:lnTo>
                  <a:pt x="2967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431-972B-450B-9B66-64FB6459E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95520" y="331920"/>
            <a:ext cx="75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hysic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3960" y="1600200"/>
            <a:ext cx="6632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ed from the less to the most serious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to be physically h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pushed, grabb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yanked or knocked with an 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be slapped, kicked, punche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mpted strangulation, of a chok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lnSpc>
                <a:spcPct val="100000"/>
              </a:lnSpc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s with weap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8F5-4C1A-4B5C-BD28-03C60E0A32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8040" y="303120"/>
            <a:ext cx="70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exu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93960" y="1600200"/>
            <a:ext cx="675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mpted ra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xual physical harass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xual intercourses with a third par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ndesired sexual intercourses, su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 fear of consequ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grading and humiliating sexual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tivities (only for partner violenc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sexual violence form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259840" y="61977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3062160"/>
            <a:ext cx="7211880" cy="161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7400" y="1146240"/>
            <a:ext cx="7912080" cy="490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80019"/>
                </a:solidFill>
                <a:latin typeface="Arial"/>
              </a:rPr>
              <a:t>One Indicators on violence preva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aborates together physical and 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olence (per 100 women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two more specific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ling exclusively with physical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threats included) and sexual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800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many other indicators linked to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a80019"/>
                </a:solidFill>
                <a:latin typeface="Arial"/>
              </a:rPr>
              <a:t>violence forms. </a:t>
            </a:r>
            <a:r>
              <a:rPr b="1" lang="it-IT" sz="2800" spc="-1" strike="noStrike">
                <a:solidFill>
                  <a:srgbClr val="a8001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CEC-2FED-4F06-AA2E-7BB9A5F87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7840" y="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sychological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46440" y="1731600"/>
            <a:ext cx="66942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n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ehaviou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gregation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imi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avy financial restrai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ffered by partner’s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8FC-502B-450B-AE9C-F460B94C3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11174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0" y="1117080"/>
            <a:ext cx="1666800" cy="2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15880" y="1168560"/>
            <a:ext cx="757584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20920" y="3319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5f5f"/>
                </a:solidFill>
                <a:latin typeface="Arial"/>
              </a:rPr>
              <a:t>Nature of violence -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tal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7240"/>
            <a:ext cx="16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 group meeting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51120" y="1348920"/>
            <a:ext cx="695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ed in a nagging way to talk to the woman against her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 asked for appointments to mee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ited for her outside home or at school or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 messages, telephone cal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s, mails or undesired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llowed her or spied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a800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opted other strateg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86760" y="5994360"/>
            <a:ext cx="609480" cy="144360"/>
          </a:xfrm>
          <a:custGeom>
            <a:avLst/>
            <a:gdLst>
              <a:gd name="textAreaLeft" fmla="*/ 9360 w 609480"/>
              <a:gd name="textAreaRight" fmla="*/ 600120 w 6094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1021" h="21600">
                <a:moveTo>
                  <a:pt x="0" y="0"/>
                </a:moveTo>
                <a:lnTo>
                  <a:pt x="91021" y="0"/>
                </a:lnTo>
                <a:lnTo>
                  <a:pt x="91021" y="21600"/>
                </a:lnTo>
                <a:lnTo>
                  <a:pt x="0" y="21600"/>
                </a:lnTo>
                <a:close/>
              </a:path>
              <a:path fill="lightenLess" w="91021" h="21600">
                <a:moveTo>
                  <a:pt x="0" y="0"/>
                </a:moveTo>
                <a:lnTo>
                  <a:pt x="91021" y="0"/>
                </a:lnTo>
                <a:lnTo>
                  <a:pt x="89621" y="1400"/>
                </a:lnTo>
                <a:lnTo>
                  <a:pt x="1400" y="1400"/>
                </a:lnTo>
                <a:close/>
              </a:path>
              <a:path fill="darken" w="91021" h="21600">
                <a:moveTo>
                  <a:pt x="91021" y="0"/>
                </a:moveTo>
                <a:lnTo>
                  <a:pt x="91021" y="21600"/>
                </a:lnTo>
                <a:lnTo>
                  <a:pt x="89621" y="20200"/>
                </a:lnTo>
                <a:lnTo>
                  <a:pt x="89621" y="1400"/>
                </a:lnTo>
                <a:close/>
              </a:path>
              <a:path fill="darkenLess" w="91021" h="21600">
                <a:moveTo>
                  <a:pt x="9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621" y="20200"/>
                </a:lnTo>
                <a:close/>
              </a:path>
              <a:path fill="lighten" w="9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021" h="21600">
                <a:moveTo>
                  <a:pt x="38504" y="10800"/>
                </a:moveTo>
                <a:lnTo>
                  <a:pt x="52517" y="3794"/>
                </a:lnTo>
                <a:lnTo>
                  <a:pt x="525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B55-D240-4FC4-9A46-F2E1999950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tabanell</dc:creator>
  <dc:description/>
  <dc:language>en-US</dc:language>
  <cp:lastModifiedBy>muratore</cp:lastModifiedBy>
  <dcterms:modified xsi:type="dcterms:W3CDTF">2007-10-08T12:25:18Z</dcterms:modified>
  <cp:revision>290</cp:revision>
  <dc:subject/>
  <dc:title>Diapositiva 1</dc:title>
</cp:coreProperties>
</file>