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81800" cy="9918700"/>
</p:presentation>
</file>

<file path=ppt/commentAuthors.xml><?xml version="1.0" encoding="utf-8"?>
<p:cmAuthorLst xmlns:p="http://schemas.openxmlformats.org/presentationml/2006/main">
  <p:cmAuthor id="0" name="tabanell" initials="t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<Relationship Id="rId29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6-04-19T08:27:31.035000000" idx="1">
    <p:pos x="852" y="228"/>
    <p:text>dimensioni altezza 0,7 larghezza 2,41
posizione 0,93 - 1,16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BBD5233A-61C2-4BDE-8E8A-45E497A48CB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6B2CAC32-A425-4FF2-A325-26970684DE4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03240" y="471312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ima indagine condotta sullo sport fornisce un quadro molto chiaro sul fenomeno: solo il 2,6% della popolazione pratica sport: il 90,8% di questi sono uomini e solo l’1% ha meno di 14 anni. Siamo nella fase dello sport di pochi , praticato da “soli” uomini e prevalentemente all’aperto. Siamo ancora nella fase di esclusione dal mondo dello sport dei bambini, degli giovani, delle donne, che come si vedrà sono i settori che maggiormente contribuiranno negli anni allo sviluppo e alla diffusione della pratica spor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D01BF0DD-ED6D-40D0-9530-2E212F69EAA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03240" y="471312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ima indagine condotta sullo sport fornisce un quadro molto chiaro sul fenomeno: solo il 2,6% della popolazione pratica sport: il 90,8% di questi sono uomini e solo l’1% ha meno di 14 anni. Siamo nella fase dello sport di pochi , praticato da “soli” uomini e prevalentemente all’aperto. Siamo ancora nella fase di esclusione dal mondo dello sport dei bambini, degli giovani, delle donne, che come si vedrà sono i settori che maggiormente contribuiranno negli anni allo sviluppo e alla diffusione della pratica spor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693744C9-B69A-4A1E-B1EE-398C5AA2D87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03240" y="471312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ima indagine condotta sullo sport fornisce un quadro molto chiaro sul fenomeno: solo il 2,6% della popolazione pratica sport: il 90,8% di questi sono uomini e solo l’1% ha meno di 14 anni. Siamo nella fase dello sport di pochi , praticato da “soli” uomini e prevalentemente all’aperto. Siamo ancora nella fase di esclusione dal mondo dello sport dei bambini, degli giovani, delle donne, che come si vedrà sono i settori che maggiormente contribuiranno negli anni allo sviluppo e alla diffusione della pratica spor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91BFFF53-7A25-4CAB-99A7-0F153115319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03240" y="471312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ima indagine condotta sullo sport fornisce un quadro molto chiaro sul fenomeno: solo il 2,6% della popolazione pratica sport: il 90,8% di questi sono uomini e solo l’1% ha meno di 14 anni. Siamo nella fase dello sport di pochi , praticato da “soli” uomini e prevalentemente all’aperto. Siamo ancora nella fase di esclusione dal mondo dello sport dei bambini, degli giovani, delle donne, che come si vedrà sono i settori che maggiormente contribuiranno negli anni allo sviluppo e alla diffusione della pratica spor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E6E6140C-8AC2-44D8-B577-42E3BBAA241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03240" y="471312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ima indagine condotta sullo sport fornisce un quadro molto chiaro sul fenomeno: solo il 2,6% della popolazione pratica sport: il 90,8% di questi sono uomini e solo l’1% ha meno di 14 anni. Siamo nella fase dello sport di pochi , praticato da “soli” uomini e prevalentemente all’aperto. Siamo ancora nella fase di esclusione dal mondo dello sport dei bambini, degli giovani, delle donne, che come si vedrà sono i settori che maggiormente contribuiranno negli anni allo sviluppo e alla diffusione della pratica spor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BB40164A-F206-4F29-8BC5-305D07A2244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03240" y="471312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ima indagine condotta sullo sport fornisce un quadro molto chiaro sul fenomeno: solo il 2,6% della popolazione pratica sport: il 90,8% di questi sono uomini e solo l’1% ha meno di 14 anni. Siamo nella fase dello sport di pochi , praticato da “soli” uomini e prevalentemente all’aperto. Siamo ancora nella fase di esclusione dal mondo dello sport dei bambini, degli giovani, delle donne, che come si vedrà sono i settori che maggiormente contribuiranno negli anni allo sviluppo e alla diffusione della pratica spor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537887E0-C714-44BA-9DEE-8816DD473AF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03240" y="471312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ima indagine condotta sullo sport fornisce un quadro molto chiaro sul fenomeno: solo il 2,6% della popolazione pratica sport: il 90,8% di questi sono uomini e solo l’1% ha meno di 14 anni. Siamo nella fase dello sport di pochi , praticato da “soli” uomini e prevalentemente all’aperto. Siamo ancora nella fase di esclusione dal mondo dello sport dei bambini, degli giovani, delle donne, che come si vedrà sono i settori che maggiormente contribuiranno negli anni allo sviluppo e alla diffusione della pratica spor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4A7EA855-4EA1-4F88-9507-064C672B198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03240" y="471312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ima indagine condotta sullo sport fornisce un quadro molto chiaro sul fenomeno: solo il 2,6% della popolazione pratica sport: il 90,8% di questi sono uomini e solo l’1% ha meno di 14 anni. Siamo nella fase dello sport di pochi , praticato da “soli” uomini e prevalentemente all’aperto. Siamo ancora nella fase di esclusione dal mondo dello sport dei bambini, degli giovani, delle donne, che come si vedrà sono i settori che maggiormente contribuiranno negli anni allo sviluppo e alla diffusione della pratica spor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319C20C2-A519-4D53-965C-D6E170F91D9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03240" y="471312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ima indagine condotta sullo sport fornisce un quadro molto chiaro sul fenomeno: solo il 2,6% della popolazione pratica sport: il 90,8% di questi sono uomini e solo l’1% ha meno di 14 anni. Siamo nella fase dello sport di pochi , praticato da “soli” uomini e prevalentemente all’aperto. Siamo ancora nella fase di esclusione dal mondo dello sport dei bambini, degli giovani, delle donne, che come si vedrà sono i settori che maggiormente contribuiranno negli anni allo sviluppo e alla diffusione della pratica spor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1F44A4B3-A892-4364-B079-12AD415B523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03240" y="471312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ima indagine condotta sullo sport fornisce un quadro molto chiaro sul fenomeno: solo il 2,6% della popolazione pratica sport: il 90,8% di questi sono uomini e solo l’1% ha meno di 14 anni. Siamo nella fase dello sport di pochi , praticato da “soli” uomini e prevalentemente all’aperto. Siamo ancora nella fase di esclusione dal mondo dello sport dei bambini, degli giovani, delle donne, che come si vedrà sono i settori che maggiormente contribuiranno negli anni allo sviluppo e alla diffusione della pratica spor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69168EF9-E0A1-497C-9992-3463F167A54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03240" y="471312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ima indagine condotta sullo sport fornisce un quadro molto chiaro sul fenomeno: solo il 2,6% della popolazione pratica sport: il 90,8% di questi sono uomini e solo l’1% ha meno di 14 anni. Siamo nella fase dello sport di pochi , praticato da “soli” uomini e prevalentemente all’aperto. Siamo ancora nella fase di esclusione dal mondo dello sport dei bambini, degli giovani, delle donne, che come si vedrà sono i settori che maggiormente contribuiranno negli anni allo sviluppo e alla diffusione della pratica spor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1797ECA0-1F0F-45B9-8F24-CBACE022F70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03240" y="471312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ima indagine condotta sullo sport fornisce un quadro molto chiaro sul fenomeno: solo il 2,6% della popolazione pratica sport: il 90,8% di questi sono uomini e solo l’1% ha meno di 14 anni. Siamo nella fase dello sport di pochi , praticato da “soli” uomini e prevalentemente all’aperto. Siamo ancora nella fase di esclusione dal mondo dello sport dei bambini, degli giovani, delle donne, che come si vedrà sono i settori che maggiormente contribuiranno negli anni allo sviluppo e alla diffusione della pratica spor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3895649A-012A-4487-890F-C86D6FAD47F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03240" y="471312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ima indagine condotta sullo sport fornisce un quadro molto chiaro sul fenomeno: solo il 2,6% della popolazione pratica sport: il 90,8% di questi sono uomini e solo l’1% ha meno di 14 anni. Siamo nella fase dello sport di pochi , praticato da “soli” uomini e prevalentemente all’aperto. Siamo ancora nella fase di esclusione dal mondo dello sport dei bambini, degli giovani, delle donne, che come si vedrà sono i settori che maggiormente contribuiranno negli anni allo sviluppo e alla diffusione della pratica spor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1D66EA75-CAC7-4552-AB77-EED637DA6E4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03240" y="471312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ima indagine condotta sullo sport fornisce un quadro molto chiaro sul fenomeno: solo il 2,6% della popolazione pratica sport: il 90,8% di questi sono uomini e solo l’1% ha meno di 14 anni. Siamo nella fase dello sport di pochi , praticato da “soli” uomini e prevalentemente all’aperto. Siamo ancora nella fase di esclusione dal mondo dello sport dei bambini, degli giovani, delle donne, che come si vedrà sono i settori che maggiormente contribuiranno negli anni allo sviluppo e alla diffusione della pratica spor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A8F41A72-A8F0-40E1-9BC4-052C486AFB3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03240" y="471312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ima indagine condotta sullo sport fornisce un quadro molto chiaro sul fenomeno: solo il 2,6% della popolazione pratica sport: il 90,8% di questi sono uomini e solo l’1% ha meno di 14 anni. Siamo nella fase dello sport di pochi , praticato da “soli” uomini e prevalentemente all’aperto. Siamo ancora nella fase di esclusione dal mondo dello sport dei bambini, degli giovani, delle donne, che come si vedrà sono i settori che maggiormente contribuiranno negli anni allo sviluppo e alla diffusione della pratica spor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83FB1DFB-FA8C-48E6-BC8D-080F77ADB4D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03240" y="471312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ima indagine condotta sullo sport fornisce un quadro molto chiaro sul fenomeno: solo il 2,6% della popolazione pratica sport: il 90,8% di questi sono uomini e solo l’1% ha meno di 14 anni. Siamo nella fase dello sport di pochi , praticato da “soli” uomini e prevalentemente all’aperto. Siamo ancora nella fase di esclusione dal mondo dello sport dei bambini, degli giovani, delle donne, che come si vedrà sono i settori che maggiormente contribuiranno negli anni allo sviluppo e alla diffusione della pratica spor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9E511667-B0AB-47A2-9DCC-9668AB2E7FF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03240" y="471312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ima indagine condotta sullo sport fornisce un quadro molto chiaro sul fenomeno: solo il 2,6% della popolazione pratica sport: il 90,8% di questi sono uomini e solo l’1% ha meno di 14 anni. Siamo nella fase dello sport di pochi , praticato da “soli” uomini e prevalentemente all’aperto. Siamo ancora nella fase di esclusione dal mondo dello sport dei bambini, degli giovani, delle donne, che come si vedrà sono i settori che maggiormente contribuiranno negli anni allo sviluppo e alla diffusione della pratica spor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01B1-1313-4721-AB3B-79ABCA9C1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EAA2-82B8-4A95-9153-ECBE6EB1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F45D-94BA-48AD-81BA-E4F316B69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9EF6-371E-4BBF-B257-853590D7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DCD7-423E-4097-9360-0FABCA53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81C0-12AC-4468-8FD4-EC4492D8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A845-1BB0-48D2-B5CB-FC0B048E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B312-DAD3-4D75-88A9-348F622B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F33A-B9F7-496D-B611-7FEF6307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B444-7F36-47BC-8054-4D4C11FB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2D01-9D5E-4FF2-AB54-9F9DAFF3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F181-A024-4E23-8749-8B479743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0838-8476-4A75-AB44-74E34F3D3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6680" y="1766880"/>
            <a:ext cx="80773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32472" t="18527" r="0" b="6009"/>
          <a:stretch/>
        </p:blipFill>
        <p:spPr>
          <a:xfrm>
            <a:off x="0" y="-792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744560"/>
            <a:ext cx="1616040" cy="0"/>
          </a:xfrm>
          <a:prstGeom prst="line">
            <a:avLst/>
          </a:prstGeom>
          <a:ln w="9360">
            <a:solidFill>
              <a:srgbClr val="99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33360" y="419040"/>
            <a:ext cx="866880" cy="252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78200" y="5073480"/>
            <a:ext cx="66211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dddddd"/>
                </a:solidFill>
                <a:latin typeface="Arial"/>
              </a:rPr>
              <a:t>Maria Giuseppina Mur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dddddd"/>
                </a:solidFill>
                <a:latin typeface="Arial"/>
              </a:rPr>
              <a:t>Is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8000" y="333360"/>
            <a:ext cx="6946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Expert group meeting on indicators to measure violence against women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Geneva 8-10 Octo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76240" y="2536920"/>
            <a:ext cx="710424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easuring violence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dicators from the Italian violence against women surv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1FBB-C42A-4B84-8E5F-E924E480E1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066680" y="111744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0" y="1117080"/>
            <a:ext cx="1666800" cy="2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15880" y="1168560"/>
            <a:ext cx="757584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20920" y="331920"/>
            <a:ext cx="63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Author of viol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7240"/>
            <a:ext cx="161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Expert group meeting o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40320" y="1254240"/>
            <a:ext cx="1907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70480" y="1233360"/>
            <a:ext cx="3352680" cy="268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ev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sb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habi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ancé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470480" y="2160720"/>
            <a:ext cx="3365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9600" y="1481040"/>
            <a:ext cx="11178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9600" y="1481040"/>
            <a:ext cx="1148040" cy="147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41760" y="4159080"/>
            <a:ext cx="368928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known per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quain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lleag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amily 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l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16280" y="4832280"/>
            <a:ext cx="770040" cy="6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0CE6-F3EF-460B-AD46-799B1FA1F8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066680" y="111744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0" y="1117080"/>
            <a:ext cx="1666800" cy="2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15880" y="1168560"/>
            <a:ext cx="757584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20920" y="331920"/>
            <a:ext cx="63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Occurrence period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57240"/>
            <a:ext cx="161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Expert group meeting o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77960" y="1961640"/>
            <a:ext cx="716616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80019"/>
                </a:solidFill>
                <a:latin typeface="Arial"/>
              </a:rPr>
              <a:t>partner vio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eriod is identified  by the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80019"/>
                </a:solidFill>
                <a:latin typeface="Arial"/>
              </a:rPr>
              <a:t>non partner viol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nce 16teen years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fore 16teen years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54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ced sexual activities by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54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hysical violence by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2048-6E49-483E-AB7C-CBB5257377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066680" y="111744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0" y="1117080"/>
            <a:ext cx="1666800" cy="2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15880" y="1168560"/>
            <a:ext cx="757584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20920" y="331920"/>
            <a:ext cx="63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Reference peri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57240"/>
            <a:ext cx="161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Expert group meeting o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65160" y="1513800"/>
            <a:ext cx="7026480" cy="40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life cour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12 last months (before the intervie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many other periods can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fore 20 years ag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-20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-10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last five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7972-58AA-4FCE-B094-FEE6EE62C5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flipV="1">
            <a:off x="0" y="1117080"/>
            <a:ext cx="1666800" cy="2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15880" y="1168560"/>
            <a:ext cx="757584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0040" y="434880"/>
            <a:ext cx="819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"/>
              </a:rPr>
              <a:t>Prevalence indicators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97680" y="1332360"/>
            <a:ext cx="787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omen aged 16 to 70 who have suffered physical or sexual violence by m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y period of happening, type of authors and type of violence - Year 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per100 women with the same characteristic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30280" y="2556000"/>
          <a:ext cx="8304120" cy="3800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0280" y="2556000"/>
                    <a:ext cx="830412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5502-F15C-436C-AEB3-30C0C4928C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284040" y="1827360"/>
          <a:ext cx="8439120" cy="467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1827360"/>
                    <a:ext cx="8439120" cy="46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Partner violence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omen between 16 and 70 years of age victims of physical or sexual violence by a partner, by perpetrator, moment in which the crime was perpetrated and typology of violence – Year 2006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(per 100 women with the same characteristics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23FA-0E85-4146-982B-382440E704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189000" y="1711440"/>
          <a:ext cx="8955000" cy="550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000" y="1711440"/>
                    <a:ext cx="8955000" cy="55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41280" y="377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non partner violence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omen between 16 and 70 years of age victims of physical or sexual violence by a non partner, by kind of violence suffered, period and kind of perpetrator  - Year 2006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(per 100 women and per 100 victims with the same characteristic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EDB0-2897-4403-8D8E-E287BDF8F4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066680" y="111744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0" y="1117080"/>
            <a:ext cx="1666800" cy="2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15880" y="1168560"/>
            <a:ext cx="757584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20920" y="331920"/>
            <a:ext cx="63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Intensity of viol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57240"/>
            <a:ext cx="161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Expert group meeting o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9880" y="1822680"/>
            <a:ext cx="68770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More complex issu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ow to ask numbers of incid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Do women remember well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Subjective dimension in quantifying</a:t>
            </a:r>
            <a:r>
              <a:rPr b="1" lang="it-IT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series of incid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How to count series of incid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1901880" y="3440160"/>
            <a:ext cx="0" cy="73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30A0-ED02-4D68-841E-EDBBD589AB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066680" y="111744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0" y="1117080"/>
            <a:ext cx="1666800" cy="2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15880" y="1168560"/>
            <a:ext cx="757584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57240"/>
            <a:ext cx="161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Expert group meeting o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19240" y="1542960"/>
            <a:ext cx="6529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80880"/>
                <a:tab algn="l" pos="685800"/>
                <a:tab algn="l" pos="91440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mbers of incidents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685800"/>
                <a:tab algn="l" pos="91440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How many times did it happen? /_/_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685800"/>
                <a:tab algn="l" pos="91440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n’t know/don’t re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685800"/>
                <a:tab algn="l" pos="91440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685800"/>
                <a:tab algn="l" pos="91440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685800"/>
                <a:tab algn="l" pos="91440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685800"/>
                <a:tab algn="l" pos="91440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w often did it happ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685800"/>
                <a:tab algn="l" pos="91440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ry day/almost every da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685800"/>
                <a:tab algn="l" pos="91440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or more times a weeks (1-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685800"/>
                <a:tab algn="l" pos="91440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or more times a month (1-3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685800"/>
                <a:tab algn="l" pos="91440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or more times a year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685800"/>
                <a:tab algn="l" pos="91440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in particular periods of the year but in repetitively wa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685800"/>
                <a:tab algn="l" pos="91440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n’t know/don’t remember; don’t answer/refus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20920" y="331920"/>
            <a:ext cx="63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Intensity of viol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26120" y="2408400"/>
            <a:ext cx="826920" cy="1306440"/>
          </a:xfrm>
          <a:custGeom>
            <a:avLst/>
            <a:gdLst>
              <a:gd name="textAreaLeft" fmla="*/ 110520 w 826920"/>
              <a:gd name="textAreaRight" fmla="*/ 716400 w 826920"/>
              <a:gd name="textAreaTop" fmla="*/ 228600 h 1306440"/>
              <a:gd name="textAreaBottom" fmla="*/ 947160 h 130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ECE6-5CFE-497A-AF4A-5CBAD0DF75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066680" y="111744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0" y="1117080"/>
            <a:ext cx="1666800" cy="2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15880" y="1168560"/>
            <a:ext cx="757584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20920" y="331920"/>
            <a:ext cx="63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Intensity of viol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57240"/>
            <a:ext cx="161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Expert group meeting o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39880" y="1352880"/>
            <a:ext cx="740412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til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te of violence occurred more than once, by type of violence and type of offender, in the life course and in the 12 months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Work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cator of frequency calculating the percentage of violence suffered “1, 2, 3, more than 3 tim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here the last category includes also the answers related to “how often it happened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cator translating the number value, sometimes very high, for example 30, 45, 97 in the qualitative items.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-1901880" y="3440160"/>
            <a:ext cx="0" cy="73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6CAD-7897-4CA0-B6D7-490A082C9E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-792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066680" y="111744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0" y="1117080"/>
            <a:ext cx="1666800" cy="2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15880" y="1168560"/>
            <a:ext cx="757584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20920" y="331920"/>
            <a:ext cx="63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Violence Serious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57240"/>
            <a:ext cx="161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Expert group meeting o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-1901880" y="3440160"/>
            <a:ext cx="0" cy="73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56160" y="1108440"/>
            <a:ext cx="693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jective and objective measures of serious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iculty in interpreting single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le construction of synthetic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ranked items, factorial analysi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82720" y="3754440"/>
            <a:ext cx="692964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serious was this incident for you at the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re you physically inju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re you injured so badly that you needed medical car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d you feel that your life was in da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98000" y="649116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lus type of injuries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C3C5-FFF5-451E-9769-3C95ABA227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17320" y="333000"/>
            <a:ext cx="633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500" spc="-1" strike="noStrike">
                <a:solidFill>
                  <a:srgbClr val="5f5f5f"/>
                </a:solidFill>
                <a:latin typeface="Arial"/>
              </a:rPr>
              <a:t>The Italian survey methodology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27280" y="1699920"/>
            <a:ext cx="59752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4800" y="1585800"/>
            <a:ext cx="8258040" cy="50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c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a80019"/>
                </a:solidFill>
                <a:latin typeface="Arial"/>
              </a:rPr>
              <a:t>Since 2001 Istat and the Department for Rights and Equal Opportunities began to address the 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35568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c0000"/>
                </a:solidFill>
                <a:latin typeface="Arial"/>
              </a:rPr>
              <a:t>Large sample size - 25.000 women aged between 16 and 7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355680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c0000"/>
                </a:solidFill>
                <a:latin typeface="Arial"/>
              </a:rPr>
              <a:t>Computer Assisted Telephone Intervie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355680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c0000"/>
                </a:solidFill>
                <a:latin typeface="Arial"/>
              </a:rPr>
              <a:t>Respondents sensit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355680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c0000"/>
                </a:solidFill>
                <a:latin typeface="Arial"/>
              </a:rPr>
              <a:t>Accurate selection and training of intervie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355680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c0000"/>
                </a:solidFill>
                <a:latin typeface="Arial"/>
              </a:rPr>
              <a:t>Continuous daily monitoring (8 mont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355680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c0000"/>
                </a:solidFill>
                <a:latin typeface="Arial"/>
              </a:rPr>
              <a:t>Supervision and support during the interviews       col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355680"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ac0000"/>
                </a:solidFill>
                <a:latin typeface="Arial"/>
              </a:rPr>
              <a:t>Psychological support  during training and  field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355680"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ac0000"/>
                </a:solidFill>
                <a:latin typeface="Arial"/>
              </a:rPr>
              <a:t>Shelters address if women asked for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73A8-6FFB-4DDC-97E7-9B8D10DE2E8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501480" y="0"/>
          <a:ext cx="8229600" cy="6756480"/>
        </p:xfrm>
        <a:graphic>
          <a:graphicData uri="http://schemas.openxmlformats.org/drawingml/2006/table">
            <a:tbl>
              <a:tblPr/>
              <a:tblGrid>
                <a:gridCol w="1295280"/>
                <a:gridCol w="1116000"/>
                <a:gridCol w="1494000"/>
                <a:gridCol w="698400"/>
                <a:gridCol w="816120"/>
                <a:gridCol w="638280"/>
                <a:gridCol w="1036440"/>
                <a:gridCol w="1135080"/>
              </a:tblGrid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ysicalor sexual  partn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jur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eling of life in dang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ception of seriousn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w consider cr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io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ough serio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cri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thing wrong but not a cr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y something that happe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emont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le d'Aost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mbard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entino Alto Adi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lzano - Boz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net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iuli Venezia Giu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gur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ilia Romag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80019"/>
                          </a:solidFill>
                          <a:latin typeface="Arial"/>
                          <a:ea typeface="Arial"/>
                        </a:rPr>
                        <a:t>Tosca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80019"/>
                          </a:solidFill>
                          <a:latin typeface="Arial"/>
                          <a:ea typeface="Arial"/>
                        </a:rPr>
                        <a:t>3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80019"/>
                          </a:solidFill>
                          <a:latin typeface="Arial"/>
                          <a:ea typeface="Arial"/>
                        </a:rPr>
                        <a:t>1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80019"/>
                          </a:solidFill>
                          <a:latin typeface="Arial"/>
                          <a:ea typeface="Arial"/>
                        </a:rPr>
                        <a:t>3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80019"/>
                          </a:solidFill>
                          <a:latin typeface="Arial"/>
                          <a:ea typeface="Arial"/>
                        </a:rPr>
                        <a:t>3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80019"/>
                          </a:solidFill>
                          <a:latin typeface="Arial"/>
                          <a:ea typeface="Arial"/>
                        </a:rPr>
                        <a:t>2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80019"/>
                          </a:solidFill>
                          <a:latin typeface="Arial"/>
                          <a:ea typeface="Arial"/>
                        </a:rPr>
                        <a:t>4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80019"/>
                          </a:solidFill>
                          <a:latin typeface="Arial"/>
                          <a:ea typeface="Arial"/>
                        </a:rPr>
                        <a:t>3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mbr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ch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zi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uzz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lis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pan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gl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silicat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abr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cil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rdeg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30FF-0C05-45C1-B752-F2FFB90778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066680" y="111744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0" y="1117080"/>
            <a:ext cx="1666800" cy="2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15880" y="1168560"/>
            <a:ext cx="757584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20920" y="331920"/>
            <a:ext cx="63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Violence Serious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57240"/>
            <a:ext cx="161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Expert group meeting o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01880" y="1189080"/>
            <a:ext cx="6703920" cy="56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itics asp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information on the last epis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ambivalence of seriousness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porting behavio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getting in touch with shelters or other specialised ag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use of alcohol or med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Use of professional counselling to cope with violent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garding to the incident as a cr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ossibili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ranking the screening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violence length (du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8F83-6C07-4B34-BA8F-9C092F2EBE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066680" y="111744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0" y="1117080"/>
            <a:ext cx="1666800" cy="2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15880" y="1168560"/>
            <a:ext cx="757584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14400" y="0"/>
            <a:ext cx="73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General versus                             Specific indic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57240"/>
            <a:ext cx="161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Expert group meeting o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1901880" y="3440160"/>
            <a:ext cx="0" cy="73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54160" y="1189440"/>
            <a:ext cx="6597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pecific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erent levels of geographical ar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ctims’ characteri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84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ge, civil status, level of education, professional status, etc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fenders’ characteristic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63680" y="5675400"/>
            <a:ext cx="47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cusing on denominators choice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0487-83CF-4D29-9FC7-1D06D6DB19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298440" y="0"/>
          <a:ext cx="8845560" cy="6918480"/>
        </p:xfrm>
        <a:graphic>
          <a:graphicData uri="http://schemas.openxmlformats.org/drawingml/2006/table">
            <a:tbl>
              <a:tblPr/>
              <a:tblGrid>
                <a:gridCol w="1770120"/>
                <a:gridCol w="1612800"/>
                <a:gridCol w="1420920"/>
                <a:gridCol w="1262160"/>
                <a:gridCol w="1265040"/>
                <a:gridCol w="151452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 or sexual violence during life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 or sexual violence in the last 12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 viol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ual viol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e or attempted ra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emon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le d'Aos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mbard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entino Alto Adig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lzano - Boz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ne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iuli Venezia Giu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gur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ilia Romagn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80019"/>
                          </a:solidFill>
                          <a:latin typeface="Arial"/>
                          <a:ea typeface="Arial"/>
                        </a:rPr>
                        <a:t>Toscan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80019"/>
                          </a:solidFill>
                          <a:latin typeface="Arial"/>
                          <a:ea typeface="Arial"/>
                        </a:rPr>
                        <a:t>3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80019"/>
                          </a:solidFill>
                          <a:latin typeface="Arial"/>
                          <a:ea typeface="Arial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80019"/>
                          </a:solidFill>
                          <a:latin typeface="Arial"/>
                          <a:ea typeface="Arial"/>
                        </a:rPr>
                        <a:t>2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80019"/>
                          </a:solidFill>
                          <a:latin typeface="Arial"/>
                          <a:ea typeface="Arial"/>
                        </a:rPr>
                        <a:t>2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80019"/>
                          </a:solidFill>
                          <a:latin typeface="Arial"/>
                          <a:ea typeface="Arial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mbr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ch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z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uzz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lis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pan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gl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silica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abr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cil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rdegn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2783-FF1A-4F6E-B03F-2C7573B0D2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808080"/>
                </a:solidFill>
                <a:latin typeface="Arial"/>
              </a:rPr>
              <a:t>Conclusions … </a:t>
            </a:r>
            <a:r>
              <a:rPr b="0" lang="en-GB" sz="3600" spc="-1" strike="noStrike">
                <a:solidFill>
                  <a:srgbClr val="808080"/>
                </a:solidFill>
                <a:latin typeface="Arial"/>
              </a:rPr>
              <a:t>studying indicator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31840" y="1103400"/>
            <a:ext cx="801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197B-5DB0-4968-9575-0C5CB6BD290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66680" y="69696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79320"/>
            <a:ext cx="1666800" cy="1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15880" y="1168560"/>
            <a:ext cx="757584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16160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Expert group meeting on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25840" y="0"/>
            <a:ext cx="627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5f5f5f"/>
                </a:solidFill>
                <a:latin typeface="Arial"/>
              </a:rPr>
              <a:t>Thinking to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23960" y="727200"/>
            <a:ext cx="7520040" cy="60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urvey aims and indicators are strictly linked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lations according specific characteristics of violence occurrenc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19"/>
                </a:solidFill>
                <a:latin typeface="Arial"/>
              </a:rPr>
              <a:t>nature of vio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1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a80019"/>
                </a:solidFill>
                <a:latin typeface="Arial"/>
              </a:rPr>
              <a:t>authors of vio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1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a80019"/>
                </a:solidFill>
                <a:latin typeface="Arial"/>
              </a:rPr>
              <a:t>occurrence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1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a80019"/>
                </a:solidFill>
                <a:latin typeface="Arial"/>
              </a:rPr>
              <a:t>reference peri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1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a80019"/>
                </a:solidFill>
                <a:latin typeface="Arial"/>
              </a:rPr>
              <a:t>the intensity of vio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1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a80019"/>
                </a:solidFill>
                <a:latin typeface="Arial"/>
              </a:rPr>
              <a:t>serious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1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a80019"/>
                </a:solidFill>
                <a:latin typeface="Arial"/>
              </a:rPr>
              <a:t>con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1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a80019"/>
                </a:solidFill>
                <a:latin typeface="Arial"/>
              </a:rPr>
              <a:t>costs of vio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1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a80019"/>
                </a:solidFill>
                <a:latin typeface="Arial"/>
              </a:rPr>
              <a:t>violence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1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a80019"/>
                </a:solidFill>
                <a:latin typeface="Arial"/>
              </a:rPr>
              <a:t>strategies to end vio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19"/>
                </a:solidFill>
                <a:latin typeface="Arial"/>
              </a:rPr>
              <a:t>risk factors of violence (women, partner, micro and macro lev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19"/>
                </a:solidFill>
                <a:latin typeface="Arial"/>
              </a:rPr>
              <a:t> 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6628-0465-49A0-9809-34E2519B18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066680" y="111744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0" y="1117080"/>
            <a:ext cx="1666800" cy="2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15880" y="1168560"/>
            <a:ext cx="757584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14480" y="461880"/>
            <a:ext cx="69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5f5f5f"/>
                </a:solidFill>
                <a:latin typeface="Arial"/>
              </a:rPr>
              <a:t>Thinking to indic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46280" y="1600200"/>
            <a:ext cx="7497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Purposes:</a:t>
            </a:r>
            <a:r>
              <a:rPr b="1" lang="en-AU" sz="3200" spc="-1" strike="noStrike">
                <a:solidFill>
                  <a:srgbClr val="a80019"/>
                </a:solidFill>
                <a:latin typeface="Arial"/>
              </a:rPr>
              <a:t> phenomenon comprehension, quantification, legislative, policy evaluation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a800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General versus specific</a:t>
            </a:r>
            <a:r>
              <a:rPr b="1" lang="en-AU" sz="3200" spc="-1" strike="noStrike">
                <a:solidFill>
                  <a:srgbClr val="a8001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a800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National versus trans-national dimensi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7240"/>
            <a:ext cx="161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Expert group meeting o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B978-1BF2-47B2-9D82-A85F88E142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066680" y="111744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0" y="1117080"/>
            <a:ext cx="1666800" cy="2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15880" y="1168560"/>
            <a:ext cx="757584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28920" y="461880"/>
            <a:ext cx="627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5f5f5f"/>
                </a:solidFill>
                <a:latin typeface="Arial"/>
              </a:rPr>
              <a:t>Some Italian iss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93960" y="1600200"/>
            <a:ext cx="701820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a80019"/>
                </a:solidFill>
                <a:latin typeface="Arial"/>
              </a:rPr>
              <a:t>The nature of violence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ex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sychologic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conomic violence (partiall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talking from partn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7240"/>
            <a:ext cx="161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Expert group meeting o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3" action="ppaction://hlinksldjump"/>
          </p:cNvPr>
          <p:cNvSpPr/>
          <p:nvPr/>
        </p:nvSpPr>
        <p:spPr>
          <a:xfrm>
            <a:off x="4645080" y="2755800"/>
            <a:ext cx="987480" cy="290520"/>
          </a:xfrm>
          <a:custGeom>
            <a:avLst/>
            <a:gdLst>
              <a:gd name="textAreaLeft" fmla="*/ 18720 w 987480"/>
              <a:gd name="textAreaRight" fmla="*/ 968760 w 987480"/>
              <a:gd name="textAreaTop" fmla="*/ 18720 h 290520"/>
              <a:gd name="textAreaBottom" fmla="*/ 271800 h 290520"/>
            </a:gdLst>
            <a:ahLst/>
            <a:rect l="textAreaLeft" t="textAreaTop" r="textAreaRight" b="textAreaBottom"/>
            <a:pathLst>
              <a:path w="73354" h="21600">
                <a:moveTo>
                  <a:pt x="0" y="0"/>
                </a:moveTo>
                <a:lnTo>
                  <a:pt x="73354" y="0"/>
                </a:lnTo>
                <a:lnTo>
                  <a:pt x="73354" y="21600"/>
                </a:lnTo>
                <a:lnTo>
                  <a:pt x="0" y="21600"/>
                </a:lnTo>
                <a:close/>
              </a:path>
              <a:path fill="lightenLess" w="73354" h="21600">
                <a:moveTo>
                  <a:pt x="0" y="0"/>
                </a:moveTo>
                <a:lnTo>
                  <a:pt x="73354" y="0"/>
                </a:lnTo>
                <a:lnTo>
                  <a:pt x="71954" y="1400"/>
                </a:lnTo>
                <a:lnTo>
                  <a:pt x="1400" y="1400"/>
                </a:lnTo>
                <a:close/>
              </a:path>
              <a:path fill="darken" w="73354" h="21600">
                <a:moveTo>
                  <a:pt x="73354" y="0"/>
                </a:moveTo>
                <a:lnTo>
                  <a:pt x="73354" y="21600"/>
                </a:lnTo>
                <a:lnTo>
                  <a:pt x="71954" y="20200"/>
                </a:lnTo>
                <a:lnTo>
                  <a:pt x="71954" y="1400"/>
                </a:lnTo>
                <a:close/>
              </a:path>
              <a:path fill="darkenLess" w="73354" h="21600">
                <a:moveTo>
                  <a:pt x="73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54" y="20200"/>
                </a:lnTo>
                <a:close/>
              </a:path>
              <a:path fill="lighten" w="73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354" h="21600">
                <a:moveTo>
                  <a:pt x="29671" y="3794"/>
                </a:moveTo>
                <a:lnTo>
                  <a:pt x="43684" y="10800"/>
                </a:lnTo>
                <a:lnTo>
                  <a:pt x="29671" y="17806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4" action="ppaction://hlinksldjump"/>
          </p:cNvPr>
          <p:cNvSpPr/>
          <p:nvPr/>
        </p:nvSpPr>
        <p:spPr>
          <a:xfrm>
            <a:off x="5527800" y="3335400"/>
            <a:ext cx="987480" cy="290520"/>
          </a:xfrm>
          <a:custGeom>
            <a:avLst/>
            <a:gdLst>
              <a:gd name="textAreaLeft" fmla="*/ 18720 w 987480"/>
              <a:gd name="textAreaRight" fmla="*/ 968760 w 987480"/>
              <a:gd name="textAreaTop" fmla="*/ 18720 h 290520"/>
              <a:gd name="textAreaBottom" fmla="*/ 271800 h 290520"/>
            </a:gdLst>
            <a:ahLst/>
            <a:rect l="textAreaLeft" t="textAreaTop" r="textAreaRight" b="textAreaBottom"/>
            <a:pathLst>
              <a:path w="73354" h="21600">
                <a:moveTo>
                  <a:pt x="0" y="0"/>
                </a:moveTo>
                <a:lnTo>
                  <a:pt x="73354" y="0"/>
                </a:lnTo>
                <a:lnTo>
                  <a:pt x="73354" y="21600"/>
                </a:lnTo>
                <a:lnTo>
                  <a:pt x="0" y="21600"/>
                </a:lnTo>
                <a:close/>
              </a:path>
              <a:path fill="lightenLess" w="73354" h="21600">
                <a:moveTo>
                  <a:pt x="0" y="0"/>
                </a:moveTo>
                <a:lnTo>
                  <a:pt x="73354" y="0"/>
                </a:lnTo>
                <a:lnTo>
                  <a:pt x="71954" y="1400"/>
                </a:lnTo>
                <a:lnTo>
                  <a:pt x="1400" y="1400"/>
                </a:lnTo>
                <a:close/>
              </a:path>
              <a:path fill="darken" w="73354" h="21600">
                <a:moveTo>
                  <a:pt x="73354" y="0"/>
                </a:moveTo>
                <a:lnTo>
                  <a:pt x="73354" y="21600"/>
                </a:lnTo>
                <a:lnTo>
                  <a:pt x="71954" y="20200"/>
                </a:lnTo>
                <a:lnTo>
                  <a:pt x="71954" y="1400"/>
                </a:lnTo>
                <a:close/>
              </a:path>
              <a:path fill="darkenLess" w="73354" h="21600">
                <a:moveTo>
                  <a:pt x="73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54" y="20200"/>
                </a:lnTo>
                <a:close/>
              </a:path>
              <a:path fill="lighten" w="73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354" h="21600">
                <a:moveTo>
                  <a:pt x="29671" y="3794"/>
                </a:moveTo>
                <a:lnTo>
                  <a:pt x="43684" y="10800"/>
                </a:lnTo>
                <a:lnTo>
                  <a:pt x="29671" y="17806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5" action="ppaction://hlinksldjump"/>
          </p:cNvPr>
          <p:cNvSpPr/>
          <p:nvPr/>
        </p:nvSpPr>
        <p:spPr>
          <a:xfrm>
            <a:off x="6064200" y="3930480"/>
            <a:ext cx="987480" cy="290520"/>
          </a:xfrm>
          <a:custGeom>
            <a:avLst/>
            <a:gdLst>
              <a:gd name="textAreaLeft" fmla="*/ 18720 w 987480"/>
              <a:gd name="textAreaRight" fmla="*/ 968760 w 987480"/>
              <a:gd name="textAreaTop" fmla="*/ 18720 h 290520"/>
              <a:gd name="textAreaBottom" fmla="*/ 271800 h 290520"/>
            </a:gdLst>
            <a:ahLst/>
            <a:rect l="textAreaLeft" t="textAreaTop" r="textAreaRight" b="textAreaBottom"/>
            <a:pathLst>
              <a:path w="73354" h="21600">
                <a:moveTo>
                  <a:pt x="0" y="0"/>
                </a:moveTo>
                <a:lnTo>
                  <a:pt x="73354" y="0"/>
                </a:lnTo>
                <a:lnTo>
                  <a:pt x="73354" y="21600"/>
                </a:lnTo>
                <a:lnTo>
                  <a:pt x="0" y="21600"/>
                </a:lnTo>
                <a:close/>
              </a:path>
              <a:path fill="lightenLess" w="73354" h="21600">
                <a:moveTo>
                  <a:pt x="0" y="0"/>
                </a:moveTo>
                <a:lnTo>
                  <a:pt x="73354" y="0"/>
                </a:lnTo>
                <a:lnTo>
                  <a:pt x="71954" y="1400"/>
                </a:lnTo>
                <a:lnTo>
                  <a:pt x="1400" y="1400"/>
                </a:lnTo>
                <a:close/>
              </a:path>
              <a:path fill="darken" w="73354" h="21600">
                <a:moveTo>
                  <a:pt x="73354" y="0"/>
                </a:moveTo>
                <a:lnTo>
                  <a:pt x="73354" y="21600"/>
                </a:lnTo>
                <a:lnTo>
                  <a:pt x="71954" y="20200"/>
                </a:lnTo>
                <a:lnTo>
                  <a:pt x="71954" y="1400"/>
                </a:lnTo>
                <a:close/>
              </a:path>
              <a:path fill="darkenLess" w="73354" h="21600">
                <a:moveTo>
                  <a:pt x="73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54" y="20200"/>
                </a:lnTo>
                <a:close/>
              </a:path>
              <a:path fill="lighten" w="73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354" h="21600">
                <a:moveTo>
                  <a:pt x="29671" y="3794"/>
                </a:moveTo>
                <a:lnTo>
                  <a:pt x="43684" y="10800"/>
                </a:lnTo>
                <a:lnTo>
                  <a:pt x="29671" y="17806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6" action="ppaction://hlinksldjump"/>
          </p:cNvPr>
          <p:cNvSpPr/>
          <p:nvPr/>
        </p:nvSpPr>
        <p:spPr>
          <a:xfrm>
            <a:off x="7281720" y="4973760"/>
            <a:ext cx="987480" cy="290520"/>
          </a:xfrm>
          <a:custGeom>
            <a:avLst/>
            <a:gdLst>
              <a:gd name="textAreaLeft" fmla="*/ 18720 w 987480"/>
              <a:gd name="textAreaRight" fmla="*/ 968760 w 987480"/>
              <a:gd name="textAreaTop" fmla="*/ 18720 h 290520"/>
              <a:gd name="textAreaBottom" fmla="*/ 271800 h 290520"/>
            </a:gdLst>
            <a:ahLst/>
            <a:rect l="textAreaLeft" t="textAreaTop" r="textAreaRight" b="textAreaBottom"/>
            <a:pathLst>
              <a:path w="73354" h="21600">
                <a:moveTo>
                  <a:pt x="0" y="0"/>
                </a:moveTo>
                <a:lnTo>
                  <a:pt x="73354" y="0"/>
                </a:lnTo>
                <a:lnTo>
                  <a:pt x="73354" y="21600"/>
                </a:lnTo>
                <a:lnTo>
                  <a:pt x="0" y="21600"/>
                </a:lnTo>
                <a:close/>
              </a:path>
              <a:path fill="lightenLess" w="73354" h="21600">
                <a:moveTo>
                  <a:pt x="0" y="0"/>
                </a:moveTo>
                <a:lnTo>
                  <a:pt x="73354" y="0"/>
                </a:lnTo>
                <a:lnTo>
                  <a:pt x="71954" y="1400"/>
                </a:lnTo>
                <a:lnTo>
                  <a:pt x="1400" y="1400"/>
                </a:lnTo>
                <a:close/>
              </a:path>
              <a:path fill="darken" w="73354" h="21600">
                <a:moveTo>
                  <a:pt x="73354" y="0"/>
                </a:moveTo>
                <a:lnTo>
                  <a:pt x="73354" y="21600"/>
                </a:lnTo>
                <a:lnTo>
                  <a:pt x="71954" y="20200"/>
                </a:lnTo>
                <a:lnTo>
                  <a:pt x="71954" y="1400"/>
                </a:lnTo>
                <a:close/>
              </a:path>
              <a:path fill="darkenLess" w="73354" h="21600">
                <a:moveTo>
                  <a:pt x="73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54" y="20200"/>
                </a:lnTo>
                <a:close/>
              </a:path>
              <a:path fill="lighten" w="73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354" h="21600">
                <a:moveTo>
                  <a:pt x="29671" y="3794"/>
                </a:moveTo>
                <a:lnTo>
                  <a:pt x="43684" y="10800"/>
                </a:lnTo>
                <a:lnTo>
                  <a:pt x="29671" y="17806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A612-FF4A-457C-9234-94C84DF450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66680" y="111744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0" y="1117080"/>
            <a:ext cx="1666800" cy="2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15880" y="1168560"/>
            <a:ext cx="757584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95520" y="331920"/>
            <a:ext cx="754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5f5f5f"/>
                </a:solidFill>
                <a:latin typeface="Arial"/>
              </a:rPr>
              <a:t>Nature of violence - </a:t>
            </a: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Physical viol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93960" y="1600200"/>
            <a:ext cx="6632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nked from the less to the most serious on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60280">
              <a:lnSpc>
                <a:spcPct val="100000"/>
              </a:lnSpc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reat to be physically hi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60280">
              <a:lnSpc>
                <a:spcPct val="100000"/>
              </a:lnSpc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be pushed, grabbe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60280">
              <a:lnSpc>
                <a:spcPct val="100000"/>
              </a:lnSpc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be yanked or knocked with an objec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60280">
              <a:lnSpc>
                <a:spcPct val="100000"/>
              </a:lnSpc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be slapped, kicked, punched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60280">
              <a:lnSpc>
                <a:spcPct val="100000"/>
              </a:lnSpc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tt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60280">
              <a:lnSpc>
                <a:spcPct val="100000"/>
              </a:lnSpc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tempted strangulation, of a chok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60280">
              <a:lnSpc>
                <a:spcPct val="100000"/>
              </a:lnSpc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rn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60280">
              <a:lnSpc>
                <a:spcPct val="100000"/>
              </a:lnSpc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reats with weap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7240"/>
            <a:ext cx="161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Expert group meeting o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8186760" y="5994360"/>
            <a:ext cx="609480" cy="144360"/>
          </a:xfrm>
          <a:custGeom>
            <a:avLst/>
            <a:gdLst>
              <a:gd name="textAreaLeft" fmla="*/ 9360 w 609480"/>
              <a:gd name="textAreaRight" fmla="*/ 600120 w 6094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91021" h="21600">
                <a:moveTo>
                  <a:pt x="0" y="0"/>
                </a:moveTo>
                <a:lnTo>
                  <a:pt x="91021" y="0"/>
                </a:lnTo>
                <a:lnTo>
                  <a:pt x="91021" y="21600"/>
                </a:lnTo>
                <a:lnTo>
                  <a:pt x="0" y="21600"/>
                </a:lnTo>
                <a:close/>
              </a:path>
              <a:path fill="lightenLess" w="91021" h="21600">
                <a:moveTo>
                  <a:pt x="0" y="0"/>
                </a:moveTo>
                <a:lnTo>
                  <a:pt x="91021" y="0"/>
                </a:lnTo>
                <a:lnTo>
                  <a:pt x="89621" y="1400"/>
                </a:lnTo>
                <a:lnTo>
                  <a:pt x="1400" y="1400"/>
                </a:lnTo>
                <a:close/>
              </a:path>
              <a:path fill="darken" w="91021" h="21600">
                <a:moveTo>
                  <a:pt x="91021" y="0"/>
                </a:moveTo>
                <a:lnTo>
                  <a:pt x="91021" y="21600"/>
                </a:lnTo>
                <a:lnTo>
                  <a:pt x="89621" y="20200"/>
                </a:lnTo>
                <a:lnTo>
                  <a:pt x="89621" y="1400"/>
                </a:lnTo>
                <a:close/>
              </a:path>
              <a:path fill="darkenLess" w="91021" h="21600">
                <a:moveTo>
                  <a:pt x="9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621" y="20200"/>
                </a:lnTo>
                <a:close/>
              </a:path>
              <a:path fill="lighten" w="9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1021" h="21600">
                <a:moveTo>
                  <a:pt x="38504" y="10800"/>
                </a:moveTo>
                <a:lnTo>
                  <a:pt x="52517" y="3794"/>
                </a:lnTo>
                <a:lnTo>
                  <a:pt x="5251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6BA0-48E0-47A7-B391-5AE4EB177F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66680" y="111744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0" y="1117080"/>
            <a:ext cx="1666800" cy="2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15880" y="1168560"/>
            <a:ext cx="757584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48040" y="303120"/>
            <a:ext cx="70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5f5f5f"/>
                </a:solidFill>
                <a:latin typeface="Arial"/>
              </a:rPr>
              <a:t>Nature of violence -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Sexual viol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93960" y="1600200"/>
            <a:ext cx="6750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p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tempted rap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xual physical harassme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xual intercourses with a third part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undesired sexual intercourses, suff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for fear of consequenc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egrading and humiliating sexual    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ctivities (only for partner violenc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ther sexual violence forms not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7240"/>
            <a:ext cx="161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Expert group meeting o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3" action="ppaction://hlinksldjump"/>
          </p:cNvPr>
          <p:cNvSpPr/>
          <p:nvPr/>
        </p:nvSpPr>
        <p:spPr>
          <a:xfrm>
            <a:off x="8259840" y="6197760"/>
            <a:ext cx="609480" cy="144360"/>
          </a:xfrm>
          <a:custGeom>
            <a:avLst/>
            <a:gdLst>
              <a:gd name="textAreaLeft" fmla="*/ 9360 w 609480"/>
              <a:gd name="textAreaRight" fmla="*/ 600120 w 6094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91021" h="21600">
                <a:moveTo>
                  <a:pt x="0" y="0"/>
                </a:moveTo>
                <a:lnTo>
                  <a:pt x="91021" y="0"/>
                </a:lnTo>
                <a:lnTo>
                  <a:pt x="91021" y="21600"/>
                </a:lnTo>
                <a:lnTo>
                  <a:pt x="0" y="21600"/>
                </a:lnTo>
                <a:close/>
              </a:path>
              <a:path fill="lightenLess" w="91021" h="21600">
                <a:moveTo>
                  <a:pt x="0" y="0"/>
                </a:moveTo>
                <a:lnTo>
                  <a:pt x="91021" y="0"/>
                </a:lnTo>
                <a:lnTo>
                  <a:pt x="89621" y="1400"/>
                </a:lnTo>
                <a:lnTo>
                  <a:pt x="1400" y="1400"/>
                </a:lnTo>
                <a:close/>
              </a:path>
              <a:path fill="darken" w="91021" h="21600">
                <a:moveTo>
                  <a:pt x="91021" y="0"/>
                </a:moveTo>
                <a:lnTo>
                  <a:pt x="91021" y="21600"/>
                </a:lnTo>
                <a:lnTo>
                  <a:pt x="89621" y="20200"/>
                </a:lnTo>
                <a:lnTo>
                  <a:pt x="89621" y="1400"/>
                </a:lnTo>
                <a:close/>
              </a:path>
              <a:path fill="darkenLess" w="91021" h="21600">
                <a:moveTo>
                  <a:pt x="9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621" y="20200"/>
                </a:lnTo>
                <a:close/>
              </a:path>
              <a:path fill="lighten" w="9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1021" h="21600">
                <a:moveTo>
                  <a:pt x="38504" y="10800"/>
                </a:moveTo>
                <a:lnTo>
                  <a:pt x="52517" y="3794"/>
                </a:lnTo>
                <a:lnTo>
                  <a:pt x="5251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5680" y="3062160"/>
            <a:ext cx="7211880" cy="1611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7400" y="1146240"/>
            <a:ext cx="7912080" cy="4906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a800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a80019"/>
                </a:solidFill>
                <a:latin typeface="Arial"/>
              </a:rPr>
              <a:t>One Indicators on violence preval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laborates together physical and sexu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iolence (per 100 women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a80019"/>
                </a:solidFill>
                <a:latin typeface="Arial"/>
              </a:rPr>
              <a:t>two more specific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aling exclusively with physical viol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threats included) and sexual viol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800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80019"/>
                </a:solidFill>
                <a:latin typeface="Arial"/>
              </a:rPr>
              <a:t>many other indicators linked to differ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8001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a80019"/>
                </a:solidFill>
                <a:latin typeface="Arial"/>
              </a:rPr>
              <a:t>violence forms. </a:t>
            </a:r>
            <a:r>
              <a:rPr b="1" lang="it-IT" sz="2800" spc="-1" strike="noStrike">
                <a:solidFill>
                  <a:srgbClr val="a8001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9C16-6A52-4EFC-873B-7B102B19D0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066680" y="111744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0" y="1117080"/>
            <a:ext cx="1666800" cy="2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15880" y="1168560"/>
            <a:ext cx="757584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47840" y="0"/>
            <a:ext cx="760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5f5f5f"/>
                </a:solidFill>
                <a:latin typeface="Arial"/>
              </a:rPr>
              <a:t>Nature of violence -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Psychological viol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7240"/>
            <a:ext cx="161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Expert group meeting o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46440" y="1731600"/>
            <a:ext cx="669420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23880" indent="-62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3880" indent="-623880"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enig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3880" indent="-623880"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ehaviour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3880" indent="-623880"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egregation strate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3880" indent="-623880"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timi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3880" indent="-623880"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eavy financial restrai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3880" indent="-62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uffered by partner’s s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3880" indent="-623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3" action="ppaction://hlinksldjump"/>
          </p:cNvPr>
          <p:cNvSpPr/>
          <p:nvPr/>
        </p:nvSpPr>
        <p:spPr>
          <a:xfrm>
            <a:off x="8186760" y="5994360"/>
            <a:ext cx="609480" cy="144360"/>
          </a:xfrm>
          <a:custGeom>
            <a:avLst/>
            <a:gdLst>
              <a:gd name="textAreaLeft" fmla="*/ 9360 w 609480"/>
              <a:gd name="textAreaRight" fmla="*/ 600120 w 6094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91021" h="21600">
                <a:moveTo>
                  <a:pt x="0" y="0"/>
                </a:moveTo>
                <a:lnTo>
                  <a:pt x="91021" y="0"/>
                </a:lnTo>
                <a:lnTo>
                  <a:pt x="91021" y="21600"/>
                </a:lnTo>
                <a:lnTo>
                  <a:pt x="0" y="21600"/>
                </a:lnTo>
                <a:close/>
              </a:path>
              <a:path fill="lightenLess" w="91021" h="21600">
                <a:moveTo>
                  <a:pt x="0" y="0"/>
                </a:moveTo>
                <a:lnTo>
                  <a:pt x="91021" y="0"/>
                </a:lnTo>
                <a:lnTo>
                  <a:pt x="89621" y="1400"/>
                </a:lnTo>
                <a:lnTo>
                  <a:pt x="1400" y="1400"/>
                </a:lnTo>
                <a:close/>
              </a:path>
              <a:path fill="darken" w="91021" h="21600">
                <a:moveTo>
                  <a:pt x="91021" y="0"/>
                </a:moveTo>
                <a:lnTo>
                  <a:pt x="91021" y="21600"/>
                </a:lnTo>
                <a:lnTo>
                  <a:pt x="89621" y="20200"/>
                </a:lnTo>
                <a:lnTo>
                  <a:pt x="89621" y="1400"/>
                </a:lnTo>
                <a:close/>
              </a:path>
              <a:path fill="darkenLess" w="91021" h="21600">
                <a:moveTo>
                  <a:pt x="9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621" y="20200"/>
                </a:lnTo>
                <a:close/>
              </a:path>
              <a:path fill="lighten" w="9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1021" h="21600">
                <a:moveTo>
                  <a:pt x="38504" y="10800"/>
                </a:moveTo>
                <a:lnTo>
                  <a:pt x="52517" y="3794"/>
                </a:lnTo>
                <a:lnTo>
                  <a:pt x="5251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37C9-008A-4836-AED3-7D7B4AC532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66680" y="111744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0" y="1117080"/>
            <a:ext cx="1666800" cy="2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15880" y="1168560"/>
            <a:ext cx="757584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20920" y="331920"/>
            <a:ext cx="63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5f5f5f"/>
                </a:solidFill>
                <a:latin typeface="Arial"/>
              </a:rPr>
              <a:t>Nature of violence -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Stalk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57240"/>
            <a:ext cx="161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Expert group meeting o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51120" y="1348920"/>
            <a:ext cx="6956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6400" indent="-536400"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ied in a nagging way to talk to the woman against her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edly asked for appointments to meet 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ited for her outside home or at school or a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 messages, telephone call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-mails, mails or undesired pres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llowed her or spied 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dopted other strategie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3" action="ppaction://hlinksldjump"/>
          </p:cNvPr>
          <p:cNvSpPr/>
          <p:nvPr/>
        </p:nvSpPr>
        <p:spPr>
          <a:xfrm>
            <a:off x="8186760" y="5994360"/>
            <a:ext cx="609480" cy="144360"/>
          </a:xfrm>
          <a:custGeom>
            <a:avLst/>
            <a:gdLst>
              <a:gd name="textAreaLeft" fmla="*/ 9360 w 609480"/>
              <a:gd name="textAreaRight" fmla="*/ 600120 w 6094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91021" h="21600">
                <a:moveTo>
                  <a:pt x="0" y="0"/>
                </a:moveTo>
                <a:lnTo>
                  <a:pt x="91021" y="0"/>
                </a:lnTo>
                <a:lnTo>
                  <a:pt x="91021" y="21600"/>
                </a:lnTo>
                <a:lnTo>
                  <a:pt x="0" y="21600"/>
                </a:lnTo>
                <a:close/>
              </a:path>
              <a:path fill="lightenLess" w="91021" h="21600">
                <a:moveTo>
                  <a:pt x="0" y="0"/>
                </a:moveTo>
                <a:lnTo>
                  <a:pt x="91021" y="0"/>
                </a:lnTo>
                <a:lnTo>
                  <a:pt x="89621" y="1400"/>
                </a:lnTo>
                <a:lnTo>
                  <a:pt x="1400" y="1400"/>
                </a:lnTo>
                <a:close/>
              </a:path>
              <a:path fill="darken" w="91021" h="21600">
                <a:moveTo>
                  <a:pt x="91021" y="0"/>
                </a:moveTo>
                <a:lnTo>
                  <a:pt x="91021" y="21600"/>
                </a:lnTo>
                <a:lnTo>
                  <a:pt x="89621" y="20200"/>
                </a:lnTo>
                <a:lnTo>
                  <a:pt x="89621" y="1400"/>
                </a:lnTo>
                <a:close/>
              </a:path>
              <a:path fill="darkenLess" w="91021" h="21600">
                <a:moveTo>
                  <a:pt x="9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621" y="20200"/>
                </a:lnTo>
                <a:close/>
              </a:path>
              <a:path fill="lighten" w="9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1021" h="21600">
                <a:moveTo>
                  <a:pt x="38504" y="10800"/>
                </a:moveTo>
                <a:lnTo>
                  <a:pt x="52517" y="3794"/>
                </a:lnTo>
                <a:lnTo>
                  <a:pt x="5251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0D3B-0C33-4BD8-8D1A-2F8E5F8668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32:42Z</dcterms:created>
  <dc:creator>tabanell</dc:creator>
  <dc:description/>
  <dc:language>en-US</dc:language>
  <cp:lastModifiedBy>muratore</cp:lastModifiedBy>
  <dcterms:modified xsi:type="dcterms:W3CDTF">2007-10-08T12:25:18Z</dcterms:modified>
  <cp:revision>290</cp:revision>
  <dc:subject/>
  <dc:title>Diapositiva 1</dc:title>
</cp:coreProperties>
</file>