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media/image3.wmf" ContentType="image/x-wmf"/>
  <Override PartName="/ppt/media/image4.jpeg" ContentType="image/jpeg"/>
  <Override PartName="/ppt/media/image5.jpeg" ContentType="image/jpeg"/>
  <Override PartName="/ppt/media/image6.wmf" ContentType="image/x-wmf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1"/>
          </p:nvPr>
        </p:nvSpPr>
        <p:spPr>
          <a:xfrm>
            <a:off x="3774960" y="-360"/>
            <a:ext cx="28879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874440" y="738000"/>
            <a:ext cx="4916520" cy="3687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888480" y="4671720"/>
            <a:ext cx="48848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2"/>
          </p:nvPr>
        </p:nvSpPr>
        <p:spPr>
          <a:xfrm>
            <a:off x="-360" y="93405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3"/>
          </p:nvPr>
        </p:nvSpPr>
        <p:spPr>
          <a:xfrm>
            <a:off x="3774960" y="9340560"/>
            <a:ext cx="28879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B3B6D-31F3-45F0-B3F7-B73FEAB33B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774960" y="9340560"/>
            <a:ext cx="28879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20239-04E9-4D82-A3D0-0EB74FF8A4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-360" y="93405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774960" y="-360"/>
            <a:ext cx="28879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6520" cy="368748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060084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143000" y="6248520"/>
            <a:ext cx="693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ccff"/>
                </a:solidFill>
                <a:latin typeface="Arial"/>
                <a:ea typeface="Arial"/>
              </a:rPr>
              <a:t>World Health Organization </a:t>
            </a:r>
            <a:r>
              <a:rPr b="1" lang="en-GB" sz="1600" spc="-1" strike="noStrike">
                <a:solidFill>
                  <a:srgbClr val="ccccff"/>
                </a:solidFill>
                <a:latin typeface="Arial"/>
                <a:ea typeface="Arial"/>
              </a:rPr>
              <a:t>	</a:t>
            </a:r>
            <a:r>
              <a:rPr b="1" lang="en-GB" sz="1600" spc="-1" strike="noStrike">
                <a:solidFill>
                  <a:srgbClr val="ccccff"/>
                </a:solidFill>
                <a:latin typeface="Arial"/>
                <a:ea typeface="Arial"/>
              </a:rPr>
              <a:t>                    Gender, Women and Health</a:t>
            </a:r>
            <a:endParaRPr b="0" lang="en-US" sz="1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66680" y="6248520"/>
            <a:ext cx="7543800" cy="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graphicFrame>
        <p:nvGraphicFramePr>
          <p:cNvPr id="2" name=""/>
          <p:cNvGraphicFramePr/>
          <p:nvPr/>
        </p:nvGraphicFramePr>
        <p:xfrm>
          <a:off x="228600" y="5943600"/>
          <a:ext cx="762120" cy="725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5943600"/>
                    <a:ext cx="762120" cy="72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" name="" descr=""/>
          <p:cNvPicPr/>
          <p:nvPr/>
        </p:nvPicPr>
        <p:blipFill>
          <a:blip r:embed="rId4"/>
          <a:stretch/>
        </p:blipFill>
        <p:spPr>
          <a:xfrm>
            <a:off x="8153280" y="5791320"/>
            <a:ext cx="825480" cy="904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fff99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ffff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ffff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060084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10920" y="404280"/>
            <a:ext cx="7916760" cy="2590920"/>
          </a:xfrm>
          <a:prstGeom prst="rect">
            <a:avLst/>
          </a:prstGeom>
          <a:noFill/>
          <a:ln w="34920">
            <a:solidFill>
              <a:srgbClr val="ffcc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cc00"/>
                </a:solidFill>
                <a:latin typeface="Times New Roman"/>
              </a:rPr>
              <a:t>Indicators to measure </a:t>
            </a:r>
            <a:br>
              <a:rPr sz="4000"/>
            </a:br>
            <a:r>
              <a:rPr b="1" lang="en-GB" sz="4000" spc="-1" strike="noStrike">
                <a:solidFill>
                  <a:srgbClr val="ffcc00"/>
                </a:solidFill>
                <a:latin typeface="Times New Roman"/>
              </a:rPr>
              <a:t>violence against women </a:t>
            </a:r>
            <a:br>
              <a:rPr sz="4000"/>
            </a:br>
            <a:r>
              <a:rPr b="1" lang="en-GB" sz="4000" spc="-1" strike="noStrike">
                <a:solidFill>
                  <a:srgbClr val="ffcc00"/>
                </a:solidFill>
                <a:latin typeface="Times New Roman"/>
              </a:rPr>
              <a:t>Can we decide on the </a:t>
            </a:r>
            <a:br>
              <a:rPr sz="4000"/>
            </a:br>
            <a:r>
              <a:rPr b="1" lang="en-GB" sz="4000" spc="-1" strike="noStrike">
                <a:solidFill>
                  <a:srgbClr val="ffcc00"/>
                </a:solidFill>
                <a:latin typeface="Times New Roman"/>
              </a:rPr>
              <a:t>building blocks?</a:t>
            </a:r>
            <a:br>
              <a:rPr sz="4000"/>
            </a:b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971280" y="3068640"/>
            <a:ext cx="71276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99"/>
                </a:solidFill>
                <a:latin typeface="Times New Roman"/>
              </a:rPr>
              <a:t>Henrica A.F.M. Jansen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99"/>
                </a:solidFill>
                <a:latin typeface="Times New Roman"/>
              </a:rPr>
              <a:t>Department of Gender, Women and Health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99"/>
                </a:solidFill>
                <a:latin typeface="Times New Roman"/>
              </a:rPr>
              <a:t>World Health Organization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Times New Roman"/>
              </a:rPr>
              <a:t>Expert Group Meeting on indicators to measure 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Times New Roman"/>
              </a:rPr>
              <a:t>violence against women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Times New Roman"/>
              </a:rPr>
              <a:t>Geneva, 8-10 October 2007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732720" y="1052640"/>
            <a:ext cx="1549440" cy="1800000"/>
          </a:xfrm>
          <a:prstGeom prst="rect">
            <a:avLst/>
          </a:prstGeom>
          <a:ln w="34920">
            <a:solidFill>
              <a:srgbClr val="ff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060084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000" y="40428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Measurement of </a:t>
            </a:r>
            <a:r>
              <a:rPr b="0" lang="en-GB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emotional</a:t>
            </a:r>
            <a:r>
              <a:rPr b="0" lang="th-TH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 </a:t>
            </a:r>
            <a:r>
              <a:rPr b="0" lang="en-GB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a</a:t>
            </a:r>
            <a:r>
              <a:rPr b="0" lang="th-TH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buse</a:t>
            </a:r>
            <a:r>
              <a:rPr b="0" lang="en-GB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: </a:t>
            </a:r>
            <a:br>
              <a:rPr sz="4400"/>
            </a:b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23640" y="1268280"/>
            <a:ext cx="8373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Times New Roman"/>
              </a:rPr>
              <a:t>Has your partner ever….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572760" indent="-57276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Times New Roman"/>
              </a:rPr>
              <a:t>Insulted you or made you feel bad about yourself? 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572760" indent="-57276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Times New Roman"/>
              </a:rPr>
              <a:t>Belittled or humiliated you in front of other people?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572760" indent="-57276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Times New Roman"/>
              </a:rPr>
              <a:t>Done things to scare or intimidate you on purpose (e.g. by the way he looked at you, by yelling and smashing things)?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572760" indent="-57276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Times New Roman"/>
                <a:ea typeface="SimSun"/>
              </a:rPr>
              <a:t>Threatened to hurt you or someone you care about?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  <a:ea typeface="SimSun"/>
              </a:rPr>
              <a:t> 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060084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Times New Roman"/>
              </a:rPr>
              <a:t>Perpetrator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66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cc"/>
                </a:solidFill>
                <a:latin typeface="Times New Roman"/>
              </a:rPr>
              <a:t>Intimate partner violence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Times New Roman"/>
              </a:rPr>
              <a:t>Rape </a:t>
            </a:r>
            <a:r>
              <a:rPr b="0" lang="en-GB" sz="2400" spc="-1" strike="noStrike">
                <a:solidFill>
                  <a:srgbClr val="66ffcc"/>
                </a:solidFill>
                <a:latin typeface="Times New Roman"/>
              </a:rPr>
              <a:t>(by non partner)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Times New Roman"/>
              </a:rPr>
              <a:t>Other sexual assault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Times New Roman"/>
              </a:rPr>
              <a:t>Stalking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Times New Roman"/>
              </a:rPr>
              <a:t>Sexual harassment at work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Times New Roman"/>
              </a:rPr>
              <a:t>FGM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Times New Roman"/>
              </a:rPr>
              <a:t>Forced marriages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Times New Roman"/>
              </a:rPr>
              <a:t>Honour based crime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3492360" y="836640"/>
          <a:ext cx="5256360" cy="4840200"/>
        </p:xfrm>
        <a:graphic>
          <a:graphicData uri="http://schemas.openxmlformats.org/drawingml/2006/table">
            <a:tbl>
              <a:tblPr/>
              <a:tblGrid>
                <a:gridCol w="1084320"/>
                <a:gridCol w="1019160"/>
                <a:gridCol w="1049400"/>
                <a:gridCol w="1050840"/>
                <a:gridCol w="105264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99"/>
                          </a:solidFill>
                          <a:latin typeface="Times New Roman"/>
                          <a:ea typeface="Arial"/>
                        </a:rPr>
                        <a:t>Current partner</a:t>
                      </a:r>
                      <a:endParaRPr b="0" lang="en-US" sz="20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1368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99"/>
                          </a:solidFill>
                          <a:latin typeface="Times New Roman"/>
                          <a:ea typeface="Arial"/>
                        </a:rPr>
                        <a:t>Prev .partner</a:t>
                      </a:r>
                      <a:endParaRPr b="0" lang="en-US" sz="20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1368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99"/>
                          </a:solidFill>
                          <a:latin typeface="Times New Roman"/>
                          <a:ea typeface="Arial"/>
                        </a:rPr>
                        <a:t>Relative</a:t>
                      </a:r>
                      <a:endParaRPr b="0" lang="en-US" sz="20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1368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99"/>
                          </a:solidFill>
                          <a:latin typeface="Times New Roman"/>
                          <a:ea typeface="Arial"/>
                        </a:rPr>
                        <a:t>Stranger</a:t>
                      </a:r>
                      <a:endParaRPr b="0" lang="en-US" sz="20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1368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99"/>
                          </a:solidFill>
                          <a:latin typeface="Times New Roman"/>
                          <a:ea typeface="Arial"/>
                        </a:rPr>
                        <a:t>Someone known</a:t>
                      </a:r>
                      <a:endParaRPr b="0" lang="en-US" sz="20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13680">
                      <a:solidFill>
                        <a:srgbClr val="ffff99"/>
                      </a:solidFill>
                    </a:lnR>
                    <a:lnT w="1368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99"/>
                          </a:solidFill>
                          <a:latin typeface="Times New Roman"/>
                          <a:ea typeface="Arial"/>
                        </a:rPr>
                        <a:t>  </a:t>
                      </a:r>
                      <a:r>
                        <a:rPr b="0" lang="en-GB" sz="2800" spc="-1" strike="noStrike">
                          <a:solidFill>
                            <a:srgbClr val="ffff99"/>
                          </a:solidFill>
                          <a:latin typeface="Times New Roman"/>
                          <a:ea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99"/>
                          </a:solidFill>
                          <a:latin typeface="Times New Roman"/>
                          <a:ea typeface="Arial"/>
                        </a:rPr>
                        <a:t>  </a:t>
                      </a:r>
                      <a:r>
                        <a:rPr b="0" lang="en-GB" sz="2800" spc="-1" strike="noStrike">
                          <a:solidFill>
                            <a:srgbClr val="ffff99"/>
                          </a:solidFill>
                          <a:latin typeface="Times New Roman"/>
                          <a:ea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1368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99"/>
                          </a:solidFill>
                          <a:latin typeface="Times New Roman"/>
                          <a:ea typeface="Arial"/>
                        </a:rPr>
                        <a:t>  </a:t>
                      </a:r>
                      <a:r>
                        <a:rPr b="0" lang="en-GB" sz="2800" spc="-1" strike="noStrike">
                          <a:solidFill>
                            <a:srgbClr val="ffff99"/>
                          </a:solidFill>
                          <a:latin typeface="Times New Roman"/>
                          <a:ea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99"/>
                          </a:solidFill>
                          <a:latin typeface="Times New Roman"/>
                          <a:ea typeface="Arial"/>
                        </a:rPr>
                        <a:t>  </a:t>
                      </a:r>
                      <a:r>
                        <a:rPr b="0" lang="en-GB" sz="2800" spc="-1" strike="noStrike">
                          <a:solidFill>
                            <a:srgbClr val="ffff99"/>
                          </a:solidFill>
                          <a:latin typeface="Times New Roman"/>
                          <a:ea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99"/>
                          </a:solidFill>
                          <a:latin typeface="Times New Roman"/>
                          <a:ea typeface="Arial"/>
                        </a:rPr>
                        <a:t>  </a:t>
                      </a:r>
                      <a:r>
                        <a:rPr b="0" lang="en-GB" sz="2800" spc="-1" strike="noStrike">
                          <a:solidFill>
                            <a:srgbClr val="ffff99"/>
                          </a:solidFill>
                          <a:latin typeface="Times New Roman"/>
                          <a:ea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1368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99"/>
                          </a:solidFill>
                          <a:latin typeface="Times New Roman"/>
                          <a:ea typeface="Arial"/>
                        </a:rPr>
                        <a:t>  </a:t>
                      </a:r>
                      <a:r>
                        <a:rPr b="0" lang="en-GB" sz="2800" spc="-1" strike="noStrike">
                          <a:solidFill>
                            <a:srgbClr val="ffff99"/>
                          </a:solidFill>
                          <a:latin typeface="Times New Roman"/>
                          <a:ea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99"/>
                          </a:solidFill>
                          <a:latin typeface="Times New Roman"/>
                          <a:ea typeface="Arial"/>
                        </a:rPr>
                        <a:t>  </a:t>
                      </a:r>
                      <a:r>
                        <a:rPr b="0" lang="en-GB" sz="2800" spc="-1" strike="noStrike">
                          <a:solidFill>
                            <a:srgbClr val="ffff99"/>
                          </a:solidFill>
                          <a:latin typeface="Times New Roman"/>
                          <a:ea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99"/>
                          </a:solidFill>
                          <a:latin typeface="Times New Roman"/>
                          <a:ea typeface="Arial"/>
                        </a:rPr>
                        <a:t>  </a:t>
                      </a:r>
                      <a:r>
                        <a:rPr b="0" lang="en-GB" sz="2800" spc="-1" strike="noStrike">
                          <a:solidFill>
                            <a:srgbClr val="ffff99"/>
                          </a:solidFill>
                          <a:latin typeface="Times New Roman"/>
                          <a:ea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1368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99"/>
                          </a:solidFill>
                          <a:latin typeface="Times New Roman"/>
                          <a:ea typeface="Arial"/>
                        </a:rPr>
                        <a:t>   </a:t>
                      </a:r>
                      <a:r>
                        <a:rPr b="0" lang="en-GB" sz="2800" spc="-1" strike="noStrike">
                          <a:solidFill>
                            <a:srgbClr val="ffff99"/>
                          </a:solidFill>
                          <a:latin typeface="Times New Roman"/>
                          <a:ea typeface="Arial"/>
                        </a:rPr>
                        <a:t>x? </a:t>
                      </a:r>
                      <a:endParaRPr b="0" lang="en-US" sz="28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99"/>
                          </a:solidFill>
                          <a:latin typeface="Times New Roman"/>
                          <a:ea typeface="Arial"/>
                        </a:rPr>
                        <a:t>   </a:t>
                      </a:r>
                      <a:r>
                        <a:rPr b="0" lang="en-GB" sz="2800" spc="-1" strike="noStrike">
                          <a:solidFill>
                            <a:srgbClr val="ffff99"/>
                          </a:solidFill>
                          <a:latin typeface="Times New Roman"/>
                          <a:ea typeface="Arial"/>
                        </a:rPr>
                        <a:t>x?</a:t>
                      </a:r>
                      <a:endParaRPr b="0" lang="en-US" sz="28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99"/>
                          </a:solidFill>
                          <a:latin typeface="Times New Roman"/>
                          <a:ea typeface="Arial"/>
                        </a:rPr>
                        <a:t>   </a:t>
                      </a:r>
                      <a:r>
                        <a:rPr b="0" lang="en-GB" sz="2800" spc="-1" strike="noStrike">
                          <a:solidFill>
                            <a:srgbClr val="ffff99"/>
                          </a:solidFill>
                          <a:latin typeface="Times New Roman"/>
                          <a:ea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99"/>
                          </a:solidFill>
                          <a:latin typeface="Times New Roman"/>
                          <a:ea typeface="Arial"/>
                        </a:rPr>
                        <a:t>  </a:t>
                      </a:r>
                      <a:r>
                        <a:rPr b="0" lang="en-GB" sz="2800" spc="-1" strike="noStrike">
                          <a:solidFill>
                            <a:srgbClr val="ffff99"/>
                          </a:solidFill>
                          <a:latin typeface="Times New Roman"/>
                          <a:ea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99"/>
                          </a:solidFill>
                          <a:latin typeface="Times New Roman"/>
                          <a:ea typeface="Arial"/>
                        </a:rPr>
                        <a:t>  </a:t>
                      </a:r>
                      <a:r>
                        <a:rPr b="0" lang="en-GB" sz="2800" spc="-1" strike="noStrike">
                          <a:solidFill>
                            <a:srgbClr val="ffff99"/>
                          </a:solidFill>
                          <a:latin typeface="Times New Roman"/>
                          <a:ea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1368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99"/>
                          </a:solidFill>
                          <a:latin typeface="Times New Roman"/>
                          <a:ea typeface="Arial"/>
                        </a:rPr>
                        <a:t>   </a:t>
                      </a:r>
                      <a:endParaRPr b="0" lang="en-US" sz="28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99"/>
                          </a:solidFill>
                          <a:latin typeface="Times New Roman"/>
                          <a:ea typeface="Arial"/>
                        </a:rPr>
                        <a:t>  </a:t>
                      </a:r>
                      <a:r>
                        <a:rPr b="0" lang="en-GB" sz="2800" spc="-1" strike="noStrike">
                          <a:solidFill>
                            <a:srgbClr val="ffff99"/>
                          </a:solidFill>
                          <a:latin typeface="Times New Roman"/>
                          <a:ea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1368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1368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1368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99"/>
                          </a:solidFill>
                          <a:latin typeface="Times New Roman"/>
                          <a:ea typeface="Arial"/>
                        </a:rPr>
                        <a:t>   </a:t>
                      </a:r>
                      <a:r>
                        <a:rPr b="0" lang="en-GB" sz="2800" spc="-1" strike="noStrike">
                          <a:solidFill>
                            <a:srgbClr val="ffff99"/>
                          </a:solidFill>
                          <a:latin typeface="Times New Roman"/>
                          <a:ea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1368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99"/>
                          </a:solidFill>
                          <a:latin typeface="Times New Roman"/>
                          <a:ea typeface="Arial"/>
                        </a:rPr>
                        <a:t>  </a:t>
                      </a:r>
                      <a:r>
                        <a:rPr b="0" lang="en-GB" sz="2800" spc="-1" strike="noStrike">
                          <a:solidFill>
                            <a:srgbClr val="ffff99"/>
                          </a:solidFill>
                          <a:latin typeface="Times New Roman"/>
                          <a:ea typeface="Arial"/>
                        </a:rPr>
                        <a:t>x   </a:t>
                      </a:r>
                      <a:endParaRPr b="0" lang="en-US" sz="28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1368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99"/>
                          </a:solidFill>
                          <a:latin typeface="Times New Roman"/>
                          <a:ea typeface="Arial"/>
                        </a:rPr>
                        <a:t>   </a:t>
                      </a:r>
                      <a:r>
                        <a:rPr b="0" lang="en-GB" sz="2800" spc="-1" strike="noStrike">
                          <a:solidFill>
                            <a:srgbClr val="ffff99"/>
                          </a:solidFill>
                          <a:latin typeface="Times New Roman"/>
                          <a:ea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1368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99"/>
                          </a:solidFill>
                          <a:latin typeface="Times New Roman"/>
                          <a:ea typeface="Arial"/>
                        </a:rPr>
                        <a:t>   </a:t>
                      </a:r>
                      <a:endParaRPr b="0" lang="en-US" sz="28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1368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99"/>
                          </a:solidFill>
                          <a:latin typeface="Times New Roman"/>
                          <a:ea typeface="Arial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1368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13680">
                      <a:solidFill>
                        <a:srgbClr val="ffff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060084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250560" y="1197000"/>
            <a:ext cx="45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ffcc"/>
                </a:solidFill>
                <a:latin typeface="Times New Roman"/>
              </a:rPr>
              <a:t>Intimate partner violence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Times New Roman"/>
              </a:rPr>
              <a:t>Rape </a:t>
            </a:r>
            <a:r>
              <a:rPr b="0" lang="en-GB" sz="2800" spc="-1" strike="noStrike">
                <a:solidFill>
                  <a:srgbClr val="66ffcc"/>
                </a:solidFill>
                <a:latin typeface="Times New Roman"/>
              </a:rPr>
              <a:t>(by non partner)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Times New Roman"/>
              </a:rPr>
              <a:t>Other sexual assault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Times New Roman"/>
              </a:rPr>
              <a:t>Stalking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Times New Roman"/>
              </a:rPr>
              <a:t>Sexual harassment at work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Times New Roman"/>
              </a:rPr>
              <a:t>FGM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Times New Roman"/>
              </a:rPr>
              <a:t>Forced marriages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Times New Roman"/>
              </a:rPr>
              <a:t>Honour based crime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4572000" y="260280"/>
          <a:ext cx="2233440" cy="5170680"/>
        </p:xfrm>
        <a:graphic>
          <a:graphicData uri="http://schemas.openxmlformats.org/drawingml/2006/table">
            <a:tbl>
              <a:tblPr/>
              <a:tblGrid>
                <a:gridCol w="223344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99"/>
                          </a:solidFill>
                          <a:latin typeface="Times New Roman"/>
                          <a:ea typeface="Arial"/>
                        </a:rPr>
                        <a:t>Frequency</a:t>
                      </a:r>
                      <a:endParaRPr b="0" lang="en-US" sz="28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99"/>
                          </a:solidFill>
                          <a:latin typeface="Times New Roman"/>
                          <a:ea typeface="Arial"/>
                        </a:rPr>
                        <a:t>in past year</a:t>
                      </a:r>
                      <a:endParaRPr b="0" lang="en-US" sz="28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99"/>
                      </a:solidFill>
                    </a:lnL>
                    <a:lnR w="13680">
                      <a:solidFill>
                        <a:srgbClr val="ffff99"/>
                      </a:solidFill>
                    </a:lnR>
                    <a:lnT w="1368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66ffcc"/>
                          </a:solidFill>
                          <a:latin typeface="Times New Roman"/>
                          <a:ea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99"/>
                      </a:solidFill>
                    </a:lnL>
                    <a:lnR w="1368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99"/>
                          </a:solidFill>
                          <a:latin typeface="Times New Roman"/>
                          <a:ea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99"/>
                      </a:solidFill>
                    </a:lnL>
                    <a:lnR w="1368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99"/>
                          </a:solidFill>
                          <a:latin typeface="Times New Roman"/>
                          <a:ea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99"/>
                      </a:solidFill>
                    </a:lnL>
                    <a:lnR w="1368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99"/>
                          </a:solidFill>
                          <a:latin typeface="Times New Roman"/>
                          <a:ea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99"/>
                      </a:solidFill>
                    </a:lnL>
                    <a:lnR w="1368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99"/>
                          </a:solidFill>
                          <a:latin typeface="Times New Roman"/>
                          <a:ea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99"/>
                      </a:solidFill>
                    </a:lnL>
                    <a:lnR w="1368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99"/>
                      </a:solidFill>
                    </a:lnL>
                    <a:lnR w="1368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99"/>
                      </a:solidFill>
                    </a:lnL>
                    <a:lnR w="1368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99"/>
                          </a:solidFill>
                          <a:latin typeface="Times New Roman"/>
                          <a:ea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99"/>
                      </a:solidFill>
                    </a:lnL>
                    <a:lnR w="1368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13680">
                      <a:solidFill>
                        <a:srgbClr val="ffff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cc00"/>
                </a:solidFill>
                <a:latin typeface="Times New Roman"/>
              </a:rPr>
              <a:t>Incidents</a:t>
            </a:r>
            <a:br>
              <a:rPr sz="4000"/>
            </a:b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093080" y="2276640"/>
            <a:ext cx="205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Times New Roman"/>
                <a:ea typeface="Arial"/>
              </a:rPr>
              <a:t>Once, a few times, many times??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060084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imes New Roman"/>
              </a:rPr>
              <a:t>Suggestions for all types </a:t>
            </a:r>
            <a:br>
              <a:rPr sz="3600"/>
            </a:br>
            <a:r>
              <a:rPr b="0" lang="en-US" sz="3600" spc="-1" strike="noStrike">
                <a:solidFill>
                  <a:srgbClr val="ffcc00"/>
                </a:solidFill>
                <a:latin typeface="Times New Roman"/>
              </a:rPr>
              <a:t>of violence against women 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6868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lnSpc>
                <a:spcPct val="170000"/>
              </a:lnSpc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Define the study population broadly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263880" indent="-263880">
              <a:lnSpc>
                <a:spcPct val="170000"/>
              </a:lnSpc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Use behaviorally specific questions: specific </a:t>
            </a: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acts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263880" indent="-263880">
              <a:lnSpc>
                <a:spcPct val="170000"/>
              </a:lnSpc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Specify time frames (last year, ever) and frequency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263880" indent="-263880">
              <a:lnSpc>
                <a:spcPct val="170000"/>
              </a:lnSpc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Times New Roman"/>
              </a:rPr>
              <a:t>Context and how the questions are phrased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263880" indent="-263880">
              <a:lnSpc>
                <a:spcPct val="170000"/>
              </a:lnSpc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Cue respondent to different contexts and perpetrators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263880" indent="-263880">
              <a:lnSpc>
                <a:spcPct val="170000"/>
              </a:lnSpc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Times New Roman"/>
              </a:rPr>
              <a:t>In reporting be specific about what you measured!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6372360" y="404640"/>
            <a:ext cx="2411280" cy="187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060084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Times New Roman"/>
              </a:rPr>
              <a:t>What is the purpose?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Times New Roman"/>
              </a:rPr>
              <a:t>To raise awareness about the problem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Times New Roman"/>
              </a:rPr>
              <a:t>To influence policy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Times New Roman"/>
              </a:rPr>
              <a:t>To monitor trends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Times New Roman"/>
              </a:rPr>
              <a:t>To contribute to indicators at global level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Times New Roman"/>
              </a:rPr>
              <a:t>To compare between countries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Times New Roman"/>
              </a:rPr>
              <a:t>To understand more about violence, the impact, risk and protective factors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1341360"/>
            <a:ext cx="7273800" cy="1656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3141720"/>
            <a:ext cx="8317080" cy="3024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164360" y="1557360"/>
            <a:ext cx="1979640" cy="1068840"/>
          </a:xfrm>
          <a:prstGeom prst="rect">
            <a:avLst/>
          </a:prstGeom>
          <a:noFill/>
          <a:ln w="507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cc00"/>
                </a:solidFill>
                <a:latin typeface="Times New Roman"/>
                <a:ea typeface="Arial"/>
              </a:rPr>
              <a:t>Short module</a:t>
            </a:r>
            <a:r>
              <a:rPr b="0" lang="en-GB" sz="3200" spc="-1" strike="noStrike">
                <a:solidFill>
                  <a:srgbClr val="ffcc00"/>
                </a:solidFill>
                <a:latin typeface="Times New Roman"/>
                <a:ea typeface="Arial"/>
              </a:rPr>
              <a:t> 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093080" y="4365720"/>
            <a:ext cx="2050920" cy="1191240"/>
          </a:xfrm>
          <a:prstGeom prst="rect">
            <a:avLst/>
          </a:prstGeom>
          <a:noFill/>
          <a:ln w="507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Special survey</a:t>
            </a:r>
            <a:r>
              <a:rPr b="0" lang="en-GB" sz="3200" spc="-1" strike="noStrike">
                <a:solidFill>
                  <a:srgbClr val="ffcc00"/>
                </a:solidFill>
                <a:latin typeface="Times New Roman"/>
                <a:ea typeface="Arial"/>
              </a:rPr>
              <a:t> 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060084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3640" y="-36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Putting women’s safety firs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712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99"/>
                </a:solidFill>
                <a:latin typeface="Times New Roman"/>
              </a:rPr>
              <a:t>1. Safety of respondents and research team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99"/>
                </a:solidFill>
                <a:latin typeface="Times New Roman"/>
              </a:rPr>
              <a:t>2. Studies need to be methodologically sound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99"/>
                </a:solidFill>
                <a:latin typeface="Times New Roman"/>
              </a:rPr>
              <a:t>3. Confidentiality for safety and data quality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99"/>
                </a:solidFill>
                <a:latin typeface="Times New Roman"/>
              </a:rPr>
              <a:t>4. Selection and training of team members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99"/>
                </a:solidFill>
                <a:latin typeface="Times New Roman"/>
              </a:rPr>
              <a:t>5. Actions to reducing distress to respondents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99"/>
                </a:solidFill>
                <a:latin typeface="Times New Roman"/>
              </a:rPr>
              <a:t>6. Possibilities of referral, support mechanisms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99"/>
                </a:solidFill>
                <a:latin typeface="Times New Roman"/>
              </a:rPr>
              <a:t>7. Proper interpretation and use of study results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99"/>
                </a:solidFill>
                <a:latin typeface="Times New Roman"/>
              </a:rPr>
              <a:t>8. Violence questions in other surveys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7359480" y="3068640"/>
            <a:ext cx="178452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060084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867280" y="1268280"/>
            <a:ext cx="2665440" cy="30765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250920" y="333360"/>
            <a:ext cx="4425840" cy="29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4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060084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cc00"/>
                </a:solidFill>
                <a:latin typeface="Times New Roman"/>
              </a:rPr>
              <a:t>Report of this Expert Group meeting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Times New Roman"/>
              </a:rPr>
              <a:t>Limited to scope, prevalence and incidence of VAW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Times New Roman"/>
              </a:rPr>
              <a:t>Give a overview of existing initiatives for the development of indicators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Times New Roman"/>
              </a:rPr>
              <a:t>Consider the types of violence that should be covered in a possible set of indicators and propose an approach for defining a technical description of each possible indicator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060084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Times New Roman"/>
              </a:rPr>
              <a:t>Essential challeng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99"/>
                </a:solidFill>
                <a:latin typeface="Times New Roman"/>
              </a:rPr>
              <a:t>(1) What is the purpose?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99"/>
                </a:solidFill>
                <a:latin typeface="Times New Roman"/>
              </a:rPr>
              <a:t>National /vs trans national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99"/>
                </a:solidFill>
                <a:latin typeface="Times New Roman"/>
              </a:rPr>
              <a:t>Awareness, influencing policy, comprehension, policy evaluation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99"/>
                </a:solidFill>
                <a:latin typeface="Times New Roman"/>
              </a:rPr>
              <a:t>(2) Tension between comprehensive and minimum (ideal vs realistic) 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99"/>
                </a:solidFill>
                <a:latin typeface="Times New Roman"/>
              </a:rPr>
              <a:t>(3) Taking account of differential resources and capabilities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99"/>
                </a:solidFill>
                <a:latin typeface="Times New Roman"/>
              </a:rPr>
              <a:t>(4) Methodological challenges: ethical and safety measures, interviewers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060084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Times New Roman"/>
              </a:rPr>
              <a:t>Types of violenc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11280" y="1700280"/>
            <a:ext cx="541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Times New Roman"/>
              </a:rPr>
              <a:t>Intimate partner violence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Times New Roman"/>
              </a:rPr>
              <a:t>Rape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Times New Roman"/>
              </a:rPr>
              <a:t>Other sexual assault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Times New Roman"/>
              </a:rPr>
              <a:t>Stalking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Times New Roman"/>
              </a:rPr>
              <a:t>Sexual harassment at work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Times New Roman"/>
              </a:rPr>
              <a:t>FGM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Times New Roman"/>
              </a:rPr>
              <a:t>Forced marriages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Times New Roman"/>
              </a:rPr>
              <a:t>Honour based crime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ffcc"/>
                </a:solidFill>
                <a:latin typeface="Times New Roman"/>
              </a:rPr>
              <a:t>Murder of women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64000" y="2060640"/>
            <a:ext cx="3095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Times New Roman"/>
                <a:ea typeface="Arial"/>
              </a:rPr>
              <a:t>One generic indicator?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292720" y="4149720"/>
            <a:ext cx="2736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Times New Roman"/>
                <a:ea typeface="Arial"/>
              </a:rPr>
              <a:t>Sources of data 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060084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250560" y="1197000"/>
            <a:ext cx="45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Times New Roman"/>
              </a:rPr>
              <a:t>Intimate partner violence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Times New Roman"/>
              </a:rPr>
              <a:t>Rape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Times New Roman"/>
              </a:rPr>
              <a:t>Other sexual assault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Times New Roman"/>
              </a:rPr>
              <a:t>Stalking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Times New Roman"/>
              </a:rPr>
              <a:t>Sexual harassment at work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Times New Roman"/>
              </a:rPr>
              <a:t>FGM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Times New Roman"/>
              </a:rPr>
              <a:t>Forced marriages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Times New Roman"/>
              </a:rPr>
              <a:t>Honour based crime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4572000" y="260280"/>
          <a:ext cx="3960720" cy="5085000"/>
        </p:xfrm>
        <a:graphic>
          <a:graphicData uri="http://schemas.openxmlformats.org/drawingml/2006/table">
            <a:tbl>
              <a:tblPr/>
              <a:tblGrid>
                <a:gridCol w="1944720"/>
                <a:gridCol w="20160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99"/>
                          </a:solidFill>
                          <a:latin typeface="Times New Roman"/>
                          <a:ea typeface="Arial"/>
                        </a:rPr>
                        <a:t>"Universal"</a:t>
                      </a:r>
                      <a:endParaRPr b="0" lang="en-US" sz="28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1368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99"/>
                          </a:solidFill>
                          <a:latin typeface="Times New Roman"/>
                          <a:ea typeface="Arial"/>
                        </a:rPr>
                        <a:t>Context specific</a:t>
                      </a:r>
                      <a:endParaRPr b="0" lang="en-US" sz="28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13680">
                      <a:solidFill>
                        <a:srgbClr val="ffff99"/>
                      </a:solidFill>
                    </a:lnR>
                    <a:lnT w="1368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99"/>
                          </a:solidFill>
                          <a:latin typeface="Times New Roman"/>
                          <a:ea typeface="Arial"/>
                        </a:rPr>
                        <a:t>XX</a:t>
                      </a:r>
                      <a:endParaRPr b="0" lang="en-US" sz="28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1368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99"/>
                          </a:solidFill>
                          <a:latin typeface="Times New Roman"/>
                          <a:ea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99"/>
                          </a:solidFill>
                          <a:latin typeface="Times New Roman"/>
                          <a:ea typeface="Arial"/>
                        </a:rPr>
                        <a:t>?</a:t>
                      </a:r>
                      <a:endParaRPr b="0" lang="en-US" sz="28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1368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99"/>
                          </a:solidFill>
                          <a:latin typeface="Times New Roman"/>
                          <a:ea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99"/>
                          </a:solidFill>
                          <a:latin typeface="Times New Roman"/>
                          <a:ea typeface="Arial"/>
                        </a:rPr>
                        <a:t>?</a:t>
                      </a:r>
                      <a:endParaRPr b="0" lang="en-US" sz="28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1368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99"/>
                          </a:solidFill>
                          <a:latin typeface="Times New Roman"/>
                          <a:ea typeface="Arial"/>
                        </a:rPr>
                        <a:t>?</a:t>
                      </a:r>
                      <a:endParaRPr b="0" lang="en-US" sz="28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99"/>
                          </a:solidFill>
                          <a:latin typeface="Times New Roman"/>
                          <a:ea typeface="Arial"/>
                        </a:rPr>
                        <a:t>?</a:t>
                      </a:r>
                      <a:endParaRPr b="0" lang="en-US" sz="28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1368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99"/>
                          </a:solidFill>
                          <a:latin typeface="Times New Roman"/>
                          <a:ea typeface="Arial"/>
                        </a:rPr>
                        <a:t>?</a:t>
                      </a:r>
                      <a:endParaRPr b="0" lang="en-US" sz="28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99"/>
                          </a:solidFill>
                          <a:latin typeface="Times New Roman"/>
                          <a:ea typeface="Arial"/>
                        </a:rPr>
                        <a:t>?</a:t>
                      </a:r>
                      <a:endParaRPr b="0" lang="en-US" sz="28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1368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99"/>
                          </a:solidFill>
                          <a:latin typeface="Times New Roman"/>
                          <a:ea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1368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99"/>
                          </a:solidFill>
                          <a:latin typeface="Times New Roman"/>
                          <a:ea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1368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1368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99"/>
                          </a:solidFill>
                          <a:latin typeface="Times New Roman"/>
                          <a:ea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1368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13680">
                      <a:solidFill>
                        <a:srgbClr val="ffff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" name=""/>
          <p:cNvSpPr/>
          <p:nvPr/>
        </p:nvSpPr>
        <p:spPr>
          <a:xfrm>
            <a:off x="900000" y="5516640"/>
            <a:ext cx="72723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060084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Times New Roman"/>
              </a:rPr>
              <a:t>Dimensions of the indicator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1600200"/>
            <a:ext cx="7643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Times New Roman"/>
              </a:rPr>
              <a:t>Definitions of the types of violence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Times New Roman"/>
              </a:rPr>
              <a:t>Perpetrator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Times New Roman"/>
              </a:rPr>
              <a:t>Prevalence: Lifetime, last year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Times New Roman"/>
              </a:rPr>
              <a:t>Number of incidents in the last year (intensity, frequency)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Times New Roman"/>
              </a:rPr>
              <a:t>Severity, threshold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Times New Roman"/>
              </a:rPr>
              <a:t>Study population of women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060084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Times New Roman"/>
              </a:rPr>
              <a:t>Intimate partner violenc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11640" y="476280"/>
            <a:ext cx="49323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324000" y="1052640"/>
          <a:ext cx="8496000" cy="4968720"/>
        </p:xfrm>
        <a:graphic>
          <a:graphicData uri="http://schemas.openxmlformats.org/drawingml/2006/table">
            <a:tbl>
              <a:tblPr/>
              <a:tblGrid>
                <a:gridCol w="2832120"/>
                <a:gridCol w="56638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99"/>
                          </a:solidFill>
                          <a:latin typeface="Times New Roman"/>
                          <a:ea typeface="Arial"/>
                        </a:rPr>
                        <a:t>Nature of violence</a:t>
                      </a:r>
                      <a:endParaRPr b="0" lang="en-US" sz="24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1368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99"/>
                          </a:solidFill>
                          <a:latin typeface="Times New Roman"/>
                          <a:ea typeface="Arial"/>
                        </a:rPr>
                        <a:t>Comments</a:t>
                      </a:r>
                      <a:endParaRPr b="0" lang="en-US" sz="24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13680">
                      <a:solidFill>
                        <a:srgbClr val="ffff99"/>
                      </a:solidFill>
                    </a:lnR>
                    <a:lnT w="1368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6ffcc"/>
                          </a:solidFill>
                          <a:latin typeface="Times New Roman"/>
                          <a:ea typeface="Arial"/>
                        </a:rPr>
                        <a:t>Physical violence</a:t>
                      </a:r>
                      <a:endParaRPr b="0" lang="en-US" sz="20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6ffcc"/>
                          </a:solidFill>
                          <a:latin typeface="Times New Roman"/>
                          <a:ea typeface="Arial"/>
                        </a:rPr>
                        <a:t>Relatively easy, high validity and reliability, used in all studies (CTS experience)</a:t>
                      </a:r>
                      <a:endParaRPr b="0" lang="en-US" sz="20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1368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99"/>
                          </a:solidFill>
                          <a:latin typeface="Times New Roman"/>
                          <a:ea typeface="Arial"/>
                        </a:rPr>
                        <a:t>Violence resulting in injuries</a:t>
                      </a:r>
                      <a:endParaRPr b="0" lang="en-US" sz="20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99"/>
                          </a:solidFill>
                          <a:latin typeface="Times New Roman"/>
                          <a:ea typeface="Arial"/>
                        </a:rPr>
                        <a:t>Measure of severity, only for physical, but not all severe violence results in injuries..</a:t>
                      </a:r>
                      <a:endParaRPr b="0" lang="en-US" sz="20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1368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99"/>
                          </a:solidFill>
                          <a:latin typeface="Times New Roman"/>
                          <a:ea typeface="Arial"/>
                        </a:rPr>
                        <a:t>Violence in pregnancy</a:t>
                      </a:r>
                      <a:endParaRPr b="0" lang="en-US" sz="20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99"/>
                          </a:solidFill>
                          <a:latin typeface="Times New Roman"/>
                          <a:ea typeface="Arial"/>
                        </a:rPr>
                        <a:t>Measure of severity, only for ever pregnant women</a:t>
                      </a:r>
                      <a:endParaRPr b="0" lang="en-US" sz="20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1368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6ffcc"/>
                          </a:solidFill>
                          <a:latin typeface="Times New Roman"/>
                          <a:ea typeface="Arial"/>
                        </a:rPr>
                        <a:t>Sexual violence</a:t>
                      </a:r>
                      <a:endParaRPr b="0" lang="en-US" sz="20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6ffcc"/>
                          </a:solidFill>
                          <a:latin typeface="Times New Roman"/>
                          <a:ea typeface="Arial"/>
                        </a:rPr>
                        <a:t>Increasing experience, not measuring the same phenomenon everywhere</a:t>
                      </a:r>
                      <a:endParaRPr b="0" lang="en-US" sz="20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1368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99"/>
                          </a:solidFill>
                          <a:latin typeface="Times New Roman"/>
                          <a:ea typeface="Arial"/>
                        </a:rPr>
                        <a:t>Emotional violence</a:t>
                      </a:r>
                      <a:endParaRPr b="0" lang="en-US" sz="20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99"/>
                          </a:solidFill>
                          <a:latin typeface="Times New Roman"/>
                          <a:ea typeface="Arial"/>
                        </a:rPr>
                        <a:t>Methodological development underway, problem with threshold, comparability</a:t>
                      </a:r>
                      <a:endParaRPr b="0" lang="en-US" sz="20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1368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47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99"/>
                          </a:solidFill>
                          <a:latin typeface="Times New Roman"/>
                          <a:ea typeface="Arial"/>
                        </a:rPr>
                        <a:t>Controlling behaviours</a:t>
                      </a:r>
                      <a:endParaRPr b="0" lang="en-US" sz="20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99"/>
                          </a:solidFill>
                          <a:latin typeface="Times New Roman"/>
                          <a:ea typeface="Arial"/>
                        </a:rPr>
                        <a:t>As above, abuse or risk factor</a:t>
                      </a:r>
                      <a:endParaRPr b="0" lang="en-US" sz="20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1368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99"/>
                          </a:solidFill>
                          <a:latin typeface="Times New Roman"/>
                          <a:ea typeface="Arial"/>
                        </a:rPr>
                        <a:t>Economic violence</a:t>
                      </a:r>
                      <a:endParaRPr b="0" lang="en-US" sz="20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99"/>
                          </a:solidFill>
                          <a:latin typeface="Times New Roman"/>
                          <a:ea typeface="Arial"/>
                        </a:rPr>
                        <a:t>Limited experience</a:t>
                      </a:r>
                      <a:endParaRPr b="0" lang="en-US" sz="20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1368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99"/>
                          </a:solidFill>
                          <a:latin typeface="Times New Roman"/>
                          <a:ea typeface="Arial"/>
                        </a:rPr>
                        <a:t>Stalking from partner</a:t>
                      </a:r>
                      <a:endParaRPr b="0" lang="en-US" sz="20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1368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99"/>
                          </a:solidFill>
                          <a:latin typeface="Times New Roman"/>
                          <a:ea typeface="Arial"/>
                        </a:rPr>
                        <a:t>Limited experience</a:t>
                      </a:r>
                      <a:endParaRPr b="0" lang="en-US" sz="20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1368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13680">
                      <a:solidFill>
                        <a:srgbClr val="ffff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060084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imes New Roman"/>
              </a:rPr>
              <a:t>Measurement of physical violence by partner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-252720" y="1844280"/>
            <a:ext cx="939636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2" marL="1085760" indent="-217080">
              <a:spcBef>
                <a:spcPts val="700"/>
              </a:spcBef>
              <a:buClr>
                <a:srgbClr val="006699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Times New Roman"/>
              </a:rPr>
              <a:t>Slapped or threw something at that could hurt you?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2" marL="1085760" indent="-217080">
              <a:spcBef>
                <a:spcPts val="700"/>
              </a:spcBef>
              <a:buClr>
                <a:srgbClr val="006699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Times New Roman"/>
              </a:rPr>
              <a:t>Pushed or shoved you or pulled your hair?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2" marL="108576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2" marL="1085760" indent="-217080">
              <a:spcBef>
                <a:spcPts val="700"/>
              </a:spcBef>
              <a:buClr>
                <a:srgbClr val="006699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Times New Roman"/>
              </a:rPr>
              <a:t>Hit with his fist or with something else that could hurt you?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2" marL="1085760" indent="-217080">
              <a:spcBef>
                <a:spcPts val="700"/>
              </a:spcBef>
              <a:buClr>
                <a:srgbClr val="006699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Times New Roman"/>
              </a:rPr>
              <a:t>Kicked, dragged or beat you up?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2" marL="1085760" indent="-217080">
              <a:spcBef>
                <a:spcPts val="700"/>
              </a:spcBef>
              <a:buClr>
                <a:srgbClr val="006699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Times New Roman"/>
              </a:rPr>
              <a:t>Choked or burnt you on purpose?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2" marL="1085760" indent="-217080">
              <a:spcBef>
                <a:spcPts val="700"/>
              </a:spcBef>
              <a:buClr>
                <a:srgbClr val="006699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Times New Roman"/>
              </a:rPr>
              <a:t>Threatened to use or actually used a </a:t>
            </a:r>
            <a:r>
              <a:rPr b="0" lang="en-GB" sz="2800" spc="-1" strike="noStrike">
                <a:solidFill>
                  <a:srgbClr val="66ffcc"/>
                </a:solidFill>
                <a:latin typeface="Times New Roman"/>
              </a:rPr>
              <a:t>gun</a:t>
            </a:r>
            <a:r>
              <a:rPr b="0" lang="en-GB" sz="2800" spc="-1" strike="noStrike">
                <a:solidFill>
                  <a:srgbClr val="ffff99"/>
                </a:solidFill>
                <a:latin typeface="Times New Roman"/>
              </a:rPr>
              <a:t>, knife or  other weapon against you?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11280" y="1700280"/>
            <a:ext cx="8281800" cy="14414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rot="21053400">
            <a:off x="6948360" y="2491920"/>
            <a:ext cx="237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66ff66"/>
                </a:solidFill>
                <a:latin typeface="Times New Roman"/>
                <a:ea typeface="Arial"/>
              </a:rPr>
              <a:t>Moderate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11280" y="3213000"/>
            <a:ext cx="8136000" cy="33116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21053400">
            <a:off x="5867280" y="5876640"/>
            <a:ext cx="237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66ff66"/>
                </a:solidFill>
                <a:latin typeface="Times New Roman"/>
                <a:ea typeface="Arial"/>
              </a:rPr>
              <a:t>Severe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39640" y="148428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Has your partner ever..... </a:t>
            </a: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060084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15328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Measurement of s</a:t>
            </a:r>
            <a:r>
              <a:rPr b="0" lang="th-TH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exual 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v</a:t>
            </a:r>
            <a:r>
              <a:rPr b="0" lang="th-TH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iolence by partner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-360" y="206064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Times New Roman"/>
              </a:rPr>
              <a:t>Were you ever physically forced to have sexual intercourse when you did not want to?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Times New Roman"/>
              </a:rPr>
              <a:t>Did you ever have sexual intercourse you did not want because you were afraid of what he might do?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Times New Roman"/>
              </a:rPr>
              <a:t>Ever force you to do something sexual that you found degrading or humiliating?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3T01:05:27Z</dcterms:created>
  <dc:creator>Mary Carroll Ellsberg</dc:creator>
  <dc:description/>
  <dc:language>en-US</dc:language>
  <cp:lastModifiedBy>JansenH</cp:lastModifiedBy>
  <cp:lastPrinted>2001-09-20T13:57:43Z</cp:lastPrinted>
  <dcterms:modified xsi:type="dcterms:W3CDTF">2007-10-09T07:19:05Z</dcterms:modified>
  <cp:revision>146</cp:revision>
  <dc:subject/>
  <dc:title>PowerPoint Presentation</dc:title>
</cp:coreProperties>
</file>