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74440" y="738000"/>
            <a:ext cx="4916520" cy="36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0AD3-502D-4F4C-8502-5FB503C54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F583-8EDB-449F-A18C-09D2FA004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6520" cy="36874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43000" y="624852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ccff"/>
                </a:solidFill>
                <a:latin typeface="Arial"/>
                <a:ea typeface="Arial"/>
              </a:rPr>
              <a:t>World Health Organization </a:t>
            </a:r>
            <a:r>
              <a:rPr b="1" lang="en-GB" sz="1600" spc="-1" strike="noStrike">
                <a:solidFill>
                  <a:srgbClr val="ccccff"/>
                </a:solidFill>
                <a:latin typeface="Arial"/>
                <a:ea typeface="Arial"/>
              </a:rPr>
              <a:t>	</a:t>
            </a:r>
            <a:r>
              <a:rPr b="1" lang="en-GB" sz="1600" spc="-1" strike="noStrike">
                <a:solidFill>
                  <a:srgbClr val="ccccff"/>
                </a:solidFill>
                <a:latin typeface="Arial"/>
                <a:ea typeface="Arial"/>
              </a:rPr>
              <a:t>                    Gender, Women and Health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66680" y="6248520"/>
            <a:ext cx="75438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228600" y="5943600"/>
          <a:ext cx="76212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5943600"/>
                    <a:ext cx="76212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8153280" y="5791320"/>
            <a:ext cx="825480" cy="904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99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916760" cy="2590920"/>
          </a:xfrm>
          <a:prstGeom prst="rect">
            <a:avLst/>
          </a:prstGeom>
          <a:noFill/>
          <a:ln w="34920">
            <a:solidFill>
              <a:srgbClr val="ffcc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00"/>
                </a:solidFill>
                <a:latin typeface="Times New Roman"/>
              </a:rPr>
              <a:t>Indicators to measure </a:t>
            </a:r>
            <a:br>
              <a:rPr sz="4000"/>
            </a:br>
            <a:r>
              <a:rPr b="1" lang="en-GB" sz="4000" spc="-1" strike="noStrike">
                <a:solidFill>
                  <a:srgbClr val="ffcc00"/>
                </a:solidFill>
                <a:latin typeface="Times New Roman"/>
              </a:rPr>
              <a:t>violence against women </a:t>
            </a:r>
            <a:br>
              <a:rPr sz="4000"/>
            </a:br>
            <a:r>
              <a:rPr b="1" lang="en-GB" sz="4000" spc="-1" strike="noStrike">
                <a:solidFill>
                  <a:srgbClr val="ffcc00"/>
                </a:solidFill>
                <a:latin typeface="Times New Roman"/>
              </a:rPr>
              <a:t>Can we decide on the </a:t>
            </a:r>
            <a:br>
              <a:rPr sz="4000"/>
            </a:br>
            <a:r>
              <a:rPr b="1" lang="en-GB" sz="4000" spc="-1" strike="noStrike">
                <a:solidFill>
                  <a:srgbClr val="ffcc00"/>
                </a:solidFill>
                <a:latin typeface="Times New Roman"/>
              </a:rPr>
              <a:t>building blocks?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71280" y="3068640"/>
            <a:ext cx="712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99"/>
                </a:solidFill>
                <a:latin typeface="Times New Roman"/>
              </a:rPr>
              <a:t>Henrica A.F.M. Jansen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99"/>
                </a:solidFill>
                <a:latin typeface="Times New Roman"/>
              </a:rPr>
              <a:t>Department of Gender, Women and Health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99"/>
                </a:solidFill>
                <a:latin typeface="Times New Roman"/>
              </a:rPr>
              <a:t>World Health Organization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Expert Group Meeting on indicators to measure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violence against women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Geneva, 8-10 October 2007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732720" y="1052640"/>
            <a:ext cx="1549440" cy="1800000"/>
          </a:xfrm>
          <a:prstGeom prst="rect">
            <a:avLst/>
          </a:prstGeom>
          <a:ln w="349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easurement of </a:t>
            </a:r>
            <a:r>
              <a:rPr b="0" lang="en-GB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emotional</a:t>
            </a:r>
            <a:r>
              <a:rPr b="0" lang="th-TH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0" lang="en-GB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</a:t>
            </a:r>
            <a:r>
              <a:rPr b="0" lang="th-TH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use</a:t>
            </a:r>
            <a:r>
              <a:rPr b="0" lang="en-GB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: 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37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Has your partner ever…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Insulted you or made you feel bad about yourself?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Belittled or humiliated you in front of other people?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Done things to scare or intimidate you on purpose (e.g. by the way he looked at you, by yelling and smashing things)?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  <a:ea typeface="SimSun"/>
              </a:rPr>
              <a:t>Threatened to hurt you or someone you care about?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SimSun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Perpetrato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66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Times New Roman"/>
              </a:rPr>
              <a:t>Intimate partner violence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Rape </a:t>
            </a:r>
            <a:r>
              <a:rPr b="0" lang="en-GB" sz="2400" spc="-1" strike="noStrike">
                <a:solidFill>
                  <a:srgbClr val="66ffcc"/>
                </a:solidFill>
                <a:latin typeface="Times New Roman"/>
              </a:rPr>
              <a:t>(by non partner)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Other sexual assaul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Stalking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Sexual harassment at work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FGM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Forced marriage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Honour based crime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492360" y="836640"/>
          <a:ext cx="5256360" cy="4840200"/>
        </p:xfrm>
        <a:graphic>
          <a:graphicData uri="http://schemas.openxmlformats.org/drawingml/2006/table">
            <a:tbl>
              <a:tblPr/>
              <a:tblGrid>
                <a:gridCol w="1084320"/>
                <a:gridCol w="1019160"/>
                <a:gridCol w="1049400"/>
                <a:gridCol w="1050840"/>
                <a:gridCol w="10526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Current partner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Prev .partner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Relative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Stranger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Someone known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   </a:t>
                      </a: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? 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   </a:t>
                      </a: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?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   </a:t>
                      </a: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   </a:t>
                      </a: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   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   </a:t>
                      </a: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0560" y="1197000"/>
            <a:ext cx="45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cc"/>
                </a:solidFill>
                <a:latin typeface="Times New Roman"/>
              </a:rPr>
              <a:t>Intimate partner violenc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Rape </a:t>
            </a:r>
            <a:r>
              <a:rPr b="0" lang="en-GB" sz="2800" spc="-1" strike="noStrike">
                <a:solidFill>
                  <a:srgbClr val="66ffcc"/>
                </a:solidFill>
                <a:latin typeface="Times New Roman"/>
              </a:rPr>
              <a:t>(by non partner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Other sexual assault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Stalking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Sexual harassment at work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FGM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Forced marriage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Honour based crim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572000" y="260280"/>
          <a:ext cx="2233440" cy="5170680"/>
        </p:xfrm>
        <a:graphic>
          <a:graphicData uri="http://schemas.openxmlformats.org/drawingml/2006/table">
            <a:tbl>
              <a:tblPr/>
              <a:tblGrid>
                <a:gridCol w="22334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Frequency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in past year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66ffcc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Times New Roman"/>
              </a:rPr>
              <a:t>Incidents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93080" y="227664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  <a:ea typeface="Arial"/>
              </a:rPr>
              <a:t>Once, a few times, many times??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Suggestions for all types 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of violence against women 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686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7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efine the study population broadly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263880" indent="-263880">
              <a:lnSpc>
                <a:spcPct val="17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Use behaviorally specific questions: specific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act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263880" indent="-263880">
              <a:lnSpc>
                <a:spcPct val="17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pecify time frames (last year, ever) and frequency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263880" indent="-263880">
              <a:lnSpc>
                <a:spcPct val="17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Context and how the questions are phrased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263880" indent="-263880">
              <a:lnSpc>
                <a:spcPct val="17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ue respondent to different contexts and perpetrator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263880" indent="-263880">
              <a:lnSpc>
                <a:spcPct val="17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In reporting be specific about what you measured!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372360" y="404640"/>
            <a:ext cx="2411280" cy="18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What is the purpose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To raise awareness about the problem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To influence policy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To monitor trend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To contribute to indicators at global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To compare between countri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To understand more about violence, the impact, risk and protective factor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341360"/>
            <a:ext cx="7273800" cy="165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141720"/>
            <a:ext cx="8317080" cy="30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64360" y="1557360"/>
            <a:ext cx="1979640" cy="1068840"/>
          </a:xfrm>
          <a:prstGeom prst="rect">
            <a:avLst/>
          </a:prstGeom>
          <a:noFill/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Times New Roman"/>
                <a:ea typeface="Arial"/>
              </a:rPr>
              <a:t>Short module</a:t>
            </a:r>
            <a:r>
              <a:rPr b="0" lang="en-GB" sz="3200" spc="-1" strike="noStrike">
                <a:solidFill>
                  <a:srgbClr val="ffcc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93080" y="4365720"/>
            <a:ext cx="2050920" cy="1191240"/>
          </a:xfrm>
          <a:prstGeom prst="rect">
            <a:avLst/>
          </a:prstGeom>
          <a:noFill/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Special survey</a:t>
            </a:r>
            <a:r>
              <a:rPr b="0" lang="en-GB" sz="3200" spc="-1" strike="noStrike">
                <a:solidFill>
                  <a:srgbClr val="ffcc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utting women’s safety firs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Times New Roman"/>
              </a:rPr>
              <a:t>1. Safety of respondents and research team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Times New Roman"/>
              </a:rPr>
              <a:t>2. Studies need to be methodologically sound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Times New Roman"/>
              </a:rPr>
              <a:t>3. Confidentiality for safety and data quality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Times New Roman"/>
              </a:rPr>
              <a:t>4. Selection and training of team member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Times New Roman"/>
              </a:rPr>
              <a:t>5. Actions to reducing distress to respondent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Times New Roman"/>
              </a:rPr>
              <a:t>6. Possibilities of referral, support mechanism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Times New Roman"/>
              </a:rPr>
              <a:t>7. Proper interpretation and use of study result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Times New Roman"/>
              </a:rPr>
              <a:t>8. Violence questions in other survey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359480" y="3068640"/>
            <a:ext cx="17845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867280" y="1268280"/>
            <a:ext cx="2665440" cy="3076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442584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Times New Roman"/>
              </a:rPr>
              <a:t>Report of this Expert Group meeting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Limited to scope, prevalence and incidence of VAW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Give a overview of existing initiatives for the development of indicator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Consider the types of violence that should be covered in a possible set of indicators and propose an approach for defining a technical description of each possible indicator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Essential challeng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Times New Roman"/>
              </a:rPr>
              <a:t>(1) What is the purpose?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99"/>
                </a:solidFill>
                <a:latin typeface="Times New Roman"/>
              </a:rPr>
              <a:t>National /vs trans national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99"/>
                </a:solidFill>
                <a:latin typeface="Times New Roman"/>
              </a:rPr>
              <a:t>Awareness, influencing policy, comprehension, policy evaluatio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Times New Roman"/>
              </a:rPr>
              <a:t>(2) Tension between comprehensive and minimum (ideal vs realistic)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Times New Roman"/>
              </a:rPr>
              <a:t>(3) Taking account of differential resources and capabilitie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Times New Roman"/>
              </a:rPr>
              <a:t>(4) Methodological challenges: ethical and safety measures, interviewer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Types of violen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Intimate partner violenc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Rap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Other sexual assault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Stalking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Sexual harassment at work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FGM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Forced marriage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Honour based crim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cc"/>
                </a:solidFill>
                <a:latin typeface="Times New Roman"/>
              </a:rPr>
              <a:t>Murder of women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2060640"/>
            <a:ext cx="30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  <a:ea typeface="Arial"/>
              </a:rPr>
              <a:t>One generic indicator?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92720" y="4149720"/>
            <a:ext cx="273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  <a:ea typeface="Arial"/>
              </a:rPr>
              <a:t>Sources of data 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560" y="1197000"/>
            <a:ext cx="45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Intimate partner violenc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Rap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Other sexual assault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Stalking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Sexual harassment at work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FGM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Forced marriage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Honour based crim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0" y="260280"/>
          <a:ext cx="3960720" cy="5085000"/>
        </p:xfrm>
        <a:graphic>
          <a:graphicData uri="http://schemas.openxmlformats.org/drawingml/2006/table">
            <a:tbl>
              <a:tblPr/>
              <a:tblGrid>
                <a:gridCol w="1944720"/>
                <a:gridCol w="201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"Universal"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Context specific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900000" y="5516640"/>
            <a:ext cx="7272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Dimensions of the indicato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Definitions of the types of violence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Perpetrator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Prevalence: Lifetime, last year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Number of incidents in the last year (intensity, frequency)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Severity, threshold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Study population of women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Intimate partner violen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11640" y="476280"/>
            <a:ext cx="49323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24000" y="1052640"/>
          <a:ext cx="8496000" cy="4968720"/>
        </p:xfrm>
        <a:graphic>
          <a:graphicData uri="http://schemas.openxmlformats.org/drawingml/2006/table">
            <a:tbl>
              <a:tblPr/>
              <a:tblGrid>
                <a:gridCol w="2832120"/>
                <a:gridCol w="566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Nature of violence</a:t>
                      </a: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Comments</a:t>
                      </a: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ffcc"/>
                          </a:solidFill>
                          <a:latin typeface="Times New Roman"/>
                          <a:ea typeface="Arial"/>
                        </a:rPr>
                        <a:t>Physical violence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ffcc"/>
                          </a:solidFill>
                          <a:latin typeface="Times New Roman"/>
                          <a:ea typeface="Arial"/>
                        </a:rPr>
                        <a:t>Relatively easy, high validity and reliability, used in all studies (CTS experience)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Violence resulting in injuries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Measure of severity, only for physical, but not all severe violence results in injuries..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Violence in pregnancy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Measure of severity, only for ever pregnant women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ffcc"/>
                          </a:solidFill>
                          <a:latin typeface="Times New Roman"/>
                          <a:ea typeface="Arial"/>
                        </a:rPr>
                        <a:t>Sexual violence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ffcc"/>
                          </a:solidFill>
                          <a:latin typeface="Times New Roman"/>
                          <a:ea typeface="Arial"/>
                        </a:rPr>
                        <a:t>Increasing experience, not measuring the same phenomenon everywhere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Emotional violence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Methodological development underway, problem with threshold, comparability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Controlling behaviours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As above, abuse or risk factor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Economic violence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Limited experience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Stalking from partner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Limited experience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Measurement of physical violence by partne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252720" y="1844280"/>
            <a:ext cx="9396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2" marL="1085760" indent="-217080">
              <a:spcBef>
                <a:spcPts val="700"/>
              </a:spcBef>
              <a:buClr>
                <a:srgbClr val="006699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Slapped or threw something at that could hurt you?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085760" indent="-217080">
              <a:spcBef>
                <a:spcPts val="700"/>
              </a:spcBef>
              <a:buClr>
                <a:srgbClr val="006699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Pushed or shoved you or pulled your hair?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0857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085760" indent="-217080">
              <a:spcBef>
                <a:spcPts val="700"/>
              </a:spcBef>
              <a:buClr>
                <a:srgbClr val="006699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Hit with his fist or with something else that could hurt you?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085760" indent="-217080">
              <a:spcBef>
                <a:spcPts val="700"/>
              </a:spcBef>
              <a:buClr>
                <a:srgbClr val="006699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Kicked, dragged or beat you up?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085760" indent="-217080">
              <a:spcBef>
                <a:spcPts val="700"/>
              </a:spcBef>
              <a:buClr>
                <a:srgbClr val="006699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Choked or burnt you on purpose?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085760" indent="-217080">
              <a:spcBef>
                <a:spcPts val="700"/>
              </a:spcBef>
              <a:buClr>
                <a:srgbClr val="006699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Threatened to use or actually used a </a:t>
            </a:r>
            <a:r>
              <a:rPr b="0" lang="en-GB" sz="2800" spc="-1" strike="noStrike">
                <a:solidFill>
                  <a:srgbClr val="66ffcc"/>
                </a:solidFill>
                <a:latin typeface="Times New Roman"/>
              </a:rPr>
              <a:t>gun</a:t>
            </a: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, knife or  other weapon against you?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1700280"/>
            <a:ext cx="8281800" cy="1441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21053400">
            <a:off x="6948360" y="249192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ff66"/>
                </a:solidFill>
                <a:latin typeface="Times New Roman"/>
                <a:ea typeface="Arial"/>
              </a:rPr>
              <a:t>Moderate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3213000"/>
            <a:ext cx="8136000" cy="3311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21053400">
            <a:off x="5867280" y="5876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ff66"/>
                </a:solidFill>
                <a:latin typeface="Times New Roman"/>
                <a:ea typeface="Arial"/>
              </a:rPr>
              <a:t>Severe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148428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Has your partner ever.....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15328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easurement of s</a:t>
            </a:r>
            <a:r>
              <a:rPr b="0" lang="th-TH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exual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v</a:t>
            </a:r>
            <a:r>
              <a:rPr b="0" lang="th-TH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olence by partne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206064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Were you ever physically forced to have sexual intercourse when you did not want to?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Did you ever have sexual intercourse you did not want because you were afraid of what he might do?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Ever force you to do something sexual that you found degrading or humiliating?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01:05:27Z</dcterms:created>
  <dc:creator>Mary Carroll Ellsberg</dc:creator>
  <dc:description/>
  <dc:language>en-US</dc:language>
  <cp:lastModifiedBy>JansenH</cp:lastModifiedBy>
  <cp:lastPrinted>2001-09-20T13:57:43Z</cp:lastPrinted>
  <dcterms:modified xsi:type="dcterms:W3CDTF">2007-10-09T07:19:05Z</dcterms:modified>
  <cp:revision>146</cp:revision>
  <dc:subject/>
  <dc:title>PowerPoint Presentation</dc:title>
</cp:coreProperties>
</file>