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6604-B15C-4878-9A09-469306ED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070B-EA1D-4BB8-9755-107AAE88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E828-E7A4-45DC-B7DF-CD77EEC0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6F08-C05E-4F2B-89D5-686E9468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107F-965B-4371-A978-8BFCA3CC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7AF3-1C19-44EA-86CC-FEAFBD8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DFDB-9141-40F8-8653-CBB484F5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C9C7-7FD8-4366-B019-5C956F5E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EDB7-7C2E-4F98-B562-2FEA050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AA85-920F-4062-88D6-F807DF49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7752-C741-4E4B-A321-4D0689E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428C-FD05-4348-9991-39E0EBA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1F68-AC39-4E84-8382-2370AFA5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EC6B-66EF-4338-8DB2-8D199B0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D4EF-CC40-4690-87CD-0EB4032B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0D3F-4AC1-4890-A5CE-08B4CDB5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3FCE-19AB-4EF5-B302-176C01AD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8879-8E52-4ABF-8A86-417B557E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6ED6-6341-446B-944F-CB61C43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8B55-65B1-4AEB-81D4-0EEA3583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411F-7C1F-47ED-A285-280AD9D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3F69-A576-4342-A17A-84979A4D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E4EC-A5FB-4435-A35D-FFE0D5E0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612A-F604-4F29-9233-2E68DCD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7B3-FEEC-4157-B9E2-9CF077FBD8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9625-AD29-4D5B-9CC3-324D34C4B3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vaw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Violence against Women: Do the Governments Care?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apping the state response in CEE and CIS countri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project by the Open Society Institute Network Women’s Program/VAW Monitoring Progra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005-200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ed by Eniko Pa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8. Awareness raising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ational campaings (theme, provider, frequency, funding, evaluation of effective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9. Research and surv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search and surveys conducted (theme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e: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represent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no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dedicated or not; provider; fun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10. Statistics and data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ommon indicators to measure the scale of V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ervice-based data collection (criminal justice, social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car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fields): VA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sensitive pr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eterminatio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gender-disaggregation, relationship between the persons concerned (perpetrator and victim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ase follow-up in criminal statistic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umber and rate of of reported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corded,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ed 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convicted case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; 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stribution of applied sanction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ccessibility of service-based data for the public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11. Cas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umber of VAW cases before the national human rights bo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umber of VAW cases before the international bo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ahoma"/>
              </a:rPr>
              <a:t>III. Conclusion, challeng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sing an international norm as a basis: good guidance for data colle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useful for advocacy efforts. Proposal: inclusion of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ed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dicators in a ‘st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bligatio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friendly’ for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GO-based activity: information from the field, room for critical examination, but access to information from state actors is difficult. Proposal: working in state-non state 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hen putting indicators into 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hallenge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ion of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quantitative indicators with a room for qualitative evaluation, comm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develop `dynamic’ indicators to measure progress at legislative and polic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p Violence against Women Website (</a:t>
            </a:r>
            <a:r>
              <a:rPr b="0" lang="en-US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ww.stopvaw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) managed by Minnesota Advocates for Human Rights (MAH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and coordination of the National Violence against Women Monitor Program and  Network by OSI Network Women’s Program/VAW Monitoring Program and MAH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VAW Monitors: NGOs working in the field of violence against women from CEE and CIS countries; management of the Country Pages of the STOPVAW websit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Tahoma"/>
              </a:rPr>
              <a:t>I.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Monitoring methodolo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commendation Rec(2002)5 of the Committee of Ministers of the Council of Europe on the protection of women against viol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ternational norm, comprehensive, detaile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; Monitoring Framework based on indica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repared by the CoE Group of Speci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on the work of National VAW Monitor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in 25 countr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ith a request to involve other state and non-state actors in data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o map the response to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AW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ing on the stat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ahoma"/>
              </a:rPr>
              <a:t>II.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Examined fields</a:t>
            </a:r>
            <a:r>
              <a:rPr b="1" lang="hu-HU" sz="3200" spc="-1" strike="noStrike">
                <a:solidFill>
                  <a:srgbClr val="ffffcc"/>
                </a:solidFill>
                <a:latin typeface="Tahoma"/>
              </a:rPr>
              <a:t> – main proposed indicators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in the light of the CoE Monitoring Framework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State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mechanisms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coordinating bodies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udget, action pla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ecial tasks allocated to the national machin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vernmental coordinating bodies to implement measures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in the field of VAW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budget, number of staff, role of NG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Ps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tasks, responsible actors, budget, timeframe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onitoring mechanism;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aluation/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rogress re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ecial budget lines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the State budget to combat VAW, amou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ecial budget lines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, schem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to support NGOs in the field, amou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State review mechanism on laws and poli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nancing systems to compensate VAW victims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laws on different forms of VAW.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Definition of VAW in the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stence of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poli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) restraining, protection order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. Room for immediate prot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anctions for infrin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inal Code provisions to punish all forms of V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rence to VAW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s on victim and witness protectio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. Conditions to avoid revictimiz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in camera hear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legal aid, representation and assistance (provider and funding: public or privat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197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ecial protocols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to deal with VAW cases. Organizational co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pecial protocols, codes of c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duct fo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 profession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; forms of VAW they co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egal requirement for multi-agency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ystematic mechanism to involve NGOs to the drafting, designing, implementation and evaluation of laws and poli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dium- and long-term coordinated action plans for the different professions. Profession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asks, deadline, responsible actors, money allocated. Progress/evaluation report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Special units in the law enforcement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aw enforcement bodies, forms of VAW they cover. Establishment: on organized or voluntarily ba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197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.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lters: number, room availability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p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habitants – using the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EP recommendation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geographical coverage, availability of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ree of char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immediate help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’s role in establishment, provider, funding (state contribution), legal basis for opera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tl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sis intervention, counselling cent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 programs for offenders (analysis on the effective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-2610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. Education and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clus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VAW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der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discrimin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primary and secondary school curricu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atory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training programs for future professionals on VAW (professions, duration, content, provid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andatory training programs for practicing professionals on VAW (professions, duration, content, provider, frequency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ahoma"/>
              </a:rPr>
              <a:t>7. Role of the med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dia law provisions 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AW and the portrayal of women. Sanctions for the infrin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odes of conduct taking into account of VAW and promoting a non-stereotyped i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dia watch organizations (state, non-st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AW and gender-discrimination in the media school curric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nalysis on VAW and gender stereotypes in the media. Provider,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3:30:56Z</dcterms:created>
  <dc:creator>test</dc:creator>
  <dc:description/>
  <dc:language>en-US</dc:language>
  <cp:lastModifiedBy>ONU</cp:lastModifiedBy>
  <dcterms:modified xsi:type="dcterms:W3CDTF">2007-10-08T17:28:18Z</dcterms:modified>
  <cp:revision>20</cp:revision>
  <dc:subject/>
  <dc:title>Violence against Women: Do the Governments Care? Mapping the state response in CEE and CIS countries</dc:title>
</cp:coreProperties>
</file>