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3A7AF-2950-4038-8463-88EDA6926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75C6F-BFB5-4BE8-8DFA-4EB3BDB0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847CB-90BB-44B5-A44B-FD85CA6C8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C7811-B410-4535-A57E-C93D0A39D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D23D-3A4B-4A9D-90CC-09CBE949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98FC-5F8B-4BF0-8133-4418B293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29BF-4774-416E-B792-05F20C0C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5CAD-C4DF-41C3-BF1E-E071E50E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1115-1DDF-4B47-A991-3DA7A9D6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D62C-0645-4879-9366-A8AF2D8B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33A8-D956-4574-93D1-36D1CD30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9A583-A4BE-4221-9C47-98E41BBB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8693-3E2A-4499-97D9-F1E71967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1628-BC89-457F-ADD6-4CA33518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3E6D-DA62-4E13-AB2B-DCC93B23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6F4C-3544-400C-BB54-8031AF2D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E5EA-C6FB-49F2-A205-F63618250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7F284-E9B9-4BF6-941A-85054623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54E60-30AE-4A2B-8CD2-636FFF6E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C7911-12AF-4A7E-9126-6C433494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AED3A-0950-4750-8B94-B434465A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2AAEC-52C0-4747-A631-67409B5B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E503F-7157-45FD-92AB-435623A3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DBE7B-C80E-457E-8021-87EAF53B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5AC6-4FBE-4548-A44B-7506FC4E536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8B6B-6672-4E39-B586-ECB49C16C95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vaw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Violence against Women: Do the Governments Care?</a:t>
            </a:r>
            <a:br>
              <a:rPr sz="40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Mapping the state response in CEE and CIS countrie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 project by the Open Society Institute Network Women’s Program/VAW Monitoring Program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005-2007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esented by Eniko Pap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744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8. Awareness raising activ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National campaings (theme, provider, frequency, funding, evaluation of effectivenes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9. Research and surve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Research and surveys conducted (theme;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ure: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representat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r not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, dedicated or not; provider; fund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744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10. Statistics and data coll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Common indicators to measure the scale of V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Service-based data collection (criminal justice, social and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alth care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fields): VAW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sensitive pr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oble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etermination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, gender-disaggregation, relationship between the persons concerned (perpetrator and victim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Case follow-up in criminal statistics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umber and rate of of reported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recorded,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secuted an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convicted cases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; 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stribution of applied sanctions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ccessibility of service-based data for the public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11. Case la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Number of VAW cases before the national human rights bod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Number of VAW cases before the international bod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cc"/>
                </a:solidFill>
                <a:latin typeface="Tahoma"/>
              </a:rPr>
              <a:t>III. Conclusion, challeng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Using an international norm as a basis: good guidance for data collec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useful for advocacy efforts. Proposal: inclusion of th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nned 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indicators in a ‘stat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bligation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friendly’ form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NGO-based activity: information from the field, room for critical examination, but access to information from state actors is difficult. Proposal: working in state-non state partnershi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when putting indicators into a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Challenge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mulation of 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quantitative indicators with a room for qualitative evaluation, comment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develop `dynamic’ indicators to measure progress at legislative and policy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Backgroun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op Violence against Women Website (</a:t>
            </a:r>
            <a:r>
              <a:rPr b="0" lang="en-US" sz="28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www.stopvaw.org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) managed by Minnesota Advocates for Human Rights (MAHR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blishment and coordination of the National Violence against Women Monitor Program and  Network by OSI Network Women’s Program/VAW Monitoring Program and MAH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ional VAW Monitors: NGOs working in the field of violence against women from CEE and CIS countries; management of the Country Pages of the STOPVAW website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cc"/>
                </a:solidFill>
                <a:latin typeface="Tahoma"/>
              </a:rPr>
              <a:t>I.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Monitoring methodolog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is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Recommendation Rec(2002)5 of the Committee of Ministers of the Council of Europe on the protection of women against violenc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international norm, comprehensive, detailed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; Monitoring Framework based on indicato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prepared by the CoE Group of Special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ilding on the work of National VAW Monitors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in 25 countri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with a request to involve other state and non-state actors in data col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estions to map the response to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VAW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cusing on the state perform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cc"/>
                </a:solidFill>
                <a:latin typeface="Tahoma"/>
              </a:rPr>
              <a:t>II. 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Examined fields</a:t>
            </a:r>
            <a:r>
              <a:rPr b="1" lang="hu-HU" sz="3200" spc="-1" strike="noStrike">
                <a:solidFill>
                  <a:srgbClr val="ffffcc"/>
                </a:solidFill>
                <a:latin typeface="Tahoma"/>
              </a:rPr>
              <a:t> – main proposed indicators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in the light of the CoE Monitoring Framework</a:t>
            </a: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. State 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mechanisms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coordinating bodies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udget, action pla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pecial tasks allocated to the national machine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overnmental coordinating bodies to implement measures 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in the field of VAW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(budget, number of staff, role of NGO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APs 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tasks, responsible actors, budget, timeframe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onitoring mechanism;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valuation/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rogress repo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pecial budget lines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 the State budget to combat VAW, amou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pecial budget lines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, schemes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to support NGOs in the field, amou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State review mechanism on laws and polic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nancing systems to compensate VAW victims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744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456840"/>
            <a:ext cx="8229600" cy="55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. Legis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al laws on different forms of VAW.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Definition of VAW in the legis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istence of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(polic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r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dicial) restraining, protection orders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. Room for immediate prote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sanctions for infringe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iminal Code provisions to punish all forms of V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erence to VAW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i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ws on victim and witness protection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. Conditions to avoid revictimiz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(in camera hear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e legal aid, representation and assistance (provider and funding: public or privat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-1976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pecial protocols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 to deal with VAW cases. Organizational coope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Special protocols, codes of c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duct for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fferent professions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; forms of VAW they co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Legal requirement for multi-agency 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ystematic mechanism to involve NGOs to the drafting, designing, implementation and evaluation of laws and polic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edium- and long-term coordinated action plans for the different professions. Professions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tasks, deadline, responsible actors, money allocated. Progress/evaluation report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Special units in the law enforcement 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bod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Law enforcement bodies, forms of VAW they cover. Establishment: on organized or voluntarily ba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-1976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5. Serv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elters: number, room availability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(pe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men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inhabitants – using the 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EP recommendations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geographical coverage, availability of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free of charg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immediate help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’s role in establishment, provider, funding (state contribution), legal basis for operation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tli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isis intervention, counselling cente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atment programs for offenders (analysis on the effectivenes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-26100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6. Education and trai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Inclus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 VAW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der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-discrimin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the primary and secondary school curricul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atory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training programs for future professionals on VAW (professions, duration, content, provide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Mandatory training programs for practicing professionals on VAW (professions, duration, content, provider, frequency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-720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ahoma"/>
              </a:rPr>
              <a:t>7. Role of the med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Media law provisions 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VAW and the portrayal of women. Sanctions for the infringe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Codes of conduct taking into account of VAW and promoting a non-stereotyped im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Media watch organizations (state, non-stat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VAW and gender-discrimination in the media school curricu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nalysis on VAW and gender stereotypes in the media. Provider, fu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13:30:56Z</dcterms:created>
  <dc:creator>test</dc:creator>
  <dc:description/>
  <dc:language>en-US</dc:language>
  <cp:lastModifiedBy>ONU</cp:lastModifiedBy>
  <dcterms:modified xsi:type="dcterms:W3CDTF">2007-10-08T17:28:18Z</dcterms:modified>
  <cp:revision>20</cp:revision>
  <dc:subject/>
  <dc:title>Violence against Women: Do the Governments Care? Mapping the state response in CEE and CIS countries</dc:title>
</cp:coreProperties>
</file>