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D157-9F2F-4D90-9DF6-802AEC474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6964-23A3-41B5-B394-238A77C76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ED0C-A77D-44FD-8071-B9053218E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B985-CF66-4258-A1E2-BF57E2591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FF19-A2F0-445A-B4D2-3231CE0EE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ACC6-6724-4678-9CC1-2742743FF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8311-7BED-4FB8-B6C2-11369F8E5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4BD7-F450-48A8-ABA8-2679C4B50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4C68-3105-4870-A362-2CD12A5DE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881E-6404-48B2-BD4F-B0090F2CD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3604-38F2-4D67-AE2D-033DC8F9A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B74A-0334-4093-BE2F-21DB9C2EE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33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58120"/>
            <a:ext cx="9163080" cy="309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826640" y="-3056400"/>
            <a:ext cx="9106200" cy="8047800"/>
            <a:chOff x="1826640" y="-3056400"/>
            <a:chExt cx="9106200" cy="8047800"/>
          </a:xfrm>
        </p:grpSpPr>
        <p:sp>
          <p:nvSpPr>
            <p:cNvPr id="3" name=""/>
            <p:cNvSpPr/>
            <p:nvPr/>
          </p:nvSpPr>
          <p:spPr>
            <a:xfrm rot="19433400">
              <a:off x="2133720" y="168480"/>
              <a:ext cx="6581880" cy="318924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rot="19433400">
              <a:off x="2143080" y="185400"/>
              <a:ext cx="6639840" cy="31197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19433400">
              <a:off x="2151000" y="201240"/>
              <a:ext cx="6697800" cy="304956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19433400">
              <a:off x="2160360" y="220680"/>
              <a:ext cx="6754320" cy="297540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433400">
              <a:off x="2171160" y="238680"/>
              <a:ext cx="6809760" cy="290520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9433400">
              <a:off x="2183400" y="257760"/>
              <a:ext cx="6861960" cy="283104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433400">
              <a:off x="2195280" y="277560"/>
              <a:ext cx="6913080" cy="275724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9433400">
              <a:off x="2208600" y="296640"/>
              <a:ext cx="6963840" cy="268488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433400">
              <a:off x="2223360" y="317160"/>
              <a:ext cx="7008120" cy="260892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9433400">
              <a:off x="2237040" y="338760"/>
              <a:ext cx="7055280" cy="253260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9433400">
              <a:off x="2253960" y="358560"/>
              <a:ext cx="7098840" cy="246060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rot="19433400">
              <a:off x="2269800" y="377280"/>
              <a:ext cx="7139160" cy="238824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9433400">
              <a:off x="2284920" y="396000"/>
              <a:ext cx="7179480" cy="231408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9433400">
              <a:off x="2302920" y="413280"/>
              <a:ext cx="7217640" cy="224460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9433400">
              <a:off x="2320920" y="429840"/>
              <a:ext cx="7253640" cy="217440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9433400">
              <a:off x="2338560" y="447480"/>
              <a:ext cx="7287120" cy="210204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9433400">
              <a:off x="2358720" y="464400"/>
              <a:ext cx="7318440" cy="203436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433400">
              <a:off x="2379600" y="480960"/>
              <a:ext cx="7347240" cy="196236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9433400">
              <a:off x="2399400" y="496440"/>
              <a:ext cx="7375320" cy="189432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9433400">
              <a:off x="2422080" y="511920"/>
              <a:ext cx="7399800" cy="182808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9433400">
              <a:off x="2444760" y="527040"/>
              <a:ext cx="7422120" cy="175824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9433400">
              <a:off x="2469240" y="540720"/>
              <a:ext cx="7441200" cy="169272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9433400">
              <a:off x="2493360" y="554040"/>
              <a:ext cx="7460640" cy="162864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9433400">
              <a:off x="2519280" y="569160"/>
              <a:ext cx="7478640" cy="156096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9433400">
              <a:off x="2544120" y="584280"/>
              <a:ext cx="7491240" cy="149256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9433400">
              <a:off x="2571840" y="594000"/>
              <a:ext cx="7502040" cy="143280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9433400">
              <a:off x="2598840" y="607320"/>
              <a:ext cx="7514280" cy="136692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rot="19433400">
              <a:off x="2628000" y="619560"/>
              <a:ext cx="7520040" cy="130356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rot="19433400">
              <a:off x="2656440" y="630360"/>
              <a:ext cx="7526880" cy="124164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9433400">
              <a:off x="2688120" y="641880"/>
              <a:ext cx="7529760" cy="11793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9433400">
              <a:off x="2719080" y="652320"/>
              <a:ext cx="7532280" cy="111996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9433400">
              <a:off x="2751840" y="662760"/>
              <a:ext cx="7529760" cy="105804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9433400">
              <a:off x="2786040" y="673200"/>
              <a:ext cx="7524000" cy="99864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9433400">
              <a:off x="2814480" y="665280"/>
              <a:ext cx="7518240" cy="95724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9433400">
              <a:off x="2822400" y="591480"/>
              <a:ext cx="7513200" cy="99216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9433400">
              <a:off x="2833920" y="519120"/>
              <a:ext cx="7501680" cy="102348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9433400">
              <a:off x="2846880" y="445320"/>
              <a:ext cx="7488000" cy="105624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9433400">
              <a:off x="2862360" y="369360"/>
              <a:ext cx="7472880" cy="109116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9433400">
              <a:off x="2879640" y="295920"/>
              <a:ext cx="7453800" cy="112248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9433400">
              <a:off x="2898360" y="219240"/>
              <a:ext cx="7434720" cy="115740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9433400">
              <a:off x="2919960" y="142560"/>
              <a:ext cx="7410960" cy="119448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9433400">
              <a:off x="2962800" y="59400"/>
              <a:ext cx="7386120" cy="129888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9433400">
              <a:off x="3011760" y="-23400"/>
              <a:ext cx="7358400" cy="141660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433400">
              <a:off x="3061080" y="-109080"/>
              <a:ext cx="7329600" cy="153432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433400">
              <a:off x="3111480" y="-194040"/>
              <a:ext cx="7297920" cy="165348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9433400">
              <a:off x="3165840" y="-277920"/>
              <a:ext cx="7261920" cy="177048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433400">
              <a:off x="3218400" y="-362520"/>
              <a:ext cx="7225920" cy="189000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9433400">
              <a:off x="3273480" y="-448200"/>
              <a:ext cx="7187760" cy="200952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433400">
              <a:off x="3330000" y="-532800"/>
              <a:ext cx="7143480" cy="212904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9433400">
              <a:off x="3385800" y="-618480"/>
              <a:ext cx="7102080" cy="224640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433400">
              <a:off x="3445200" y="-703440"/>
              <a:ext cx="7052400" cy="236592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9433400">
              <a:off x="3503520" y="-786600"/>
              <a:ext cx="7005600" cy="248328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9433400">
              <a:off x="3563640" y="-871920"/>
              <a:ext cx="6954480" cy="260100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9433400">
              <a:off x="3628080" y="-955080"/>
              <a:ext cx="6899040" cy="271800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9433400">
              <a:off x="3689640" y="-1040040"/>
              <a:ext cx="6843960" cy="283716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9433400">
              <a:off x="3753720" y="-1126440"/>
              <a:ext cx="6787440" cy="295488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9433400">
              <a:off x="3820680" y="-1209600"/>
              <a:ext cx="6724080" cy="307260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433400">
              <a:off x="3886560" y="-1293120"/>
              <a:ext cx="6663600" cy="318744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433400">
              <a:off x="3954960" y="-1378080"/>
              <a:ext cx="6595920" cy="330516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9433400">
              <a:off x="4023000" y="-1460880"/>
              <a:ext cx="6528240" cy="342216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0" y="638280"/>
            <a:ext cx="9144000" cy="560160"/>
          </a:xfrm>
          <a:prstGeom prst="rect">
            <a:avLst/>
          </a:prstGeom>
          <a:blipFill rotWithShape="0">
            <a:blip r:embed="rId3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1160" y="1201680"/>
            <a:ext cx="9132840" cy="53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Num" idx="1"/>
          </p:nvPr>
        </p:nvSpPr>
        <p:spPr>
          <a:xfrm>
            <a:off x="3492000" y="6590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fld id="{F0E66326-66F6-4FB8-87CD-71C70ECD921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029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85680" y="44280"/>
            <a:ext cx="8918640" cy="495360"/>
            <a:chOff x="85680" y="44280"/>
            <a:chExt cx="8918640" cy="495360"/>
          </a:xfrm>
        </p:grpSpPr>
        <p:sp>
          <p:nvSpPr>
            <p:cNvPr id="104" name=""/>
            <p:cNvSpPr/>
            <p:nvPr/>
          </p:nvSpPr>
          <p:spPr>
            <a:xfrm>
              <a:off x="856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2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08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525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542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559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572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589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606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622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39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656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66960" y="330120"/>
              <a:ext cx="20988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86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703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36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753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70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783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800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17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34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850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867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88080" y="330120"/>
              <a:ext cx="20988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897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914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931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7948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5256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424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592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5724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5892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408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65400" y="44280"/>
              <a:ext cx="20988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6876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044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7212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7380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548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76800" y="44280"/>
              <a:ext cx="20988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7848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016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184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89880" y="5076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91560" y="5076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7520" y="-3931560"/>
            <a:ext cx="11476800" cy="10734120"/>
            <a:chOff x="317520" y="-3931560"/>
            <a:chExt cx="11476800" cy="10734120"/>
          </a:xfrm>
        </p:grpSpPr>
        <p:sp>
          <p:nvSpPr>
            <p:cNvPr id="154" name=""/>
            <p:cNvSpPr/>
            <p:nvPr/>
          </p:nvSpPr>
          <p:spPr>
            <a:xfrm rot="19433400">
              <a:off x="1170360" y="-279000"/>
              <a:ext cx="7575480" cy="536436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433400">
              <a:off x="1183680" y="-237240"/>
              <a:ext cx="7642080" cy="52473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433400">
              <a:off x="1194840" y="-198000"/>
              <a:ext cx="7709040" cy="512964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433400">
              <a:off x="1208520" y="-152280"/>
              <a:ext cx="7773840" cy="500472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9433400">
              <a:off x="1223280" y="-110160"/>
              <a:ext cx="7837560" cy="488700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9433400">
              <a:off x="1239840" y="-64800"/>
              <a:ext cx="7897680" cy="476208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433400">
              <a:off x="1256400" y="-18720"/>
              <a:ext cx="7956720" cy="463788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433400">
              <a:off x="1274040" y="26640"/>
              <a:ext cx="8015040" cy="451620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9433400">
              <a:off x="1293120" y="73080"/>
              <a:ext cx="8066160" cy="438804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433400">
              <a:off x="1312560" y="122400"/>
              <a:ext cx="8120160" cy="426024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433400">
              <a:off x="1334520" y="167400"/>
              <a:ext cx="8170560" cy="413928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9433400">
              <a:off x="1355040" y="211680"/>
              <a:ext cx="8217000" cy="401760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9433400">
              <a:off x="1375200" y="255960"/>
              <a:ext cx="8263080" cy="389268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433400">
              <a:off x="1398240" y="298440"/>
              <a:ext cx="8307360" cy="377568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433400">
              <a:off x="1420560" y="338400"/>
              <a:ext cx="8348760" cy="365760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433400">
              <a:off x="1442520" y="380160"/>
              <a:ext cx="8386920" cy="353592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433400">
              <a:off x="1468080" y="420480"/>
              <a:ext cx="8423280" cy="342216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433400">
              <a:off x="1493280" y="461160"/>
              <a:ext cx="8456400" cy="330120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433400">
              <a:off x="1518120" y="498960"/>
              <a:ext cx="8488440" cy="318636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9433400">
              <a:off x="1545840" y="537120"/>
              <a:ext cx="8516880" cy="307476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9433400">
              <a:off x="1573200" y="574920"/>
              <a:ext cx="8542440" cy="295776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433400">
              <a:off x="1602360" y="609840"/>
              <a:ext cx="8564400" cy="284724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9433400">
              <a:off x="1631520" y="644040"/>
              <a:ext cx="8586720" cy="273960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433400">
              <a:off x="1663200" y="681840"/>
              <a:ext cx="8607600" cy="262548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9433400">
              <a:off x="1693080" y="717840"/>
              <a:ext cx="8622000" cy="251100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433400">
              <a:off x="1725840" y="746640"/>
              <a:ext cx="8634600" cy="241056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433400">
              <a:off x="1757880" y="781560"/>
              <a:ext cx="8648640" cy="229968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9433400">
              <a:off x="1792440" y="813960"/>
              <a:ext cx="8655120" cy="219276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9433400">
              <a:off x="1825920" y="843480"/>
              <a:ext cx="8663040" cy="208836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9433400">
              <a:off x="1864080" y="875160"/>
              <a:ext cx="8666280" cy="19839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9433400">
              <a:off x="1900440" y="903600"/>
              <a:ext cx="8669160" cy="188424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9433400">
              <a:off x="1938240" y="933480"/>
              <a:ext cx="8666280" cy="177984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433400">
              <a:off x="1979280" y="962280"/>
              <a:ext cx="8659800" cy="167976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9433400">
              <a:off x="2008800" y="960840"/>
              <a:ext cx="8653320" cy="160992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433400">
              <a:off x="2004840" y="848520"/>
              <a:ext cx="8647200" cy="166896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9433400">
              <a:off x="2005200" y="738720"/>
              <a:ext cx="8634240" cy="172152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9433400">
              <a:off x="2006640" y="626760"/>
              <a:ext cx="8618400" cy="177660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9433400">
              <a:off x="2011320" y="512280"/>
              <a:ext cx="8601120" cy="183528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9433400">
              <a:off x="2017800" y="401400"/>
              <a:ext cx="8578800" cy="188820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433400">
              <a:off x="2026440" y="285480"/>
              <a:ext cx="8556840" cy="194688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433400">
              <a:off x="2038320" y="169920"/>
              <a:ext cx="8529840" cy="200916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9433400">
              <a:off x="2085480" y="42840"/>
              <a:ext cx="8501040" cy="218484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433400">
              <a:off x="2141640" y="-83160"/>
              <a:ext cx="8469360" cy="238284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433400">
              <a:off x="2198160" y="-212760"/>
              <a:ext cx="8435880" cy="258084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433400">
              <a:off x="2256120" y="-343080"/>
              <a:ext cx="8399520" cy="278100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433400">
              <a:off x="2319840" y="-469800"/>
              <a:ext cx="8358120" cy="297828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433400">
              <a:off x="2379960" y="-598680"/>
              <a:ext cx="8316720" cy="317952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433400">
              <a:off x="2442960" y="-729720"/>
              <a:ext cx="8272800" cy="338040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9433400">
              <a:off x="2508480" y="-859320"/>
              <a:ext cx="8221680" cy="358164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433400">
              <a:off x="2571840" y="-989280"/>
              <a:ext cx="8174160" cy="377856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433400">
              <a:off x="2640240" y="-1118520"/>
              <a:ext cx="8116920" cy="397980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9433400">
              <a:off x="2708280" y="-1244880"/>
              <a:ext cx="8062920" cy="417708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9433400">
              <a:off x="2776680" y="-1374480"/>
              <a:ext cx="8004240" cy="437472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9433400">
              <a:off x="2851200" y="-1501200"/>
              <a:ext cx="7940520" cy="457200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9433400">
              <a:off x="2922120" y="-1630800"/>
              <a:ext cx="7877160" cy="477216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9433400">
              <a:off x="2995200" y="-1761480"/>
              <a:ext cx="7812000" cy="497016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9433400">
              <a:off x="3072960" y="-1888200"/>
              <a:ext cx="7739280" cy="516816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9433400">
              <a:off x="3148560" y="-2014920"/>
              <a:ext cx="7669440" cy="536148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9433400">
              <a:off x="3226680" y="-2144160"/>
              <a:ext cx="7591680" cy="555948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9433400">
              <a:off x="3306240" y="-2270160"/>
              <a:ext cx="7513560" cy="575640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0" y="2562120"/>
            <a:ext cx="9144000" cy="15591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89080" y="184320"/>
            <a:ext cx="2838240" cy="2054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109044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72040"/>
            <a:ext cx="9145440" cy="1085760"/>
          </a:xfrm>
          <a:custGeom>
            <a:avLst/>
            <a:gdLst/>
            <a:ahLst/>
            <a:rect l="l" t="t" r="r" b="b"/>
            <a:pathLst>
              <a:path w="5808" h="684">
                <a:moveTo>
                  <a:pt x="0" y="480"/>
                </a:moveTo>
                <a:lnTo>
                  <a:pt x="1410" y="480"/>
                </a:lnTo>
                <a:lnTo>
                  <a:pt x="2910" y="672"/>
                </a:lnTo>
                <a:lnTo>
                  <a:pt x="4584" y="684"/>
                </a:lnTo>
                <a:lnTo>
                  <a:pt x="4812" y="474"/>
                </a:lnTo>
                <a:lnTo>
                  <a:pt x="4938" y="462"/>
                </a:lnTo>
                <a:lnTo>
                  <a:pt x="4938" y="198"/>
                </a:lnTo>
                <a:lnTo>
                  <a:pt x="5808" y="198"/>
                </a:lnTo>
                <a:lnTo>
                  <a:pt x="5808" y="0"/>
                </a:lnTo>
                <a:lnTo>
                  <a:pt x="0" y="0"/>
                </a:lnTo>
                <a:lnTo>
                  <a:pt x="0" y="48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-15840" y="4316400"/>
            <a:ext cx="9171000" cy="453960"/>
          </a:xfrm>
          <a:prstGeom prst="rect">
            <a:avLst/>
          </a:prstGeom>
          <a:blipFill rotWithShape="0">
            <a:blip r:embed="rId5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11160" y="3298680"/>
            <a:ext cx="9144000" cy="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-6480" y="3314880"/>
            <a:ext cx="9144000" cy="0"/>
          </a:xfrm>
          <a:prstGeom prst="line">
            <a:avLst/>
          </a:prstGeom>
          <a:ln w="9360">
            <a:solidFill>
              <a:srgbClr val="f8f8f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961360" y="4378320"/>
            <a:ext cx="317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Whasoon Byun, Dr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581200"/>
            <a:ext cx="9144000" cy="86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657160"/>
            <a:ext cx="8763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굴림"/>
              </a:rPr>
              <a:t>Indicators on Violence against Women in Korea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052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0640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8600" y="4894200"/>
            <a:ext cx="66769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Senior Fellow, Korean Women’s Development Institute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5092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Expert Group Meeting on indicators to measure violence against women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Geneva 8-10 October 200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119520" y="1836360"/>
            <a:ext cx="917316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Severity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used the measures of severity of spouse violenc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nto 3types; psychological, physical, and sexual violence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determined by classifying the acts according the risk or injur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by the modified version of Conflict Tactics Scale of Strau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and Gells. It dealt also the emotional impact of the violence, e.g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depression, self-respect, marital satisfaction, and frequenc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of social relationships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F8D4-2BE9-4BB6-B58E-692E275B00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-62280" y="1864800"/>
            <a:ext cx="967176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erpetrators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Recognizing that the relationship between victim and perpetrato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s a key category for classifying the types of violence, the surve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measured intimate partner violence by current and former spouses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cohabiting partners. Parents to the children, adults child to th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parents and parents in law for the respondents (male and female)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F1EB-9498-48B3-840D-45433CFA6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91080" y="1702440"/>
            <a:ext cx="917784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tting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look at violence committed in the hom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edicated versus general survey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is specifically designed to measure variou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forms of violence against women and men, children, and elderly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515E-5202-48E1-AEEC-AD3A9FB09E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74840" y="1619640"/>
            <a:ext cx="819288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odes used in administering the questionnaire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is conducted as face-to face interviews with th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self-filling up and telephone interviews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overage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is national in coverage with the proportional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allocation 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461D-07A3-496C-9A77-37CD4CFAF3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-360" y="1907640"/>
            <a:ext cx="9397440" cy="32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udy organization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t is conducted independent research institute with fund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from government, Ministry of Gender Equality. With collabora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of the researcher (Korean Women’s Development Institute) an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professor of University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31E0-C80B-4417-AC66-1210378B63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1042920" y="1973880"/>
            <a:ext cx="741672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relu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89080" y="1844640"/>
            <a:ext cx="100800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260280"/>
            <a:ext cx="33130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CONTENTS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50920" y="1928880"/>
            <a:ext cx="714240" cy="792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57560" y="2038320"/>
            <a:ext cx="341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039680" y="2804040"/>
            <a:ext cx="741708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he first national survey on Domestic Violence in Korea (2004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272880" y="2674800"/>
            <a:ext cx="100836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35080" y="2759040"/>
            <a:ext cx="714240" cy="792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7440" y="2868480"/>
            <a:ext cx="4302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042920" y="3688200"/>
            <a:ext cx="741672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Comparison of the previous research on domestic violence in Korea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9080" y="3559320"/>
            <a:ext cx="1008000" cy="86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250920" y="3643200"/>
            <a:ext cx="714240" cy="792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70080" y="3753000"/>
            <a:ext cx="51696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42920" y="4480560"/>
            <a:ext cx="741672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Domestic Violence Legislation in Kore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289080" y="4351320"/>
            <a:ext cx="100800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50920" y="4435560"/>
            <a:ext cx="714240" cy="79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46680" y="4545000"/>
            <a:ext cx="56412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Ⅳ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042920" y="5333040"/>
            <a:ext cx="741672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Indicators of survey 2004 in Kore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289080" y="5203800"/>
            <a:ext cx="100800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250920" y="5288040"/>
            <a:ext cx="714240" cy="792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6000" y="5397480"/>
            <a:ext cx="46512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14C5-DE2F-4DE6-89CF-8DCD0ABFD2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5869" t="15881" r="11737" b="7146"/>
          <a:stretch/>
        </p:blipFill>
        <p:spPr>
          <a:xfrm>
            <a:off x="730080" y="2486160"/>
            <a:ext cx="3206880" cy="2611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66840" y="1471680"/>
            <a:ext cx="8400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Husband-to-wife violence -      - Wife-to-husband violence -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6299" t="23821" r="12598" b="0"/>
          <a:stretch/>
        </p:blipFill>
        <p:spPr>
          <a:xfrm>
            <a:off x="4919760" y="2754360"/>
            <a:ext cx="3479760" cy="25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921D-6CF5-4AFF-9B0C-42DBA55AB9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0" t="0" r="0" b="9001"/>
          <a:stretch/>
        </p:blipFill>
        <p:spPr>
          <a:xfrm>
            <a:off x="196920" y="2487600"/>
            <a:ext cx="4217760" cy="2585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rcRect l="3543" t="5505" r="3543" b="9174"/>
          <a:stretch/>
        </p:blipFill>
        <p:spPr>
          <a:xfrm>
            <a:off x="4572000" y="2577960"/>
            <a:ext cx="3925800" cy="23749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21680" y="1571760"/>
            <a:ext cx="8888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Depression level of women-     -Marital satisfaction of women-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DD07-0B10-4A9D-BBFA-883FEDB16F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92600" y="1557360"/>
            <a:ext cx="69192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Recognition of the Domestic Violence Act -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0" t="14821" r="0" b="0"/>
          <a:stretch/>
        </p:blipFill>
        <p:spPr>
          <a:xfrm>
            <a:off x="958680" y="2568600"/>
            <a:ext cx="7201080" cy="330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1F24-75A6-4833-9B95-1F98C1210A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103320" y="1848960"/>
            <a:ext cx="855468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ype of violence according to subjects: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Survey 2004 in Korea, population-based survey, has bee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examined many different types of violence against women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ncluding psychological, physical, and sexual assault withi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ntimate partner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C401-F7EF-419E-A408-98DEB48047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132120" y="2291400"/>
            <a:ext cx="877212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opulation Sub-group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sub-group of 3,085 women and 3,071 men (currently marrie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or partnered) over the age of 20 to 65, victimized or offender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For the children, 351 element school (under the 12 years old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352 middle school (13-15 years old), and 344 high scho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(16-18 years old)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A422-4170-44B8-8DE5-C627D11F0E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104760" y="1852200"/>
            <a:ext cx="898704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ime period of victimization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common time frames for measuring the prevalence of thi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survey can be divided into 3 types: before last year, during las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year, and from marriage to present. However the survey wa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mainly analyzed by the period ‘during the last year’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3FDB-BEFA-41F3-A265-2BD98D63F8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245520" y="2077560"/>
            <a:ext cx="911052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requency/duration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frequency include the measure of the number of th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ncidences such as ‘none’, ‘1~2 times’, ‘3~5 times’, ‘6~10 times’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more than 11 times’ during last year.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As to ‘before last year’, the answer was divided into  ‘yes’ or ‘no’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EC92-B7D1-4909-AF25-9638B0AE7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8:05:13Z</dcterms:created>
  <dc:creator>장기택</dc:creator>
  <dc:description/>
  <dc:language>en-US</dc:language>
  <cp:lastModifiedBy>변화순</cp:lastModifiedBy>
  <dcterms:modified xsi:type="dcterms:W3CDTF">2007-10-05T15:31:36Z</dcterms:modified>
  <cp:revision>626</cp:revision>
  <dc:subject/>
  <dc:title>슬라이드 1</dc:title>
</cp:coreProperties>
</file>