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20E550-0775-4EDB-8BBE-5BD63E863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83EBD-1A04-4DD7-9193-A767C5F53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399F4C-2284-4C90-9CC7-FA1875FD2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90105E-C999-4DFC-82D7-E2397B0132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F9D65-03D5-47DD-998E-5B7BBE0E4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9BF2E-8FCC-4BE5-AF26-35DD1179B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C303-382E-48E8-A3B0-0D982FCF6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F7F5D-DAE0-4B66-B193-78006CF1D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24F3A-1D56-49B1-8AD5-FA443FF95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A4560-CC29-47ED-AADC-24E27B34E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C073-C1BF-4893-8B2C-0F59DB5DC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8786E2-7BED-451F-8962-9AEE4C79E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75565-75FE-4E9C-B9B4-219EF4793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84E7C-85FD-4610-BFA2-D1A49AA99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386A7-7743-416C-B512-F5BDBA2D5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0DB34-3BE5-4515-BDB4-F3036633E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A93CF-F44C-4DB2-BA29-767B929E0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04634F-4296-4B7F-A052-4062EDE03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DCA8C1-5C42-481A-B9E7-3AF25B6D5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7A6A4D-C5E0-4043-8E0A-B30B85631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F22919-4F87-420B-85CD-9D9EFBC8E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E0A56-353B-4476-B483-537AFC67E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A26894-1402-46D7-B1DC-3CD2790FF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E48BF-72CC-440E-963E-A43B964BC2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B22A-26A9-4DD0-947A-C46CB0EE0AD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A4E9-E3BE-400B-969E-5000D5BD53C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Walby@Lancaster.ac.uk"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Indicators to Measure Violence Against Women</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ylvia Walby</a:t>
            </a:r>
            <a:endParaRPr b="1"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Lancaster University, UK</a:t>
            </a:r>
            <a:endParaRPr b="1"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3399ff"/>
                </a:solidFill>
                <a:uFillTx/>
                <a:latin typeface="Arial"/>
                <a:hlinkClick r:id="rId1"/>
              </a:rPr>
              <a:t>S.Walby@Lancaster.ac.uk</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finitions of types of violence 1</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major options for indicators</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dicator that includes all of the types of violence and which does not separately specify them.</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indicator for each type of violence: domestic violence, rape, other sexual assault, stalking, sexual harassment in the workplace, female genital mutilation, forced marriage, trafficking, dowry deaths and honour-related crimes.</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ew indicators, one each for the more major forms of violence against women, selected from the list above (e.g. domestic violence, rape).</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dicator confined to domestic viol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finitions of types of violence 2</a:t>
            </a:r>
            <a:endParaRPr b="0" lang="en-US" sz="3900" spc="-1" strike="noStrike">
              <a:solidFill>
                <a:srgbClr val="ffffff"/>
              </a:solidFill>
              <a:latin typeface="Arial"/>
            </a:endParaRPr>
          </a:p>
        </p:txBody>
      </p:sp>
      <p:sp>
        <p:nvSpPr>
          <p:cNvPr id="1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ＭＳ Ｐゴシック"/>
              </a:rPr>
              <a:t>Recommended option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A main indicator that includes all forms of gender-based violence against women and does not separately specify them (although they are separately named in the data collection instrument).</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Additional separate indicators for the major types of violence that are found in all countries: intimate partner violence; rape; sexual harassment in the workplac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Not to use domestic violence only as the basis of an indicator for violence against wo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evalence and incidents 1</a:t>
            </a: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alence: rate (%) of violence against women in the female populatio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dents: number of incidents of violence against women per unit (e.g. 100, or 1,000) of female popu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mestic Violence: </a:t>
            </a:r>
            <a:br>
              <a:rPr sz="3500"/>
            </a:br>
            <a:r>
              <a:rPr b="0" lang="en-US" sz="3500" spc="-1" strike="noStrike">
                <a:solidFill>
                  <a:srgbClr val="ffffff"/>
                </a:solidFill>
                <a:latin typeface="Arial"/>
              </a:rPr>
              <a:t>incidents and gender</a:t>
            </a:r>
            <a:endParaRPr b="0" lang="en-US" sz="3500" spc="-1" strike="noStrike">
              <a:solidFill>
                <a:srgbClr val="ffffff"/>
              </a:solidFill>
              <a:latin typeface="Arial"/>
            </a:endParaRPr>
          </a:p>
        </p:txBody>
      </p:sp>
      <p:graphicFrame>
        <p:nvGraphicFramePr>
          <p:cNvPr id="139" name=""/>
          <p:cNvGraphicFramePr/>
          <p:nvPr/>
        </p:nvGraphicFramePr>
        <p:xfrm>
          <a:off x="457200" y="1600200"/>
          <a:ext cx="8229600" cy="4525920"/>
        </p:xfrm>
        <a:graphic>
          <a:graphicData uri="http://schemas.openxmlformats.org/drawingml/2006/table">
            <a:tbl>
              <a:tblPr/>
              <a:tblGrid>
                <a:gridCol w="3035160"/>
                <a:gridCol w="1295640"/>
                <a:gridCol w="1296720"/>
                <a:gridCol w="1366920"/>
                <a:gridCol w="1235160"/>
              </a:tblGrid>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me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gainst wome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tio: Women: me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ctim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657,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5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verage number incidents per victi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otal incid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2.9 mill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5 mill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evalence and incidents 2</a:t>
            </a:r>
            <a:endParaRPr b="0" lang="en-US" sz="3900" spc="-1" strike="noStrike">
              <a:solidFill>
                <a:srgbClr val="ffffff"/>
              </a:solidFill>
              <a:latin typeface="Arial"/>
            </a:endParaRPr>
          </a:p>
        </p:txBody>
      </p:sp>
      <p:sp>
        <p:nvSpPr>
          <p:cNvPr id="14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ife-time prevalence, as % of female populatio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nnual rate of the number of incidents per 1,000 wome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everity and impact 1</a:t>
            </a:r>
            <a:endParaRPr b="0" lang="en-US" sz="3900" spc="-1" strike="noStrike">
              <a:solidFill>
                <a:srgbClr val="ffffff"/>
              </a:solidFill>
              <a:latin typeface="Arial"/>
            </a:endParaRPr>
          </a:p>
        </p:txBody>
      </p:sp>
      <p:sp>
        <p:nvSpPr>
          <p:cNvPr id="14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the nature of the action (conflict tactics scale);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frequency;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injury: whether or not there is an injury, and if so its serious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mestic Violence: </a:t>
            </a:r>
            <a:br>
              <a:rPr sz="3500"/>
            </a:br>
            <a:r>
              <a:rPr b="0" lang="en-US" sz="3500" spc="-1" strike="noStrike">
                <a:solidFill>
                  <a:srgbClr val="ffffff"/>
                </a:solidFill>
                <a:latin typeface="Arial"/>
              </a:rPr>
              <a:t>Actions and injuries, by gender</a:t>
            </a:r>
            <a:endParaRPr b="0" lang="en-US" sz="3500" spc="-1" strike="noStrike">
              <a:solidFill>
                <a:srgbClr val="ffffff"/>
              </a:solidFill>
              <a:latin typeface="Arial"/>
            </a:endParaRPr>
          </a:p>
        </p:txBody>
      </p:sp>
      <p:graphicFrame>
        <p:nvGraphicFramePr>
          <p:cNvPr id="145" name=""/>
          <p:cNvGraphicFramePr/>
          <p:nvPr/>
        </p:nvGraphicFramePr>
        <p:xfrm>
          <a:off x="457200" y="2349360"/>
          <a:ext cx="8507520" cy="3819600"/>
        </p:xfrm>
        <a:graphic>
          <a:graphicData uri="http://schemas.openxmlformats.org/drawingml/2006/table">
            <a:tbl>
              <a:tblPr/>
              <a:tblGrid>
                <a:gridCol w="3116520"/>
                <a:gridCol w="2512080"/>
                <a:gridCol w="2447640"/>
                <a:gridCol w="216000"/>
                <a:gridCol w="216000"/>
              </a:tblGrid>
              <a:tr h="112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juries,  women victim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juries,  men  victim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inor Ac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vere Ac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7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everity and impact 2</a:t>
            </a:r>
            <a:endParaRPr b="0" lang="en-US" sz="3900" spc="-1" strike="noStrike">
              <a:solidFill>
                <a:srgbClr val="ffffff"/>
              </a:solidFill>
              <a:latin typeface="Arial"/>
            </a:endParaRPr>
          </a:p>
        </p:txBody>
      </p:sp>
      <p:sp>
        <p:nvSpPr>
          <p:cNvPr id="1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Injury (not action or frequency)</a:t>
            </a:r>
            <a:endParaRPr b="0" lang="en-US" sz="2800" spc="-1" strike="noStrike">
              <a:solidFill>
                <a:srgbClr val="ffffff"/>
              </a:solidFill>
              <a:latin typeface="Arial"/>
            </a:endParaRPr>
          </a:p>
          <a:p>
            <a:pPr lvl="1" marL="735480" indent="-28296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Severity of injury: </a:t>
            </a:r>
            <a:endParaRPr b="0" lang="en-US" sz="25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no physical injury, but fear, alarm or distress.</a:t>
            </a:r>
            <a:endParaRPr b="0" lang="en-US" sz="22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minor injury: from bruising to bleeding, non-penetrative sexual assault. </a:t>
            </a:r>
            <a:endParaRPr b="0" lang="en-US" sz="22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major injury: broken bones or teeth, attempted strangulation, rape and other penetrative sexual assaults, FGM.</a:t>
            </a:r>
            <a:endParaRPr b="0" lang="en-US" sz="2200" spc="-1" strike="noStrike">
              <a:solidFill>
                <a:srgbClr val="ffffff"/>
              </a:solidFill>
              <a:latin typeface="Arial"/>
            </a:endParaRPr>
          </a:p>
          <a:p>
            <a:pPr lvl="2" marL="1131480" indent="-22608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deat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ime period </a:t>
            </a:r>
            <a:endParaRPr b="0" lang="en-US" sz="3900" spc="-1" strike="noStrike">
              <a:solidFill>
                <a:srgbClr val="ffffff"/>
              </a:solidFill>
              <a:latin typeface="Arial"/>
            </a:endParaRPr>
          </a:p>
        </p:txBody>
      </p:sp>
      <p:sp>
        <p:nvSpPr>
          <p:cNvPr id="14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ifetime</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Or since adult e.g. 15, 16</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ast year</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Or last 3 or 5 years.</a:t>
            </a:r>
            <a:endParaRPr b="0" lang="en-US" sz="25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life-time, a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t>
            </a:r>
            <a:r>
              <a:rPr b="0" lang="en-GB" sz="2800" spc="-1" strike="noStrike">
                <a:solidFill>
                  <a:srgbClr val="ffffff"/>
                </a:solidFill>
                <a:latin typeface="Arial"/>
                <a:ea typeface="ＭＳ Ｐゴシック"/>
              </a:rPr>
              <a:t>last yea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opulation sub-groups: Age</a:t>
            </a: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ll adult women</a:t>
            </a:r>
            <a:endParaRPr b="0" lang="en-US" sz="2800" spc="-1" strike="noStrike">
              <a:solidFill>
                <a:srgbClr val="ffffff"/>
              </a:solidFill>
              <a:latin typeface="Arial"/>
            </a:endParaRPr>
          </a:p>
          <a:p>
            <a:pPr lvl="1" marL="735480" indent="-28296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Adulthood starting at 15 or 16</a:t>
            </a:r>
            <a:endParaRPr b="0" lang="en-US" sz="25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ll adult women up to an upper age limit</a:t>
            </a:r>
            <a:endParaRPr b="0" lang="en-US" sz="2800" spc="-1" strike="noStrike">
              <a:solidFill>
                <a:srgbClr val="ffffff"/>
              </a:solidFill>
              <a:latin typeface="Arial"/>
            </a:endParaRPr>
          </a:p>
          <a:p>
            <a:pPr lvl="1" marL="735480" indent="-282960">
              <a:lnSpc>
                <a:spcPct val="90000"/>
              </a:lnSpc>
              <a:spcBef>
                <a:spcPts val="7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ea typeface="ＭＳ Ｐゴシック"/>
              </a:rPr>
              <a:t>45 or 59 or 65 or 70</a:t>
            </a:r>
            <a:r>
              <a:rPr b="0" lang="en-GB" sz="2900" spc="-1" strike="noStrike">
                <a:solidFill>
                  <a:srgbClr val="ffffff"/>
                </a:solidFill>
                <a:latin typeface="Arial"/>
                <a:ea typeface="ＭＳ Ｐゴシック"/>
              </a:rPr>
              <a:t> </a:t>
            </a:r>
            <a:endParaRPr b="0" lang="en-US" sz="29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ge at which violence took place: to include all years.</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ge of respondent: 16-65 years 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criteria for indicator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initiativ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s in developing indictors on violence against wome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sues for discussion</a:t>
            </a:r>
            <a:endParaRPr b="0" lang="en-US" sz="28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Population sub-groups: </a:t>
            </a:r>
            <a:br>
              <a:rPr sz="3500"/>
            </a:br>
            <a:r>
              <a:rPr b="0" lang="en-US" sz="3500" spc="-1" strike="noStrike">
                <a:solidFill>
                  <a:srgbClr val="ffffff"/>
                </a:solidFill>
                <a:latin typeface="Arial"/>
              </a:rPr>
              <a:t>Marital status</a:t>
            </a:r>
            <a:endParaRPr b="0" lang="en-US" sz="3500" spc="-1" strike="noStrike">
              <a:solidFill>
                <a:srgbClr val="ffffff"/>
              </a:solidFill>
              <a:latin typeface="Arial"/>
            </a:endParaRPr>
          </a:p>
        </p:txBody>
      </p:sp>
      <p:sp>
        <p:nvSpPr>
          <p:cNvPr id="15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Major op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Adult women regardless of marital statu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Currently married or partnered wome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Ever married or partnered wom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ＭＳ Ｐゴシック"/>
              </a:rPr>
              <a:t>Recommended opt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No restrictions on marital sta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ea typeface="ＭＳ Ｐゴシック"/>
              </a:rPr>
              <a:t>Proposed indicators integrating all dimensions</a:t>
            </a:r>
            <a:endParaRPr b="0" lang="en-US" sz="3500" spc="-1" strike="noStrike">
              <a:solidFill>
                <a:srgbClr val="ffffff"/>
              </a:solidFill>
              <a:latin typeface="Arial"/>
            </a:endParaRPr>
          </a:p>
        </p:txBody>
      </p:sp>
      <p:sp>
        <p:nvSpPr>
          <p:cNvPr id="15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Life-time prevalence of any form of gender-based violence against women, differentiated by level of severity of injury (no injury, minor injury, major injury, death), expressed as a percentage of the total female population.</a:t>
            </a:r>
            <a:endParaRPr b="0" lang="en-US" sz="2000" spc="-1" strike="noStrike">
              <a:solidFill>
                <a:srgbClr val="ffffff"/>
              </a:solidFill>
              <a:latin typeface="Arial"/>
            </a:endParaRPr>
          </a:p>
          <a:p>
            <a:pPr marL="380880" indent="-38088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Annual number of incidents of any form of gender-based violence against women, differentiated by level of severity of injury (no injury, minor injury, major injury, death), expressed as a rate per 1,000 women, aged 16-65 years old.</a:t>
            </a:r>
            <a:endParaRPr b="0" lang="en-US" sz="20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Additional indicators:</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     </a:t>
            </a:r>
            <a:r>
              <a:rPr b="0" lang="en-GB" sz="1800" spc="-1" strike="noStrike">
                <a:solidFill>
                  <a:srgbClr val="ffffff"/>
                </a:solidFill>
                <a:latin typeface="Arial"/>
                <a:ea typeface="ＭＳ Ｐゴシック"/>
              </a:rPr>
              <a:t>Further differentiations within these indicators as to sub-types of violence against women, in particular, intimate partner violence; rape; and sexual harassment.  Not an alternative, but addit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eneral Criteria for Indicators</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marise complex data.</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unambiguous and easy to interpret.</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an assessment as to whether an improvement or deterioration has occurred.</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meaningful and relevant to policy makers, service providers and the wider informed public.</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capable of being supported by reliable and robust quantitative data.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neither so many as to confuse, nor so few as to mislead.</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vailable at regular intervals and be comparable over time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comparable between countries and population grou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eview of indicators</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from policy bodies</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ften not tightly specified</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practice</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ften more interest in broader understanding of VAW than in indicators for policy evaluation</a:t>
            </a: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details in pap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Evaluating options for indicators on violence against women</a:t>
            </a:r>
            <a:endParaRPr b="0" lang="en-US" sz="35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specific </a:t>
            </a:r>
            <a:r>
              <a:rPr b="1" lang="en-US" sz="2800" spc="-1" strike="noStrike">
                <a:solidFill>
                  <a:srgbClr val="ffffff"/>
                </a:solidFill>
                <a:latin typeface="Arial"/>
              </a:rPr>
              <a:t>criteria</a:t>
            </a:r>
            <a:r>
              <a:rPr b="0" lang="en-US" sz="2800" spc="-1" strike="noStrike">
                <a:solidFill>
                  <a:srgbClr val="ffffff"/>
                </a:solidFill>
                <a:latin typeface="Arial"/>
              </a:rPr>
              <a:t> by which these options are to be assessed;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the separate </a:t>
            </a:r>
            <a:r>
              <a:rPr b="1" lang="en-US" sz="2800" spc="-1" strike="noStrike">
                <a:solidFill>
                  <a:srgbClr val="ffffff"/>
                </a:solidFill>
                <a:latin typeface="Arial"/>
              </a:rPr>
              <a:t>dimensions</a:t>
            </a:r>
            <a:r>
              <a:rPr b="0" lang="en-US" sz="2800" spc="-1" strike="noStrike">
                <a:solidFill>
                  <a:srgbClr val="ffffff"/>
                </a:solidFill>
                <a:latin typeface="Arial"/>
              </a:rPr>
              <a:t> of the indicator that need to be defined;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a:t>
            </a:r>
            <a:r>
              <a:rPr b="1" lang="en-US" sz="2800" spc="-1" strike="noStrike">
                <a:solidFill>
                  <a:srgbClr val="ffffff"/>
                </a:solidFill>
                <a:latin typeface="Arial"/>
              </a:rPr>
              <a:t>range of options</a:t>
            </a:r>
            <a:r>
              <a:rPr b="0" lang="en-US" sz="2800" spc="-1" strike="noStrike">
                <a:solidFill>
                  <a:srgbClr val="ffffff"/>
                </a:solidFill>
                <a:latin typeface="Arial"/>
              </a:rPr>
              <a:t> on this dimensio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a:t>
            </a:r>
            <a:r>
              <a:rPr b="1" lang="en-US" sz="2800" spc="-1" strike="noStrike">
                <a:solidFill>
                  <a:srgbClr val="ffffff"/>
                </a:solidFill>
                <a:latin typeface="Arial"/>
              </a:rPr>
              <a:t>best option</a:t>
            </a:r>
            <a:r>
              <a:rPr b="0" lang="en-US" sz="2800" spc="-1" strike="noStrike">
                <a:solidFill>
                  <a:srgbClr val="ffffff"/>
                </a:solidFill>
                <a:latin typeface="Arial"/>
              </a:rPr>
              <a:t> after due consideration of the relevant evide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pecific criteria for violence against women indicators 1</a:t>
            </a:r>
            <a:endParaRPr b="0" lang="en-US" sz="35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sive scope of  types of violence, but not so specialised as to prevent comparison between countrie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ful measurement of the extent of the violence: appropriate balance between the concepts of prevalence and incidenc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ful measurement of severity of the violence, especially in relation to its impa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pecific criteria for violence against women indicators 2</a:t>
            </a:r>
            <a:endParaRPr b="0" lang="en-US" sz="35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t identification of the time period: both a longer period e.g. life-time and a more recent period, e.g. last yea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t identification of the same population sub-set, in relation to age and marital stat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pecific criteria for violence against women indicators 3</a:t>
            </a:r>
            <a:endParaRPr b="0" lang="en-US" sz="35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istent with indicators in adjacent fields, so as to facilitate the mainstreaming of violence against women into mainstream data collection and policy development, while still being sensitive to the nuances in the specific field of violence against wome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Practicality of data collection; availability of data and existing use of indica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imensions of the indicators</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of the types of viole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for the measurement of prevalence and incide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surement of severity, including as a threshol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ime period for the indicato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any restrictions are placed on the population of women inclu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16:41:26Z</dcterms:created>
  <dc:creator>Sylvia</dc:creator>
  <dc:description/>
  <dc:language>en-US</dc:language>
  <cp:lastModifiedBy>walby</cp:lastModifiedBy>
  <dcterms:modified xsi:type="dcterms:W3CDTF">2007-10-03T15:36:20Z</dcterms:modified>
  <cp:revision>14</cp:revision>
  <dc:subject/>
  <dc:title>Slide 1</dc:title>
</cp:coreProperties>
</file>