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4FC-F5CC-4DA6-824D-C8C46270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325-A46A-47CD-80DE-479F3554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48C-749E-4B6B-BF2D-CE722C64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A77-4CD6-41C5-BEA8-389A1C92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D730-A76C-496A-83A0-E13413BC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9E8-B6F0-4CB7-A0C4-F2DE5119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7099-CA4F-488F-ADCE-60C48FD9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B4DF-B036-40A7-9CFA-649FD710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5C10-A6F1-4738-9441-128924C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56C-336E-4702-AEB3-12EB895B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695D-80B3-4E6B-869A-5DA24DD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272-6EB7-4C55-8A0F-B46CF9AA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B7EC-9E6B-4B3C-B945-6F01BAC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D920-A16F-4B03-9655-CE87F348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968D-684D-43BD-90B8-462EF4F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5DD-E8BD-47DB-A18C-9B7148E1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2E1-B82B-4698-81B8-7C2E55DA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717-B323-4C8E-A844-BEE2B950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A9E-D48C-45B8-983E-8C6EB9E8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B43-C198-44C5-8D29-146BF008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4EC-2275-43AA-ADDE-E7BE93F7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B8C-2C2A-40F3-9C4E-BB9F686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2AE-6D3B-4E5A-8E32-0634F29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684-B74F-41DD-B05C-C1C8F3B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3D09-CAC1-4B15-B97C-F652E911D6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663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21AA-140D-4C38-8DF3-6E2E520FBFE9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Гендер в Казахстане: </a:t>
            </a:r>
            <a:br>
              <a:rPr sz="3200"/>
            </a:b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гендерная политика и гендерная статистика</a:t>
            </a:r>
            <a:br>
              <a:rPr sz="3200"/>
            </a:b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Изучение использования времени</a:t>
            </a:r>
            <a:endParaRPr b="0" i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гентство Республики Казахстан по статис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нтябрь 2006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1014120"/>
            <a:ext cx="7559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зучение использования времени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в Казахстане</a:t>
            </a:r>
            <a:endParaRPr b="0" i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92360" y="2565000"/>
            <a:ext cx="6781680" cy="239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чник  информации  о бюджете времени населения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очные  обследования домохозяйств, периодически проводимые  органами  государственной статис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63792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Цели обследования бюджета времени населения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2440" y="1871640"/>
            <a:ext cx="7207200" cy="429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учение информации о распределении фонда времени всего населения и отдельных его социально-демографических групп по направлениям его использ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явление различий в использовании времени   (всего бюджета времени и его отдельных частей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между мужчинами и женщинам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зрослым населением и детьми,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 городской и сельской местности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о регионам республ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12040" y="4113360"/>
          <a:ext cx="5513400" cy="246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2040" y="4113360"/>
                    <a:ext cx="55134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58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ринципы обследования</a:t>
            </a:r>
            <a:endParaRPr b="0" i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7280" y="981000"/>
            <a:ext cx="766296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иодичность об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1 раз в 3 года, начиная с 2000 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хва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все области республики, гг. Астана и Алматы на выборочной сети домохозяй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иод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7 дней, по всем дням неде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диницы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домохозяйства и все члены домохозяйств в возрасте 6 лет и стар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фиксирование для каждого обследуемого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а всех осуществленных видов деятельности и затра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ремени на ни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нтервьюирова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ленов домохозяйства по окончан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иода обслед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80784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ринципы обследования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730160"/>
            <a:ext cx="7750080" cy="35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уль «Бюджет времени населения» - составная часть программы выборочного обследования домохозяйст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Это позволяет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сократить объем опрашиваемой информ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обеспечить проведение широкого спектра анализа данны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560" y="43920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нструментарий обследования</a:t>
            </a:r>
            <a:endParaRPr b="0" i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нкета «Бюджет времени населения» включа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1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просы о возможных видах занят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1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просы о затратах времени на осуществление каждого из занятий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1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помогательный бланк регистрации затрат времен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1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струкцию по заполнению форм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34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одуль «Бюджет времени населения» 2006 года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561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редное обследование бюджета времени населения  (БВН) проведено в мае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нкете 2006 года количество вопросов увеличено до 49 (в 2000 и 2003 г.г. было 33 вопрос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6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цели 2006 г. включено изучение структуры свободного времени и определение в нем доли общественно полезных временных затрат для различных социальных групп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91520" cy="11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еречень публикаций Агентства РК по материалам обследования бюджета времени населения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677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истический бюллетень «Бюджет времени в домашних хозяйствах РК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 показател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реднем на одного обследованн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реднем на участвующего в  осуществлен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ределенного вида деятель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абличные материалы в сборнике «Мужчины и женщины Казахстан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налитические записки по итогам обследова-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спределение БВН по виду деятельности 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 гендерном разрезе в домохозяйствах РК в 2006 году</a:t>
            </a:r>
            <a:endParaRPr b="0" i="1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32720" y="482760"/>
            <a:ext cx="22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чел/часов в неделю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35080" y="888840"/>
          <a:ext cx="8008920" cy="596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888840"/>
                    <a:ext cx="800892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Выводы</a:t>
            </a:r>
            <a:endParaRPr b="0" i="1" lang="en-US" sz="2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6953040" cy="52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ы выборочного обследования БВН характеризуют неравномерность гендерного распределения ресурсов времени и позволяют делать выводы о наличии гендерных диспропорций в обществ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7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ы распределения времени отраж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е стереотип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обенности распределения гендерных ролей по ведению домашнего хозяй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7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нщи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сут основную ответственность за выполн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товых зада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Их вклад в неоплачиваемый труд по обеспечению жизнедеятельности домохозяй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, чем мужс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7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ые обязанности дел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нщ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ее выгодной рабочей сил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не позволяют им быть конкурентно способными на рынке труда наравне с мужчин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7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плачиваемый тру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кращает время досуг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оказывает влияние на здоровье женщ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189000"/>
            <a:ext cx="815328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Выводы</a:t>
            </a:r>
            <a:endParaRPr b="0" i="1" lang="en-US" sz="2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ение натурально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ребует производства неоплачиваемого труда со стороны всех членов семьи, особенно женщин, на работах по обработке урожая и по приготовлению пищи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енее обеспеченных домохозяйств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это уходи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чем в более обеспеченных, которые могут приобретать пищу за день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плачиваемый труд женщ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рыночных условия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щ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е количеств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циальных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ранее предоставляемых государством, (уход за больными, детьми  и т.д.), что ведет к падению совокупного спроса на услуги и продукцию со стороны малообеспеченных сем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личия в гендерных структур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ределения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ежат в осно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личного положения мужчин и женщ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рынке труда и в экономической сфе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нщ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ьше возможнос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рынке труда, но и ост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ьше свободного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они могут использовать для инвестиций в свой человеческий капит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осударственная политика по обеспечению гендерного равенства в Казахстане</a:t>
            </a:r>
            <a:br>
              <a:rPr sz="2800"/>
            </a:b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8080" y="1197000"/>
            <a:ext cx="7370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я Республики Казахстан (РК) – основ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рмативный документ, обеспечивающий гендерное равенство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и и программы, направленные на дост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ндерного равенства в Р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цепция   государственной   политики   улучшения положения женщин в РК (1997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действий по улучшению положения женщин в РК (1999г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цепция гендерной политики в РК  (2003г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цепция гендерной политики и Цели развития тысячелетия (2004г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цепция развития образования (2004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я гендерного равенства в РК на 2006-2016 годы (2005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311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адачи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6854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4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логических и методических основ  изучения бюджетов времени для построения надежных динамических рядов данны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80000"/>
              </a:lnSpc>
              <a:spcBef>
                <a:spcPts val="4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ение единой классификации видов деятельности для статистики использования време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80000"/>
              </a:lnSpc>
              <a:spcBef>
                <a:spcPts val="4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ние методик для проведения точной оценки гендерного распределения структур време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80000"/>
              </a:lnSpc>
              <a:spcBef>
                <a:spcPts val="4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ширение блока выходных данных для различных социальных групп населе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4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ширение методов анализа данных по влиянию на распределение и использование времени населением социально-экономических процессов и нововведений. Использование данных обследования в оценке уровня жизни населения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4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формирование пользователей о практической значимости исследований бюджетов времени населения как для проведения социальной политики, так и для преодоления культурно-национальных стереотипов гендерного разделения труда в домохозяйств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4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дрение качественных методов обследования (изучение субъективных оценок)  для более глубокого понимания реального поведения людей и использования ими своего време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7011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ендерные аспекты человеческого развития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декс человеческого развития*</a:t>
            </a:r>
            <a:br>
              <a:rPr sz="2800"/>
            </a:b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71640" y="1766880"/>
          <a:ext cx="7802640" cy="426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66880"/>
                    <a:ext cx="780264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065600" y="649116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счеты д.э.н. Ю.К.Шокам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1219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ая доля охвата обучением учащихся                         в возрасте 6-24 лет</a:t>
            </a:r>
            <a:br>
              <a:rPr sz="2400"/>
            </a:br>
            <a:endParaRPr b="0" i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90720" y="1295280"/>
          <a:ext cx="89913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8991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1430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Динамика отдельных показателей человеческого развития в гендерном разре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38080" y="0"/>
            <a:ext cx="8305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жидаемая продолжительность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(число лет)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838080"/>
          <a:ext cx="761976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066680" y="762120"/>
          <a:ext cx="792504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9250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1522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0"/>
            <a:ext cx="784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бъем ВВП на душу населения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олларов СШ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1920" y="649116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счеты д.э.н. Ю.К.Шокам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81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ендер и рынок труд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спределение населения по степени экономической активности и полу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(в возрасте 15 лет и старше)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 процентах)</a:t>
            </a:r>
            <a:br>
              <a:rPr sz="1600"/>
            </a:br>
            <a:endParaRPr b="0" i="1" lang="en-US" sz="16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1523880"/>
          <a:ext cx="77724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7724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56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езработное население по полу и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зрастным группам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(тысяч человек)</a:t>
            </a:r>
            <a:br>
              <a:rPr sz="2800"/>
            </a:br>
            <a:endParaRPr b="0" i="1" lang="en-US" sz="16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26920" y="2211480"/>
          <a:ext cx="81979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11480"/>
                    <a:ext cx="81979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уктура безработных по продолжительности незанятости в 2005 г.</a:t>
            </a: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(в процентах)</a:t>
            </a:r>
            <a:br>
              <a:rPr sz="1600"/>
            </a:br>
            <a:endParaRPr b="0" i="1" lang="en-US" sz="1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20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38080" y="1523880"/>
          <a:ext cx="815364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81536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31708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Динамика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аработной платы  мужчин и женщин</a:t>
            </a:r>
            <a:br>
              <a:rPr sz="2800"/>
            </a:b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90720" y="1143000"/>
          <a:ext cx="8001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8001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620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2120" y="1676520"/>
          <a:ext cx="83818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8381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447920" y="30492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Times New Roman"/>
              </a:rPr>
              <a:t>Занятое население по видам экономической деятельности в 200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cc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8520" y="137160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тыс. человек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1886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осударственная политика по обеспечению гендерного равенства в Казахстане</a:t>
            </a:r>
            <a:br>
              <a:rPr sz="2800"/>
            </a:b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84872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нвенции ООН и МОТ, относящиеся к правам женщин, ратифицированные Казахстаном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998 год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ив пыток и других жестоких, бесчеловечных и                           уничтожающих достоинство видов обращения и наказ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ликвидации всех форм дискриминаций в отношении женщин и Факультативный протокол к ней (200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999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дискриминации в области труда и занят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политических правах женщ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гражданстве замужней женщи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взыскании за границей али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2000 г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равном вознаграждении мужчин и женщин за труд равной цен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минимальном возрасте для приема на рабо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571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 упразднении принудительного тру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2072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явление гендерной статистики в Казахстане обеспечило гендерную экспертизу большого количества государственных республиканских и региональных программ социально-экономического развит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ндерные данные позволили включить в эти программы соответствующие меры по обеспечению гендерного равенства в РК в соответствии с Пекинской </a:t>
            </a:r>
            <a:r>
              <a:rPr b="0" lang="ru-MD" sz="2200" spc="-1" strike="noStrike">
                <a:solidFill>
                  <a:srgbClr val="000000"/>
                </a:solidFill>
                <a:latin typeface="Times New Roman"/>
              </a:rPr>
              <a:t>Платформой Действи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ИДО</a:t>
            </a:r>
            <a:r>
              <a:rPr b="0" lang="ru-MD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Декларацией тысячеле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0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зможности, созданные гендерной статистик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осударственная политика по обеспечению гендерного равенства в Казахстане</a:t>
            </a:r>
            <a:br>
              <a:rPr sz="2800"/>
            </a:b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4311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нституциональный механизм: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ет по проблемам семьи, женщин и демографичес-кой политике при Президенте РК (199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ет преобразован в Национальную комиссию по делам семьи и женщин при Президенте РК (199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8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циональная комиссия по делам семьи и женщин при Президенте РК преобразована в  Национальную комиссию по делам семьи и гендерной политике при Президенте РК (200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259920"/>
            <a:ext cx="77724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ендерная статистика в Казахстане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9218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lnSpc>
                <a:spcPct val="9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циональный план действий по улучшению положения женщин в РК (1999г.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роприятия по  совершенствованию гендерн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истики в стра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а по соверщенствованию государствен-ной статистики  на 1999-2005гг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генства РК по статисти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и представление гендерны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казателей пользовател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ратегия гендерного равенства в РК на 2006-2016 годы (2005г.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и внедрение расширенной систе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ндерных индикаторов для осуществления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ниторинга  со  стороны  государства 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ажданского общества по достижению целе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4064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реализации гендерной политики государ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50752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ендерная статистика в Казахстане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284640"/>
            <a:ext cx="4824360" cy="914400"/>
          </a:xfrm>
          <a:prstGeom prst="rect">
            <a:avLst/>
          </a:prstGeom>
          <a:gradFill rotWithShape="0">
            <a:gsLst>
              <a:gs pos="0">
                <a:srgbClr val="a4d987"/>
              </a:gs>
              <a:gs pos="100000">
                <a:srgbClr val="4b64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276640"/>
            <a:ext cx="4824360" cy="914400"/>
          </a:xfrm>
          <a:prstGeom prst="rect">
            <a:avLst/>
          </a:prstGeom>
          <a:gradFill rotWithShape="0">
            <a:gsLst>
              <a:gs pos="0">
                <a:srgbClr val="ff6633"/>
              </a:gs>
              <a:gs pos="100000">
                <a:srgbClr val="752f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ЭКОНОМ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292640"/>
            <a:ext cx="4824360" cy="792000"/>
          </a:xfrm>
          <a:prstGeom prst="rect">
            <a:avLst/>
          </a:prstGeom>
          <a:gradFill rotWithShape="0">
            <a:gsLst>
              <a:gs pos="0">
                <a:srgbClr val="ac0ac2"/>
              </a:gs>
              <a:gs pos="100000">
                <a:srgbClr val="4f04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МОГРАФ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5181480"/>
            <a:ext cx="4824360" cy="838440"/>
          </a:xfrm>
          <a:prstGeom prst="rect">
            <a:avLst/>
          </a:prstGeom>
          <a:gradFill rotWithShape="0">
            <a:gsLst>
              <a:gs pos="0">
                <a:srgbClr val="c29b0a"/>
              </a:gs>
              <a:gs pos="100000">
                <a:srgbClr val="5947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ЛО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2276640"/>
            <a:ext cx="1440000" cy="3743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еречень публикаций по гендерной статистике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2080" y="1557000"/>
            <a:ext cx="72802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истические сборни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1 раз в год)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Женщины и мужчины Казахстана» с 199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Уровень жизни населения и бедность в РК, статистический мониторинг совместно с ПРООН  с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личные показатели и расчеты 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истических бюллетеня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равочника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алитических материала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Целевые и дополнительные индикаторы мониторинга бедности в РК по разделам системы индикаторов</a:t>
            </a: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87280" y="1268280"/>
          <a:ext cx="7777440" cy="5473800"/>
        </p:xfrm>
        <a:graphic>
          <a:graphicData uri="http://schemas.openxmlformats.org/drawingml/2006/table">
            <a:tbl>
              <a:tblPr/>
              <a:tblGrid>
                <a:gridCol w="4124520"/>
                <a:gridCol w="1530360"/>
                <a:gridCol w="21225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ы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ы индика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индика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дер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Макроэкономические 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нтегральные 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Доходы населения и неравенство их распред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нятость и безрабо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Демограф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Здоровье и питание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Жилищн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Эк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реступ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Гражданское об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дикаторы Стратегии гендерного равенства в РК</a:t>
            </a:r>
            <a:br>
              <a:rPr sz="2800"/>
            </a:br>
            <a:endParaRPr b="0" i="1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1125360"/>
          <a:ext cx="8281800" cy="5621400"/>
        </p:xfrm>
        <a:graphic>
          <a:graphicData uri="http://schemas.openxmlformats.org/drawingml/2006/table">
            <a:tbl>
              <a:tblPr/>
              <a:tblGrid>
                <a:gridCol w="4724280"/>
                <a:gridCol w="35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аздел (направ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личество индика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Достижение гендерного равенства в общественно-политической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Достижение гендерного равенства в эконом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Гендерное образование. Правовое и гендерное просв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Укрепление репродуктивного здоровья мужчин и женщ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Предотвращение насилия в обществе по признаку п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Достижение гендерного равенства в семье. Укрепление семьи и повышение роли воспитания в се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Развитие гендерно чувствительного общественного с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5:32:10Z</dcterms:created>
  <dc:creator>Айдынбаева</dc:creator>
  <dc:description/>
  <dc:language>en-US</dc:language>
  <cp:lastModifiedBy>uj</cp:lastModifiedBy>
  <cp:lastPrinted>2005-05-05T07:44:11Z</cp:lastPrinted>
  <dcterms:modified xsi:type="dcterms:W3CDTF">2006-09-08T13:57:31Z</dcterms:modified>
  <cp:revision>841</cp:revision>
  <dc:subject/>
  <dc:title>Уровень жизни</dc:title>
</cp:coreProperties>
</file>