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972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9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58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972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58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97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9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972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00200"/>
            <a:ext cx="80265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297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90520" y="304920"/>
            <a:ext cx="914400" cy="11588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ssessing the prevalence of violence against women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4365720"/>
            <a:ext cx="705636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eather Dryburgh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tistics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esented on behalf of Holly Johnson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rvices for vict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women and children using shelters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women using other types of services, such as sexual assault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eat use of shelters and oth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rbidity and mortality statis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presenting for medical treatment for injuries resulting from viol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eat medical visits due to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or of the severity of the problem, demand for health services resulting from violence, health costs due to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ther indicators of societal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s  to monitor shifts in attitudes toward women and their place i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io-economic status of women: education, employment, income, age at marriage and first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vailability of services for abuse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97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Canada’s experience in designing and conducting national prevalence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thi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s in current 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roader strategy for data collection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 Canada’s prevalence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1993 national VAWS –  12,300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artner violence module added to ongoing crime victimization survey – 25,000 women and 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pecial module on stalking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conduc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motional tra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nsuring the safety of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efinitions of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ducing response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the VAW surveys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nhance public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vide detailed statistical data for practitioners, service providers, researchers, legis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vide detailed data on prevalence, correlates/risk markers, impacts, reporting to police, use of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velop a methodology for interviewing on sensitive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Immigrant and minority women (due to language, discomfort with the survey approac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Homeless wo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Abused women living in shel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Those with mobile phones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Other forms of violence: trafficking, forced prostit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roader strategy for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Times New Roman"/>
              </a:rPr>
              <a:t>Police survey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Times New Roman"/>
              </a:rPr>
              <a:t>Court statistic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Times New Roman"/>
              </a:rPr>
              <a:t>Services for victi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Times New Roman"/>
              </a:rPr>
              <a:t>Morbidity and mortality statistic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Times New Roman"/>
              </a:rPr>
              <a:t>Other indicators of social chan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roader strategy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etailed police surveys that addr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s in reported viol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eat offending and vic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ges l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for not laying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s made to specializ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peace bonds and restraining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tections for vict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rt statis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cases are dismissed or with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ic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of sentence and treatment or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l granted or den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and protections for victims provided at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offending and victimization according to type of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20:57:25Z</dcterms:created>
  <dc:creator>Jennifer Tufts</dc:creator>
  <dc:description>May, 1999</dc:description>
  <cp:keywords/>
  <dc:language>en-US</dc:language>
  <cp:lastModifiedBy>H. Dryburgh</cp:lastModifiedBy>
  <cp:lastPrinted>2003-02-17T21:11:48Z</cp:lastPrinted>
  <dcterms:modified xsi:type="dcterms:W3CDTF">2006-09-08T21:05:01Z</dcterms:modified>
  <cp:revision>423</cp:revision>
  <dc:subject>Social Trends</dc:subject>
  <dc:title>Mega-Trends</dc:title>
</cp:coreProperties>
</file>