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6665A7F-F527-4CBC-AFDA-EA6825CD5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BD83B0-AC05-494F-82A9-075D20879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C4D4906-D06E-4305-B541-6B15FA4CA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81EC43D-CF21-4E36-861F-AE6AFAE7A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A7619-4CB0-4BC7-B739-3198875BF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F08E5-A6D9-4276-92CC-E5651C197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07C33-ABB2-4D1E-B5EC-3C3EF1BA6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CE542-8E82-41F8-9FD9-E0485DEFD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B9E30-1901-4199-8734-E45935285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9BDD7-BFCE-4E77-9343-DF2BF966A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E5B99-7503-4818-86AC-7B148404A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7A607F-AE07-4B92-8B9C-C53D6053F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95CDA-A33A-44C5-91B3-07ECAC73E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520F2-4696-4D9F-9532-53DEC40E4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F5CC8-D9EE-4F18-8E31-F8916FA6C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3912D-B787-45CF-AD30-A13E5929C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DBA93-5CBA-4E5D-98DE-DDA7D6C54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035D33B-3B06-4952-BEAC-2A6042EDD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659267-7917-432D-A4EA-C588569AB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1C08A0-8D25-4B5B-8F89-820BD8988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D0A5D5-8D40-4A72-8275-8B81C4BC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2A5908-BDF9-4EA6-80C5-8B91371D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91E3D5-F5B3-4451-98AB-F02B67465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DEDA41-FD42-4F8D-B7FB-5B2008AED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A150-E175-442C-89FD-EB79F22C2EC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FA75-C1E8-4C8C-8A04-6D2BBBB45C6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1267920"/>
            <a:ext cx="7702560" cy="238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wards international standards for data collection and statistics on violence against women</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4292280"/>
            <a:ext cx="6369120" cy="13460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ylvia Walby</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Lancaster University, UK</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Walby@lancaster.ac.uk</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verity: Nature of action</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d in Conflict Tactics Scale as a hierarchy of actions of increasing severity </a:t>
            </a:r>
            <a:endParaRPr b="0" lang="en-US" sz="3200" spc="-1" strike="noStrike">
              <a:solidFill>
                <a:srgbClr val="ffffff"/>
              </a:solidFill>
              <a:latin typeface="Garamond"/>
            </a:endParaRPr>
          </a:p>
          <a:p>
            <a:pPr lvl="1" marL="941040" indent="-50652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g. push, kick, choke</a:t>
            </a:r>
            <a:endParaRPr b="0" lang="en-US" sz="28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advantages</a:t>
            </a:r>
            <a:endParaRPr b="0" lang="en-US" sz="3200" spc="-1" strike="noStrike">
              <a:solidFill>
                <a:srgbClr val="ffffff"/>
              </a:solidFill>
              <a:latin typeface="Garamond"/>
            </a:endParaRPr>
          </a:p>
          <a:p>
            <a:pPr lvl="1" marL="941040" indent="-506520">
              <a:spcBef>
                <a:spcPts val="700"/>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fined to domestic violence and does not include sexual violence</a:t>
            </a:r>
            <a:endParaRPr b="0" lang="en-US" sz="2800" spc="-1" strike="noStrike">
              <a:solidFill>
                <a:srgbClr val="ffffff"/>
              </a:solidFill>
              <a:latin typeface="Garamond"/>
            </a:endParaRPr>
          </a:p>
          <a:p>
            <a:pPr lvl="1" marL="941040" indent="-506520">
              <a:spcBef>
                <a:spcPts val="700"/>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tion not congruent with injury, by gender</a:t>
            </a:r>
            <a:endParaRPr b="0" lang="en-US" sz="2800" spc="-1" strike="noStrike">
              <a:solidFill>
                <a:srgbClr val="ffffff"/>
              </a:solidFill>
              <a:latin typeface="Garamond"/>
            </a:endParaRPr>
          </a:p>
          <a:p>
            <a:pPr lvl="1" marL="941040" indent="-506520">
              <a:spcBef>
                <a:spcPts val="700"/>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que to DV, so hard to mainstrea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verity: Injury</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ctim focused measure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le</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injury/injury</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ape as injury in itself</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gradations of seriousness of injury</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vantage</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ier to mainstream into adjacent fields</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advantage</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physical injuries hard to captu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sistency</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me perio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year?</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 cut off</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6-59?</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ital/cohabiting statu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restric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rvey methodology</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 siz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e standing or integrat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ing frame and response r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 of questionnaire delive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port or confidentia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ample Size</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ge in order to capture less common forms of violence such as rap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cost constrai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less than 10,00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ree-standing survey or integrated in another?</a:t>
            </a: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e-standing</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ables the best framing of question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t expensive</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grated question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y not be well framed, may be only a few question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st expensive</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on module</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ood compromise on quality and co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ampling frame and response rate</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ry important not to exclude disadvantaged and marginal people where rate of violence may be much higher</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mpling fram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ponse rate</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pite the cos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livery of questionnaire</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es it matter whether the questionnaire is delivered by post, phone, face-to-fac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levant in so far as it affects the comprehensiveness of the sampling frame and the response rat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ones?</a:t>
            </a: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t do poor women have them</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of mobiles?</a:t>
            </a:r>
            <a:endParaRPr b="0" lang="en-US" sz="28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sample of people in houses the best option?</a:t>
            </a:r>
            <a:endParaRPr b="0" lang="en-US" sz="32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pport or confidentiality?</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people disclose more with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viewer rapport?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fidentiality, via self-completion?</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idence: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fidentiality raises the rate of disclosure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UK five times higher prevalence</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icators conclusion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valenc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incident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rit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equenc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jur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uch development of surveys and proposals for indicato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lemma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icators of extent and severity</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streaming?</a:t>
            </a:r>
            <a:endParaRPr b="0" lang="en-US" sz="24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vey methodolog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rvey methods conclusion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istenc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me periods, age, marital statu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ge sample siz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e-standing or add-on modu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rehensive sampling fr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 response r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fidentiality to facilitate disclos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icators</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y indicator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ey link between policy and statistics</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simplify complex information</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assess if there is progress</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iteria for selection</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ambiguous and easy to interpret</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able an assessment of progress or not</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able of support by reliable quantitative data</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Neither so may as to confuse, nor so few as to mislea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ea typeface="ＭＳ Ｐゴシック"/>
              </a:rPr>
              <a:t>UN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ea typeface="ＭＳ Ｐゴシック"/>
              </a:rPr>
              <a:t>‘</a:t>
            </a:r>
            <a:r>
              <a:rPr b="0" lang="en-GB" sz="3200" spc="-1" strike="noStrike">
                <a:solidFill>
                  <a:srgbClr val="ffffff"/>
                </a:solidFill>
                <a:latin typeface="Garamond"/>
                <a:ea typeface="ＭＳ Ｐゴシック"/>
              </a:rPr>
              <a:t>Any act of gender-based violence that results in, or is likely to result in, physical, sexual or mental harm or suffering to women, including threats of such acts, coercion or arbitrary deprivation of liberty, whether occurring in public or private lif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 dilemmas</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different types in detai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me women’s experiences</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general heading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ier to mainstream into adjacent policy area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imensions of gender based violence</a:t>
            </a: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valenc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incident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rit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equenc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ure of the ac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juri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evalence: </a:t>
            </a:r>
            <a:br>
              <a:rPr sz="4000"/>
            </a:br>
            <a:r>
              <a:rPr b="1" lang="en-US" sz="4000" spc="-1" strike="noStrike">
                <a:solidFill>
                  <a:srgbClr val="e5e5ff"/>
                </a:solidFill>
                <a:latin typeface="Garamond"/>
              </a:rPr>
              <a:t>advantages and disadvantages</a:t>
            </a: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vantag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ptures nature of domestic violence as a course of conduc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dely used in VAW community</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advantag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rd to mainstream into adjacent policy fields which tend to use number of incidents, e.g. criminal justic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mber of incident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vantage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ier to mainstream into adjacent policy fields such as criminal justice which routinely used number of incidents</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advantage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in common use in VAW community</a:t>
            </a:r>
            <a:endParaRPr b="0" lang="en-US" sz="28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flict Tactics Scale is ambiguous on incidents</a:t>
            </a:r>
            <a:endParaRPr b="0" lang="en-US" sz="24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clusion: </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both prevalence and incid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verity: frequency</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quenc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times a person is subject to VAW</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16:53:28Z</dcterms:created>
  <dc:creator>Sylvia</dc:creator>
  <dc:description/>
  <dc:language>en-US</dc:language>
  <cp:lastModifiedBy>Sylvia</cp:lastModifiedBy>
  <dcterms:modified xsi:type="dcterms:W3CDTF">2006-05-09T18:03:38Z</dcterms:modified>
  <cp:revision>14</cp:revision>
  <dc:subject/>
  <dc:title>Towards international standards for data collection and statistics on violence against women</dc:title>
</cp:coreProperties>
</file>