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48520" y="62485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ami Neva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11 September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Report of the UNECE Task Force on Measuring Violence against W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CE/CES/GE.30/2006/6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Less agreement on other items, but overall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62120" y="1905120"/>
            <a:ext cx="7695720" cy="3504960"/>
            <a:chOff x="762120" y="1905120"/>
            <a:chExt cx="7695720" cy="3504960"/>
          </a:xfrm>
        </p:grpSpPr>
        <p:grpSp>
          <p:nvGrpSpPr>
            <p:cNvPr id="281" name=""/>
            <p:cNvGrpSpPr/>
            <p:nvPr/>
          </p:nvGrpSpPr>
          <p:grpSpPr>
            <a:xfrm>
              <a:off x="767880" y="1909080"/>
              <a:ext cx="7683480" cy="3496320"/>
              <a:chOff x="767880" y="1909080"/>
              <a:chExt cx="7683480" cy="349632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767880" y="1909080"/>
                <a:ext cx="3644280" cy="969840"/>
                <a:chOff x="767880" y="1909080"/>
                <a:chExt cx="3644280" cy="9698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852120" y="1909080"/>
                  <a:ext cx="3475080" cy="96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        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Type of violen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67880" y="1909080"/>
                  <a:ext cx="3644280" cy="96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412520" y="1909080"/>
                <a:ext cx="1298520" cy="969840"/>
                <a:chOff x="4412520" y="1909080"/>
                <a:chExt cx="1298520" cy="9698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496400" y="1909080"/>
                  <a:ext cx="1130040" cy="96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VAW(15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412520" y="1909080"/>
                  <a:ext cx="1298520" cy="96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711760" y="1909080"/>
                <a:ext cx="1298520" cy="969840"/>
                <a:chOff x="5711760" y="1909080"/>
                <a:chExt cx="1298520" cy="9698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796000" y="1909080"/>
                  <a:ext cx="1130040" cy="96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Victimisation Surveys (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711760" y="1909080"/>
                  <a:ext cx="1298520" cy="96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7011000" y="1909080"/>
                <a:ext cx="1440360" cy="969840"/>
                <a:chOff x="7011000" y="1909080"/>
                <a:chExt cx="1440360" cy="9698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7095240" y="1909080"/>
                  <a:ext cx="1271160" cy="96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Other (2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011000" y="1909080"/>
                  <a:ext cx="1440360" cy="96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767880" y="2878920"/>
                <a:ext cx="3644280" cy="505080"/>
                <a:chOff x="767880" y="2878920"/>
                <a:chExt cx="3644280" cy="5050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852120" y="2878920"/>
                  <a:ext cx="347508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CA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Included at least one indicator of…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67880" y="2878920"/>
                  <a:ext cx="364428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412520" y="2878920"/>
                <a:ext cx="1298520" cy="505080"/>
                <a:chOff x="4412520" y="2878920"/>
                <a:chExt cx="1298520" cy="5050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496400" y="2878920"/>
                  <a:ext cx="113004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CA" sz="1200" spc="-1" strike="noStrike">
                      <a:solidFill>
                        <a:srgbClr val="000000"/>
                      </a:solidFill>
                      <a:latin typeface="Times New Roman"/>
                    </a:rPr>
                    <a:t>N         %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412520" y="2878920"/>
                  <a:ext cx="129852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5711760" y="2878920"/>
                <a:ext cx="1298520" cy="505080"/>
                <a:chOff x="5711760" y="2878920"/>
                <a:chExt cx="1298520" cy="5050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796000" y="2878920"/>
                  <a:ext cx="113004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200" spc="-1" strike="noStrike">
                      <a:solidFill>
                        <a:srgbClr val="000000"/>
                      </a:solidFill>
                      <a:latin typeface="Times New Roman"/>
                    </a:rPr>
                    <a:t>N           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711760" y="2878920"/>
                  <a:ext cx="129852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7011000" y="2878920"/>
                <a:ext cx="1440360" cy="505080"/>
                <a:chOff x="7011000" y="2878920"/>
                <a:chExt cx="1440360" cy="5050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95240" y="2878920"/>
                  <a:ext cx="12711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200" spc="-1" strike="noStrike">
                      <a:solidFill>
                        <a:srgbClr val="000000"/>
                      </a:solidFill>
                      <a:latin typeface="Times New Roman"/>
                    </a:rPr>
                    <a:t>N               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011000" y="2878920"/>
                  <a:ext cx="144036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767880" y="3384360"/>
                <a:ext cx="3644280" cy="505440"/>
                <a:chOff x="767880" y="3384360"/>
                <a:chExt cx="3644280" cy="5054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852120" y="3384360"/>
                  <a:ext cx="34750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controlling behaviou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67880" y="3384360"/>
                  <a:ext cx="3644280" cy="50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412520" y="3384360"/>
                <a:ext cx="1298520" cy="505440"/>
                <a:chOff x="4412520" y="3384360"/>
                <a:chExt cx="1298520" cy="5054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496400" y="3384360"/>
                  <a:ext cx="113004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5       10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412520" y="3384360"/>
                  <a:ext cx="1298520" cy="50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11760" y="3384360"/>
                <a:ext cx="1298520" cy="505440"/>
                <a:chOff x="5711760" y="3384360"/>
                <a:chExt cx="1298520" cy="5054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6000" y="3384360"/>
                  <a:ext cx="113004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4           5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11760" y="3384360"/>
                  <a:ext cx="1298520" cy="50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7011000" y="3384360"/>
                <a:ext cx="1440360" cy="505440"/>
                <a:chOff x="7011000" y="3384360"/>
                <a:chExt cx="1440360" cy="5054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7095240" y="3384360"/>
                  <a:ext cx="12711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 (DHS)  5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011000" y="3384360"/>
                  <a:ext cx="1440360" cy="50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67880" y="3889800"/>
                <a:ext cx="3644280" cy="505080"/>
                <a:chOff x="767880" y="3889800"/>
                <a:chExt cx="3644280" cy="5050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852120" y="3889800"/>
                  <a:ext cx="347508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berat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67880" y="3889800"/>
                  <a:ext cx="364428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4412520" y="3889800"/>
                <a:ext cx="1298520" cy="505080"/>
                <a:chOff x="4412520" y="3889800"/>
                <a:chExt cx="1298520" cy="505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4496400" y="3889800"/>
                  <a:ext cx="113004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4         93%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412520" y="3889800"/>
                  <a:ext cx="129852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711760" y="3889800"/>
                <a:ext cx="1298520" cy="505080"/>
                <a:chOff x="5711760" y="3889800"/>
                <a:chExt cx="1298520" cy="5050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796000" y="3889800"/>
                  <a:ext cx="113004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4           5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711760" y="3889800"/>
                  <a:ext cx="129852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7011000" y="3889800"/>
                <a:ext cx="1440360" cy="505080"/>
                <a:chOff x="7011000" y="3889800"/>
                <a:chExt cx="1440360" cy="5050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7095240" y="3889800"/>
                  <a:ext cx="12711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 (DHS)  5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011000" y="3889800"/>
                  <a:ext cx="144036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767880" y="4395240"/>
                <a:ext cx="3644280" cy="505080"/>
                <a:chOff x="767880" y="4395240"/>
                <a:chExt cx="3644280" cy="5050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852120" y="4395240"/>
                  <a:ext cx="347508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stalk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67880" y="4395240"/>
                  <a:ext cx="364428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4412520" y="4395240"/>
                <a:ext cx="1298520" cy="505080"/>
                <a:chOff x="4412520" y="4395240"/>
                <a:chExt cx="1298520" cy="5050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496400" y="4395240"/>
                  <a:ext cx="113004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2         80%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412520" y="4395240"/>
                  <a:ext cx="129852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5711760" y="4395240"/>
                <a:ext cx="1298520" cy="505080"/>
                <a:chOff x="5711760" y="4395240"/>
                <a:chExt cx="1298520" cy="5050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796000" y="4395240"/>
                  <a:ext cx="113004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4           5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711760" y="4395240"/>
                  <a:ext cx="129852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7011000" y="4395240"/>
                <a:ext cx="1440360" cy="505080"/>
                <a:chOff x="7011000" y="4395240"/>
                <a:chExt cx="1440360" cy="5050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7095240" y="4395240"/>
                  <a:ext cx="12711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011000" y="4395240"/>
                  <a:ext cx="144036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67880" y="4900320"/>
                <a:ext cx="3644280" cy="505080"/>
                <a:chOff x="767880" y="4900320"/>
                <a:chExt cx="3644280" cy="50508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52120" y="4900320"/>
                  <a:ext cx="347508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economic abu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67880" y="4900320"/>
                  <a:ext cx="364428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412520" y="4900320"/>
                <a:ext cx="1298520" cy="505080"/>
                <a:chOff x="4412520" y="4900320"/>
                <a:chExt cx="1298520" cy="5050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4496400" y="4900320"/>
                  <a:ext cx="113004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0         67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412520" y="4900320"/>
                  <a:ext cx="129852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11760" y="4900320"/>
                <a:ext cx="1298520" cy="505080"/>
                <a:chOff x="5711760" y="4900320"/>
                <a:chExt cx="1298520" cy="5050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6000" y="4900320"/>
                  <a:ext cx="113004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2           25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11760" y="4900320"/>
                  <a:ext cx="129852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7011000" y="4900320"/>
                <a:ext cx="1440360" cy="505080"/>
                <a:chOff x="7011000" y="4900320"/>
                <a:chExt cx="1440360" cy="50508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7095240" y="4900320"/>
                  <a:ext cx="12711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 (DHS)   5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011000" y="4900320"/>
                  <a:ext cx="144036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4" name=""/>
            <p:cNvSpPr/>
            <p:nvPr/>
          </p:nvSpPr>
          <p:spPr>
            <a:xfrm>
              <a:off x="762120" y="1905120"/>
              <a:ext cx="7695720" cy="35049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295280" y="1676520"/>
            <a:ext cx="6781680" cy="4624200"/>
            <a:chOff x="1295280" y="1676520"/>
            <a:chExt cx="6781680" cy="4624200"/>
          </a:xfrm>
        </p:grpSpPr>
        <p:grpSp>
          <p:nvGrpSpPr>
            <p:cNvPr id="357" name=""/>
            <p:cNvGrpSpPr/>
            <p:nvPr/>
          </p:nvGrpSpPr>
          <p:grpSpPr>
            <a:xfrm>
              <a:off x="1302840" y="1678680"/>
              <a:ext cx="6765840" cy="4618800"/>
              <a:chOff x="1302840" y="1678680"/>
              <a:chExt cx="6765840" cy="461880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1302840" y="1678680"/>
                <a:ext cx="4301640" cy="628200"/>
                <a:chOff x="1302840" y="1678680"/>
                <a:chExt cx="4301640" cy="6282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1417320" y="1678680"/>
                  <a:ext cx="4072320" cy="62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302840" y="1678680"/>
                  <a:ext cx="430164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5604840" y="1678680"/>
                <a:ext cx="2462760" cy="313920"/>
                <a:chOff x="5604840" y="1678680"/>
                <a:chExt cx="2462760" cy="3139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5718600" y="1678680"/>
                  <a:ext cx="223416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Questionnaires (N = 25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604840" y="1678680"/>
                  <a:ext cx="246276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8068320" y="1678680"/>
                <a:ext cx="360" cy="313920"/>
                <a:chOff x="8068320" y="1678680"/>
                <a:chExt cx="360" cy="3139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8068320" y="1678680"/>
                  <a:ext cx="36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068320" y="1678680"/>
                  <a:ext cx="36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5604840" y="1992600"/>
                <a:ext cx="1065960" cy="313920"/>
                <a:chOff x="5604840" y="1992600"/>
                <a:chExt cx="1065960" cy="3139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5718600" y="1992600"/>
                  <a:ext cx="83736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604840" y="1992600"/>
                  <a:ext cx="106596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671520" y="1992600"/>
                <a:ext cx="1396080" cy="313920"/>
                <a:chOff x="6671520" y="1992600"/>
                <a:chExt cx="1396080" cy="3139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785280" y="1992600"/>
                  <a:ext cx="116748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200" spc="-1" strike="noStrike">
                      <a:solidFill>
                        <a:srgbClr val="000000"/>
                      </a:solidFill>
                      <a:latin typeface="Times New Roman"/>
                    </a:rPr>
                    <a:t>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671520" y="1992600"/>
                  <a:ext cx="139608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8068320" y="1992600"/>
                <a:ext cx="360" cy="313920"/>
                <a:chOff x="8068320" y="1992600"/>
                <a:chExt cx="360" cy="3139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8068320" y="1992600"/>
                  <a:ext cx="36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068320" y="1992600"/>
                  <a:ext cx="36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1302840" y="2306880"/>
                <a:ext cx="4301640" cy="338400"/>
                <a:chOff x="1302840" y="2306880"/>
                <a:chExt cx="4301640" cy="3384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1417320" y="2306880"/>
                  <a:ext cx="407232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CA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Severity and impact of violen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302840" y="2306880"/>
                  <a:ext cx="4301640" cy="33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604840" y="2306880"/>
                <a:ext cx="1065960" cy="338400"/>
                <a:chOff x="5604840" y="2306880"/>
                <a:chExt cx="1065960" cy="3384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718600" y="2306880"/>
                  <a:ext cx="83736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604840" y="2306880"/>
                  <a:ext cx="1065960" cy="33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6671520" y="2306880"/>
                <a:ext cx="1396080" cy="338400"/>
                <a:chOff x="6671520" y="2306880"/>
                <a:chExt cx="1396080" cy="3384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785280" y="2306880"/>
                  <a:ext cx="116748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671520" y="2306880"/>
                  <a:ext cx="1396080" cy="33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8068320" y="2306880"/>
                <a:ext cx="360" cy="338400"/>
                <a:chOff x="8068320" y="2306880"/>
                <a:chExt cx="360" cy="3384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8068320" y="2306880"/>
                  <a:ext cx="36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8068320" y="2306880"/>
                  <a:ext cx="360" cy="33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1302840" y="2645280"/>
                <a:ext cx="4301640" cy="380160"/>
                <a:chOff x="1302840" y="2645280"/>
                <a:chExt cx="4301640" cy="3801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417320" y="2645280"/>
                  <a:ext cx="4072320" cy="38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CA" sz="1200" spc="-1" strike="noStrike">
                      <a:solidFill>
                        <a:srgbClr val="000000"/>
                      </a:solidFill>
                      <a:latin typeface="Times New Roman"/>
                    </a:rPr>
                    <a:t>Injuri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302840" y="2645280"/>
                  <a:ext cx="4301640" cy="38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5604840" y="2645280"/>
                <a:ext cx="1065960" cy="380160"/>
                <a:chOff x="5604840" y="2645280"/>
                <a:chExt cx="1065960" cy="3801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5718600" y="2645280"/>
                  <a:ext cx="837360" cy="38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2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604840" y="2645280"/>
                  <a:ext cx="1065960" cy="38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6671520" y="2645280"/>
                <a:ext cx="1396080" cy="380160"/>
                <a:chOff x="6671520" y="2645280"/>
                <a:chExt cx="1396080" cy="3801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6785280" y="2645280"/>
                  <a:ext cx="1167480" cy="38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200" spc="-1" strike="noStrike">
                      <a:solidFill>
                        <a:srgbClr val="000000"/>
                      </a:solidFill>
                      <a:latin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671520" y="2645280"/>
                  <a:ext cx="1396080" cy="38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8068320" y="2645280"/>
                <a:ext cx="360" cy="313920"/>
                <a:chOff x="8068320" y="2645280"/>
                <a:chExt cx="360" cy="313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8068320" y="2645280"/>
                  <a:ext cx="36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068320" y="2645280"/>
                  <a:ext cx="36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8068320" y="2959560"/>
                <a:ext cx="360" cy="66240"/>
                <a:chOff x="8068320" y="2959560"/>
                <a:chExt cx="360" cy="662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8068320" y="2959560"/>
                  <a:ext cx="360" cy="6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068320" y="2959560"/>
                  <a:ext cx="360" cy="6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1302840" y="3025800"/>
                <a:ext cx="4301640" cy="313920"/>
                <a:chOff x="1302840" y="3025800"/>
                <a:chExt cx="4301640" cy="3139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1417320" y="3025800"/>
                  <a:ext cx="407232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Victims use of medical servi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302840" y="3025800"/>
                  <a:ext cx="430164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5604840" y="3025800"/>
                <a:ext cx="1065960" cy="313920"/>
                <a:chOff x="5604840" y="3025800"/>
                <a:chExt cx="1065960" cy="3139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5718600" y="3025800"/>
                  <a:ext cx="83736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604840" y="3025800"/>
                  <a:ext cx="106596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6671520" y="3025800"/>
                <a:ext cx="1396080" cy="313920"/>
                <a:chOff x="6671520" y="3025800"/>
                <a:chExt cx="1396080" cy="3139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6785280" y="3025800"/>
                  <a:ext cx="116748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7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671520" y="3025800"/>
                  <a:ext cx="139608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8068320" y="3025800"/>
                <a:ext cx="360" cy="313920"/>
                <a:chOff x="8068320" y="3025800"/>
                <a:chExt cx="360" cy="3139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8068320" y="3025800"/>
                  <a:ext cx="36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068320" y="3025800"/>
                  <a:ext cx="36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302840" y="3340080"/>
                <a:ext cx="4301640" cy="314280"/>
                <a:chOff x="1302840" y="3340080"/>
                <a:chExt cx="4301640" cy="3142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417320" y="3340080"/>
                  <a:ext cx="4072320" cy="31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Victims need to take time off from daily activiti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302840" y="3340080"/>
                  <a:ext cx="4301640" cy="31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5604840" y="3340080"/>
                <a:ext cx="1065960" cy="314280"/>
                <a:chOff x="5604840" y="3340080"/>
                <a:chExt cx="1065960" cy="31428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5718600" y="3340080"/>
                  <a:ext cx="837360" cy="31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604840" y="3340080"/>
                  <a:ext cx="1065960" cy="31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6671520" y="3340080"/>
                <a:ext cx="1396080" cy="314280"/>
                <a:chOff x="6671520" y="3340080"/>
                <a:chExt cx="1396080" cy="3142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6785280" y="3340080"/>
                  <a:ext cx="1167480" cy="31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4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671520" y="3340080"/>
                  <a:ext cx="1396080" cy="31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8068320" y="3340080"/>
                <a:ext cx="360" cy="314280"/>
                <a:chOff x="8068320" y="3340080"/>
                <a:chExt cx="360" cy="3142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8068320" y="3340080"/>
                  <a:ext cx="360" cy="31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068320" y="3340080"/>
                  <a:ext cx="360" cy="31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1302840" y="3654360"/>
                <a:ext cx="4301640" cy="313920"/>
                <a:chOff x="1302840" y="3654360"/>
                <a:chExt cx="4301640" cy="3139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417320" y="3654360"/>
                  <a:ext cx="407232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Fear of bodily harm or deat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302840" y="3654360"/>
                  <a:ext cx="430164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5604840" y="3654360"/>
                <a:ext cx="1065960" cy="313920"/>
                <a:chOff x="5604840" y="3654360"/>
                <a:chExt cx="1065960" cy="3139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5718600" y="3654360"/>
                  <a:ext cx="83736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604840" y="3654360"/>
                  <a:ext cx="106596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6671520" y="3654360"/>
                <a:ext cx="1396080" cy="313920"/>
                <a:chOff x="6671520" y="3654360"/>
                <a:chExt cx="1396080" cy="3139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6785280" y="3654360"/>
                  <a:ext cx="116748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5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671520" y="3654360"/>
                  <a:ext cx="139608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8068320" y="3654360"/>
                <a:ext cx="360" cy="313920"/>
                <a:chOff x="8068320" y="3654360"/>
                <a:chExt cx="360" cy="3139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8068320" y="3654360"/>
                  <a:ext cx="36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8068320" y="3654360"/>
                  <a:ext cx="36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1302840" y="3968280"/>
                <a:ext cx="4301640" cy="338400"/>
                <a:chOff x="1302840" y="3968280"/>
                <a:chExt cx="4301640" cy="3384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1417320" y="3968280"/>
                  <a:ext cx="407232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CA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Use of health and social services, informal support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302840" y="3968280"/>
                  <a:ext cx="4301640" cy="33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5604840" y="3968280"/>
                <a:ext cx="1065960" cy="338400"/>
                <a:chOff x="5604840" y="3968280"/>
                <a:chExt cx="1065960" cy="3384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5718600" y="3968280"/>
                  <a:ext cx="83736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604840" y="3968280"/>
                  <a:ext cx="1065960" cy="33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6671520" y="3968280"/>
                <a:ext cx="1396080" cy="338400"/>
                <a:chOff x="6671520" y="3968280"/>
                <a:chExt cx="1396080" cy="3384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6785280" y="3968280"/>
                  <a:ext cx="116748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671520" y="3968280"/>
                  <a:ext cx="1396080" cy="33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8068320" y="3968280"/>
                <a:ext cx="360" cy="338400"/>
                <a:chOff x="8068320" y="3968280"/>
                <a:chExt cx="360" cy="33840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8068320" y="3968280"/>
                  <a:ext cx="36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8068320" y="3968280"/>
                  <a:ext cx="360" cy="33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1302840" y="4307040"/>
                <a:ext cx="4301640" cy="313920"/>
                <a:chOff x="1302840" y="4307040"/>
                <a:chExt cx="4301640" cy="3139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417320" y="4307040"/>
                  <a:ext cx="407232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Victims use of medical servi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302840" y="4307040"/>
                  <a:ext cx="430164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5604840" y="4307040"/>
                <a:ext cx="1065960" cy="313920"/>
                <a:chOff x="5604840" y="4307040"/>
                <a:chExt cx="1065960" cy="313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718600" y="4307040"/>
                  <a:ext cx="83736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604840" y="4307040"/>
                  <a:ext cx="106596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6671520" y="4307040"/>
                <a:ext cx="1396080" cy="313920"/>
                <a:chOff x="6671520" y="4307040"/>
                <a:chExt cx="1396080" cy="3139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6785280" y="4307040"/>
                  <a:ext cx="116748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7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671520" y="4307040"/>
                  <a:ext cx="139608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8068320" y="4307040"/>
                <a:ext cx="360" cy="313920"/>
                <a:chOff x="8068320" y="4307040"/>
                <a:chExt cx="360" cy="3139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8068320" y="4307040"/>
                  <a:ext cx="36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8068320" y="4307040"/>
                  <a:ext cx="36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1302840" y="4620960"/>
                <a:ext cx="4301640" cy="313920"/>
                <a:chOff x="1302840" y="4620960"/>
                <a:chExt cx="4301640" cy="3139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417320" y="4620960"/>
                  <a:ext cx="407232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Victims use of social, government servic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302840" y="4620960"/>
                  <a:ext cx="430164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604840" y="4620960"/>
                <a:ext cx="1065960" cy="313920"/>
                <a:chOff x="5604840" y="4620960"/>
                <a:chExt cx="1065960" cy="3139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718600" y="4620960"/>
                  <a:ext cx="83736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604840" y="4620960"/>
                  <a:ext cx="106596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6671520" y="4620960"/>
                <a:ext cx="1396080" cy="313920"/>
                <a:chOff x="6671520" y="4620960"/>
                <a:chExt cx="1396080" cy="3139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785280" y="4620960"/>
                  <a:ext cx="116748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7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71520" y="4620960"/>
                  <a:ext cx="139608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8068320" y="4620960"/>
                <a:ext cx="360" cy="313920"/>
                <a:chOff x="8068320" y="4620960"/>
                <a:chExt cx="360" cy="31392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8068320" y="4620960"/>
                  <a:ext cx="36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8068320" y="4620960"/>
                  <a:ext cx="360" cy="31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1302840" y="4935240"/>
                <a:ext cx="4301640" cy="314280"/>
                <a:chOff x="1302840" y="4935240"/>
                <a:chExt cx="4301640" cy="3142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1417320" y="4935240"/>
                  <a:ext cx="4072320" cy="31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Victims reporting to friends, famil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302840" y="4935240"/>
                  <a:ext cx="4301640" cy="31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5604840" y="4935240"/>
                <a:ext cx="1065960" cy="314280"/>
                <a:chOff x="5604840" y="4935240"/>
                <a:chExt cx="1065960" cy="3142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5718600" y="4935240"/>
                  <a:ext cx="837360" cy="31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604840" y="4935240"/>
                  <a:ext cx="1065960" cy="31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6671520" y="4935240"/>
                <a:ext cx="1396080" cy="314280"/>
                <a:chOff x="6671520" y="4935240"/>
                <a:chExt cx="1396080" cy="3142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6785280" y="4935240"/>
                  <a:ext cx="1167480" cy="31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7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671520" y="4935240"/>
                  <a:ext cx="1396080" cy="31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8068320" y="4935240"/>
                <a:ext cx="360" cy="314280"/>
                <a:chOff x="8068320" y="4935240"/>
                <a:chExt cx="360" cy="3142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8068320" y="4935240"/>
                  <a:ext cx="360" cy="31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8068320" y="4935240"/>
                  <a:ext cx="360" cy="31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1302840" y="5249520"/>
                <a:ext cx="4301640" cy="402840"/>
                <a:chOff x="1302840" y="5249520"/>
                <a:chExt cx="4301640" cy="40284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1417320" y="5249520"/>
                  <a:ext cx="4072320" cy="4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CA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Reporting to police and the criminal justice respo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302840" y="5249520"/>
                  <a:ext cx="4301640" cy="40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5604840" y="5249520"/>
                <a:ext cx="1065960" cy="402840"/>
                <a:chOff x="5604840" y="5249520"/>
                <a:chExt cx="1065960" cy="4028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5718600" y="5249520"/>
                  <a:ext cx="837360" cy="4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604840" y="5249520"/>
                  <a:ext cx="1065960" cy="40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6671520" y="5249520"/>
                <a:ext cx="1396080" cy="402840"/>
                <a:chOff x="6671520" y="5249520"/>
                <a:chExt cx="1396080" cy="40284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6785280" y="5249520"/>
                  <a:ext cx="1167480" cy="4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671520" y="5249520"/>
                  <a:ext cx="1396080" cy="40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8068320" y="5249520"/>
                <a:ext cx="360" cy="402840"/>
                <a:chOff x="8068320" y="5249520"/>
                <a:chExt cx="360" cy="4028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8068320" y="5249520"/>
                  <a:ext cx="360" cy="4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068320" y="5249520"/>
                  <a:ext cx="360" cy="40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1302840" y="5652720"/>
                <a:ext cx="4301640" cy="322560"/>
                <a:chOff x="1302840" y="5652720"/>
                <a:chExt cx="4301640" cy="32256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1417320" y="5652720"/>
                  <a:ext cx="4072320" cy="32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Victims reporting to the police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302840" y="5652720"/>
                  <a:ext cx="4301640" cy="32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604840" y="5652720"/>
                <a:ext cx="1065960" cy="322560"/>
                <a:chOff x="5604840" y="5652720"/>
                <a:chExt cx="1065960" cy="32256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5718600" y="5652720"/>
                  <a:ext cx="837360" cy="32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604840" y="5652720"/>
                  <a:ext cx="1065960" cy="32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6671520" y="5652720"/>
                <a:ext cx="1396080" cy="322560"/>
                <a:chOff x="6671520" y="5652720"/>
                <a:chExt cx="1396080" cy="32256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6785280" y="5652720"/>
                  <a:ext cx="1167480" cy="32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8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671520" y="5652720"/>
                  <a:ext cx="1396080" cy="32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8068320" y="5652720"/>
                <a:ext cx="360" cy="322560"/>
                <a:chOff x="8068320" y="5652720"/>
                <a:chExt cx="360" cy="3225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8068320" y="5652720"/>
                  <a:ext cx="360" cy="32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068320" y="5652720"/>
                  <a:ext cx="360" cy="32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1302840" y="5975280"/>
                <a:ext cx="4301640" cy="322200"/>
                <a:chOff x="1302840" y="5975280"/>
                <a:chExt cx="4301640" cy="32220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417320" y="5975280"/>
                  <a:ext cx="407232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Charges brought against the offen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302840" y="5975280"/>
                  <a:ext cx="4301640" cy="32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5604840" y="5975280"/>
                <a:ext cx="1065960" cy="322200"/>
                <a:chOff x="5604840" y="5975280"/>
                <a:chExt cx="1065960" cy="32220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5718600" y="5975280"/>
                  <a:ext cx="83736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604840" y="5975280"/>
                  <a:ext cx="1065960" cy="32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6671520" y="5975280"/>
                <a:ext cx="1396080" cy="322200"/>
                <a:chOff x="6671520" y="5975280"/>
                <a:chExt cx="1396080" cy="32220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6785280" y="5975280"/>
                  <a:ext cx="11674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5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671520" y="5975280"/>
                  <a:ext cx="1396080" cy="32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8068320" y="5975280"/>
                <a:ext cx="360" cy="322200"/>
                <a:chOff x="8068320" y="5975280"/>
                <a:chExt cx="360" cy="3222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8068320" y="5975280"/>
                  <a:ext cx="36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068320" y="5975280"/>
                  <a:ext cx="360" cy="32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3" name=""/>
            <p:cNvSpPr/>
            <p:nvPr/>
          </p:nvSpPr>
          <p:spPr>
            <a:xfrm>
              <a:off x="1295280" y="1676520"/>
              <a:ext cx="6781680" cy="4624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Data disse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Micro-data files available for public use in more than half of the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Survey results are available on the Internet in two-thirds of all surv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Objectives of the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to take stock of the work undertaken by countries in defining and implementing survey methodology to measure V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to understand the differences and commonalities between methodologies used in the re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identify areas appropriate for standard recommendation on definitions and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Composition of the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Institutional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Data disse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52% of the reported surveys were conducted by NSOs or government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State-level investment in VAW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In 68% of cases no plans for future data-collection activities on V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Lack of long-term commitment to collect data on VA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but there are more often plans for repeated data collection when NSOs are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Reported challen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questionnaire construction (24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definition, design and size of sample (2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respecting interviewees’ sensitivity (2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specificity of the topic (12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non-response (1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methodology and dissemination (7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Lot of variation among surveys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selection of reference popu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sample design, sampling techniques, sampl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mode of data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measures taken to improve survey quality 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(tackling telescoping, quality of fieldwork, interviewer training, non-respon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Types of physical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62120" y="1828800"/>
            <a:ext cx="7086240" cy="4327560"/>
            <a:chOff x="762120" y="1828800"/>
            <a:chExt cx="7086240" cy="4327560"/>
          </a:xfrm>
        </p:grpSpPr>
        <p:grpSp>
          <p:nvGrpSpPr>
            <p:cNvPr id="57" name=""/>
            <p:cNvGrpSpPr/>
            <p:nvPr/>
          </p:nvGrpSpPr>
          <p:grpSpPr>
            <a:xfrm>
              <a:off x="767160" y="1831320"/>
              <a:ext cx="7075080" cy="4322160"/>
              <a:chOff x="767160" y="1831320"/>
              <a:chExt cx="7075080" cy="432216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767160" y="1831320"/>
                <a:ext cx="3355920" cy="641880"/>
                <a:chOff x="767160" y="1831320"/>
                <a:chExt cx="3355920" cy="64188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44920" y="1831320"/>
                  <a:ext cx="320040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        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Type of violen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67160" y="1831320"/>
                  <a:ext cx="3355920" cy="64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123440" y="1831320"/>
                <a:ext cx="1195920" cy="641880"/>
                <a:chOff x="4123440" y="1831320"/>
                <a:chExt cx="1195920" cy="64188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200840" y="1831320"/>
                  <a:ext cx="10407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VAW surveys (15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123440" y="1831320"/>
                  <a:ext cx="1195920" cy="64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319720" y="1831320"/>
                <a:ext cx="1195920" cy="641880"/>
                <a:chOff x="5319720" y="1831320"/>
                <a:chExt cx="1195920" cy="64188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5397480" y="1831320"/>
                  <a:ext cx="10407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Victimisation Surveys (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319720" y="1831320"/>
                  <a:ext cx="1195920" cy="64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6516000" y="1831320"/>
                <a:ext cx="1326240" cy="641880"/>
                <a:chOff x="6516000" y="1831320"/>
                <a:chExt cx="1326240" cy="6418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6593760" y="1831320"/>
                  <a:ext cx="117072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Other (2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516000" y="1831320"/>
                  <a:ext cx="1326240" cy="64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767160" y="2473200"/>
                <a:ext cx="3355920" cy="334440"/>
                <a:chOff x="767160" y="2473200"/>
                <a:chExt cx="3355920" cy="3344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844920" y="2473200"/>
                  <a:ext cx="320040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i-FI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Physical Violen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7160" y="2473200"/>
                  <a:ext cx="335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123440" y="2473200"/>
                <a:ext cx="1195920" cy="334440"/>
                <a:chOff x="4123440" y="2473200"/>
                <a:chExt cx="1195920" cy="3344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200840" y="247320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N            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123440" y="247320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319720" y="2473200"/>
                <a:ext cx="1195920" cy="334440"/>
                <a:chOff x="5319720" y="2473200"/>
                <a:chExt cx="1195920" cy="33444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397480" y="247320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N            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319720" y="247320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516000" y="2473200"/>
                <a:ext cx="1326240" cy="334440"/>
                <a:chOff x="6516000" y="2473200"/>
                <a:chExt cx="1326240" cy="3344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593760" y="2473200"/>
                  <a:ext cx="117072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N            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516000" y="2473200"/>
                  <a:ext cx="132624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767160" y="2808000"/>
                <a:ext cx="3355920" cy="334440"/>
                <a:chOff x="767160" y="2808000"/>
                <a:chExt cx="3355920" cy="33444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844920" y="2808000"/>
                  <a:ext cx="320040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Pushed, grabbed, shov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67160" y="2808000"/>
                  <a:ext cx="335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123440" y="2808000"/>
                <a:ext cx="1195920" cy="334440"/>
                <a:chOff x="4123440" y="2808000"/>
                <a:chExt cx="1195920" cy="3344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200840" y="280800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3          87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123440" y="280800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5319720" y="2808000"/>
                <a:ext cx="1195920" cy="334440"/>
                <a:chOff x="5319720" y="2808000"/>
                <a:chExt cx="1195920" cy="3344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5397480" y="280800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6            75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319720" y="280800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516000" y="2808000"/>
                <a:ext cx="1326240" cy="334440"/>
                <a:chOff x="6516000" y="2808000"/>
                <a:chExt cx="1326240" cy="3344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593760" y="2808000"/>
                  <a:ext cx="117072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2           10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516000" y="2808000"/>
                  <a:ext cx="132624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767160" y="3142440"/>
                <a:ext cx="3355920" cy="334440"/>
                <a:chOff x="767160" y="3142440"/>
                <a:chExt cx="3355920" cy="3344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844920" y="3142440"/>
                  <a:ext cx="320040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Threatened to hi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67160" y="3142440"/>
                  <a:ext cx="335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4123440" y="3142440"/>
                <a:ext cx="1195920" cy="334440"/>
                <a:chOff x="4123440" y="3142440"/>
                <a:chExt cx="1195920" cy="3344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200840" y="314244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0          67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123440" y="314244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319720" y="3142440"/>
                <a:ext cx="1195920" cy="334440"/>
                <a:chOff x="5319720" y="3142440"/>
                <a:chExt cx="1195920" cy="3344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397480" y="314244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4            5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319720" y="314244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516000" y="3142440"/>
                <a:ext cx="1326240" cy="334440"/>
                <a:chOff x="6516000" y="3142440"/>
                <a:chExt cx="1326240" cy="3344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593760" y="3142440"/>
                  <a:ext cx="117072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2           10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516000" y="3142440"/>
                  <a:ext cx="132624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767160" y="3477240"/>
                <a:ext cx="3355920" cy="334440"/>
                <a:chOff x="767160" y="3477240"/>
                <a:chExt cx="3355920" cy="3344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844920" y="3477240"/>
                  <a:ext cx="320040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Threw someth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67160" y="3477240"/>
                  <a:ext cx="335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123440" y="3477240"/>
                <a:ext cx="1195920" cy="334440"/>
                <a:chOff x="4123440" y="3477240"/>
                <a:chExt cx="1195920" cy="3344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200840" y="347724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2          8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123440" y="347724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319720" y="3477240"/>
                <a:ext cx="1195920" cy="334440"/>
                <a:chOff x="5319720" y="3477240"/>
                <a:chExt cx="1195920" cy="3344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397480" y="347724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5            62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319720" y="347724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516000" y="3477240"/>
                <a:ext cx="1326240" cy="334440"/>
                <a:chOff x="6516000" y="3477240"/>
                <a:chExt cx="1326240" cy="3344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593760" y="3477240"/>
                  <a:ext cx="117072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2           10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516000" y="3477240"/>
                  <a:ext cx="132624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67160" y="3811680"/>
                <a:ext cx="3355920" cy="334440"/>
                <a:chOff x="767160" y="3811680"/>
                <a:chExt cx="3355920" cy="3344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844920" y="3811680"/>
                  <a:ext cx="320040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Slapp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67160" y="3811680"/>
                  <a:ext cx="335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123440" y="3811680"/>
                <a:ext cx="1195920" cy="334440"/>
                <a:chOff x="4123440" y="3811680"/>
                <a:chExt cx="1195920" cy="3344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200840" y="381168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2          8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123440" y="381168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5319720" y="3811680"/>
                <a:ext cx="1195920" cy="334440"/>
                <a:chOff x="5319720" y="3811680"/>
                <a:chExt cx="1195920" cy="3344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397480" y="381168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7            87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319720" y="381168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516000" y="3811680"/>
                <a:ext cx="1326240" cy="334440"/>
                <a:chOff x="6516000" y="3811680"/>
                <a:chExt cx="1326240" cy="3344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6593760" y="3811680"/>
                  <a:ext cx="117072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2           10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516000" y="3811680"/>
                  <a:ext cx="132624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767160" y="4146120"/>
                <a:ext cx="3355920" cy="334440"/>
                <a:chOff x="767160" y="4146120"/>
                <a:chExt cx="3355920" cy="3344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844920" y="4146120"/>
                  <a:ext cx="320040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Kicked, bit or hi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67160" y="4146120"/>
                  <a:ext cx="335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123440" y="4146120"/>
                <a:ext cx="1195920" cy="334440"/>
                <a:chOff x="4123440" y="4146120"/>
                <a:chExt cx="1195920" cy="3344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200840" y="414612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4          9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123440" y="414612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319720" y="4146120"/>
                <a:ext cx="1195920" cy="334440"/>
                <a:chOff x="5319720" y="4146120"/>
                <a:chExt cx="1195920" cy="3344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397480" y="414612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6            75%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319720" y="414612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516000" y="4146120"/>
                <a:ext cx="1326240" cy="334440"/>
                <a:chOff x="6516000" y="4146120"/>
                <a:chExt cx="1326240" cy="3344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593760" y="4146120"/>
                  <a:ext cx="117072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2           10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16000" y="4146120"/>
                  <a:ext cx="132624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767160" y="4480920"/>
                <a:ext cx="3355920" cy="334440"/>
                <a:chOff x="767160" y="4480920"/>
                <a:chExt cx="3355920" cy="3344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844920" y="4480920"/>
                  <a:ext cx="320040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Hit with someth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67160" y="4480920"/>
                  <a:ext cx="335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123440" y="4480920"/>
                <a:ext cx="1195920" cy="334440"/>
                <a:chOff x="4123440" y="4480920"/>
                <a:chExt cx="1195920" cy="3344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200840" y="448092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4          9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123440" y="448092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319720" y="4480920"/>
                <a:ext cx="1195920" cy="334440"/>
                <a:chOff x="5319720" y="4480920"/>
                <a:chExt cx="1195920" cy="3344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397480" y="448092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5            62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319720" y="448092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516000" y="4480920"/>
                <a:ext cx="1326240" cy="334440"/>
                <a:chOff x="6516000" y="4480920"/>
                <a:chExt cx="1326240" cy="3344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593760" y="4480920"/>
                  <a:ext cx="117072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2           10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516000" y="4480920"/>
                  <a:ext cx="132624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767160" y="4815360"/>
                <a:ext cx="3355920" cy="334440"/>
                <a:chOff x="767160" y="4815360"/>
                <a:chExt cx="3355920" cy="3344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844920" y="4815360"/>
                  <a:ext cx="320040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Beat u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67160" y="4815360"/>
                  <a:ext cx="335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4123440" y="4815360"/>
                <a:ext cx="1195920" cy="334440"/>
                <a:chOff x="4123440" y="4815360"/>
                <a:chExt cx="1195920" cy="3344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200840" y="481536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1          7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23440" y="481536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319720" y="4815360"/>
                <a:ext cx="1195920" cy="334440"/>
                <a:chOff x="5319720" y="4815360"/>
                <a:chExt cx="1195920" cy="3344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397480" y="481536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5            62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319720" y="481536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6516000" y="4815360"/>
                <a:ext cx="1326240" cy="334440"/>
                <a:chOff x="6516000" y="4815360"/>
                <a:chExt cx="1326240" cy="3344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6593760" y="4815360"/>
                  <a:ext cx="117072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2           10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516000" y="4815360"/>
                  <a:ext cx="132624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767160" y="5149800"/>
                <a:ext cx="3355920" cy="334440"/>
                <a:chOff x="767160" y="5149800"/>
                <a:chExt cx="3355920" cy="3344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844920" y="5149800"/>
                  <a:ext cx="320040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Chok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67160" y="5149800"/>
                  <a:ext cx="335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23440" y="5149800"/>
                <a:ext cx="1195920" cy="334440"/>
                <a:chOff x="4123440" y="5149800"/>
                <a:chExt cx="1195920" cy="3344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200840" y="514980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3          87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123440" y="514980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319720" y="5149800"/>
                <a:ext cx="1195920" cy="334440"/>
                <a:chOff x="5319720" y="5149800"/>
                <a:chExt cx="1195920" cy="3344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397480" y="514980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5            62%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319720" y="514980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516000" y="5149800"/>
                <a:ext cx="1326240" cy="334440"/>
                <a:chOff x="6516000" y="5149800"/>
                <a:chExt cx="1326240" cy="3344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593760" y="5149800"/>
                  <a:ext cx="117072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2           10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516000" y="5149800"/>
                  <a:ext cx="132624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67160" y="5484240"/>
                <a:ext cx="3355920" cy="334440"/>
                <a:chOff x="767160" y="5484240"/>
                <a:chExt cx="3355920" cy="3344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844920" y="5484240"/>
                  <a:ext cx="320040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Used or threatened with a gun or knif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67160" y="5484240"/>
                  <a:ext cx="335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123440" y="5484240"/>
                <a:ext cx="1195920" cy="334440"/>
                <a:chOff x="4123440" y="5484240"/>
                <a:chExt cx="1195920" cy="3344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200840" y="548424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3          87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123440" y="548424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319720" y="5484240"/>
                <a:ext cx="1195920" cy="334440"/>
                <a:chOff x="5319720" y="5484240"/>
                <a:chExt cx="1195920" cy="3344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397480" y="548424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6           75%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319720" y="548424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6516000" y="5484240"/>
                <a:ext cx="1326240" cy="334440"/>
                <a:chOff x="6516000" y="5484240"/>
                <a:chExt cx="1326240" cy="3344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6593760" y="5484240"/>
                  <a:ext cx="117072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2           10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516000" y="5484240"/>
                  <a:ext cx="132624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767160" y="5819040"/>
                <a:ext cx="3355920" cy="334440"/>
                <a:chOff x="767160" y="5819040"/>
                <a:chExt cx="3355920" cy="3344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844920" y="5819040"/>
                  <a:ext cx="320040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Oth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67160" y="5819040"/>
                  <a:ext cx="335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4123440" y="5819040"/>
                <a:ext cx="1195920" cy="334440"/>
                <a:chOff x="4123440" y="5819040"/>
                <a:chExt cx="1195920" cy="3344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200840" y="581904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9            6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123440" y="581904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319720" y="5819040"/>
                <a:ext cx="1195920" cy="334440"/>
                <a:chOff x="5319720" y="5819040"/>
                <a:chExt cx="1195920" cy="3344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5397480" y="5819040"/>
                  <a:ext cx="104076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5           62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19720" y="5819040"/>
                  <a:ext cx="119592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6516000" y="5819040"/>
                <a:ext cx="1326240" cy="334440"/>
                <a:chOff x="6516000" y="5819040"/>
                <a:chExt cx="1326240" cy="3344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6593760" y="5819040"/>
                  <a:ext cx="1170720" cy="3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2           10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516000" y="5819040"/>
                  <a:ext cx="1326240" cy="33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2" name=""/>
            <p:cNvSpPr/>
            <p:nvPr/>
          </p:nvSpPr>
          <p:spPr>
            <a:xfrm>
              <a:off x="762120" y="1828800"/>
              <a:ext cx="7086240" cy="432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Types of sexual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990720" y="1905120"/>
            <a:ext cx="7467120" cy="3879720"/>
            <a:chOff x="990720" y="1905120"/>
            <a:chExt cx="7467120" cy="3879720"/>
          </a:xfrm>
        </p:grpSpPr>
        <p:grpSp>
          <p:nvGrpSpPr>
            <p:cNvPr id="205" name=""/>
            <p:cNvGrpSpPr/>
            <p:nvPr/>
          </p:nvGrpSpPr>
          <p:grpSpPr>
            <a:xfrm>
              <a:off x="996120" y="1908720"/>
              <a:ext cx="7455240" cy="3871440"/>
              <a:chOff x="996120" y="1908720"/>
              <a:chExt cx="7455240" cy="387144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996120" y="1908720"/>
                <a:ext cx="3535920" cy="938520"/>
                <a:chOff x="996120" y="1908720"/>
                <a:chExt cx="3535920" cy="938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077840" y="1908720"/>
                  <a:ext cx="337176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Type of violen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996120" y="1908720"/>
                  <a:ext cx="35359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532400" y="1908720"/>
                <a:ext cx="1260000" cy="938520"/>
                <a:chOff x="4532400" y="1908720"/>
                <a:chExt cx="1260000" cy="93852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613760" y="1908720"/>
                  <a:ext cx="109656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VAW Surveys (15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532400" y="1908720"/>
                  <a:ext cx="126000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793120" y="1908720"/>
                <a:ext cx="1260000" cy="938520"/>
                <a:chOff x="5793120" y="1908720"/>
                <a:chExt cx="1260000" cy="9385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874840" y="1908720"/>
                  <a:ext cx="109656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Victimisation Surveys (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793120" y="1908720"/>
                  <a:ext cx="126000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7053840" y="1908720"/>
                <a:ext cx="1397520" cy="938520"/>
                <a:chOff x="7053840" y="1908720"/>
                <a:chExt cx="1397520" cy="9385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7135560" y="1908720"/>
                  <a:ext cx="123336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Other (2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053840" y="1908720"/>
                  <a:ext cx="13975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996120" y="2847240"/>
                <a:ext cx="3535920" cy="526680"/>
                <a:chOff x="996120" y="2847240"/>
                <a:chExt cx="3535920" cy="5266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077840" y="2847240"/>
                  <a:ext cx="33717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i-FI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Sexual violen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996120" y="2847240"/>
                  <a:ext cx="35359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4532400" y="2847240"/>
                <a:ext cx="1260000" cy="526680"/>
                <a:chOff x="4532400" y="2847240"/>
                <a:chExt cx="1260000" cy="5266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4613760" y="2847240"/>
                  <a:ext cx="10965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N            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532400" y="2847240"/>
                  <a:ext cx="12600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793120" y="2847240"/>
                <a:ext cx="1260000" cy="526680"/>
                <a:chOff x="5793120" y="2847240"/>
                <a:chExt cx="1260000" cy="5266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874840" y="2847240"/>
                  <a:ext cx="10965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N            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93120" y="2847240"/>
                  <a:ext cx="12600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7053840" y="2847240"/>
                <a:ext cx="1397520" cy="526680"/>
                <a:chOff x="7053840" y="2847240"/>
                <a:chExt cx="1397520" cy="5266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7135560" y="2847240"/>
                  <a:ext cx="12333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N            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053840" y="2847240"/>
                  <a:ext cx="1397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996120" y="3374280"/>
                <a:ext cx="3535920" cy="601560"/>
                <a:chOff x="996120" y="3374280"/>
                <a:chExt cx="3535920" cy="6015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1077840" y="3374280"/>
                  <a:ext cx="33717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Physically forced to have sexual intercourse when she did not want to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996120" y="3374280"/>
                  <a:ext cx="353592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4532400" y="3374280"/>
                <a:ext cx="1260000" cy="601560"/>
                <a:chOff x="4532400" y="3374280"/>
                <a:chExt cx="1260000" cy="6015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613760" y="3374280"/>
                  <a:ext cx="1096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4          93%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532400" y="3374280"/>
                  <a:ext cx="126000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5793120" y="3374280"/>
                <a:ext cx="1260000" cy="601560"/>
                <a:chOff x="5793120" y="3374280"/>
                <a:chExt cx="1260000" cy="6015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5874840" y="3374280"/>
                  <a:ext cx="1096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8          10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793120" y="3374280"/>
                  <a:ext cx="126000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7053840" y="3374280"/>
                <a:ext cx="1397520" cy="601560"/>
                <a:chOff x="7053840" y="3374280"/>
                <a:chExt cx="1397520" cy="6015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7135560" y="3374280"/>
                  <a:ext cx="12333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          5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053840" y="3374280"/>
                  <a:ext cx="139752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996120" y="3975840"/>
                <a:ext cx="3535920" cy="601200"/>
                <a:chOff x="996120" y="3975840"/>
                <a:chExt cx="3535920" cy="6012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077840" y="3975840"/>
                  <a:ext cx="337176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Had sexual intercourse when she did want to but she was afraid of what partner might 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996120" y="3975840"/>
                  <a:ext cx="353592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532400" y="3975840"/>
                <a:ext cx="1260000" cy="601200"/>
                <a:chOff x="4532400" y="3975840"/>
                <a:chExt cx="1260000" cy="6012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613760" y="3975840"/>
                  <a:ext cx="109656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4            27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532400" y="3975840"/>
                  <a:ext cx="12600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793120" y="3975840"/>
                <a:ext cx="1260000" cy="601200"/>
                <a:chOff x="5793120" y="3975840"/>
                <a:chExt cx="1260000" cy="6012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874840" y="3975840"/>
                  <a:ext cx="109656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5            62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793120" y="3975840"/>
                  <a:ext cx="12600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053840" y="3975840"/>
                <a:ext cx="1397520" cy="601200"/>
                <a:chOff x="7053840" y="3975840"/>
                <a:chExt cx="1397520" cy="6012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35560" y="3975840"/>
                  <a:ext cx="123336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053840" y="3975840"/>
                  <a:ext cx="139752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996120" y="4577400"/>
                <a:ext cx="3535920" cy="601560"/>
                <a:chOff x="996120" y="4577400"/>
                <a:chExt cx="3535920" cy="6015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077840" y="4577400"/>
                  <a:ext cx="33717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Was forced to do something sexual that she found degrading or humiliat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996120" y="4577400"/>
                  <a:ext cx="353592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4532400" y="4577400"/>
                <a:ext cx="1260000" cy="601560"/>
                <a:chOff x="4532400" y="4577400"/>
                <a:chExt cx="1260000" cy="6015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613760" y="4577400"/>
                  <a:ext cx="1096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0          67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532400" y="4577400"/>
                  <a:ext cx="126000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5793120" y="4577400"/>
                <a:ext cx="1260000" cy="601560"/>
                <a:chOff x="5793120" y="4577400"/>
                <a:chExt cx="1260000" cy="6015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5874840" y="4577400"/>
                  <a:ext cx="1096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2            25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793120" y="4577400"/>
                  <a:ext cx="126000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7053840" y="4577400"/>
                <a:ext cx="1397520" cy="601560"/>
                <a:chOff x="7053840" y="4577400"/>
                <a:chExt cx="1397520" cy="6015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7135560" y="4577400"/>
                  <a:ext cx="12333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1          5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053840" y="4577400"/>
                  <a:ext cx="139752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996120" y="5178960"/>
                <a:ext cx="3535920" cy="601200"/>
                <a:chOff x="996120" y="5178960"/>
                <a:chExt cx="3535920" cy="6012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077840" y="5178960"/>
                  <a:ext cx="337176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Other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(of which, attempted rap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996120" y="5178960"/>
                  <a:ext cx="353592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532400" y="5178960"/>
                <a:ext cx="1260000" cy="601200"/>
                <a:chOff x="4532400" y="5178960"/>
                <a:chExt cx="1260000" cy="60120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613760" y="5178960"/>
                  <a:ext cx="109656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9           60%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(4)      (44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32400" y="5178960"/>
                  <a:ext cx="12600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793120" y="5178960"/>
                <a:ext cx="1260000" cy="601200"/>
                <a:chOff x="5793120" y="5178960"/>
                <a:chExt cx="1260000" cy="601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874840" y="5178960"/>
                  <a:ext cx="109656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7          87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(1)      (14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793120" y="5178960"/>
                  <a:ext cx="126000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053840" y="5178960"/>
                <a:ext cx="1397520" cy="601200"/>
                <a:chOff x="7053840" y="5178960"/>
                <a:chExt cx="1397520" cy="6012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35560" y="5178960"/>
                  <a:ext cx="1233360" cy="6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053840" y="5178960"/>
                  <a:ext cx="1397520" cy="6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8" name=""/>
            <p:cNvSpPr/>
            <p:nvPr/>
          </p:nvSpPr>
          <p:spPr>
            <a:xfrm>
              <a:off x="990720" y="1905120"/>
              <a:ext cx="7467120" cy="3879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20:33:12Z</dcterms:created>
  <dc:creator>Sami Nevala</dc:creator>
  <dc:description/>
  <dc:language>en-US</dc:language>
  <cp:lastModifiedBy>onu</cp:lastModifiedBy>
  <dcterms:modified xsi:type="dcterms:W3CDTF">2006-09-11T09:20:13Z</dcterms:modified>
  <cp:revision>13</cp:revision>
  <dc:subject/>
  <dc:title>Report of the UNECE Task Force on measuring violence against women</dc:title>
</cp:coreProperties>
</file>