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611-3B5E-4ABD-837F-6ACF0417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86D-4EC8-4168-BFED-19499F74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E65-1978-45B4-87F1-C62A5478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364-B4B7-4DBC-8C44-B6450084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9B82-43BC-41FA-92EA-605409E4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D45E-DDC3-433E-BA59-3F26D6D5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6A5C-3203-44DF-A891-0C1BA02F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BFD9-3C9D-4317-8C9D-7EE1ADD9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610F-DB50-43E3-9E2C-66D676B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4372-2233-4ADE-B1B1-980404E7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6755-C5B3-4E49-8D9C-5DA5C596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9F0-D94F-486F-BF30-0D662480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B149-2FE2-4CA4-86D5-F112890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7795-496B-40D9-8E61-4B2D4BED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951D-4B05-4EAE-B510-5106EE7E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2B5E-70C8-44A7-9A06-E34B914E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23FF-23F0-4859-8892-EEB10A47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BEE-9DD8-4B83-8AD6-FBD5F154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22F-1156-4B04-83F1-E81EDCA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91F-3937-4606-96E3-512A2D98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066-89BA-4335-AE84-970B90B5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0CC-8400-4C72-9995-4BD9504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4FA-2EC5-4A22-8325-B3F542EB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ACF-E33C-49BE-BDA0-25DBB700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2409-6200-4B45-B1E3-CF29683A2E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17CB-8101-43ED-98FB-497CD0B232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63520" y="2666160"/>
            <a:ext cx="695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Verdana"/>
              </a:rPr>
              <a:t>Gender Sensitization Trai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Verdana"/>
              </a:rPr>
              <a:t>as a Process in Serb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2120" y="1905120"/>
            <a:ext cx="8076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Council for gender equality (CGE)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Statistical Office of the Republic of Serb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are recently conducting survey ca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Verdana"/>
              </a:rPr>
              <a:t>Users satisfaction on gende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CGE is in the process of the adoption of the </a:t>
            </a:r>
            <a:r>
              <a:rPr b="1" lang="en-GB" sz="2800" spc="-1" strike="noStrike">
                <a:solidFill>
                  <a:srgbClr val="9a0000"/>
                </a:solidFill>
                <a:latin typeface="Verdana"/>
              </a:rPr>
              <a:t>National plan of action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9a0000"/>
                </a:solidFill>
                <a:latin typeface="Verdana"/>
              </a:rPr>
              <a:t>for gender equality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2007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2120" y="190512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90512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922400"/>
            <a:ext cx="792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UNICEF &amp; SORS, Serbia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Verdana"/>
              </a:rPr>
              <a:t>Multiple Indicators Cluster survey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Preliminary report is in the last phase and the final report will be finished by the end of th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85800" y="246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92240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Verdana"/>
              </a:rPr>
              <a:t>Dev Info 4.0, Serbia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Data base consists of 323 indicators and 91 indicators are presented by ge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85800" y="246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92240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1922400"/>
            <a:ext cx="84582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Verdana"/>
              </a:rPr>
              <a:t>Gender statistics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has its own past, present and the future, and problems about the sources and continuity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The new source for the data of the owner / management by gender is the Serbian Agency for </a:t>
            </a:r>
            <a:r>
              <a:rPr b="0" lang="sr-Latn-CS" sz="2400" spc="-1" strike="noStrike">
                <a:solidFill>
                  <a:srgbClr val="9a0000"/>
                </a:solidFill>
                <a:latin typeface="Verdana"/>
              </a:rPr>
              <a:t>Business Register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Evidence about the violence against the women has to be involved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There is no Time use survey in Serbian statistical system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85800" y="246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92240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92240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Verdana"/>
              </a:rPr>
              <a:t>Gender sensitization training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should not be the particular act but the follow-up of the process useful for representatives of the statistics, governmental or nongovernmental organizations, mass media and university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934320" y="4495680"/>
            <a:ext cx="1887480" cy="1609560"/>
            <a:chOff x="6934320" y="4495680"/>
            <a:chExt cx="1887480" cy="1609560"/>
          </a:xfrm>
        </p:grpSpPr>
        <p:sp>
          <p:nvSpPr>
            <p:cNvPr id="290" name="Puzzle3"/>
            <p:cNvSpPr/>
            <p:nvPr/>
          </p:nvSpPr>
          <p:spPr>
            <a:xfrm>
              <a:off x="7853400" y="4495680"/>
              <a:ext cx="741240" cy="855720"/>
            </a:xfrm>
            <a:prstGeom prst="pie">
              <a:avLst/>
            </a:prstGeom>
            <a:solidFill>
              <a:srgbClr val="9a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Puzzle2"/>
            <p:cNvSpPr/>
            <p:nvPr/>
          </p:nvSpPr>
          <p:spPr>
            <a:xfrm>
              <a:off x="7637400" y="5119560"/>
              <a:ext cx="1184400" cy="777960"/>
            </a:xfrm>
            <a:prstGeom prst="pie">
              <a:avLst/>
            </a:prstGeom>
            <a:solidFill>
              <a:srgbClr val="9a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Puzzle4"/>
            <p:cNvSpPr/>
            <p:nvPr/>
          </p:nvSpPr>
          <p:spPr>
            <a:xfrm>
              <a:off x="7178760" y="5109840"/>
              <a:ext cx="714240" cy="995400"/>
            </a:xfrm>
            <a:prstGeom prst="pie">
              <a:avLst/>
            </a:prstGeom>
            <a:solidFill>
              <a:srgbClr val="9a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Puzzle1"/>
            <p:cNvSpPr/>
            <p:nvPr/>
          </p:nvSpPr>
          <p:spPr>
            <a:xfrm>
              <a:off x="6934320" y="4754520"/>
              <a:ext cx="1198440" cy="593640"/>
            </a:xfrm>
            <a:prstGeom prst="pie">
              <a:avLst/>
            </a:prstGeom>
            <a:solidFill>
              <a:srgbClr val="9a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76212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000"/>
                </a:solidFill>
                <a:latin typeface="Verdana"/>
              </a:rPr>
              <a:t>As a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Statistical Office of the Republic of Ser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lgrade, 5 Milana Rakica 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hone</a:t>
            </a:r>
            <a:r>
              <a:rPr b="0" lang="sr-CS" sz="2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+381 11 2412 9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ax</a:t>
            </a:r>
            <a:r>
              <a:rPr b="0" lang="sr-CS" sz="2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+381 11 411 26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formation phone/fax</a:t>
            </a:r>
            <a:r>
              <a:rPr b="0" lang="sr-CS" sz="2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+381 11 2401 28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library and archives +381 11 2412 922/ext 25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7240" y="1905840"/>
            <a:ext cx="8456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First step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gender sensitization training for 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were made during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Gender workshop in Vien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February 20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and UNECE Work Session 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Gender Statistics in Genev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October 20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1829160"/>
            <a:ext cx="6633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Sources of the gender relate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in stat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Regular annual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LF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H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85800" y="210348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Government of the Republic of Serbia in 2004 establis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Council for gender equality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(C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Task force for the evaluation of the realisation Millennium development goals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(TFERMD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4008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Verdana"/>
              </a:rPr>
              <a:t>www.statserb.sr.gov.yu</a:t>
            </a: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981680" y="17524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6960" y="1860480"/>
            <a:ext cx="4564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a0000"/>
                </a:solidFill>
                <a:latin typeface="Verdana"/>
              </a:rPr>
              <a:t>Women and 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a0000"/>
                </a:solidFill>
                <a:latin typeface="Verdana"/>
              </a:rPr>
              <a:t>in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Gender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was present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Government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Republic of Serb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on 8. March 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a0000"/>
                </a:solidFill>
                <a:latin typeface="Verdana"/>
              </a:rPr>
              <a:t>    </a:t>
            </a:r>
            <a:r>
              <a:rPr b="0" i="1" lang="en-US" sz="2800" spc="-1" strike="noStrike">
                <a:solidFill>
                  <a:srgbClr val="9a0000"/>
                </a:solidFill>
                <a:latin typeface="Verdana"/>
              </a:rPr>
              <a:t>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599840" y="6095880"/>
            <a:ext cx="609480" cy="304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50400" y="1906200"/>
            <a:ext cx="7698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a0000"/>
                </a:solidFill>
                <a:latin typeface="Verdana"/>
              </a:rPr>
              <a:t>Gender publication consists of eight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1.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Gener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2.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3.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4.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5.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Social Welf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6.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7.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Employment and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8.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62120" y="2057400"/>
            <a:ext cx="79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9051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a0000"/>
                </a:solidFill>
                <a:latin typeface="Verdana"/>
              </a:rPr>
              <a:t>During the same year it has been publis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a0000"/>
                </a:solidFill>
                <a:latin typeface="Verdana"/>
              </a:rPr>
              <a:t>Women and Men in Belgrade</a:t>
            </a:r>
            <a:r>
              <a:rPr b="0" i="1" lang="en-US" sz="2800" spc="-1" strike="noStrike">
                <a:solidFill>
                  <a:srgbClr val="9a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a0000"/>
                </a:solidFill>
                <a:latin typeface="Verdana"/>
              </a:rPr>
              <a:t>with the similar concept of publication and des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5800" y="1905120"/>
            <a:ext cx="794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Serbian National MDG report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2005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The third MDG goal – 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To 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Women and men in Serbia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most frequently mentioned source of the data in the nation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400800"/>
            <a:ext cx="62485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6400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0000"/>
                </a:solidFill>
                <a:latin typeface="Verdana"/>
              </a:rPr>
              <a:t>www.statserb.sr.gov.yu                           pub@statserb.sr.gov.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" y="6705720"/>
            <a:ext cx="6248520" cy="144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74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2013120"/>
            <a:ext cx="8305920" cy="40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a0000"/>
                </a:solidFill>
                <a:latin typeface="Verdana"/>
              </a:rPr>
              <a:t>Nationalisation of the MDG in Serbia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Five working groups were establis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Gender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000"/>
                </a:solidFill>
                <a:latin typeface="Verdana"/>
              </a:rPr>
              <a:t>Poverty reduction and the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   </a:t>
            </a:r>
            <a:r>
              <a:rPr b="0" lang="en-GB" sz="2800" spc="-1" strike="noStrike">
                <a:solidFill>
                  <a:srgbClr val="9a0000"/>
                </a:solidFill>
                <a:latin typeface="Verdana"/>
              </a:rPr>
              <a:t>In the each group is the representative of the 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9:06:05Z</dcterms:created>
  <dc:creator>KORISNIK</dc:creator>
  <dc:description/>
  <dc:language>en-US</dc:language>
  <cp:lastModifiedBy>c35dd01</cp:lastModifiedBy>
  <dcterms:modified xsi:type="dcterms:W3CDTF">2006-09-08T14:06:01Z</dcterms:modified>
  <cp:revision>35</cp:revision>
  <dc:subject/>
  <dc:title>PowerPoint Presentation</dc:title>
</cp:coreProperties>
</file>