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4B08415-EEAF-417D-B307-9636A3EE0AF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UNECElogoDarkBlue200px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UNECElogoDarkBlue200px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UNECElogoDarkBlue200px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UNECElogoDarkBlue200px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h/webhp?hl=d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ments and Reflection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3505320"/>
            <a:ext cx="71042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Topics at the UNECE Work Session on Gender Statistic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va 11-13.9.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teri Baer, Regional Adviser, UNE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em 5 – Dissemination, Marketing and Use of Gender Statistic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.9.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ore work has to be done on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user and custom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difference service concepts for different us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good services reflecting these servic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odern possibilities of visualisation, GIS and customizing the numer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9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 accessibility  in an easy, understandable and user friendly way for all identified categorie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proactive information to existing and potential users about the existence of your gender services &amp; how to get them - efficiently and systema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ub-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sh to have broad and frequent use of statistical information on gender issu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have to do all the things mentioned above and probably even something mo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 you will have development costs and you will have to consider these development costs as an investment for having good or excellent servi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o take care of including dissemination costs into your budget and/or push your dissemination division with activ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o develop efficient service concepts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ay not be all that easy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 the jungle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981080"/>
          <a:ext cx="79250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9250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y segment customers?</a:t>
            </a:r>
            <a:br>
              <a:rPr sz="32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houldn’t we serve everybody equal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stomer segments have different need structures of statistical inform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benefits from developing the services and increased service ability according to institutional need structur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dministratio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ions and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4080" y="5257800"/>
            <a:ext cx="2308320" cy="9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4040" y="4649760"/>
            <a:ext cx="26589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4040" y="3432240"/>
            <a:ext cx="2954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5880" y="3205080"/>
            <a:ext cx="2658960" cy="9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5720" y="4573440"/>
            <a:ext cx="26607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5720" y="1911240"/>
            <a:ext cx="2589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4040" y="1911240"/>
            <a:ext cx="2658960" cy="90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5160" y="685800"/>
            <a:ext cx="175896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05160" y="762120"/>
            <a:ext cx="17589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logue with customer and analys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customer behavio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76840" y="1903320"/>
            <a:ext cx="232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72520" y="2146320"/>
            <a:ext cx="243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 and forthcom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81880" y="2390760"/>
            <a:ext cx="21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of th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63720" y="3500280"/>
            <a:ext cx="235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40320" y="3745080"/>
            <a:ext cx="29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ervice profile to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9880" y="4565520"/>
            <a:ext cx="2588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 of the custom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840" y="4808520"/>
            <a:ext cx="2227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 grows fo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9560" y="5052960"/>
            <a:ext cx="124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" y="3195720"/>
            <a:ext cx="255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ngness of both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7560" y="3440160"/>
            <a:ext cx="1890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vest both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280" y="3684600"/>
            <a:ext cx="249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oney in buil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4040" y="3927600"/>
            <a:ext cx="2116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" y="1903320"/>
            <a:ext cx="264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 of customer loyal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5760" y="2146320"/>
            <a:ext cx="233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consolid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2390760"/>
            <a:ext cx="217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relationsh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7120" y="26352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2600" y="137304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7160" y="1711440"/>
            <a:ext cx="112680" cy="19512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0"/>
                </a:moveTo>
                <a:lnTo>
                  <a:pt x="38" y="15"/>
                </a:lnTo>
                <a:lnTo>
                  <a:pt x="76" y="0"/>
                </a:lnTo>
                <a:lnTo>
                  <a:pt x="38" y="12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289404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7160" y="3157560"/>
            <a:ext cx="112680" cy="193680"/>
          </a:xfrm>
          <a:custGeom>
            <a:avLst/>
            <a:gdLst/>
            <a:ahLst/>
            <a:rect l="l" t="t" r="r" b="b"/>
            <a:pathLst>
              <a:path w="77" h="122">
                <a:moveTo>
                  <a:pt x="0" y="0"/>
                </a:moveTo>
                <a:lnTo>
                  <a:pt x="38" y="15"/>
                </a:lnTo>
                <a:lnTo>
                  <a:pt x="76" y="0"/>
                </a:lnTo>
                <a:lnTo>
                  <a:pt x="38" y="12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62600" y="4186080"/>
            <a:ext cx="0" cy="3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7160" y="4449600"/>
            <a:ext cx="112680" cy="195480"/>
          </a:xfrm>
          <a:custGeom>
            <a:avLst/>
            <a:gdLst/>
            <a:ahLst/>
            <a:rect l="l" t="t" r="r" b="b"/>
            <a:pathLst>
              <a:path w="77" h="123">
                <a:moveTo>
                  <a:pt x="0" y="0"/>
                </a:moveTo>
                <a:lnTo>
                  <a:pt x="38" y="15"/>
                </a:lnTo>
                <a:lnTo>
                  <a:pt x="76" y="0"/>
                </a:lnTo>
                <a:lnTo>
                  <a:pt x="38" y="12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59120" y="586116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27720" y="5800680"/>
            <a:ext cx="18108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122" y="0"/>
                </a:moveTo>
                <a:lnTo>
                  <a:pt x="107" y="38"/>
                </a:lnTo>
                <a:lnTo>
                  <a:pt x="122" y="75"/>
                </a:lnTo>
                <a:lnTo>
                  <a:pt x="0" y="38"/>
                </a:lnTo>
                <a:lnTo>
                  <a:pt x="12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2600" y="540396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33680" y="1447920"/>
            <a:ext cx="141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0240" y="1389240"/>
            <a:ext cx="18108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33680" y="2885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77880" y="2741760"/>
            <a:ext cx="112680" cy="195120"/>
          </a:xfrm>
          <a:custGeom>
            <a:avLst/>
            <a:gdLst/>
            <a:ahLst/>
            <a:rect l="l" t="t" r="r" b="b"/>
            <a:pathLst>
              <a:path w="77" h="123">
                <a:moveTo>
                  <a:pt x="76" y="122"/>
                </a:moveTo>
                <a:lnTo>
                  <a:pt x="38" y="107"/>
                </a:lnTo>
                <a:lnTo>
                  <a:pt x="0" y="122"/>
                </a:lnTo>
                <a:lnTo>
                  <a:pt x="38" y="0"/>
                </a:lnTo>
                <a:lnTo>
                  <a:pt x="76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433080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77880" y="4186080"/>
            <a:ext cx="112680" cy="195480"/>
          </a:xfrm>
          <a:custGeom>
            <a:avLst/>
            <a:gdLst/>
            <a:ahLst/>
            <a:rect l="l" t="t" r="r" b="b"/>
            <a:pathLst>
              <a:path w="77" h="123">
                <a:moveTo>
                  <a:pt x="76" y="122"/>
                </a:moveTo>
                <a:lnTo>
                  <a:pt x="38" y="107"/>
                </a:lnTo>
                <a:lnTo>
                  <a:pt x="0" y="122"/>
                </a:lnTo>
                <a:lnTo>
                  <a:pt x="38" y="0"/>
                </a:lnTo>
                <a:lnTo>
                  <a:pt x="76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33320" y="5861160"/>
            <a:ext cx="14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33680" y="547056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7880" y="5327640"/>
            <a:ext cx="112680" cy="195120"/>
          </a:xfrm>
          <a:custGeom>
            <a:avLst/>
            <a:gdLst/>
            <a:ahLst/>
            <a:rect l="l" t="t" r="r" b="b"/>
            <a:pathLst>
              <a:path w="77" h="123">
                <a:moveTo>
                  <a:pt x="76" y="122"/>
                </a:moveTo>
                <a:lnTo>
                  <a:pt x="38" y="107"/>
                </a:lnTo>
                <a:lnTo>
                  <a:pt x="0" y="122"/>
                </a:lnTo>
                <a:lnTo>
                  <a:pt x="38" y="0"/>
                </a:lnTo>
                <a:lnTo>
                  <a:pt x="76" y="1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6240" y="4718160"/>
            <a:ext cx="277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ctivities responding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06120" y="4960800"/>
            <a:ext cx="2024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customer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6600" y="5257800"/>
            <a:ext cx="2464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custome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cting and a declin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contacts made in v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33680" y="1447920"/>
            <a:ext cx="0" cy="46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937040" y="13730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05160" y="2209680"/>
            <a:ext cx="2040120" cy="281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05160" y="3505320"/>
            <a:ext cx="2040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35320" y="3352680"/>
            <a:ext cx="174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LEARNING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       CUSTOMER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  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demanding customer is like a grain of sand within the mussel.  It doesn’t feel good but the result may be a beautiful pearl!”</a:t>
            </a:r>
            <a:br>
              <a:rPr sz="3200"/>
            </a:br>
            <a:br>
              <a:rPr sz="32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urtesy to Jarmo Lehtinen, Finnish CRM 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sukel_pehm" descr=""/>
          <p:cNvPicPr/>
          <p:nvPr/>
        </p:nvPicPr>
        <p:blipFill>
          <a:blip r:embed="rId1"/>
          <a:stretch/>
        </p:blipFill>
        <p:spPr>
          <a:xfrm>
            <a:off x="492120" y="2211480"/>
            <a:ext cx="4010040" cy="3632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And remember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870440" y="1600200"/>
            <a:ext cx="412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nly used statistical information is useful statistical inform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nk you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teri.baer@une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sukel_pehm" descr=""/>
          <p:cNvPicPr/>
          <p:nvPr/>
        </p:nvPicPr>
        <p:blipFill>
          <a:blip r:embed="rId1"/>
          <a:stretch/>
        </p:blipFill>
        <p:spPr>
          <a:xfrm>
            <a:off x="492120" y="2211480"/>
            <a:ext cx="4010040" cy="36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inviting me as discus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emination as an item – good ch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d statistical information is useful statistical infor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presented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upporting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interesting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Summary impre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senters have accumulated an abundant quantity of materials for advocating the production and dissemination of gende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heard interesting examples of how gender statistics have emerged and developed in specif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heard interesting information about the development of gender oriented databases and portals in specific countries, UNECE, Eurostat and 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However,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much has been presented on real dissemination activities,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elevant target groups for gend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of or results from information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stories or failures from information or marke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systematic management of information on stakeholders, customer groups, customers – mailing lists, customer databases,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cumentation – subjective, for sur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1868400"/>
          <a:ext cx="784836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68400"/>
                    <a:ext cx="784836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188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t happens pretty oft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rs of statistical information are too content with thei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that there is an “automatic” interest 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us do not perceive proactive dissemination being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0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selectalnon" descr=""/>
          <p:cNvPicPr/>
          <p:nvPr/>
        </p:nvPicPr>
        <p:blipFill>
          <a:blip r:embed="rId1"/>
          <a:stretch/>
        </p:blipFill>
        <p:spPr>
          <a:xfrm>
            <a:off x="533520" y="177012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How do we perceive ourselves? 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How do they perceive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ur servic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know enough about our potential users, our potential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have enough information even on our present u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ccessibility on the internet is only part of the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00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electalnon" descr=""/>
          <p:cNvPicPr/>
          <p:nvPr/>
        </p:nvPicPr>
        <p:blipFill>
          <a:blip r:embed="rId1"/>
          <a:stretch/>
        </p:blipFill>
        <p:spPr>
          <a:xfrm>
            <a:off x="533520" y="177012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arching on Googl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3080" y="1752120"/>
            <a:ext cx="38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al opportun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Million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gebniss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von ungefäh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'900'00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ku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9 Million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gebniss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von ungefäh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29'000'00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fü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Cyc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0.2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eku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or USA “only” 47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or UK “only” 57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or Switzerland “only” 12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sm" descr="Gehe zur Google Home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57680"/>
            <a:ext cx="388440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o – my main comment is: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Go ahead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with developing dissemina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3080" y="2057400"/>
            <a:ext cx="3884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ystematic market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teraction with critical users will br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positive pressure on performing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j0404287" descr=""/>
          <p:cNvPicPr/>
          <p:nvPr/>
        </p:nvPicPr>
        <p:blipFill>
          <a:blip r:embed="rId1"/>
          <a:stretch/>
        </p:blipFill>
        <p:spPr>
          <a:xfrm>
            <a:off x="533520" y="1863720"/>
            <a:ext cx="388440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9.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Baer Petteri</cp:lastModifiedBy>
  <dcterms:modified xsi:type="dcterms:W3CDTF">2006-09-13T07:10:46Z</dcterms:modified>
  <cp:revision>16</cp:revision>
  <dc:subject/>
  <dc:title>Title of the Presentation</dc:title>
</cp:coreProperties>
</file>