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82AA-BDD6-4D23-A540-7ED1C95E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104D-0A66-4179-A1E5-E04B095B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A8F6-039A-4987-8D86-2AD453034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9183-6CD2-458C-B712-9E25F623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A663-11F3-471B-BA71-C4C37DB8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3294-F6CA-4CDE-A828-6EDDFB35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32C9-8DC0-4BFA-872E-9DE7783A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EF90-25A3-4411-89FE-694CCE29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DAB1-6064-47CA-9E48-243D79C6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500A-6473-4507-A806-D6D28F41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2984-934E-4573-8886-B9C9C90E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5807-4258-4280-B520-F917C8B5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D193-3C42-4E9A-9DDF-34811E25A9D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tem 3:</a:t>
            </a: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Violence against women</a:t>
            </a:r>
            <a:br>
              <a:rPr sz="4400"/>
            </a:br>
            <a:br>
              <a:rPr sz="44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scussant: Maria Giuseppina Muratore, I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Which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mbiguous and easy to interp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eaningful and relevant to read reality and to evalute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upported by reliable and robust quantitativ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vailable at regular interv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mpa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main indicators categ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valence, incidence??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ve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ture of action, Frequency, injuries, physical and mental ???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91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Nations: any act of gender based violevce that results …in physical, sexual and mental harm or suffering to women, including threats of such act, coercion or arbitrary, deprivation of lib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estic violence, sexual assault, physical violence, stal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male genital mutilation, forced marriage, dowry deaths, “honour” crim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ich typolog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, sexual and psychological violen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l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only domestic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ich perpetrato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Questions wo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ing attention to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havi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ltiple behaviorally specific ques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otherwise risk of underreporting and misunderstan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More than on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otherwise possible underrepor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tion to cultural  context and local low system, i.e. r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Methodology: pros e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arch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rvey m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 reference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ge of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viewer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otional trauma - safety respon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losure, Data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ing 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95280" y="1280880"/>
            <a:ext cx="8424720" cy="47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mmon attentions and many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evaluation of population survey as a tool for studying vio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 with policy makers, data users, statistical producers in network with courts, police, health and soci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tion to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tion to emotional trauma, awareness of the  sensitiveness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tion to data reli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  of the expert group meeting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 violence against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cus on qualitative and quantitative asp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only domestic viol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single question 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tention to minorit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pulation based-survey; helpful in building awareness and developing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llaboration between data producers an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ance of the chronicity, duration of vio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owards international standards for data collection and statistics on gender against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 interesting way to work on V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ortance to start from indicators as the first step that determines linkage between evidence base and policy 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useful and helpfu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to gain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Garamond"/>
              </a:rPr>
              <a:t>Attention to particular population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Garamond"/>
              </a:rPr>
              <a:t>Confidentiality or rapport: which is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Garamond"/>
              </a:rPr>
              <a:t>The problem of incidence: the number of times seems not an objective measure, more a calculation ex-pos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ssessing the prevalence of violence against women in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91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ional statistical agencies, important leadership role,  high standards quality, high quality data, a political role of network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sem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x methodological and ethical issue (trauma, safety, availability, sensitive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havioural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olence dynamic, reporting, children wi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ule or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lance between information in different fields (violence typologies not covered &lt;&lt; forced prostitution, trafficking&gt;&gt;, violence details, possibility to reach minority groups) and cost and tim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work to reduce non response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ion and training, interviewers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About call back and the offers of suppor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Who Multi-country study on Women’s health and domestic viol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ncept of violence as “norma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olence in women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question to deal with r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violence affects health of women and cost of violence at societ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tion to selection and training: ethical and safety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interesting the analysis of factors risk – could secondary analysis be realized to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rom measuring violence against women to assessing state responses: developing glob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dea of considering not only domestic vio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fficulties in defining seriousness and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nunce of a no interest in sexual harass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ry to think which are the better indicators number to help state in addressing vio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o think in a global way - Relationship between violence study and prevention measures and between violence studies, the victims voice with the police and cour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Results of the analysis carried out by ECE Task force on V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ood attention to the data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statistical agencies are a guaran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erogeneity and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many aspects have to be 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ical asp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attention to interviewers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attitude towards violence be meas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 more than one person in a same household could be a risk for abused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use of monitoring tools for module survey have to be better developed as they are in dedicated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ention to leng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orities for futur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rve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ple and reference popu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8:27:31Z</dcterms:created>
  <dc:creator>Pietro</dc:creator>
  <dc:description/>
  <dc:language>en-US</dc:language>
  <cp:lastModifiedBy>Oyunjargal</cp:lastModifiedBy>
  <dcterms:modified xsi:type="dcterms:W3CDTF">2007-01-05T10:39:27Z</dcterms:modified>
  <cp:revision>21</cp:revision>
  <dc:subject/>
  <dc:title>Item 3: Violence against women</dc:title>
</cp:coreProperties>
</file>