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D19A-082C-4F00-AF44-A0A8BA831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DAC3-26CC-4D94-BC93-25DB71CA1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48CF-6FBB-4911-924E-DAB894125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8439-90FD-4497-B360-80E2DC532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2F36-9AC9-4F71-992A-F384B52A9E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4964-7D8D-48AA-80F1-8026370D34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4F75-6271-4380-BAF1-EE9AC6636C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150E8-F932-49EC-A17F-46439A1086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DBBC-70F4-403F-87AD-6C14C0D8B4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3D5CD-9D00-4350-8A5A-3C7F063528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F6E3-F41F-467E-BF27-464EECF80D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3ACF-6F8A-471B-9859-16F276362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62DA7-14A8-4790-9158-E34BD9C56C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98A6-A512-49F8-8806-C1BC190880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8DCE0-4622-42B2-BD93-3A46B92938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1490A-28AE-4B3F-8958-1BF799317D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2E53-8F00-4879-A751-8FCF6BA10A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D5C6-F1B9-4D36-8CD7-3C762CA98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DF3F-E09D-4B9D-ADF7-9A59DDD71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97DA-E1FA-45EA-90D6-7B22B08E3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88C4-40CE-4BD9-9502-F43FB6DD0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D72A-0568-4C20-8A2F-2745AE257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6702-4CCA-41EB-981A-7278C6962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6AD7-3BAC-43B9-9609-D5BC75FBC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57200" y="6267600"/>
            <a:ext cx="3276720" cy="285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E195-DB78-45BB-94E0-D07BCFBED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7200" y="6267600"/>
            <a:ext cx="3276720" cy="285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72EA-75B5-4B0F-A5DC-CB71D99E17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ual on Gender Sensitization Training for Statistician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ECE Task Force on Gender Sensitization Training for Statistici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 Session on Gender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12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nel on the Gender Sensitization Task Forc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 task force is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gender sensitization of statist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gender sensitize a national statistical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15F9-554F-433B-8C95-0F056442F5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he Task For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004 Work Session, work on gender sensitization of statisticians/national statistical office was proposed as 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the task force on gender sensitization training (early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 of task force to begin work on manual outline (November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B3E3-A28B-426D-9CD8-E05E7F4595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 of the Manual on Gender Sensitization Training for Statistici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atisticians change the national statistical system to improve the gender relevance of the statistics produced and disseminated in a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2C23-6E84-4DD2-8F30-9BA26E7D53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rget Audie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arget was statisticians at national statistical offices at all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target was data users who wanted to influence how NSOs collected, analyzed, and produced gender 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EBCE-065F-4DD1-B7A7-3CB43A7CFB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sk Force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an outline for the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 (Paper 3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gender and what are gender statistics and gend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we need gender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gender sensitize N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x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hop testing ideas/concepts from manual (September 14,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from Work Se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E164-FCE9-49B9-A647-AC06D01AEB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6:08:04Z</dcterms:created>
  <dc:creator>ADNET</dc:creator>
  <dc:description/>
  <dc:language>en-US</dc:language>
  <cp:lastModifiedBy>ONU</cp:lastModifiedBy>
  <dcterms:modified xsi:type="dcterms:W3CDTF">2006-09-12T07:30:53Z</dcterms:modified>
  <cp:revision>79</cp:revision>
  <dc:subject/>
  <dc:title>PowerPoint Presentation</dc:title>
</cp:coreProperties>
</file>