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8D43-4F62-4BF9-8590-9D38CF0BD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C1CB-94C5-497B-A077-C7C9BD8E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970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A2F8-8143-42F1-84A5-133E19DE4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424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00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424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00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5AB1-59B8-41F5-8DD1-BAAD188FF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996E-084B-4591-971B-97F09BDA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DA42-DB91-4FD0-9BC9-AECDABF2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2239-F93B-4547-851C-92D1758E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3644-8FD8-40E5-8029-CA319B64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623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4621-B587-441B-8FA2-5D0B3ED0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B8BD-A0DA-48D9-B096-367A5CFF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970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33F2-92AD-4A28-9BF6-43A8E340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DC82-B4B3-46CA-892B-917B2406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a8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a8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a8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6DA6-2ABA-47F5-8312-C6AFF0E0BD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7631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 Narrow"/>
                <a:ea typeface="Times New Roman"/>
              </a:rPr>
              <a:t>Training Manual on gender sensitize National Statistical System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 Narrow"/>
                <a:ea typeface="Times New Roman"/>
              </a:rPr>
              <a:t>WHY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464832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a8"/>
                </a:solidFill>
                <a:latin typeface="Arial Narrow"/>
              </a:rPr>
              <a:t>UNECE Task Force on Gender Sensitization training for Statisticia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 Narrow"/>
              </a:rPr>
              <a:t>Why Have a Gender Perspective? </a:t>
            </a: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a8"/>
                </a:solidFill>
                <a:latin typeface="Arial Narrow"/>
              </a:rPr>
              <a:t>To better analyze the situation of women and men in the society =&gt;Gives us a better understanding of the society 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a8"/>
                </a:solidFill>
                <a:latin typeface="Arial Narrow"/>
              </a:rPr>
              <a:t>View supported by national and international/regional gender equality and development  requirements (Beijing PoA, MDG, CEDAW) 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a8"/>
                </a:solidFill>
                <a:latin typeface="Arial Narrow"/>
              </a:rPr>
              <a:t>GS can give us the tools to do the gender analysis needed for improved policy formulation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 Narrow"/>
              </a:rPr>
              <a:t>Gender Mainstreaming statistical production</a:t>
            </a: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8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2895480"/>
            <a:ext cx="4724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33720" y="3124080"/>
            <a:ext cx="2438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752480"/>
            <a:ext cx="868680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We need to engender the whole NSS in order to answer more policy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Gender issues should be a concern in </a:t>
            </a:r>
            <a:r>
              <a:rPr b="1" lang="en-US" sz="3200" spc="-1" strike="noStrike" u="sng">
                <a:solidFill>
                  <a:srgbClr val="0000a8"/>
                </a:solidFill>
                <a:uFillTx/>
                <a:latin typeface="Arial Narrow"/>
              </a:rPr>
              <a:t>all </a:t>
            </a: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fields of statistics and not just in social and demographi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Statistical areas as econ., agriculture, leisure and transport also play a role in achieving gender equality and have gender-policy questions that gender-sensitive statistics can ans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 Narrow"/>
              </a:rPr>
              <a:t>Examples Needed</a:t>
            </a: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a8"/>
                </a:solidFill>
                <a:latin typeface="Arial Narrow"/>
              </a:rPr>
              <a:t>Showing: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a8"/>
                </a:solidFill>
                <a:latin typeface="Arial Narrow"/>
              </a:rPr>
              <a:t>Inadequate current status of statistics for gender analyses needed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a8"/>
                </a:solidFill>
                <a:latin typeface="Arial Narrow"/>
              </a:rPr>
              <a:t>Gender blindness gives biased information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a8"/>
                </a:solidFill>
                <a:latin typeface="Arial Narrow"/>
              </a:rPr>
              <a:t>What is gained (‘value added’) by adding gender dimension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a8"/>
                </a:solidFill>
                <a:latin typeface="Arial Narrow"/>
              </a:rPr>
              <a:t>Gap areas and how </a:t>
            </a:r>
            <a:r>
              <a:rPr b="1" i="1" lang="en-GB" sz="2800" spc="-1" strike="noStrike">
                <a:solidFill>
                  <a:srgbClr val="0000a8"/>
                </a:solidFill>
                <a:latin typeface="Arial Narrow"/>
              </a:rPr>
              <a:t>statistics on these areas could change the society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a8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a8"/>
                </a:solidFill>
                <a:latin typeface="Arial Narrow"/>
              </a:rPr>
              <a:t>Time-use statistics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a8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a8"/>
                </a:solidFill>
                <a:latin typeface="Arial Narrow"/>
              </a:rPr>
              <a:t>Statistics on informal work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a8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a8"/>
                </a:solidFill>
                <a:latin typeface="Arial Narrow"/>
              </a:rPr>
              <a:t>Statistics on decision making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a8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a8"/>
                </a:solidFill>
                <a:latin typeface="Arial Narrow"/>
              </a:rPr>
              <a:t>Statistics on violence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a8"/>
                </a:solidFill>
                <a:latin typeface="Arial Narrow"/>
              </a:rPr>
              <a:t>Best practices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 Narrow"/>
              </a:rPr>
              <a:t>Reflections on Proposed Content 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Different ‘Whys’ required for different purposes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‘</a:t>
            </a: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The Converted’ vs. those who need ‘Convincing’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=&gt;Theoretical vs. Practical arguments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‘</a:t>
            </a: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Whys’ framed relevant for different levels of official statisticians, other key stakeholders 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=&gt; gender perspectives improve NSS client responsiveness, expand markets for statistical products, etc.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 Narrow"/>
              </a:rPr>
              <a:t>Your feedback is very important 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b9d23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8"/>
                </a:solidFill>
                <a:latin typeface="Arial Narrow"/>
              </a:rPr>
              <a:t>Content of the Chapter: </a:t>
            </a:r>
            <a:r>
              <a:rPr b="1" lang="en-US" sz="2800" spc="-1" strike="noStrike">
                <a:solidFill>
                  <a:srgbClr val="0000a8"/>
                </a:solidFill>
                <a:latin typeface="Arial Narrow"/>
              </a:rPr>
              <a:t>in particular</a:t>
            </a:r>
            <a:r>
              <a:rPr b="0" lang="en-US" sz="2800" spc="-1" strike="noStrike">
                <a:solidFill>
                  <a:srgbClr val="0000a8"/>
                </a:solidFill>
                <a:latin typeface="Arial Narrow"/>
              </a:rPr>
              <a:t> are we capturing an adequate range of reasons, points to make? 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b9d23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8"/>
                </a:solidFill>
                <a:latin typeface="Arial Narrow"/>
              </a:rPr>
              <a:t>Are we including </a:t>
            </a:r>
            <a:r>
              <a:rPr b="1" lang="en-US" sz="2800" spc="-1" strike="noStrike" u="sng">
                <a:solidFill>
                  <a:srgbClr val="0000a8"/>
                </a:solidFill>
                <a:uFillTx/>
                <a:latin typeface="Arial Narrow"/>
              </a:rPr>
              <a:t>useful</a:t>
            </a:r>
            <a:r>
              <a:rPr b="0" lang="en-US" sz="2800" spc="-1" strike="noStrike">
                <a:solidFill>
                  <a:srgbClr val="0000a8"/>
                </a:solidFill>
                <a:latin typeface="Arial Narrow"/>
              </a:rPr>
              <a:t> arguments/examples </a:t>
            </a:r>
            <a:r>
              <a:rPr b="1" lang="en-US" sz="2800" spc="-1" strike="noStrike" u="sng">
                <a:solidFill>
                  <a:srgbClr val="0000a8"/>
                </a:solidFill>
                <a:uFillTx/>
                <a:latin typeface="Arial Narrow"/>
              </a:rPr>
              <a:t>you</a:t>
            </a:r>
            <a:r>
              <a:rPr b="0" lang="en-US" sz="2800" spc="-1" strike="noStrike">
                <a:solidFill>
                  <a:srgbClr val="0000a8"/>
                </a:solidFill>
                <a:latin typeface="Arial Narrow"/>
              </a:rPr>
              <a:t> might need for gender mainstreaming in your NSS?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b9d23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8"/>
                </a:solidFill>
                <a:latin typeface="Arial Narrow"/>
              </a:rPr>
              <a:t>Examples, examples, examples!!!! 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7T14:08:57Z</dcterms:created>
  <dc:creator>Paolo Valente</dc:creator>
  <dc:description/>
  <dc:language>en-US</dc:language>
  <cp:lastModifiedBy>Curry, John (SDWW)</cp:lastModifiedBy>
  <dcterms:modified xsi:type="dcterms:W3CDTF">2006-09-11T21:51:09Z</dcterms:modified>
  <cp:revision>252</cp:revision>
  <dc:subject/>
  <dc:title> Title here</dc:title>
</cp:coreProperties>
</file>