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C6E-E0AF-4ADA-8D67-61BE505E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95E-4AED-454F-991E-3CEE699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66F-99AF-4F13-AA76-DD084D0A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F05-CC89-45FA-868C-1E72BD5B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ADA-BC65-48A5-B5FD-EA107A7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4CA-16DB-4109-A60D-69615CF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FDA-822A-47BA-B535-A8242196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815-E0B3-4B01-9C2A-B2D1454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04B-F8FC-49A8-89BB-A52BB2EC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233-1828-467B-87E9-4467655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4D7-3C1B-48E0-9C1D-2C146F2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1CC-3CF3-4BE8-8891-029AE48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9D1-CA7A-4216-9F16-B93B6027F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  <a:ea typeface="Times New Roman"/>
              </a:rPr>
              <a:t>Training Manual on gender sensitize National Statistical System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 Narrow"/>
                <a:ea typeface="Times New Roman"/>
              </a:rPr>
              <a:t>HOW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648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a8"/>
                </a:solidFill>
                <a:latin typeface="Arial Narrow"/>
              </a:rPr>
              <a:t>UNECE Task Force on Gender Sensitization training for Statisticia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Purpose 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a8"/>
                </a:solidFill>
                <a:latin typeface="Arial Narrow"/>
              </a:rPr>
              <a:t>To review selected areas in official statistics and describe how they can be made more gender sensitive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Production of statistic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Institutional aspect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Dissemination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Use of gender statistics 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Production of Statistic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Mainstreaming gender into the production of all statistics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All data need to be sex-disaggregated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0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Ex. Business register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Make statistical methodology more gender sensitive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Production of Statistic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Make statistical methodology more gender sensitive: </a:t>
            </a:r>
            <a:r>
              <a:rPr b="1" i="1" lang="en-US" sz="3200" spc="-1" strike="noStrike">
                <a:solidFill>
                  <a:srgbClr val="0000a8"/>
                </a:solidFill>
                <a:latin typeface="Arial Narrow"/>
              </a:rPr>
              <a:t>walking statisticians into the most common sources of </a:t>
            </a:r>
            <a:r>
              <a:rPr b="1" i="1" lang="en-US" sz="3200" spc="-1" strike="noStrike">
                <a:solidFill>
                  <a:srgbClr val="d72d1b"/>
                </a:solidFill>
                <a:latin typeface="Arial Narrow"/>
              </a:rPr>
              <a:t>bias</a:t>
            </a:r>
            <a:r>
              <a:rPr b="0" i="1" lang="en-US" sz="3200" spc="-1" strike="noStrike">
                <a:solidFill>
                  <a:srgbClr val="0000a8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Process: involvement of stakeholder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Questionnaire design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Training of enumerator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Ethical issue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Definitions, classification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Mode of data collection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Production of Statistic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In depth review of selected areas: </a:t>
            </a:r>
            <a:r>
              <a:rPr b="1" i="1" lang="en-US" sz="2800" spc="-1" strike="noStrike">
                <a:solidFill>
                  <a:srgbClr val="0000a8"/>
                </a:solidFill>
                <a:latin typeface="Arial Narrow"/>
              </a:rPr>
              <a:t>concrete examples on how the production of statistics can be changed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Labour statistics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Labour Force Surveys (Reference to Eursotat module)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Informal employment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Agriculture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Gender Pay Gap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Entrepreneurship/business statistics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Violence Against Women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Decision Making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Census (Reference to UNFPA work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Disaggregation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Making it happen: Institutional arrangements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Who has the power to change statistical product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Conditions needed to make NSS more gender sensitiv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Tool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Legal framework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Resources needed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Different organizational structures for gender statistics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Disseminat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Mainstreaming sex into the dissemination of statistics even when other classifications are used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Description of Women and Men publication (reference to existing Manuals)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Accessibility of gender statistic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Presentation of gender statistics  (Reference to existing Manuals)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How to make data from different sources together?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11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How to better present gender differences?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Use of Gender Statistic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Marketing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Examples of how to outreach user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Training programmes on how to use gender statistics for policy making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Your feedback is very important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Content of the Manual: </a:t>
            </a:r>
            <a:r>
              <a:rPr b="1" lang="en-US" sz="2800" spc="-1" strike="noStrike">
                <a:solidFill>
                  <a:srgbClr val="0000a8"/>
                </a:solidFill>
                <a:latin typeface="Arial Narrow"/>
              </a:rPr>
              <a:t>in particular</a:t>
            </a: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the areas chosen for in-depth analysis (Labour statistics, VAW, decision making, census, disaggregation)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Structur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b9d23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Existing material: to understand where we need to focus, no need to present something that has been already presented in other training tool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 </cp:lastModifiedBy>
  <dcterms:modified xsi:type="dcterms:W3CDTF">2006-09-09T17:51:21Z</dcterms:modified>
  <cp:revision>251</cp:revision>
  <dc:subject/>
  <dc:title> Title here</dc:title>
</cp:coreProperties>
</file>