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CCB-919E-42EB-9EF5-228C5F6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223-4894-45B7-938C-ED9EEAB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0AD-36EA-41B8-99F2-3EC6A88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D08-0B94-48F4-BB6D-075EC891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65A-EFC5-4397-BD42-B7969F3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826-FE7D-4EEB-91C7-9CEAA9C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51A-608C-406C-9E70-A9DBCD99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7B5-948C-48B4-B57D-722A78F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26A-917A-43F8-9157-1B40477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3E7-65B9-4043-A2E9-AAB67F8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C4C-AA2E-4C4D-B3A8-5DC0014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99F-0764-488D-9B2C-74D3DED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514-9C31-40B8-80BB-3F5544430A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-ordination Action on Human Rights Violations (CAHRV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ordinator: Univ.of Osnabrück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22 partners fro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1484280"/>
            <a:ext cx="4572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ersonal violence = challenge to democracy and soci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violence needs to be extended to all vulnerabl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terred victimization detracts from other basic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typifies fragmentation in addressing human rights vio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:  CAHRV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methods to account for and overcome fragmentation in research, policy an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research across gender and generational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research on violence with issues of citizenship and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when policies and interventions are effective and how context affects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jec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ur sub-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1: Identifying and profiling vict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2: The roots of interpersonal violence: gendered practices, social exclusion and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3: Addressing gender-based human rights vio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4: Protective environmental factors securing huma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jor 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1: survey quantitative data sets, inspect instruments and design integrated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2: develop shared methodological framework for comparativ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3: create research synoposis to assist in evaluating interventions and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N 4: map research and build web-based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23:37Z</dcterms:created>
  <dc:creator>Hagemann-White</dc:creator>
  <dc:description/>
  <dc:language>en-US</dc:language>
  <cp:lastModifiedBy>ONU</cp:lastModifiedBy>
  <dcterms:modified xsi:type="dcterms:W3CDTF">2006-09-11T11:03:01Z</dcterms:modified>
  <cp:revision>2</cp:revision>
  <dc:subject/>
  <dc:title> Co-ordination Action on Human Rights Violations (CAHRV) </dc:title>
</cp:coreProperties>
</file>