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C0E-B4F4-47EE-A5E6-897210A2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534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A3E-C907-479E-89DC-973D72EF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C3D-F34C-4239-AD28-F315B84C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D79-B555-48F3-98CA-4BD8F354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3633-B28F-43D6-8B8D-5EF7DFF5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5F53-404B-4F30-A994-2AB46BB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DF9-68ED-49F5-BF64-1C4E9F57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9752-E11E-4C50-B8AC-5320C67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AF18-1931-49B1-A115-F7B37170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5C1B-E896-4381-8012-3580349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981-0CFA-4290-90EC-5E39C8E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21B-C42D-4763-9644-D863A8B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819-470E-4CBF-8AC9-FE5083F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7BE9-A28C-4488-84EB-62F29EFE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2534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1FC-6524-4759-B986-26B2269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6499-714E-4223-B527-4C678B1F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90512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2534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5CEE-9F74-413A-8F98-8752F060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453-294A-44E0-B711-EFD10E0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C11-B39B-4C4B-9561-2A3D1B6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52B-EBBB-4EFC-9FC6-DAF04FB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F28-4919-47C2-A95D-EDBDACF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F0C-6464-4C66-9FB2-AF80A89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2534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E23-557C-4577-A7E9-DA43B99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90512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534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8A8-B12B-456C-B1C6-C87CB61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859-BD14-40A7-B2F8-E1B04F228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74C-C263-4666-B420-09B01616A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From measuring violence against women to assessing state responses: Developing global indica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480" y="4038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f Liz Kel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ild and Woman Abuse Studie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ndon Metropolita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3808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CE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ES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GE.30/2006/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Promising directions 2: Attrition</a:t>
            </a: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proportion of reported cases that fail to result in prosecution and conv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ncreased reporting as indicator of decreased tolerance and increased confidence in the justic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Rates of investigation, prosecution and conviction indicators of extent to which systems have engaged with V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133720"/>
          <a:ext cx="9144000" cy="408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91440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rition in rape cases: England and Wales 1985-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2057400"/>
          <a:ext cx="9191520" cy="41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919152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rition in rape cases: Germany 1977-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1905120"/>
          <a:ext cx="9291600" cy="415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29160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rition in rape cases: Hungary 1977-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ttrition in IP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ianne Hester et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th of England, developing record keeping and case tracking with police and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402 incidents 2002-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% of individuals re-offended in th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ing percentage of arrests where had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rest, charge and conviction in 120 (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victions more likely where charges were for public order/criminal da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ising directions 3: Mainstreaming a conceptually sophisticated indicator module - FGM/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Module used in Demographic and Health Surveys (DHS+), at least 17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and UNICEF Multiple Indicator Cluster Surveys (MICS)</a:t>
            </a: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Key indicator: Prevalence of FGM/C by age cohorts 15-49 (5 year ban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FGM/C status of all daughters (age now, age cut) and percentage of forms of FGM/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- possible trends/changes between generations and over more recent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Performer of FGM/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upport of, or opposition to FGM/C by women and men age 15-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ndictors for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 declarations of i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munity-based surveillance mechanisms for girls at 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rop in prevalence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ther potential ro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itude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baro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n data collection tools fo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utine enquiry – current rates and health impacts – but not just I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ident and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 and post 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ood and bad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precedented interest in developing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even starting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V/V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inuum of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s, organisations, NGOs and acade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icult conun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definitions across ongoing debates and varied legal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Rapporteur’s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n VAW its Causes and Consequenc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ter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 in terms of responses from states, UN agencies, academics and N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and Promising di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alls for indic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ijing+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al Rapport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ing V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ssing state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retary General’s report on V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k to MDG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un in 1998, various presid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urrent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osal by SR in 2003 to develop two sets of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ssion on HR’s resolution on VAW in 2004 (2004/46), para 25, need to develop, with international consensus on ways to measure and measures taken to elimi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 current research literature on measuring Vaw and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ult with states, UN agencies, academics and N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duce a technical report with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fining terms - V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ims to cover VAW, but often limited to domestic or intimate partner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as few as 5 or 7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xual violence, 0-3 items, some or all of which include ‘for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 v Bulgaria, International Criminal Cou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rican research on sexual initi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ed attention to sexual harassment, FGM/C, sexual exploitation, stalking, crimes in the name of honour – and have lost notion of women’s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iousness and frequency only an issue for some forms – some are serious and have consequences by definition – FGM/C, forced/child marriage, aci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fining terms - indic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bust, valid and reliable” (Walby,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number, proportion, percentage, rate, tr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ise complex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 to quantit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ambig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s to ass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vant to multiple aud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ailable at regular inter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able across social groups an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es and other parties not on board with the VAW 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search and PoA’s limited to DV/IPV but report as V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understand technical issues about measuring violence, prevalence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ve dragged their feet about gender disaggregation of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sted interests in own definitions/research too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ossible to have common definitions that connect to loc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ver/under inclu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sources and capacities of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urrent EU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W (IP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of female vict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victim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vention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centage of employees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centage of public/private bodies with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centage of public/private bodies with procedures to sanction perpet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mising directions 1: Femicide ind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imate partner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n killi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men killing abusive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xual mu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nour’ kil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men in pro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cal issues – Cuidad Jua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uld adapt to include other issues – dowry, female infanticide where locally rele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8T11:19:24Z</dcterms:created>
  <dc:creator>Kelly</dc:creator>
  <dc:description/>
  <dc:language>en-US</dc:language>
  <cp:lastModifiedBy>Oyunjargal</cp:lastModifiedBy>
  <cp:lastPrinted>2001-08-23T13:12:18Z</cp:lastPrinted>
  <dcterms:modified xsi:type="dcterms:W3CDTF">2006-09-07T12:19:43Z</dcterms:modified>
  <cp:revision>32</cp:revision>
  <dc:subject/>
  <dc:title>Improving Responses to Rape</dc:title>
</cp:coreProperties>
</file>