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230D-11B8-4192-8637-A93059537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6560" y="480204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B159-9ECC-40CC-BEF6-8553BCBEB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8552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EB6F-0F50-4C2A-A5CC-AA5C4B085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520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2348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656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520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2348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8158-3A57-43FD-8991-33586ABCF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763128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D621-27A0-4E1E-BF67-496D18C4F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8552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26560" y="480204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8552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520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2348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2656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520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2348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347F5-320F-4B71-9237-A022E4E0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A2A6D-2FE1-4220-BB4E-AFD2F5B8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01C85-6B20-4902-B895-278A1076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793EE-D339-43D1-B13D-E943EBB4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C7E9B-715C-4121-A673-730F31D4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4597-61A1-4D50-9BA3-35F2C225EC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763128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49C9C-A1A5-4099-9857-32A73B13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7ED77-C7ED-45C7-AF3F-1A693BE6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38552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96929-ED8B-4AB1-AC5F-D7B12D9B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E7594-86A9-4D71-AFBA-D8885F6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26560" y="480204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25C64-1F26-4723-AF05-58976BB6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38552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3534E-2D8A-4E5D-93B3-1D204EB3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7520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2348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2656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7520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2348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EFA65-74E6-429E-8FB7-37883E21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27E82-C85D-4243-90D2-EBE54A3C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914CB-4EBB-4E13-8BB2-856F2AEE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2B854-C58D-4D71-B980-98B1DC93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9329-CCDA-40ED-B3C7-FE41C3A182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0C2BF-AF65-4BA2-A55E-6593CC23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DCC10-0F19-487E-AC6B-89963C2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763128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34253-7EB6-41A2-8B21-51BE3BC2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48A887-B833-4C84-8B3A-7B4F370D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38552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AAFB3-E6DB-4D63-8212-522092CB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A8725-4145-42D6-A06A-A3A155BB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26560" y="480204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4B799-BE35-48D8-879E-FE0C140F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38552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964AEC-9322-4889-A764-51E70885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7520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523480" y="388620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2656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7520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523480" y="4802040"/>
            <a:ext cx="2236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93C8B-8458-43B2-87FD-8AB6BA53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1D3B-4F24-45E2-A9A0-00EE93AFF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763128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017D-A157-4AB9-B87A-470FAB2C7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B6F8-0B1C-4495-B775-726C950AA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85520" y="480204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2633-8618-47D6-8BA5-E6F06FEC5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85520" y="3886200"/>
            <a:ext cx="3389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6560" y="4802040"/>
            <a:ext cx="6945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C72B-B95E-4A51-873D-4ED4180C9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cbdde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9cbdde"/>
              </a:solidFill>
              <a:latin typeface="News Gothic Std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6560" y="2278080"/>
            <a:ext cx="78598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10731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1792440" indent="-3542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25113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72360" y="6453000"/>
            <a:ext cx="72072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EBF1-E412-41CA-947F-B7F91C87714B}" type="slidenum">
              <a:rPr b="0" lang="en-US" sz="1100" spc="-1" strike="noStrike">
                <a:solidFill>
                  <a:srgbClr val="000000"/>
                </a:solidFill>
                <a:latin typeface="News Gothic St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72000" y="574560"/>
            <a:ext cx="440856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St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a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826560" y="6453000"/>
            <a:ext cx="158436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F28-8296-4105-B7C5-B1B3D8298E17}" type="datetime">
              <a:rPr b="0" lang="de-CH" sz="1100" spc="-1" strike="noStrike">
                <a:solidFill>
                  <a:srgbClr val="000000"/>
                </a:solidFill>
                <a:latin typeface="News Gothic Std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914400" indent="523800" algn="ctr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1371600" indent="785880" algn="ctr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1828800" indent="1036800" algn="ctr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1828800" indent="103680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1828800" indent="103680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b5e81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3b5e81"/>
              </a:solidFill>
              <a:latin typeface="News Gothic Std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87440"/>
            <a:ext cx="8348760" cy="4552920"/>
          </a:xfrm>
          <a:prstGeom prst="rect">
            <a:avLst/>
          </a:prstGeom>
          <a:solidFill>
            <a:srgbClr val="e0e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Num" idx="4"/>
          </p:nvPr>
        </p:nvSpPr>
        <p:spPr>
          <a:xfrm>
            <a:off x="8172360" y="6453000"/>
            <a:ext cx="72072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1951-EA4D-4480-BF04-9C7F6D1A9033}" type="slidenum">
              <a:rPr b="0" lang="en-US" sz="1100" spc="-1" strike="noStrike">
                <a:solidFill>
                  <a:srgbClr val="000000"/>
                </a:solidFill>
                <a:latin typeface="News Gothic St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4572000" y="574560"/>
            <a:ext cx="440856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St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23516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EF33-7DF1-49E8-9D62-8DB1598B0F08}" type="datetime">
              <a:rPr b="0" lang="de-CH" sz="1100" spc="-1" strike="noStrike">
                <a:solidFill>
                  <a:srgbClr val="000000"/>
                </a:solidFill>
                <a:latin typeface="News Gothic Std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826560" y="2278080"/>
            <a:ext cx="78598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10731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1792440" indent="-3542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25113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287440"/>
            <a:ext cx="8348760" cy="4552920"/>
          </a:xfrm>
          <a:prstGeom prst="rect">
            <a:avLst/>
          </a:prstGeom>
          <a:solidFill>
            <a:srgbClr val="e0e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10731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1792440" indent="-3542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25113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172360" y="6453000"/>
            <a:ext cx="72072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7833-D147-4C78-BA2E-FE72EC6FB19A}" type="slidenum">
              <a:rPr b="0" lang="en-US" sz="1100" spc="-1" strike="noStrike">
                <a:solidFill>
                  <a:srgbClr val="000000"/>
                </a:solidFill>
                <a:latin typeface="News Gothic St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4572000" y="574560"/>
            <a:ext cx="440856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St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23516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D454-B36F-4496-BB5D-C47CF9FAB397}" type="datetime">
              <a:rPr b="0" lang="de-CH" sz="1100" spc="-1" strike="noStrike">
                <a:solidFill>
                  <a:srgbClr val="000000"/>
                </a:solidFill>
                <a:latin typeface="News Gothic Std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a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2781360"/>
            <a:ext cx="763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265400"/>
            <a:ext cx="763128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News Gothic Std"/>
              </a:rPr>
              <a:t>Selected gender indicators:</a:t>
            </a: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News Gothic Std"/>
              </a:rPr>
              <a:t>Comparing Switzerland with other countries</a:t>
            </a:r>
            <a:r>
              <a:rPr b="1" lang="de-CH" sz="2600" spc="-1" strike="noStrike">
                <a:solidFill>
                  <a:srgbClr val="ffffff"/>
                </a:solidFill>
                <a:latin typeface="News Gothic Std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157400" y="3555720"/>
            <a:ext cx="6945120" cy="24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News Gothic Std"/>
              </a:rPr>
              <a:t>Katja Branger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News Gothic Std"/>
              </a:rPr>
              <a:t>Socio-economic Analysis Section (LEB)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News Gothic Std"/>
              </a:rPr>
              <a:t>Presentation at the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News Gothic Std"/>
              </a:rPr>
              <a:t>UNECE Work Session on Gender Statistics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News Gothic Std"/>
              </a:rPr>
              <a:t>Geneva, 11-13 September 2006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75" name=""/>
          <p:cNvSpPr/>
          <p:nvPr/>
        </p:nvSpPr>
        <p:spPr>
          <a:xfrm>
            <a:off x="814320" y="2712960"/>
            <a:ext cx="7593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News Gothic Std"/>
              </a:rPr>
              <a:t>Swiss Federal Statistical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A20712-CD58-437A-AC75-6BF3EC7A63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20760" y="922320"/>
            <a:ext cx="4924440" cy="5783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124760" y="2400480"/>
            <a:ext cx="172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R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  2.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HE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19.7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ARM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57.9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9636DE-FB5D-4C4A-A0B6-0A52357DCB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131480" y="1701720"/>
            <a:ext cx="6945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4600" indent="-44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2 main topics: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  <a:p>
            <a:pPr marL="444600" indent="-4446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the situation of women in respect to employment and salary: comparing Switzerland with other countries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  <a:p>
            <a:pPr marL="444600" indent="-444600">
              <a:spcBef>
                <a:spcPts val="1749"/>
              </a:spcBef>
              <a:buClr>
                <a:srgbClr val="e4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40000"/>
                </a:solidFill>
                <a:latin typeface="News Gothic Std"/>
              </a:rPr>
              <a:t>methodological and analytical difficulties in respect to the UNECE Database and international comparisons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D7458C-9A85-418A-8C6B-B2EF7295B6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066680"/>
            <a:ext cx="758196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Conclusions about the use of the UNEC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News Gothic Std"/>
              </a:rPr>
              <a:t>(1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2336760"/>
            <a:ext cx="7023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current data must be available and updated regul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28880" y="3327480"/>
            <a:ext cx="717516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18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problem of the frequency and mode of data supply by the countries has to be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18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sufficient resources must be available at the UNECE for database maintenance</a:t>
            </a: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C8FA80-6A35-433D-A758-A41FB0D813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5480" y="1155600"/>
            <a:ext cx="758196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Conclusions about the use of the UNEC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News Gothic Std"/>
              </a:rPr>
              <a:t>(2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336760"/>
            <a:ext cx="702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validation and interpretation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28880" y="3022560"/>
            <a:ext cx="7175160" cy="30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18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sources, definitions, country foot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18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√ </a:t>
            </a: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18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brief description for every country of the situation concerning a specific domain in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A4D02C-B8BE-43DF-9CB9-C2F2B4029A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5480" y="1143000"/>
            <a:ext cx="758196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Conclusions about the use of the UNEC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News Gothic Std"/>
              </a:rPr>
              <a:t>(3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336760"/>
            <a:ext cx="7023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representation of the indicators for country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8880" y="3327480"/>
            <a:ext cx="717516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18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what types of char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18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only tab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18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include country foot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9AA394-317F-4371-AF03-F888C2531E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7440" y="1638360"/>
            <a:ext cx="758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Mo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2336760"/>
            <a:ext cx="70232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UNECE Gender Statistics Database is a very useful tool not only for statistic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Thank you for the great work in implemen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As gender focal point I will intensify my commitment to provide data of good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FCEFF7-C8FD-405B-BFE6-9583A18B4E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2781360"/>
            <a:ext cx="763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131480" y="1574280"/>
            <a:ext cx="694548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4600" indent="-44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2 main topics: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  <a:p>
            <a:pPr marL="444600" indent="-4446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the situation of women in respect to employment and salary: comparing Switzerland with other countries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  <a:p>
            <a:pPr marL="444600" indent="-4446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methodological and analytical difficulties in respect to the UNECE Database and international comparisons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6B8F70-2173-444A-9DC4-45A534A5FA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131480" y="1701720"/>
            <a:ext cx="6945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4600" indent="-44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2 main topics: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  <a:p>
            <a:pPr marL="444600" indent="-444600">
              <a:spcBef>
                <a:spcPts val="1749"/>
              </a:spcBef>
              <a:buClr>
                <a:srgbClr val="e4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40000"/>
                </a:solidFill>
                <a:latin typeface="News Gothic Std"/>
              </a:rPr>
              <a:t>the situation of women in respect to employment and salary: comparing Switzerland with other countries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  <a:p>
            <a:pPr marL="444600" indent="-4446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methodological and analytical difficulties in respect to the UNECE Database and international comparisons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5C06F9-CAEA-4777-835C-9BD7FF0A01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06640" y="2653920"/>
            <a:ext cx="69451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4600" indent="-4446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the indicator's relevance in respect of gender equality issues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  <a:p>
            <a:pPr marL="444600" indent="-4446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availability of the indicator for Switzerland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  <a:p>
            <a:pPr marL="444600" indent="-4446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the availability of current data, primarily for Switzerland and secondly for the other countries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83" name=""/>
          <p:cNvSpPr/>
          <p:nvPr/>
        </p:nvSpPr>
        <p:spPr>
          <a:xfrm>
            <a:off x="1041480" y="1523880"/>
            <a:ext cx="7099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Criteria for the selection of the indicators for the compari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5BD4EB-73B9-4235-8554-1F0A2A9A28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93320" y="2819520"/>
            <a:ext cx="694548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4600" indent="-4446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economic activity rate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  <a:p>
            <a:pPr marL="444600" indent="-4446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part-time work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  <a:p>
            <a:pPr marL="444600" indent="-4446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unemployment rate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  <a:p>
            <a:pPr marL="444600" indent="-44460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News Gothic Std"/>
              </a:rPr>
              <a:t>gender pay gap</a:t>
            </a:r>
            <a:endParaRPr b="0" lang="en-US" sz="28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86" name=""/>
          <p:cNvSpPr/>
          <p:nvPr/>
        </p:nvSpPr>
        <p:spPr>
          <a:xfrm>
            <a:off x="1028880" y="1905120"/>
            <a:ext cx="7099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ews Gothic Std"/>
              </a:rPr>
              <a:t>Work and the Economy: Selected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BB85D0-C47A-4EBA-BC8C-9A5EDFFBB2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52800" y="851040"/>
            <a:ext cx="4838400" cy="5840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4160" y="2082960"/>
            <a:ext cx="177768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HE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59.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AUT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50.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RA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50.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GER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49.7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ITA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38.3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1080" y="2120760"/>
            <a:ext cx="177768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HE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76.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AUT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67.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GER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65.4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RA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62.6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ITA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61.6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F5F013-98A1-45E8-9EDF-77173B6A6E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60520" y="878040"/>
            <a:ext cx="4633920" cy="58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C7DA13-B38C-41C7-8E49-8F4106D623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36760" y="868320"/>
            <a:ext cx="4835520" cy="5837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3840" y="2641680"/>
            <a:ext cx="167616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 Gothic Std"/>
              </a:rPr>
              <a:t>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NLD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74.7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HE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58.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51840" y="2629080"/>
            <a:ext cx="168912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77040" y="2629080"/>
            <a:ext cx="167652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 Gothic Std"/>
              </a:rPr>
              <a:t>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NLD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22.3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HE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11.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73687F-E393-4422-B088-564911D1D6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73400" y="906480"/>
            <a:ext cx="479556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ED87B9-5B74-46FB-96C8-64DED9D8C7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6:19:56Z</dcterms:created>
  <dc:creator>Modetta Caterina</dc:creator>
  <dc:description/>
  <dc:language>en-US</dc:language>
  <cp:lastModifiedBy>Oyunjargal</cp:lastModifiedBy>
  <dcterms:modified xsi:type="dcterms:W3CDTF">2006-09-07T12:21:31Z</dcterms:modified>
  <cp:revision>74</cp:revision>
  <dc:subject/>
  <dc:title>Réseaux sociaux et situation financiè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12483725</vt:r8>
  </property>
  <property fmtid="{D5CDD505-2E9C-101B-9397-08002B2CF9AE}" pid="3" name="_AuthorEmail">
    <vt:lpwstr>Katja.Branger@bfs.admin.ch</vt:lpwstr>
  </property>
  <property fmtid="{D5CDD505-2E9C-101B-9397-08002B2CF9AE}" pid="4" name="_AuthorEmailDisplayName">
    <vt:lpwstr>Branger Katja BFS</vt:lpwstr>
  </property>
  <property fmtid="{D5CDD505-2E9C-101B-9397-08002B2CF9AE}" pid="5" name="_EmailSubject">
    <vt:lpwstr>Paper and presentation UNECE</vt:lpwstr>
  </property>
</Properties>
</file>